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5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BC12-1EA1-4E1F-BE04-8F3DB58B6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22A1-6EB5-4F00-8A2F-0724A8178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5B0D41-48D2-4FE7-BAF1-B84D640A0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FE4C18-AEAC-4586-B4BA-68881EE1F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544680" y="4986000"/>
            <a:ext cx="886608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9AB1BA-1C80-4A80-A8E7-258DC83A4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AAD7EF-49C4-49E9-A266-7D9ADA4A1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9E6D5F-2766-4DC1-83CE-A21692CA4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6377ED-F932-45E4-80C4-0D7275CE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0969B9-6C6D-442B-8388-D6B03FF7B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71E83C-23C4-4EDD-A892-596474C98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54276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5404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5446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54276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5404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F6EF6C-DC5B-4855-A3D2-36F2A8017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11A19F-626B-4FD6-86D8-08784FBE9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0436-2E46-4CC7-9152-D853BA158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04F94B-1D78-486E-9A10-4A29FCFFD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E2583D-BAEA-486D-8232-7091593FA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90E37E-4B6B-4904-AF88-A608B7ED0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8FC42F-2F19-43FC-A03B-F7C13322A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544680" y="4986000"/>
            <a:ext cx="886608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96501E-230B-4D9A-852F-E84DCFB0C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A3FCBE-6E4E-4FA5-A533-DB6FE3E85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FDAACC-BA86-4119-9C35-AAA1CBB9A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DDC90A-41BF-4D5C-971D-0131A6CC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E2E48C-0506-400E-8765-2E65EA228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DEBEDF-C20D-4810-A6A3-1191310A1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4276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404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446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4276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404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5426-9E56-4671-9DDA-89F755AF5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54276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5404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5446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54276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5404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0B8F40-4BD2-46E2-8651-1955CCFD6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F887C2-83D6-45BB-9AAD-D36BBFCAF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239EA2-63DF-4E2C-A0F5-A75DF9E8B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24F5AB-1C76-406F-A1FC-86BE9B979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070D06-117F-4E26-B11D-2979AF596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E77D88-EFC1-4A3D-B053-DC1475305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544680" y="4986000"/>
            <a:ext cx="886608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41E550-A2C5-4476-AAB0-C02A734C0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6757DD-A3B6-409E-B724-F8778D12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7655B6-3E35-46A9-A5D9-76115EDF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38E8CF-DF67-4046-9057-664C33B5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0AF99-B7F2-44EA-B60D-7DACA589B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36906A-CC82-48B6-9A26-7C8F9EF29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CDBB11-B133-41EF-A1AB-87307BDC5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54276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5404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5446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54276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5404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5A5E45-569B-445D-B2DF-A0BC22805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E5735C-6948-4D49-83A7-308486452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FF8A94-F88A-4E3B-A174-7950FC3F3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711491-7329-4720-A1D3-D0701ECE1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8106BC-9F73-4929-9FEE-534E8C4E2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AC3B6F-273C-4F4D-A662-729B72487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44680" y="4986000"/>
            <a:ext cx="886608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0FB917-BE2D-41A6-A309-D26077A1C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C8A82C-69C3-4418-904C-D294E03B4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A38DD-5526-4812-B0ED-CF84F9957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93F128-07C6-44BF-BE09-3F9F653E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94ECD4-C550-4DE3-A35B-A32037C04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B7B22A-1DC3-4948-A9F2-8FFF5B950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309059-7165-4107-9193-E7AC0A42E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54276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5404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5446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54276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5404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BD20A9-B409-4E98-9C76-56817B561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AE98F-8626-46A4-BDA7-F47E138F6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544680" y="4986000"/>
            <a:ext cx="886608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54276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5404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5446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54276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5404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C60AF-382B-42B2-9A05-D2426B43B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544680" y="4986000"/>
            <a:ext cx="886608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354276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5404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5446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354276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65404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443F1-CA3C-465C-814E-E7CB33EB1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subTitle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ubTitle"/>
          </p:nvPr>
        </p:nvSpPr>
        <p:spPr>
          <a:xfrm>
            <a:off x="544680" y="4986000"/>
            <a:ext cx="886608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44680" y="4986000"/>
            <a:ext cx="886608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424D4-4CAC-464E-B00E-3A4DEDCA3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354276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5404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5446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PlaceHolder 6"/>
          <p:cNvSpPr>
            <a:spLocks noGrp="1"/>
          </p:cNvSpPr>
          <p:nvPr>
            <p:ph/>
          </p:nvPr>
        </p:nvSpPr>
        <p:spPr>
          <a:xfrm>
            <a:off x="354276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PlaceHolder 7"/>
          <p:cNvSpPr>
            <a:spLocks noGrp="1"/>
          </p:cNvSpPr>
          <p:nvPr>
            <p:ph/>
          </p:nvPr>
        </p:nvSpPr>
        <p:spPr>
          <a:xfrm>
            <a:off x="65404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subTitle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ubTitle"/>
          </p:nvPr>
        </p:nvSpPr>
        <p:spPr>
          <a:xfrm>
            <a:off x="544680" y="4986000"/>
            <a:ext cx="886608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D4547-F1B1-4F70-9826-A6BF6F4E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354276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65404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5446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1" name="PlaceHolder 6"/>
          <p:cNvSpPr>
            <a:spLocks noGrp="1"/>
          </p:cNvSpPr>
          <p:nvPr>
            <p:ph/>
          </p:nvPr>
        </p:nvSpPr>
        <p:spPr>
          <a:xfrm>
            <a:off x="354276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2" name="PlaceHolder 7"/>
          <p:cNvSpPr>
            <a:spLocks noGrp="1"/>
          </p:cNvSpPr>
          <p:nvPr>
            <p:ph/>
          </p:nvPr>
        </p:nvSpPr>
        <p:spPr>
          <a:xfrm>
            <a:off x="65404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subTitle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ubTitle"/>
          </p:nvPr>
        </p:nvSpPr>
        <p:spPr>
          <a:xfrm>
            <a:off x="544680" y="4986000"/>
            <a:ext cx="886608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61D8-FC70-440D-A2FF-4D8BBDBC7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39552-F9A8-48BA-BB67-4417D3C1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354276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65404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5446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3" name="PlaceHolder 6"/>
          <p:cNvSpPr>
            <a:spLocks noGrp="1"/>
          </p:cNvSpPr>
          <p:nvPr>
            <p:ph/>
          </p:nvPr>
        </p:nvSpPr>
        <p:spPr>
          <a:xfrm>
            <a:off x="354276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7"/>
          <p:cNvSpPr>
            <a:spLocks noGrp="1"/>
          </p:cNvSpPr>
          <p:nvPr>
            <p:ph/>
          </p:nvPr>
        </p:nvSpPr>
        <p:spPr>
          <a:xfrm>
            <a:off x="65404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subTitle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3C437-0391-4EAC-9453-5BAB4254C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ubTitle"/>
          </p:nvPr>
        </p:nvSpPr>
        <p:spPr>
          <a:xfrm>
            <a:off x="544680" y="4986000"/>
            <a:ext cx="886608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354276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65404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5446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5" name="PlaceHolder 6"/>
          <p:cNvSpPr>
            <a:spLocks noGrp="1"/>
          </p:cNvSpPr>
          <p:nvPr>
            <p:ph/>
          </p:nvPr>
        </p:nvSpPr>
        <p:spPr>
          <a:xfrm>
            <a:off x="354276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6" name="PlaceHolder 7"/>
          <p:cNvSpPr>
            <a:spLocks noGrp="1"/>
          </p:cNvSpPr>
          <p:nvPr>
            <p:ph/>
          </p:nvPr>
        </p:nvSpPr>
        <p:spPr>
          <a:xfrm>
            <a:off x="65404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44F00-B090-439B-A579-2288DEC70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544680" y="4986000"/>
            <a:ext cx="886608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354276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5404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5446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354276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5404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C2FE0-49D2-47EA-B92A-4569E63D5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subTitle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ubTitle"/>
          </p:nvPr>
        </p:nvSpPr>
        <p:spPr>
          <a:xfrm>
            <a:off x="544680" y="4986000"/>
            <a:ext cx="886608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4276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404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446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4276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404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7F6C5-D2C5-470D-A6FB-8D0A2D8AB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354276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65404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5446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9" name="PlaceHolder 6"/>
          <p:cNvSpPr>
            <a:spLocks noGrp="1"/>
          </p:cNvSpPr>
          <p:nvPr>
            <p:ph/>
          </p:nvPr>
        </p:nvSpPr>
        <p:spPr>
          <a:xfrm>
            <a:off x="354276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0" name="PlaceHolder 7"/>
          <p:cNvSpPr>
            <a:spLocks noGrp="1"/>
          </p:cNvSpPr>
          <p:nvPr>
            <p:ph/>
          </p:nvPr>
        </p:nvSpPr>
        <p:spPr>
          <a:xfrm>
            <a:off x="65404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subTitle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subTitle"/>
          </p:nvPr>
        </p:nvSpPr>
        <p:spPr>
          <a:xfrm>
            <a:off x="544680" y="4986000"/>
            <a:ext cx="886608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8A052-569D-4174-800D-AAFB963DD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5" name="PlaceHolder 5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354276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65404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/>
          </p:nvPr>
        </p:nvSpPr>
        <p:spPr>
          <a:xfrm>
            <a:off x="5446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1" name="PlaceHolder 6"/>
          <p:cNvSpPr>
            <a:spLocks noGrp="1"/>
          </p:cNvSpPr>
          <p:nvPr>
            <p:ph/>
          </p:nvPr>
        </p:nvSpPr>
        <p:spPr>
          <a:xfrm>
            <a:off x="354276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2" name="PlaceHolder 7"/>
          <p:cNvSpPr>
            <a:spLocks noGrp="1"/>
          </p:cNvSpPr>
          <p:nvPr>
            <p:ph/>
          </p:nvPr>
        </p:nvSpPr>
        <p:spPr>
          <a:xfrm>
            <a:off x="65404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7A0FF-8870-4CDB-91BE-8D29409DF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30DC1-DDBF-4DD1-B2B2-152B057D1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3F7B3-4B49-4550-B652-36CC01486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0CFCA-EE04-402E-B7AB-51D2AF492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B7AE-70CD-4B77-BB70-FBBA34DD1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44680" y="4986000"/>
            <a:ext cx="886608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F12AB-B334-48BE-9C26-72E1F98D6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2C360-7C89-4FF2-A5BB-0F39415E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15F65-44C4-4A9B-A255-771B2EAE6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46006-602F-4C38-B9A3-4270232B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77109-B2EA-4753-9B4F-E030A16B9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52F1F-288B-4E6C-8D6A-C23FBDC00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54276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5404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446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54276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5404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A2653-D56D-471C-9BD8-11ABFEEF4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68465-015C-4292-9B42-3F4A62AD7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03824-B2E6-4393-BAD8-A8509059A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29218-82A7-4ED8-A9FE-F4C52904F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8438-A4DE-499A-A50D-0A7F8F27C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6FF79-2B73-4BCE-88E2-4B5933CC2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402D5-90F3-452D-A585-5A656B9CA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544680" y="4986000"/>
            <a:ext cx="886608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CE906-9C29-447A-898E-85E3CBDE3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B1C97-FEAE-495D-B83D-9520EB8FD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3C20A-38E3-47F4-BD69-ECB4BD3D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22EC7-123F-479B-B636-8BF837076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CD192-F181-498D-B2BF-832A8F213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A25AF-E238-4201-B83C-8ECF9F16D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54276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5404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5446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54276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5404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497EE-18C9-4DB8-8DB2-C2D4A003B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45664B-C2A7-44EF-B4C7-36294EFD5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5511-DABB-461A-A7A1-4080DDC32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972EF-66AC-4BEB-B5CA-B364F2A94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8B995-87DA-4940-8B4C-1DCC9FFC2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E8817-B8A8-46A2-90B7-088DE184F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A40209-4385-4E98-9DA8-D0B752496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544680" y="4986000"/>
            <a:ext cx="886608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FC5B28-5A23-4568-9267-124271F6D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E5E63E-0A72-404C-99B0-0E743A44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08CADE-C9DC-4D1B-A5BF-DBC0E9916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A7EC0C-DA48-4821-9833-67F004E5E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5EBD01-4E51-4255-9290-B4FE45985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0C216-3391-4038-AF9F-7112E9DCC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44680" y="4986000"/>
            <a:ext cx="886608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48EE-5A5C-4D49-8907-6249204D0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54276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5404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5446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54276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5404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548070-6754-4FF3-B000-D4A28D6B9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58F0A3-F140-4B5A-88A0-6F18BA979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03A92C-CBFE-4EC5-8BE1-07A79E526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2D70C4-8ED4-4995-9804-A95292BAD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96C143-3FC1-4992-8602-725402077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5B0776-BCF7-43B5-B99F-3548124C1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544680" y="4986000"/>
            <a:ext cx="886608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2BFFF-E104-4CC3-B3DA-0A564EB35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F5601E-8077-47B6-8F23-8B2A9DB5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5E0410-DDF7-47F4-A7F7-09221758B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D740BF-E660-47C4-B441-854584B0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5471-B62E-454F-A1B4-BB7C5994C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3EFCFC-85CC-49E4-98DD-4D3C96FE9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806C13-2E41-4E2A-8119-D6D4C66A7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54276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5404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446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54276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5404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FB8267-4315-4230-B133-F8D738E05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7BD8ED-DAF3-40A0-B4A9-75F9C338D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823662-20F6-45D0-ADC9-96AAA9CF0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5E371E-64C5-44CF-8919-7CB73AB1C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4F93D3-CF79-4C1E-AD62-89C32B7F1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E9CB5F-4974-4E13-B10D-DFD68C2DE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544680" y="4986000"/>
            <a:ext cx="886608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4DE485-E818-4AFC-81CE-C5B530474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EE318E-FAC7-497D-9537-2413D107E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582E-A075-40AD-A1CF-12ED0167C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1E58D2-66B1-4CD5-ADFA-9F7AA8A9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9FF125-714D-45B2-9A94-B202CACB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9D183A-203D-413B-AF6F-8310EAA9B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8F8E77-535A-4B2D-BC2F-7D345FB45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54276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5404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5446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54276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5404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5C7C83-8A97-447A-8C3C-69D769EC6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3533C2-1A22-4D4C-9870-E8B56A793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9373A3-D1CB-49DA-BD8D-13F22D104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588E6D-5862-4D71-B66F-CC14B0152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2271B4-2025-4410-BB36-999D53C2A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5E39EA-74FB-477B-82DA-AF1BA30CC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AFFA-1DDD-4721-8CDA-F1D1D0A9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544680" y="4986000"/>
            <a:ext cx="886608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567031-3595-4777-9E1F-8E2042660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F3B5C0-F7E4-4EE1-BEA5-C34910CD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A6F889-27A6-4BB0-AD21-A0A2616D6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C95A22-9669-4CF2-93B5-5955BD31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9EB492-C12E-4DAD-9280-E9151BC8C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5D5D18-9AE3-4F23-BEDA-6F8EA499E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54276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5404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5446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54276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5404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32BD0F-C070-449D-B9AB-01D8E3C48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A206BE-F879-4DDA-B6CC-5BE1EBF8C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42B5C9-172C-4A52-B97B-C4438C6FF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25AEC4-150D-468F-8777-4B69518E3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8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9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1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30120" y="328680"/>
            <a:ext cx="924264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44600" y="426960"/>
            <a:ext cx="9016920" cy="5497560"/>
            <a:chOff x="444600" y="426960"/>
            <a:chExt cx="901692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44600" y="426960"/>
              <a:ext cx="901692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87440" y="468360"/>
              <a:ext cx="893124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090680" y="6111360"/>
            <a:ext cx="2476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567120" y="6111360"/>
            <a:ext cx="2476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9043920" y="6111360"/>
            <a:ext cx="495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15449-9163-4A80-B3DC-2070F741F96E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Скругленный прямоугольник 9"/>
          <p:cNvSpPr/>
          <p:nvPr/>
        </p:nvSpPr>
        <p:spPr>
          <a:xfrm>
            <a:off x="330120" y="328680"/>
            <a:ext cx="924264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Прямоугольник с одним скругленным углом 10"/>
          <p:cNvSpPr/>
          <p:nvPr/>
        </p:nvSpPr>
        <p:spPr>
          <a:xfrm>
            <a:off x="6934320" y="433440"/>
            <a:ext cx="251748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8"/>
          </p:nvPr>
        </p:nvSpPr>
        <p:spPr>
          <a:xfrm>
            <a:off x="4090680" y="6111360"/>
            <a:ext cx="2476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9"/>
          </p:nvPr>
        </p:nvSpPr>
        <p:spPr>
          <a:xfrm>
            <a:off x="6567120" y="6111360"/>
            <a:ext cx="2476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30"/>
          </p:nvPr>
        </p:nvSpPr>
        <p:spPr>
          <a:xfrm>
            <a:off x="9043920" y="6111360"/>
            <a:ext cx="495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58318-389A-4AA4-AADF-363BED87E1D3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Скругленный прямоугольник 6"/>
          <p:cNvSpPr/>
          <p:nvPr/>
        </p:nvSpPr>
        <p:spPr>
          <a:xfrm>
            <a:off x="330120" y="328680"/>
            <a:ext cx="924264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6" name="Скругленный прямоугольник 8"/>
          <p:cNvGrpSpPr/>
          <p:nvPr/>
        </p:nvGrpSpPr>
        <p:grpSpPr>
          <a:xfrm>
            <a:off x="444600" y="426960"/>
            <a:ext cx="9016920" cy="5497560"/>
            <a:chOff x="444600" y="426960"/>
            <a:chExt cx="9016920" cy="5497560"/>
          </a:xfrm>
        </p:grpSpPr>
        <p:pic>
          <p:nvPicPr>
            <p:cNvPr id="44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44600" y="426960"/>
              <a:ext cx="901692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487440" y="468360"/>
              <a:ext cx="893124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31"/>
          </p:nvPr>
        </p:nvSpPr>
        <p:spPr>
          <a:xfrm>
            <a:off x="4090680" y="6111360"/>
            <a:ext cx="2476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32"/>
          </p:nvPr>
        </p:nvSpPr>
        <p:spPr>
          <a:xfrm>
            <a:off x="6567120" y="6111360"/>
            <a:ext cx="2476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3"/>
          </p:nvPr>
        </p:nvSpPr>
        <p:spPr>
          <a:xfrm>
            <a:off x="9043920" y="6111360"/>
            <a:ext cx="495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4A960-277E-4C70-85AB-597F4EFBD87E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Скругленный прямоугольник 6"/>
          <p:cNvSpPr/>
          <p:nvPr/>
        </p:nvSpPr>
        <p:spPr>
          <a:xfrm>
            <a:off x="330120" y="328680"/>
            <a:ext cx="924264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1" name="Скругленный прямоугольник 8"/>
          <p:cNvGrpSpPr/>
          <p:nvPr/>
        </p:nvGrpSpPr>
        <p:grpSpPr>
          <a:xfrm>
            <a:off x="444600" y="426960"/>
            <a:ext cx="9016920" cy="5497560"/>
            <a:chOff x="444600" y="426960"/>
            <a:chExt cx="9016920" cy="5497560"/>
          </a:xfrm>
        </p:grpSpPr>
        <p:pic>
          <p:nvPicPr>
            <p:cNvPr id="49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44600" y="426960"/>
              <a:ext cx="901692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3" name=""/>
            <p:cNvSpPr/>
            <p:nvPr/>
          </p:nvSpPr>
          <p:spPr>
            <a:xfrm>
              <a:off x="487440" y="468360"/>
              <a:ext cx="893124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4"/>
          </p:nvPr>
        </p:nvSpPr>
        <p:spPr>
          <a:xfrm>
            <a:off x="4090680" y="6111360"/>
            <a:ext cx="2476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5"/>
          </p:nvPr>
        </p:nvSpPr>
        <p:spPr>
          <a:xfrm>
            <a:off x="6567120" y="6111360"/>
            <a:ext cx="2476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6"/>
          </p:nvPr>
        </p:nvSpPr>
        <p:spPr>
          <a:xfrm>
            <a:off x="9043920" y="6111360"/>
            <a:ext cx="495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DB712-CE8C-44AF-B3CD-7EBD63DDBB23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Скругленный прямоугольник 6"/>
          <p:cNvSpPr/>
          <p:nvPr/>
        </p:nvSpPr>
        <p:spPr>
          <a:xfrm>
            <a:off x="330120" y="328680"/>
            <a:ext cx="924264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6" name="Скругленный прямоугольник 8"/>
          <p:cNvGrpSpPr/>
          <p:nvPr/>
        </p:nvGrpSpPr>
        <p:grpSpPr>
          <a:xfrm>
            <a:off x="444600" y="426960"/>
            <a:ext cx="9016920" cy="5497560"/>
            <a:chOff x="444600" y="426960"/>
            <a:chExt cx="9016920" cy="5497560"/>
          </a:xfrm>
        </p:grpSpPr>
        <p:pic>
          <p:nvPicPr>
            <p:cNvPr id="537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44600" y="426960"/>
              <a:ext cx="901692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8" name=""/>
            <p:cNvSpPr/>
            <p:nvPr/>
          </p:nvSpPr>
          <p:spPr>
            <a:xfrm>
              <a:off x="487440" y="468360"/>
              <a:ext cx="893124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Скругленный прямоугольник 6"/>
          <p:cNvSpPr/>
          <p:nvPr/>
        </p:nvSpPr>
        <p:spPr>
          <a:xfrm>
            <a:off x="330120" y="328680"/>
            <a:ext cx="924264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8" name="Скругленный прямоугольник 8"/>
          <p:cNvGrpSpPr/>
          <p:nvPr/>
        </p:nvGrpSpPr>
        <p:grpSpPr>
          <a:xfrm>
            <a:off x="444600" y="426960"/>
            <a:ext cx="9016920" cy="5497560"/>
            <a:chOff x="444600" y="426960"/>
            <a:chExt cx="9016920" cy="5497560"/>
          </a:xfrm>
        </p:grpSpPr>
        <p:pic>
          <p:nvPicPr>
            <p:cNvPr id="579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44600" y="426960"/>
              <a:ext cx="901692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487440" y="468360"/>
              <a:ext cx="893124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Скругленный прямоугольник 6"/>
          <p:cNvSpPr/>
          <p:nvPr/>
        </p:nvSpPr>
        <p:spPr>
          <a:xfrm>
            <a:off x="330120" y="328680"/>
            <a:ext cx="924264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0" name="Скругленный прямоугольник 8"/>
          <p:cNvGrpSpPr/>
          <p:nvPr/>
        </p:nvGrpSpPr>
        <p:grpSpPr>
          <a:xfrm>
            <a:off x="444600" y="426960"/>
            <a:ext cx="9016920" cy="5497560"/>
            <a:chOff x="444600" y="426960"/>
            <a:chExt cx="9016920" cy="5497560"/>
          </a:xfrm>
        </p:grpSpPr>
        <p:pic>
          <p:nvPicPr>
            <p:cNvPr id="621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44600" y="426960"/>
              <a:ext cx="901692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2" name=""/>
            <p:cNvSpPr/>
            <p:nvPr/>
          </p:nvSpPr>
          <p:spPr>
            <a:xfrm>
              <a:off x="487440" y="468360"/>
              <a:ext cx="893124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Скругленный прямоугольник 6"/>
          <p:cNvSpPr/>
          <p:nvPr/>
        </p:nvSpPr>
        <p:spPr>
          <a:xfrm>
            <a:off x="330120" y="328680"/>
            <a:ext cx="924264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2" name="Скругленный прямоугольник 8"/>
          <p:cNvGrpSpPr/>
          <p:nvPr/>
        </p:nvGrpSpPr>
        <p:grpSpPr>
          <a:xfrm>
            <a:off x="444600" y="426960"/>
            <a:ext cx="9016920" cy="5497560"/>
            <a:chOff x="444600" y="426960"/>
            <a:chExt cx="9016920" cy="5497560"/>
          </a:xfrm>
        </p:grpSpPr>
        <p:pic>
          <p:nvPicPr>
            <p:cNvPr id="663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44600" y="426960"/>
              <a:ext cx="901692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4" name=""/>
            <p:cNvSpPr/>
            <p:nvPr/>
          </p:nvSpPr>
          <p:spPr>
            <a:xfrm>
              <a:off x="487440" y="468360"/>
              <a:ext cx="893124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Скругленный прямоугольник 6"/>
          <p:cNvSpPr/>
          <p:nvPr/>
        </p:nvSpPr>
        <p:spPr>
          <a:xfrm>
            <a:off x="330120" y="328680"/>
            <a:ext cx="924264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4" name="Скругленный прямоугольник 8"/>
          <p:cNvGrpSpPr/>
          <p:nvPr/>
        </p:nvGrpSpPr>
        <p:grpSpPr>
          <a:xfrm>
            <a:off x="444600" y="426960"/>
            <a:ext cx="9016920" cy="5497560"/>
            <a:chOff x="444600" y="426960"/>
            <a:chExt cx="9016920" cy="5497560"/>
          </a:xfrm>
        </p:grpSpPr>
        <p:pic>
          <p:nvPicPr>
            <p:cNvPr id="705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44600" y="426960"/>
              <a:ext cx="901692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6" name=""/>
            <p:cNvSpPr/>
            <p:nvPr/>
          </p:nvSpPr>
          <p:spPr>
            <a:xfrm>
              <a:off x="487440" y="468360"/>
              <a:ext cx="893124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Скругленный прямоугольник 6"/>
          <p:cNvSpPr/>
          <p:nvPr/>
        </p:nvSpPr>
        <p:spPr>
          <a:xfrm>
            <a:off x="330120" y="328680"/>
            <a:ext cx="924264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6" name="Скругленный прямоугольник 8"/>
          <p:cNvGrpSpPr/>
          <p:nvPr/>
        </p:nvGrpSpPr>
        <p:grpSpPr>
          <a:xfrm>
            <a:off x="444600" y="426960"/>
            <a:ext cx="9016920" cy="5497560"/>
            <a:chOff x="444600" y="426960"/>
            <a:chExt cx="9016920" cy="5497560"/>
          </a:xfrm>
        </p:grpSpPr>
        <p:pic>
          <p:nvPicPr>
            <p:cNvPr id="747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44600" y="426960"/>
              <a:ext cx="901692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8" name=""/>
            <p:cNvSpPr/>
            <p:nvPr/>
          </p:nvSpPr>
          <p:spPr>
            <a:xfrm>
              <a:off x="487440" y="468360"/>
              <a:ext cx="893124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Скругленный прямоугольник 6"/>
          <p:cNvSpPr/>
          <p:nvPr/>
        </p:nvSpPr>
        <p:spPr>
          <a:xfrm>
            <a:off x="330120" y="328680"/>
            <a:ext cx="924264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8" name="Скругленный прямоугольник 8"/>
          <p:cNvGrpSpPr/>
          <p:nvPr/>
        </p:nvGrpSpPr>
        <p:grpSpPr>
          <a:xfrm>
            <a:off x="444600" y="426960"/>
            <a:ext cx="9016920" cy="5497560"/>
            <a:chOff x="444600" y="426960"/>
            <a:chExt cx="9016920" cy="5497560"/>
          </a:xfrm>
        </p:grpSpPr>
        <p:pic>
          <p:nvPicPr>
            <p:cNvPr id="789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44600" y="426960"/>
              <a:ext cx="901692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0" name=""/>
            <p:cNvSpPr/>
            <p:nvPr/>
          </p:nvSpPr>
          <p:spPr>
            <a:xfrm>
              <a:off x="487440" y="468360"/>
              <a:ext cx="893124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30120" y="328680"/>
            <a:ext cx="924264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44600" y="426960"/>
            <a:ext cx="9016920" cy="3121200"/>
            <a:chOff x="444600" y="426960"/>
            <a:chExt cx="901692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44600" y="426960"/>
              <a:ext cx="901692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95360" y="476280"/>
              <a:ext cx="891540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090680" y="6111360"/>
            <a:ext cx="2476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567120" y="6111360"/>
            <a:ext cx="2476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9043920" y="6111360"/>
            <a:ext cx="495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0B534-8609-406B-88D6-794AA550B74D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Скругленный прямоугольник 6"/>
          <p:cNvSpPr/>
          <p:nvPr/>
        </p:nvSpPr>
        <p:spPr>
          <a:xfrm>
            <a:off x="330120" y="328680"/>
            <a:ext cx="924264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0" name="Скругленный прямоугольник 8"/>
          <p:cNvGrpSpPr/>
          <p:nvPr/>
        </p:nvGrpSpPr>
        <p:grpSpPr>
          <a:xfrm>
            <a:off x="444600" y="426960"/>
            <a:ext cx="9016920" cy="5497560"/>
            <a:chOff x="444600" y="426960"/>
            <a:chExt cx="9016920" cy="5497560"/>
          </a:xfrm>
        </p:grpSpPr>
        <p:pic>
          <p:nvPicPr>
            <p:cNvPr id="831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44600" y="426960"/>
              <a:ext cx="901692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2" name=""/>
            <p:cNvSpPr/>
            <p:nvPr/>
          </p:nvSpPr>
          <p:spPr>
            <a:xfrm>
              <a:off x="487440" y="468360"/>
              <a:ext cx="893124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Скругленный прямоугольник 6"/>
          <p:cNvSpPr/>
          <p:nvPr/>
        </p:nvSpPr>
        <p:spPr>
          <a:xfrm>
            <a:off x="330120" y="328680"/>
            <a:ext cx="924264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2" name="Скругленный прямоугольник 8"/>
          <p:cNvGrpSpPr/>
          <p:nvPr/>
        </p:nvGrpSpPr>
        <p:grpSpPr>
          <a:xfrm>
            <a:off x="444600" y="426960"/>
            <a:ext cx="9016920" cy="5497560"/>
            <a:chOff x="444600" y="426960"/>
            <a:chExt cx="9016920" cy="5497560"/>
          </a:xfrm>
        </p:grpSpPr>
        <p:pic>
          <p:nvPicPr>
            <p:cNvPr id="873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44600" y="426960"/>
              <a:ext cx="901692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4" name=""/>
            <p:cNvSpPr/>
            <p:nvPr/>
          </p:nvSpPr>
          <p:spPr>
            <a:xfrm>
              <a:off x="487440" y="468360"/>
              <a:ext cx="893124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6"/>
          <p:cNvSpPr/>
          <p:nvPr/>
        </p:nvSpPr>
        <p:spPr>
          <a:xfrm>
            <a:off x="330120" y="328680"/>
            <a:ext cx="924264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" name="Скругленный прямоугольник 8"/>
          <p:cNvGrpSpPr/>
          <p:nvPr/>
        </p:nvGrpSpPr>
        <p:grpSpPr>
          <a:xfrm>
            <a:off x="444600" y="426960"/>
            <a:ext cx="9016920" cy="5497560"/>
            <a:chOff x="444600" y="426960"/>
            <a:chExt cx="9016920" cy="5497560"/>
          </a:xfrm>
        </p:grpSpPr>
        <p:pic>
          <p:nvPicPr>
            <p:cNvPr id="9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44600" y="426960"/>
              <a:ext cx="901692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87440" y="468360"/>
              <a:ext cx="893124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090680" y="6111360"/>
            <a:ext cx="2476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567120" y="6111360"/>
            <a:ext cx="2476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9043920" y="6111360"/>
            <a:ext cx="495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BA200-1F7D-409E-9D4C-610881F2580C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30120" y="328680"/>
            <a:ext cx="924264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6" name="Скругленный прямоугольник 10"/>
          <p:cNvGrpSpPr/>
          <p:nvPr/>
        </p:nvGrpSpPr>
        <p:grpSpPr>
          <a:xfrm>
            <a:off x="444600" y="426960"/>
            <a:ext cx="9016920" cy="4353120"/>
            <a:chOff x="444600" y="426960"/>
            <a:chExt cx="9016920" cy="4353120"/>
          </a:xfrm>
        </p:grpSpPr>
        <p:pic>
          <p:nvPicPr>
            <p:cNvPr id="13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44600" y="426960"/>
              <a:ext cx="901692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480960" y="461880"/>
              <a:ext cx="894420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090680" y="6111360"/>
            <a:ext cx="2476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6567120" y="6111360"/>
            <a:ext cx="2476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9043920" y="6111360"/>
            <a:ext cx="495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EE2F6-CDA2-4B55-9013-775589A1F678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Скругленный прямоугольник 6"/>
          <p:cNvSpPr/>
          <p:nvPr/>
        </p:nvSpPr>
        <p:spPr>
          <a:xfrm>
            <a:off x="330120" y="328680"/>
            <a:ext cx="924264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1" name="Скругленный прямоугольник 8"/>
          <p:cNvGrpSpPr/>
          <p:nvPr/>
        </p:nvGrpSpPr>
        <p:grpSpPr>
          <a:xfrm>
            <a:off x="444600" y="426960"/>
            <a:ext cx="9016920" cy="5497560"/>
            <a:chOff x="444600" y="426960"/>
            <a:chExt cx="9016920" cy="5497560"/>
          </a:xfrm>
        </p:grpSpPr>
        <p:pic>
          <p:nvPicPr>
            <p:cNvPr id="18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44600" y="426960"/>
              <a:ext cx="901692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487440" y="468360"/>
              <a:ext cx="893124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4090680" y="6111360"/>
            <a:ext cx="2476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6567120" y="6111360"/>
            <a:ext cx="2476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9043920" y="6111360"/>
            <a:ext cx="495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57AF0-842E-41AA-8DEB-2106F51766A9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Скругленный прямоугольник 6"/>
          <p:cNvSpPr/>
          <p:nvPr/>
        </p:nvSpPr>
        <p:spPr>
          <a:xfrm>
            <a:off x="330120" y="328680"/>
            <a:ext cx="924264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6" name="Скругленный прямоугольник 8"/>
          <p:cNvGrpSpPr/>
          <p:nvPr/>
        </p:nvGrpSpPr>
        <p:grpSpPr>
          <a:xfrm>
            <a:off x="444600" y="426960"/>
            <a:ext cx="9016920" cy="5497560"/>
            <a:chOff x="444600" y="426960"/>
            <a:chExt cx="9016920" cy="5497560"/>
          </a:xfrm>
        </p:grpSpPr>
        <p:pic>
          <p:nvPicPr>
            <p:cNvPr id="22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44600" y="426960"/>
              <a:ext cx="901692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487440" y="468360"/>
              <a:ext cx="893124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4090680" y="6111360"/>
            <a:ext cx="2476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6567120" y="6111360"/>
            <a:ext cx="2476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9043920" y="6111360"/>
            <a:ext cx="495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58243-66C8-47AD-860C-074D4E53E0D6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Скругленный прямоугольник 6"/>
          <p:cNvSpPr/>
          <p:nvPr/>
        </p:nvSpPr>
        <p:spPr>
          <a:xfrm>
            <a:off x="330120" y="328680"/>
            <a:ext cx="924264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1" name="Скругленный прямоугольник 8"/>
          <p:cNvGrpSpPr/>
          <p:nvPr/>
        </p:nvGrpSpPr>
        <p:grpSpPr>
          <a:xfrm>
            <a:off x="444600" y="426960"/>
            <a:ext cx="9016920" cy="5497560"/>
            <a:chOff x="444600" y="426960"/>
            <a:chExt cx="9016920" cy="5497560"/>
          </a:xfrm>
        </p:grpSpPr>
        <p:pic>
          <p:nvPicPr>
            <p:cNvPr id="27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44600" y="426960"/>
              <a:ext cx="901692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487440" y="468360"/>
              <a:ext cx="893124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4090680" y="6111360"/>
            <a:ext cx="2476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6567120" y="6111360"/>
            <a:ext cx="2476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9043920" y="6111360"/>
            <a:ext cx="495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34B81-5ED4-4A2F-8414-4EEF367711EA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Скругленный прямоугольник 9"/>
          <p:cNvSpPr/>
          <p:nvPr/>
        </p:nvSpPr>
        <p:spPr>
          <a:xfrm>
            <a:off x="330120" y="328680"/>
            <a:ext cx="924264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22"/>
          </p:nvPr>
        </p:nvSpPr>
        <p:spPr>
          <a:xfrm>
            <a:off x="4090680" y="6111360"/>
            <a:ext cx="2476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3"/>
          </p:nvPr>
        </p:nvSpPr>
        <p:spPr>
          <a:xfrm>
            <a:off x="6567120" y="6111360"/>
            <a:ext cx="2476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4"/>
          </p:nvPr>
        </p:nvSpPr>
        <p:spPr>
          <a:xfrm>
            <a:off x="9043920" y="6111360"/>
            <a:ext cx="495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01783-B4CB-4E71-814A-7C38FC3DE283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Скругленный прямоугольник 6"/>
          <p:cNvSpPr/>
          <p:nvPr/>
        </p:nvSpPr>
        <p:spPr>
          <a:xfrm>
            <a:off x="330120" y="328680"/>
            <a:ext cx="924264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8" name="Скругленный прямоугольник 8"/>
          <p:cNvGrpSpPr/>
          <p:nvPr/>
        </p:nvGrpSpPr>
        <p:grpSpPr>
          <a:xfrm>
            <a:off x="444600" y="426960"/>
            <a:ext cx="9016920" cy="5497560"/>
            <a:chOff x="444600" y="426960"/>
            <a:chExt cx="9016920" cy="5497560"/>
          </a:xfrm>
        </p:grpSpPr>
        <p:pic>
          <p:nvPicPr>
            <p:cNvPr id="359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44600" y="426960"/>
              <a:ext cx="901692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487440" y="468360"/>
              <a:ext cx="893124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5"/>
          </p:nvPr>
        </p:nvSpPr>
        <p:spPr>
          <a:xfrm>
            <a:off x="4090680" y="6111360"/>
            <a:ext cx="2476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6"/>
          </p:nvPr>
        </p:nvSpPr>
        <p:spPr>
          <a:xfrm>
            <a:off x="6567120" y="6111360"/>
            <a:ext cx="2476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7"/>
          </p:nvPr>
        </p:nvSpPr>
        <p:spPr>
          <a:xfrm>
            <a:off x="9043920" y="6111360"/>
            <a:ext cx="495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4AD9D-B908-4423-A63D-85FB410A7031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8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6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39680" y="963720"/>
            <a:ext cx="7444080" cy="2536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44609e"/>
                </a:solidFill>
                <a:latin typeface="Verdana"/>
              </a:rPr>
              <a:t>Учебно-методический комплект «Школа России»</a:t>
            </a:r>
            <a:endParaRPr b="1" lang="en-US" sz="49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914" name="Picture 4" descr="http://900igr.net/datai/literatura/Uchebniki-po-literaturnomu-chteniju/0001-001-Federalnyj-gosudarstvennyj-obrazovatelnyj-standart-nachalnogo.png"/>
          <p:cNvPicPr/>
          <p:nvPr/>
        </p:nvPicPr>
        <p:blipFill>
          <a:blip r:embed="rId1"/>
          <a:stretch/>
        </p:blipFill>
        <p:spPr>
          <a:xfrm>
            <a:off x="3233880" y="3529080"/>
            <a:ext cx="340812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Рисунок 1" descr=""/>
          <p:cNvPicPr/>
          <p:nvPr/>
        </p:nvPicPr>
        <p:blipFill>
          <a:blip r:embed="rId1"/>
          <a:srcRect l="0" t="7899" r="0" b="0"/>
          <a:stretch/>
        </p:blipFill>
        <p:spPr>
          <a:xfrm>
            <a:off x="-50760" y="0"/>
            <a:ext cx="99568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5" name="Picture 4" descr="http://900igr.net/datai/literatura/Uchebniki-po-literaturnomu-chteniju/0001-001-Federalnyj-gosudarstvennyj-obrazovatelnyj-standart-nachalnogo.png"/>
          <p:cNvPicPr/>
          <p:nvPr/>
        </p:nvPicPr>
        <p:blipFill>
          <a:blip r:embed="rId1"/>
          <a:stretch/>
        </p:blipFill>
        <p:spPr>
          <a:xfrm>
            <a:off x="4673520" y="2378160"/>
            <a:ext cx="5010120" cy="4367160"/>
          </a:xfrm>
          <a:prstGeom prst="rect">
            <a:avLst/>
          </a:prstGeom>
          <a:ln w="0">
            <a:noFill/>
          </a:ln>
        </p:spPr>
      </p:pic>
      <p:sp>
        <p:nvSpPr>
          <p:cNvPr id="916" name="Прямоугольник 1"/>
          <p:cNvSpPr/>
          <p:nvPr/>
        </p:nvSpPr>
        <p:spPr>
          <a:xfrm>
            <a:off x="461880" y="493560"/>
            <a:ext cx="9180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бочих программах определены цели начального обучения по всем предметным линиям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отрены подходы к структурированию учебного материала и к организации деятельности учащихся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ены результаты изучения предметов, основное содержание курсов, тематическое планирование с характеристикой основных видов деятельности учащихся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о описание материально-технического обеспеч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Прямоугольник 2"/>
          <p:cNvSpPr/>
          <p:nvPr/>
        </p:nvSpPr>
        <p:spPr>
          <a:xfrm>
            <a:off x="104760" y="0"/>
            <a:ext cx="9801360" cy="67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пц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им из наиболее известных в стране проектов издательства «Просвещение» является учебно-методический комплекс (УМК) для начальных классов «Школа России». УМК «Школа России» построен на единых для всех учебных предметов основополагающих принципах, имеет полное программно-методическое сопровождение и гарантирует преемственность с дошкольным образование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ущая целевая установка и основные средства ее реализации, заложенные в основу УМК «Школа России», направлены на обеспечение современного образования младшего школьника в контексте требований ФГО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щным образовательным ресурсом является информационно-образовательная среда УМК «Школа России» включающая: концепцию, рабочие программы, систему учебников, составляющих ядро ИОС, а также мощную методическую оболочку, разнообразные электронные и интернет-ресурс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8" name="Picture 2" descr="http://school615.ucoz.ru/dla/schoolrussia.png"/>
          <p:cNvPicPr/>
          <p:nvPr/>
        </p:nvPicPr>
        <p:blipFill>
          <a:blip r:embed="rId1"/>
          <a:stretch/>
        </p:blipFill>
        <p:spPr>
          <a:xfrm>
            <a:off x="444600" y="-42840"/>
            <a:ext cx="9091440" cy="6900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Прямоугольник 1"/>
          <p:cNvSpPr/>
          <p:nvPr/>
        </p:nvSpPr>
        <p:spPr>
          <a:xfrm>
            <a:off x="493560" y="484200"/>
            <a:ext cx="896652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1" lang="ru-RU" sz="23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Русский язык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збука. Авторы: Горецкий В.Г., Кирюшкин В.А., Виноградская Л.А. и др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 язык. Авторы: Канакина В.П., Горецкий В.Г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Прямоугольник 2"/>
          <p:cNvSpPr/>
          <p:nvPr/>
        </p:nvSpPr>
        <p:spPr>
          <a:xfrm>
            <a:off x="473040" y="1944720"/>
            <a:ext cx="9059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 Литературное чтение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ы: Климанова Л.Ф., Горецкий В.Г., Голованова М.В. и др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атематика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вторы: Моро М.И., Волкова С.И., Степанова С.В., Бантова М.А., Бельтюкова Г.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нформатик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-4 классы). Авторы: Семенов А.Л., Рудченко Т.А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ружающий мир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: Плешаков А.А., Крючкова Е.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зобразительное искусство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ы: Неменская Л.А., Коротеева Е.И., Горяева Н.А., Питерских А.С. и др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узыка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ы: Критская Е.Д., Сергеева Г.П., Шмагина Т.С. (Учебники могут использоваться в составе систем учебников «Перспектива» и «Школа России»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ехнология. Авторы: Лутцева Е.А., Зуева Т.П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изическая культура. Автор: Лях В.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изическая культур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Авторы: Винер И.А., Горбулина Н.М., Цыганкова О.Д. (Учебники могут использоваться в составе систем учебников «Школа России» и «Перспектива»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Прямоугольник 1"/>
          <p:cNvSpPr/>
          <p:nvPr/>
        </p:nvSpPr>
        <p:spPr>
          <a:xfrm>
            <a:off x="182520" y="235080"/>
            <a:ext cx="9723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- Основы религиозных культур и светской этики (ОРКСЭ) (4 класс)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чебники могут использоваться в составе систем учебников «Школа России» и «Перспектива»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КСЭ. Основы православной культуры. Автор: Кураев А.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КСЭ. Основы исламской культуры. Авторы: Латышина Д.И., Муртазин М.Ф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КСЭ. Основы иудейской культуры. Авторы: Членов М.А., Миндрина Г.А., Глоцер А.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КСЭ. Основы буддийской культуры. Автор: Чимитдоржиев В.Л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КСЭ. Основы мировых религиозных культур. Авторы: Беглов А.Л., Саплина Е.В., Токарева Е.С. и др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КСЭ. Основы светской этики. Автор: Шемшурина А.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Прямоугольник 1"/>
          <p:cNvSpPr/>
          <p:nvPr/>
        </p:nvSpPr>
        <p:spPr>
          <a:xfrm>
            <a:off x="0" y="0"/>
            <a:ext cx="9221760" cy="55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учебники программы «Школа России», не вошедшие в новый перечень,    входили в Федеральные перечни учебников, рекомендованных или допущенных Минобрнауки России к использованию в образовательном процессе в общеобразовательных учреждениях, на 2013/2014 учебный год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Verdana"/>
              </a:rPr>
              <a:t>     </a:t>
            </a:r>
            <a:r>
              <a:rPr b="1" lang="ru-RU" sz="1800" spc="-1" strike="noStrike">
                <a:solidFill>
                  <a:srgbClr val="0d0d0d"/>
                </a:solidFill>
                <a:latin typeface="Verdana"/>
              </a:rPr>
              <a:t>Изучение иностранных языков по следующим УМК издательства «Просвещение»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- Английский язык «Английский в фокусе»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«Spotlight») (1-4 классы). Авторы: Быкова Н.И., Дули Д., Поспелова М.Д., Эванс В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- Английский язык «Звездный английский»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«Starlight») (углубленное изучение: 1-4 классы). Авторы: Баранова К.М., Дули Д., Копылова В.В., Мильруд Р.П., Эванс 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- Английский язык (2-4 классы).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Авторы: Кузовлев В.П., Перегудова Э.Ш., Пастухова С.А., Лапа Н.М., Костина И.П., Дуванова О.В.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- Английский язык (углубленное изучение: 2-4 классы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). Авторы: Верещагина И.Н., Бондаренко К.А., Притыкина Т.А., Афанасьева О.В.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- Немецкий язык (2-4 классы).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Авторы: Бим И.Л., Рыжова Л.И., Фомичева Л.М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- Французский язык «Твой друг французский язык» (2-4 классы).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Авторы: Кулигина А.С., Кирьянова М.Г.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- Французский язык «Французский в перспективе» (углубленное изучение: 2-4 классы).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Авторы: Касаткина Н.М., Белосельская Т.В., Гусева А.В., Береговская Э.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- Испанский язык.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Авторы: Воинова А.А., Бухарова Ю.А., Морено К.В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Прямоугольник 1"/>
          <p:cNvSpPr/>
          <p:nvPr/>
        </p:nvSpPr>
        <p:spPr>
          <a:xfrm>
            <a:off x="399960" y="650880"/>
            <a:ext cx="56959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ополагающие принципы УМК «Школа России»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воспитания гражданина Росси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ценностных ориентиров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экоадекватного характера образова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обучения в деятельност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работы на результат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синтеза традиций и инноваци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глобальной ориентации образова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вариатив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4" name="Picture 2" descr="https://pp.vk.me/c618130/v618130172/db46/V07Pahh6xX0.jpg"/>
          <p:cNvPicPr/>
          <p:nvPr/>
        </p:nvPicPr>
        <p:blipFill>
          <a:blip r:embed="rId1"/>
          <a:stretch/>
        </p:blipFill>
        <p:spPr>
          <a:xfrm>
            <a:off x="6000840" y="638280"/>
            <a:ext cx="3209760" cy="4562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Прямоугольник 1"/>
          <p:cNvSpPr/>
          <p:nvPr/>
        </p:nvSpPr>
        <p:spPr>
          <a:xfrm>
            <a:off x="504720" y="903240"/>
            <a:ext cx="8796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о-методический комплекс «Школа России» сегодня - это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щный потенциал для духовно-нравственного развития и воспитания личности гражданина России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ьная возможность достижения личностных, метапредметных и предметных результатов, соответствующих задачам современного образова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ффективное сочетание лучших традиций российского образования и проверенных практиками образовательного процесса инноваци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янно обновляющаяся, наиболее востребованная и понятная учителю образовательная система для начальной школ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06T18:43:33Z</dcterms:created>
  <dc:creator/>
  <dc:description/>
  <dc:language>en-US</dc:language>
  <cp:lastModifiedBy/>
  <dcterms:modified xsi:type="dcterms:W3CDTF">2017-05-04T10:46:18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19AC5EAA778EFE4AB81F53BA0C48C9BB</vt:lpwstr>
  </property>
  <property fmtid="{D5CDD505-2E9C-101B-9397-08002B2CF9AE}" pid="3" name="_ip_UnifiedCompliancePolicyProperties">
    <vt:lpwstr/>
  </property>
  <property fmtid="{D5CDD505-2E9C-101B-9397-08002B2CF9AE}" pid="4" name="_ip_UnifiedCompliancePolicyUIAction">
    <vt:lpwstr/>
  </property>
</Properties>
</file>