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AEB-3EE7-4FAC-B3EB-9A212C1F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8A6D-D124-44EB-8B65-8662004E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8B9E6-D27F-418E-87C6-E2C67397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072E4-4E57-4181-9C82-9D9085A5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DEC81-FF2F-4BE7-BBDF-963D4ED1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714B1-2541-4081-88C3-5E8737B2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268B9-43FB-471C-9B55-DA870DA2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80201-A343-4DA6-881E-FF2AB612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90047-AFE2-46A6-B0EA-722EE27A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F8828-18BB-4017-AB77-E0965C3B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615F5-8AD4-4BFD-BB56-ABFF0528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5A16F-33D4-4CEB-9721-76A2E5F3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1105-781E-44EC-B9BD-73439CE7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7ABC7-5FBD-4891-8DA4-2F5A11DB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A90DE-113C-45B6-B47E-C47F2A01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B0484-BF32-4DB7-8121-F453E6AD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15EF2-8877-433D-9384-E699D241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D946D-6B4E-4A31-8708-4E1BDC74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5A395-7989-4DB5-A3B8-FB05FC64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46566-2164-43FD-9F71-EAE2A5C4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AC719-44D5-4A7A-892C-5394D14F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2DE63-522A-483D-8E36-61686C55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F91C0-FE44-4B2D-979D-2753A711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84E6-8C4F-4D0F-BFC5-5F40EED6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8D05F-18C3-49CA-938D-A78B0418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F8D8A-AE84-4683-8B68-D9C6AEF0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6849C-255F-4AE6-8060-A284B254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9B069-9815-4C59-B3BB-F14EE69D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3E4B9-077D-4AA1-B2FB-DA3A72CE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A6CEE-70AC-40E3-9358-8A04F91C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8C41A-D10A-476E-9DA0-CE36C8D9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23C34-8359-46D7-9A13-CA5E5ED0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6C441-EE8C-40F5-9340-BEBE1EF8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1AEDE-73AA-4A95-8E2A-9809C354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DBF6-B1D8-462D-8242-5A35CB72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ED30A-8014-4877-B634-AD108ED5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1B0A2-71E7-49BB-8C39-E51C000D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ABD63-45B4-4C31-ACCB-45F43C70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001F7-1F0C-4D1D-BD1A-FB6B0B6D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8C1D2-AE25-4A62-AA8C-0CE3B8BE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94300-B360-47DF-99FC-6F44A0A7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08011-AB4C-418D-9C36-0CD88840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917B7-8DB1-449B-A200-EF013D17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F07B6-6487-4E66-9BE3-7B048ACB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944B9-E9E5-41E0-A87F-348B86AA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6569-2E13-4A52-B828-D5DE72B5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327CE-2272-4EED-8C9E-96A81210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F1D2D-5D98-4D96-AB81-4381D210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9BFDC-0D51-43AE-B907-15260918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E1085-0CAF-4458-810A-4E1DA01D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326FA-5FD6-4E4E-AB11-7EEF9FB2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4D69-332D-4DBD-972D-67725E1E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7F13-E01B-455C-AC6D-5CB79DC5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469D-607C-4548-814F-7C1B3C83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0191-90EA-49A3-B5E7-C35E0DA5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C176-EA94-4F41-B20B-965F7A2E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AE4-7113-4760-86D8-2A97D176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20D0-EA1E-4BE2-8139-863FAFA1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53F7-1589-47A6-9469-8305D802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F97D-8A27-4393-84AE-A902EFCA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2CB5-5101-40DE-986C-865F3897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1526-3281-49DD-87C9-4CEAC021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EB09D-EF3C-4BAB-B78B-1084BFCF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0B33F-AA8F-4D46-9C2F-E863778C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D8CAB-6B05-46B4-84E4-80E1B777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E7653-142D-4442-80C4-6F8E5011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EAC35-7C04-4A15-B4CA-A6C11D42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A84-86A4-4B0A-B19A-A8192DC3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F5B5C-D57A-4DBF-A22E-CB55BB5C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AF942-4088-487E-B363-BBB864DF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32215-D0EE-4D63-B001-10D35545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4409E-CAFA-4523-A560-598DEDF6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02A77-EB43-4062-9D52-7B64D5C2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2A0D2-1D2D-48D7-B3CB-FD3A690B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E11EC-222B-43E2-9CB3-35B5133C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2A058-BA11-4386-805A-5FA061A5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5C70D-08E2-42DC-84A4-C98934D2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D9C67-9584-48ED-956E-4F2D77F7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B77-3479-4300-AB8E-A5472263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22C04-8FF0-4263-A06E-46619544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26D0E-4181-44B0-96E3-95BE437D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D1497-9B30-443A-A277-35ECA64D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2768A-648F-455B-BBD7-24C3724B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CCB4C-B60C-4CE3-8CA0-8F6809B3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7F870-176C-4C93-A072-F2767755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E7FEA-A295-4D70-8F58-963FA4DC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E22F4-4FC1-4F5F-B9C2-0F975306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0FF15-EC59-47BF-B0D4-E02BC650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49CDB-1784-474A-BA89-5518BEA6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ECB-029B-4275-BF32-D955A57B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1DF41-48F8-46D7-8265-78FFCE76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36D26-8D14-4B2F-83FE-07B00393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287E4-0E63-410F-B969-72C2C6CA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8E004-13C4-4B15-A78E-6EC49BC9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F78FD-AA46-436B-8D1F-A27A5BE9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D55E2-2EB1-42E2-BC99-6AC173D3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7CD20-BAC2-4F98-BE84-07A317F0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B80F5-72AD-4F73-A0C7-EFE47453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D7006-26E9-4D40-9470-C3DCE254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12AB5-BC0A-4F00-BE23-D2EAA0B0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60C-3079-47FC-A014-86AD2C06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E0739-C809-464B-8FE2-F9FCB715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7F54A-9D82-406A-898F-89DE52C7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41BD7-22C8-43D3-99BE-34E0086D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CB6D0-0000-4E8D-BE3A-2076A51D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8B1FF-DE47-4ADB-82E5-941C2DFD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39EFC-7E06-4A07-93DC-756F637C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0D44D-DE21-4868-AC51-14081ADC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7C8B1-809C-4A74-B593-9F947B05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3B9F8-62A9-47A5-8319-1EF462FE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F9DD2-94C2-4DA2-8BF4-A97C687B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C49-794F-4CCB-88B5-08DF1A61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CA1A2-99E9-401C-8AF1-559901D3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AE1F9-C227-4B47-82FF-DB2FD029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2B932-E5CA-495E-8BA3-40940AAC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3E552-EF97-4788-B7B6-94F72B0B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DA1BE-2053-4E8C-BCB5-48184CC4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B9A57-C88B-4F75-B031-77AA2C33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4DC53-D7E8-4D4A-B43A-D4D13F61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38122-D3FB-4513-A18C-5B8E089C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14852-8D78-4A06-9829-D2A475B7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6AD1D-131E-4F25-B58D-BF04534B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9CE-64D3-4459-BFFE-C3D5D0D4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94729-EE90-4C96-AFE5-0BC49A14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6C6A6-0652-4C3F-B21F-6C1BDBFB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B99D9-3857-4605-A649-73EAF090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8761B-92E1-400E-9924-925D8C13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3C05C-04A5-450C-892E-3C2F1AB1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EC1E3-1B5B-47E4-A208-C23C1507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F4910-6198-4506-B580-29CC4A93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89733-808E-42B6-8E95-206D7B09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C59C0-253E-43A5-A8F0-04060365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A0FC9-70D1-4652-940F-0873F819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897-423C-4B4F-A60E-A4C0D1DB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90264-CEAE-410D-9F33-84980E92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C87DD-215E-41F9-B0A8-ED3D8DD4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84BE5-7041-4D66-A7EA-AC2ADFF0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5B046-0FD3-40F7-ADAC-84096123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2DE4E-3393-49EB-8DA5-C7ABBA2B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EC481-CCE6-42EC-89B7-01C2C70C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369EA-9C9F-433E-8726-EB172946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1BA44-15DE-440E-A5D2-95C449F3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63211-5471-42DA-9C28-1A41FAD8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FCD3E-2172-4DF2-8740-8CF1240A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7B0D-6001-478B-985C-73556C13927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934320" y="433440"/>
            <a:ext cx="251748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E1E2-E6DE-46ED-91DC-EBE60AFF901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D610-5FC0-4EF4-8022-D0DD0F5DCA0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3866-D796-45FC-8713-EBBA719C750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53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8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579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0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62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2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663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4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705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6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74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8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789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44600" y="426960"/>
            <a:ext cx="9016920" cy="3121200"/>
            <a:chOff x="444600" y="426960"/>
            <a:chExt cx="901692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95360" y="476280"/>
              <a:ext cx="891540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4047-97F2-4932-AC7C-CCB324632FA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0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83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2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873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1D28-3744-4993-A928-82267D3999B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44600" y="426960"/>
            <a:ext cx="9016920" cy="4353120"/>
            <a:chOff x="444600" y="426960"/>
            <a:chExt cx="9016920" cy="435312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80960" y="461880"/>
              <a:ext cx="894420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469F-2C22-465A-9710-B45675A0CB0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C0CD-94F6-4977-B431-066ED8DFF72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D481-0E14-4F10-9A40-F189F01DB4E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5F41-0562-4E4D-BD37-D77FB511D96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F29D-1441-4458-9B77-4AB8571999D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CADD-8BEA-4A05-9D1D-543FA4D8BF2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39680" y="963720"/>
            <a:ext cx="7444080" cy="2536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44609e"/>
                </a:solidFill>
                <a:latin typeface="Verdana"/>
              </a:rPr>
              <a:t>Учебно-методический комплект «Школа России»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914" name="Picture 4" descr="http://900igr.net/datai/literatura/Uchebniki-po-literaturnomu-chteniju/0001-001-Federalnyj-gosudarstvennyj-obrazovatelnyj-standart-nachalnogo.png"/>
          <p:cNvPicPr/>
          <p:nvPr/>
        </p:nvPicPr>
        <p:blipFill>
          <a:blip r:embed="rId1"/>
          <a:stretch/>
        </p:blipFill>
        <p:spPr>
          <a:xfrm>
            <a:off x="3233880" y="3529080"/>
            <a:ext cx="34081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Рисунок 1" descr=""/>
          <p:cNvPicPr/>
          <p:nvPr/>
        </p:nvPicPr>
        <p:blipFill>
          <a:blip r:embed="rId1"/>
          <a:srcRect l="0" t="7899" r="0" b="0"/>
          <a:stretch/>
        </p:blipFill>
        <p:spPr>
          <a:xfrm>
            <a:off x="-50760" y="0"/>
            <a:ext cx="9956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Picture 4" descr="http://900igr.net/datai/literatura/Uchebniki-po-literaturnomu-chteniju/0001-001-Federalnyj-gosudarstvennyj-obrazovatelnyj-standart-nachalnogo.png"/>
          <p:cNvPicPr/>
          <p:nvPr/>
        </p:nvPicPr>
        <p:blipFill>
          <a:blip r:embed="rId1"/>
          <a:stretch/>
        </p:blipFill>
        <p:spPr>
          <a:xfrm>
            <a:off x="4673520" y="2378160"/>
            <a:ext cx="5010120" cy="4367160"/>
          </a:xfrm>
          <a:prstGeom prst="rect">
            <a:avLst/>
          </a:prstGeom>
          <a:ln w="0">
            <a:noFill/>
          </a:ln>
        </p:spPr>
      </p:pic>
      <p:sp>
        <p:nvSpPr>
          <p:cNvPr id="916" name="Прямоугольник 1"/>
          <p:cNvSpPr/>
          <p:nvPr/>
        </p:nvSpPr>
        <p:spPr>
          <a:xfrm>
            <a:off x="461880" y="493560"/>
            <a:ext cx="9180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чих программах определены цели начального обучения по всем предметным линиям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ы подходы к структурированию учебного материала и к организации деятельности учащихс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ы результаты изучения предметов, основное содержание курсов, тематическое планирование с характеристикой основных видов деятельности учащихс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 описание материально-технического обеспе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Прямоугольник 2"/>
          <p:cNvSpPr/>
          <p:nvPr/>
        </p:nvSpPr>
        <p:spPr>
          <a:xfrm>
            <a:off x="104760" y="0"/>
            <a:ext cx="9801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наиболее известных в стране проектов издательства «Просвещение» является учебно-методический комплекс (УМК) для начальных классов «Школа России». УМК «Школа России» построен на единых для всех учебных предметов основополагающих принципах, имеет полное программно-методическое сопровождение и гарантирует преемственность с дошкольным образован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целевая установка и основные средства ее реализации, заложенные в основу УМК «Школа России», направлены на обеспечение современного образования младшего школьника в контексте требований ФГ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щным образовательным ресурсом является информационно-образовательная среда УМК «Школа России» включающая: концепцию, рабочие программы, систему учебников, составляющих ядро ИОС, а также мощную методическую оболочку, разнообразные электронные и интернет-ресур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2" descr="http://school615.ucoz.ru/dla/schoolrussia.png"/>
          <p:cNvPicPr/>
          <p:nvPr/>
        </p:nvPicPr>
        <p:blipFill>
          <a:blip r:embed="rId1"/>
          <a:stretch/>
        </p:blipFill>
        <p:spPr>
          <a:xfrm>
            <a:off x="444600" y="-42840"/>
            <a:ext cx="9091440" cy="6900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Прямоугольник 1"/>
          <p:cNvSpPr/>
          <p:nvPr/>
        </p:nvSpPr>
        <p:spPr>
          <a:xfrm>
            <a:off x="493560" y="484200"/>
            <a:ext cx="89665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усский язык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бука. Авторы: Горецкий В.Г., Кирюшкин В.А., Виноградская Л.А. и др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 Авторы: Канакина В.П., Горецкий В.Г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Прямоугольник 2"/>
          <p:cNvSpPr/>
          <p:nvPr/>
        </p:nvSpPr>
        <p:spPr>
          <a:xfrm>
            <a:off x="473040" y="1944720"/>
            <a:ext cx="9059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Литературное чтение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Климанова Л.Ф., Горецкий В.Г., Голованова М.В. и д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матик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торы: Моро М.И., Волкова С.И., Степанова С.В., Бантова М.А., Бельтюкова Г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ормати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-4 классы). Авторы: Семенов А.Л., Рудченко Т.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Плешаков А.А., Крючкова Е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образительное искусство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Неменская Л.А., Коротеева Е.И., Горяева Н.А., Питерских А.С. и д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узык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Критская Е.Д., Сергеева Г.П., Шмагина Т.С. (Учебники могут использоваться в составе систем учебников «Перспектива» и «Школа России»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я. Авторы: Лутцева Е.А., Зуева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ая культура. Автор: Лях В.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ая культу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вторы: Винер И.А., Горбулина Н.М., Цыганкова О.Д. (Учебники могут использоваться в составе систем учебников «Школа России» и «Перспектива»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Прямоугольник 1"/>
          <p:cNvSpPr/>
          <p:nvPr/>
        </p:nvSpPr>
        <p:spPr>
          <a:xfrm>
            <a:off x="182520" y="235080"/>
            <a:ext cx="972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- Основы религиозных культур и светской этики (ОРКСЭ) (4 класс)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чебники могут использоваться в составе систем учебников «Школа России» и «Перспектива»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КСЭ. Основы православной культуры. Автор: Кураев А.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КСЭ. Основы исламской культуры. Авторы: Латышина Д.И., Муртазин М.Ф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КСЭ. Основы иудейской культуры. Авторы: Членов М.А., Миндрина Г.А., Глоцер А.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КСЭ. Основы буддийской культуры. Автор: Чимитдоржиев В.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КСЭ. Основы мировых религиозных культур. Авторы: Беглов А.Л., Саплина Е.В., Токарева Е.С. и д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КСЭ. Основы светской этики. Автор: Шемшурина А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Прямоугольник 1"/>
          <p:cNvSpPr/>
          <p:nvPr/>
        </p:nvSpPr>
        <p:spPr>
          <a:xfrm>
            <a:off x="0" y="0"/>
            <a:ext cx="9221760" cy="55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бники программы «Школа России», не вошедшие в новый перечень,    входили в Федеральные перечни учебников, рекомендованных или допущенных Минобрнауки России к использованию в образовательном процессе в общеобразовательных учреждениях, на 2013/2014 учебный го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Изучение иностранных языков по следующим УМК издательства «Просвещение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Английский язык «Английский в фокусе»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«Spotlight») (1-4 классы). Авторы: Быкова Н.И., Дули Д., Поспелова М.Д., Эванс 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Английский язык «Звездный английский»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«Starlight») (углубленное изучение: 1-4 классы). Авторы: Баранова К.М., Дули Д., Копылова В.В., Мильруд Р.П., Эванс 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Английский язык (2-4 классы)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торы: Кузовлев В.П., Перегудова Э.Ш., Пастухова С.А., Лапа Н.М., Костина И.П., Дуванова О.В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Английский язык (углубленное изучение: 2-4 класс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. Авторы: Верещагина И.Н., Бондаренко К.А., Притыкина Т.А., Афанасьева О.В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Немецкий язык (2-4 классы)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торы: Бим И.Л., Рыжова Л.И., Фомичева Л.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Французский язык «Твой друг французский язык» (2-4 классы)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торы: Кулигина А.С., Кирьянова М.Г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Французский язык «Французский в перспективе» (углубленное изучение: 2-4 классы)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торы: Касаткина Н.М., Белосельская Т.В., Гусева А.В., Береговская Э.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Испанский язык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торы: Воинова А.А., Бухарова Ю.А., Морено К.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Прямоугольник 1"/>
          <p:cNvSpPr/>
          <p:nvPr/>
        </p:nvSpPr>
        <p:spPr>
          <a:xfrm>
            <a:off x="399960" y="650880"/>
            <a:ext cx="5695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полагающие принципы УМК «Школа России»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оспитания гражданина Росс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ценностных ориентир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экоадекватного характера образ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бучения в деяте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работы на результа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интеза традиций и инновац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глобальной ориентации образ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ариатив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Picture 2" descr="https://pp.vk.me/c618130/v618130172/db46/V07Pahh6xX0.jpg"/>
          <p:cNvPicPr/>
          <p:nvPr/>
        </p:nvPicPr>
        <p:blipFill>
          <a:blip r:embed="rId1"/>
          <a:stretch/>
        </p:blipFill>
        <p:spPr>
          <a:xfrm>
            <a:off x="6000840" y="638280"/>
            <a:ext cx="3209760" cy="4562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Прямоугольник 1"/>
          <p:cNvSpPr/>
          <p:nvPr/>
        </p:nvSpPr>
        <p:spPr>
          <a:xfrm>
            <a:off x="504720" y="903240"/>
            <a:ext cx="879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ий комплекс «Школа России» сегодня - это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щный потенциал для духовно-нравственного развития и воспитания личности гражданина Росс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ая возможность достижения личностных, метапредметных и предметных результатов, соответствующих задачам современного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е сочетание лучших традиций российского образования и проверенных практиками образовательного процесса инновац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обновляющаяся, наиболее востребованная и понятная учителю образовательная система для начальной шко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8:43:33Z</dcterms:created>
  <dc:creator/>
  <dc:description/>
  <dc:language>en-US</dc:language>
  <cp:lastModifiedBy/>
  <dcterms:modified xsi:type="dcterms:W3CDTF">2017-05-04T10:46:1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9AC5EAA778EFE4AB81F53BA0C48C9BB</vt:lpwstr>
  </property>
  <property fmtid="{D5CDD505-2E9C-101B-9397-08002B2CF9AE}" pid="3" name="_ip_UnifiedCompliancePolicyProperties">
    <vt:lpwstr/>
  </property>
  <property fmtid="{D5CDD505-2E9C-101B-9397-08002B2CF9AE}" pid="4" name="_ip_UnifiedCompliancePolicyUIAction">
    <vt:lpwstr/>
  </property>
</Properties>
</file>