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CBAA-22F5-40CE-B083-A379E2CE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FD7-43C9-4C44-B5CC-AC3AD165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702-FF6F-4227-975B-939C521A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3277-3199-428D-9679-269814C1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C9F5-9F3B-45C5-9AD5-C5D4B3B5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51DD-1B93-4443-9279-B65BDB70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E19D-45FE-4E55-8B7C-55444015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A1A9-5422-4C31-A35F-EEE68266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8595-3503-421C-AF8A-1AA116EA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0BC2-EB39-4BD1-AF84-913EC45C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A31C-6510-46F5-9A90-96A0F6AF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826B-503F-48C0-B60D-56D29B18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CA56-BA8C-45ED-81C3-D26C853A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5808-F018-45D5-87E5-206FEED0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F0EC-2C80-4497-802F-516C78AA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8E9B-D357-457A-973E-5BEEF779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27BD-0CAF-4AF3-A3E6-4982F1D2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E3B99F-21D1-4FE0-8267-AA77626C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13657-C0E2-4538-926E-C21FFD1C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9FA5C-DFC7-42BD-B14A-33CC429C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41CB6-E8FD-4062-BBBD-89E40B45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912FD-4E75-4684-B8CF-926B612E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E6D4-3E65-4DCA-B8C6-A26C8054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E8AC5-307E-4F91-88C8-DFCC7EE7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180A07-51AB-45C3-AF27-587062DF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33A004-FD0C-4B5D-8EC0-C5E4C40C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8FC7BB-055B-4634-89D9-247085E1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E0A345-44D2-432E-8738-380AFA44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11ADF-F9F9-4AC9-9341-3F209BE8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32052-3ADA-4EDE-B9EE-0E35DB9D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583A2-EE1E-416F-A18D-7FF51129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7B89B-DA2A-4BBF-8FC3-3AA09E56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62AB3-8CD1-4168-B7D8-BE32A4FE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C64A-305D-4D33-AC26-A5505649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FFF61-D4AF-4ED7-817D-E58DFBBF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228D9-FC62-4CE4-A78F-150A9023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11E36-93DD-4F27-9F02-864A7BF5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AFCA7-B799-4E19-B210-D108EDBF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F4221-CBA3-4499-B647-A7F8945D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74BB5-37FF-4D65-B445-C003D08B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112D4-F686-4CA9-B22B-4DA48964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06B6F-8170-4BB5-8536-60F3D5AF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3BAE3-E930-4EBD-80CD-6EAA89F8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412D4E-29CF-45E1-B76A-F1E17224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974C-B04E-48C6-8DF4-A571DC49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2D8D22-DC5A-4334-8274-9C5CAA59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B421F2-1BF8-4BC2-BCEF-5ACFF07F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605A01-D188-4F5D-BFDB-6B8906DB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226008-5426-4AC6-A145-3A50A1EC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9B38B-B745-4532-B360-AB9495E7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B05C34-CA6A-4A57-B2CA-240F4E5D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7ED8C5-9B71-43BB-A83D-D55DD00B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C323BD-0E28-454F-8813-C973ED60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84EBD8-7605-4420-8B41-87F2F9B1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922B97-853D-4360-8D67-B6EEE7E5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880B-CA7B-4CFE-B814-5A133A01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A4064-443C-46C9-B236-863C9B67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1E5795-3E02-4B0D-9E34-12D07A7E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6A099E-F8C8-4691-BA85-19123F1D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81BD25-8B3A-48CC-A3D5-0D09B7D0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632BEB-25D6-4026-87BD-A0519FA6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D0F3E8-29CB-4D12-907B-ED584F48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D86546-9DA5-4A17-96DC-CF25404A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FEFB21-9BB2-485D-95E0-3CE60F4F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A3854-A9A6-4E01-878E-F2B234F4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41A5E-EE7A-487F-A3B7-A6DACC29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5F3E-7A8F-43A5-8C9B-1BE7BBD3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9A4546-BD29-41F2-87BE-E2D53BF8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8D66E2-DB45-44C6-A96A-E3E456A0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FEA9E1-7355-409E-9833-330E9826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FE1618-5E1A-4358-B4FB-FE46616C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389D78-9755-4E4E-8E4C-CD657C4E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B170C4-0488-4CE2-A412-8DF853EA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763088-6CB4-47D6-9D0B-5E0EAFB1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20A269-66A2-4DC0-8A6A-FEC500F6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0106B8-15E5-48C8-ACEC-3D8906D2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37CE21-297C-4C14-8C01-49B98E6A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FE5-18AC-4096-91BE-37FAC0AA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3BBAE5-B027-444D-B11E-55AFDF1C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640A40-F185-48C9-896D-5413071C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FB47A6-5E53-4081-B223-682C9029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B5F893-B194-4FC2-93AC-4EEB41EE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2EB5A4-15E0-4694-BA7D-E2D75835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DCDE-C995-4235-A7D1-DD35E8FA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4A04-F8A4-48BB-B4D4-796659741BF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D586-47AE-4D02-A020-9AC9B19D600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A381-5787-44C5-836E-5694F76C333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418B-BDA3-43E6-8349-F51A01DBEAB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292B-2B18-4606-AC5F-166B975F0AD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E3CA-D093-4F14-B32D-0F4B10F3F66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7CD9-AFF2-47E2-9EF3-37F3EE9AB63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1476360" y="115920"/>
            <a:ext cx="5975280" cy="34624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13"/>
          <p:cNvSpPr/>
          <p:nvPr/>
        </p:nvSpPr>
        <p:spPr>
          <a:xfrm>
            <a:off x="755640" y="414972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(41+7):6                (12+68):10            (18+27):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476360" y="115920"/>
            <a:ext cx="5975280" cy="3462480"/>
          </a:xfrm>
          <a:prstGeom prst="rect">
            <a:avLst/>
          </a:prstGeom>
          <a:ln w="0">
            <a:noFill/>
          </a:ln>
        </p:spPr>
      </p:pic>
      <p:sp>
        <p:nvSpPr>
          <p:cNvPr id="356" name="TextBox 13"/>
          <p:cNvSpPr/>
          <p:nvPr/>
        </p:nvSpPr>
        <p:spPr>
          <a:xfrm>
            <a:off x="1187280" y="36752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TextBox 1"/>
          <p:cNvSpPr/>
          <p:nvPr/>
        </p:nvSpPr>
        <p:spPr>
          <a:xfrm>
            <a:off x="3419640" y="2565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Вывод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TextBox 2"/>
          <p:cNvSpPr/>
          <p:nvPr/>
        </p:nvSpPr>
        <p:spPr>
          <a:xfrm>
            <a:off x="1692360" y="3645000"/>
            <a:ext cx="68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(a + b) : c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Century Schoolbook"/>
              </a:rPr>
              <a:t>1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entury Schoolbook"/>
              </a:rPr>
              <a:t>способ: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 раздели каждое слагаемое, сложи результаты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entury Schoolbook"/>
              </a:rPr>
              <a:t>2 способ: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найди сумму и раздели её на числ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3560" y="517320"/>
            <a:ext cx="800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Р      РАЗДЕЛИТЕ КУБИКИ НА 2 ГРУППЫ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ПОРОВНУ 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800360" cy="277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"/>
          <p:cNvPicPr/>
          <p:nvPr/>
        </p:nvPicPr>
        <p:blipFill>
          <a:blip r:embed="rId2"/>
          <a:stretch/>
        </p:blipFill>
        <p:spPr>
          <a:xfrm>
            <a:off x="4016520" y="1692360"/>
            <a:ext cx="958680" cy="957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"/>
          <p:cNvPicPr/>
          <p:nvPr/>
        </p:nvPicPr>
        <p:blipFill>
          <a:blip r:embed="rId3"/>
          <a:stretch/>
        </p:blipFill>
        <p:spPr>
          <a:xfrm>
            <a:off x="3059280" y="162864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"/>
          <p:cNvPicPr/>
          <p:nvPr/>
        </p:nvPicPr>
        <p:blipFill>
          <a:blip r:embed="rId4"/>
          <a:stretch/>
        </p:blipFill>
        <p:spPr>
          <a:xfrm>
            <a:off x="1908000" y="1628640"/>
            <a:ext cx="957600" cy="9572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"/>
          <p:cNvPicPr/>
          <p:nvPr/>
        </p:nvPicPr>
        <p:blipFill>
          <a:blip r:embed="rId5"/>
          <a:stretch/>
        </p:blipFill>
        <p:spPr>
          <a:xfrm>
            <a:off x="7093080" y="169236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6"/>
          <a:stretch/>
        </p:blipFill>
        <p:spPr>
          <a:xfrm>
            <a:off x="6006960" y="169236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8" descr=""/>
          <p:cNvPicPr/>
          <p:nvPr/>
        </p:nvPicPr>
        <p:blipFill>
          <a:blip r:embed="rId7"/>
          <a:stretch/>
        </p:blipFill>
        <p:spPr>
          <a:xfrm>
            <a:off x="5049720" y="169236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0" descr="http://zarskaya-kovka.ru/Images/Romana/Mik/Mm/elk-102.jpg"/>
          <p:cNvPicPr/>
          <p:nvPr/>
        </p:nvPicPr>
        <p:blipFill>
          <a:blip r:embed="rId8"/>
          <a:stretch/>
        </p:blipFill>
        <p:spPr>
          <a:xfrm>
            <a:off x="4975200" y="2924280"/>
            <a:ext cx="1255680" cy="9428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0" descr="http://zarskaya-kovka.ru/Images/Romana/Mik/Mm/elk-102.jpg"/>
          <p:cNvPicPr/>
          <p:nvPr/>
        </p:nvPicPr>
        <p:blipFill>
          <a:blip r:embed="rId9"/>
          <a:stretch/>
        </p:blipFill>
        <p:spPr>
          <a:xfrm>
            <a:off x="3867120" y="292428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http://zarskaya-kovka.ru/Images/Romana/Mik/Mm/elk-102.jpg"/>
          <p:cNvPicPr/>
          <p:nvPr/>
        </p:nvPicPr>
        <p:blipFill>
          <a:blip r:embed="rId10"/>
          <a:stretch/>
        </p:blipFill>
        <p:spPr>
          <a:xfrm>
            <a:off x="2852640" y="2924280"/>
            <a:ext cx="1255680" cy="9428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http://zarskaya-kovka.ru/Images/Romana/Mik/Mm/elk-102.jpg"/>
          <p:cNvPicPr/>
          <p:nvPr/>
        </p:nvPicPr>
        <p:blipFill>
          <a:blip r:embed="rId11"/>
          <a:stretch/>
        </p:blipFill>
        <p:spPr>
          <a:xfrm>
            <a:off x="1714680" y="2924280"/>
            <a:ext cx="12571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3560" y="517320"/>
            <a:ext cx="800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Р      РАЗДЕЛИТЕ КУБИКИ НА 2 ГРУППЫ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ПОРОВНУ 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800360" cy="2772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3875040" y="3336840"/>
            <a:ext cx="744480" cy="744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7118280" y="3265560"/>
            <a:ext cx="647640" cy="649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4"/>
          <a:stretch/>
        </p:blipFill>
        <p:spPr>
          <a:xfrm>
            <a:off x="7765920" y="3265560"/>
            <a:ext cx="648000" cy="649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5"/>
          <a:stretch/>
        </p:blipFill>
        <p:spPr>
          <a:xfrm>
            <a:off x="6334200" y="3336840"/>
            <a:ext cx="630000" cy="630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"/>
          <p:cNvPicPr/>
          <p:nvPr/>
        </p:nvPicPr>
        <p:blipFill>
          <a:blip r:embed="rId6"/>
          <a:stretch/>
        </p:blipFill>
        <p:spPr>
          <a:xfrm>
            <a:off x="5665680" y="33195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"/>
          <p:cNvPicPr/>
          <p:nvPr/>
        </p:nvPicPr>
        <p:blipFill>
          <a:blip r:embed="rId7"/>
          <a:stretch/>
        </p:blipFill>
        <p:spPr>
          <a:xfrm>
            <a:off x="4788000" y="33465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0" descr="http://zarskaya-kovka.ru/Images/Romana/Mik/Mm/elk-102.jpg"/>
          <p:cNvPicPr/>
          <p:nvPr/>
        </p:nvPicPr>
        <p:blipFill>
          <a:blip r:embed="rId8"/>
          <a:stretch/>
        </p:blipFill>
        <p:spPr>
          <a:xfrm>
            <a:off x="2865600" y="3336840"/>
            <a:ext cx="1009440" cy="757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0" descr="http://zarskaya-kovka.ru/Images/Romana/Mik/Mm/elk-102.jpg"/>
          <p:cNvPicPr/>
          <p:nvPr/>
        </p:nvPicPr>
        <p:blipFill>
          <a:blip r:embed="rId9"/>
          <a:stretch/>
        </p:blipFill>
        <p:spPr>
          <a:xfrm>
            <a:off x="1947960" y="3336840"/>
            <a:ext cx="1001520" cy="7509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http://zarskaya-kovka.ru/Images/Romana/Mik/Mm/elk-102.jpg"/>
          <p:cNvPicPr/>
          <p:nvPr/>
        </p:nvPicPr>
        <p:blipFill>
          <a:blip r:embed="rId10"/>
          <a:stretch/>
        </p:blipFill>
        <p:spPr>
          <a:xfrm>
            <a:off x="1128600" y="3376440"/>
            <a:ext cx="995400" cy="746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0" descr="http://zarskaya-kovka.ru/Images/Romana/Mik/Mm/elk-102.jpg"/>
          <p:cNvPicPr/>
          <p:nvPr/>
        </p:nvPicPr>
        <p:blipFill>
          <a:blip r:embed="rId11"/>
          <a:stretch/>
        </p:blipFill>
        <p:spPr>
          <a:xfrm>
            <a:off x="179280" y="3371760"/>
            <a:ext cx="949320" cy="711360"/>
          </a:xfrm>
          <a:prstGeom prst="rect">
            <a:avLst/>
          </a:prstGeom>
          <a:ln w="0">
            <a:noFill/>
          </a:ln>
        </p:spPr>
      </p:pic>
      <p:sp>
        <p:nvSpPr>
          <p:cNvPr id="383" name="Стрелка вниз 2"/>
          <p:cNvSpPr/>
          <p:nvPr/>
        </p:nvSpPr>
        <p:spPr>
          <a:xfrm>
            <a:off x="4619520" y="3141720"/>
            <a:ext cx="46080" cy="1439640"/>
          </a:xfrm>
          <a:prstGeom prst="downArrow">
            <a:avLst>
              <a:gd name="adj1" fmla="val 50000"/>
              <a:gd name="adj2" fmla="val 49611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TextBox 4"/>
          <p:cNvSpPr/>
          <p:nvPr/>
        </p:nvSpPr>
        <p:spPr>
          <a:xfrm>
            <a:off x="826920" y="5013360"/>
            <a:ext cx="51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(6 + 4) : 2 = 10 : 2 = 5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3560" y="517320"/>
            <a:ext cx="800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Р      РАЗДЕЛИТЕ КУБИКИ НА 2 ГРУППЫ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ПОРОВНУ 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800360" cy="2772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"/>
          <p:cNvPicPr/>
          <p:nvPr/>
        </p:nvPicPr>
        <p:blipFill>
          <a:blip r:embed="rId2"/>
          <a:stretch/>
        </p:blipFill>
        <p:spPr>
          <a:xfrm>
            <a:off x="4016520" y="1692360"/>
            <a:ext cx="958680" cy="957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"/>
          <p:cNvPicPr/>
          <p:nvPr/>
        </p:nvPicPr>
        <p:blipFill>
          <a:blip r:embed="rId3"/>
          <a:stretch/>
        </p:blipFill>
        <p:spPr>
          <a:xfrm>
            <a:off x="3059280" y="162864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"/>
          <p:cNvPicPr/>
          <p:nvPr/>
        </p:nvPicPr>
        <p:blipFill>
          <a:blip r:embed="rId4"/>
          <a:stretch/>
        </p:blipFill>
        <p:spPr>
          <a:xfrm>
            <a:off x="1908000" y="1628640"/>
            <a:ext cx="957600" cy="9572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5"/>
          <a:stretch/>
        </p:blipFill>
        <p:spPr>
          <a:xfrm>
            <a:off x="7093080" y="169236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"/>
          <p:cNvPicPr/>
          <p:nvPr/>
        </p:nvPicPr>
        <p:blipFill>
          <a:blip r:embed="rId6"/>
          <a:stretch/>
        </p:blipFill>
        <p:spPr>
          <a:xfrm>
            <a:off x="6006960" y="169236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"/>
          <p:cNvPicPr/>
          <p:nvPr/>
        </p:nvPicPr>
        <p:blipFill>
          <a:blip r:embed="rId7"/>
          <a:stretch/>
        </p:blipFill>
        <p:spPr>
          <a:xfrm>
            <a:off x="5049720" y="169236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http://zarskaya-kovka.ru/Images/Romana/Mik/Mm/elk-102.jpg"/>
          <p:cNvPicPr/>
          <p:nvPr/>
        </p:nvPicPr>
        <p:blipFill>
          <a:blip r:embed="rId8"/>
          <a:stretch/>
        </p:blipFill>
        <p:spPr>
          <a:xfrm>
            <a:off x="6006960" y="291312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0" descr="http://zarskaya-kovka.ru/Images/Romana/Mik/Mm/elk-102.jpg"/>
          <p:cNvPicPr/>
          <p:nvPr/>
        </p:nvPicPr>
        <p:blipFill>
          <a:blip r:embed="rId9"/>
          <a:stretch/>
        </p:blipFill>
        <p:spPr>
          <a:xfrm>
            <a:off x="4975200" y="2913120"/>
            <a:ext cx="1255680" cy="942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http://zarskaya-kovka.ru/Images/Romana/Mik/Mm/elk-102.jpg"/>
          <p:cNvPicPr/>
          <p:nvPr/>
        </p:nvPicPr>
        <p:blipFill>
          <a:blip r:embed="rId10"/>
          <a:stretch/>
        </p:blipFill>
        <p:spPr>
          <a:xfrm>
            <a:off x="3792600" y="292428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0" descr="http://zarskaya-kovka.ru/Images/Romana/Mik/Mm/elk-102.jpg"/>
          <p:cNvPicPr/>
          <p:nvPr/>
        </p:nvPicPr>
        <p:blipFill>
          <a:blip r:embed="rId11"/>
          <a:stretch/>
        </p:blipFill>
        <p:spPr>
          <a:xfrm>
            <a:off x="2736720" y="2913120"/>
            <a:ext cx="1255680" cy="942840"/>
          </a:xfrm>
          <a:prstGeom prst="rect">
            <a:avLst/>
          </a:prstGeom>
          <a:ln w="0">
            <a:noFill/>
          </a:ln>
        </p:spPr>
      </p:pic>
      <p:sp>
        <p:nvSpPr>
          <p:cNvPr id="397" name="Стрелка вниз 2"/>
          <p:cNvSpPr/>
          <p:nvPr/>
        </p:nvSpPr>
        <p:spPr>
          <a:xfrm>
            <a:off x="5049720" y="1341360"/>
            <a:ext cx="46080" cy="1244520"/>
          </a:xfrm>
          <a:prstGeom prst="downArrow">
            <a:avLst>
              <a:gd name="adj1" fmla="val 50000"/>
              <a:gd name="adj2" fmla="val 4963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Стрелка вниз 3"/>
          <p:cNvSpPr/>
          <p:nvPr/>
        </p:nvSpPr>
        <p:spPr>
          <a:xfrm>
            <a:off x="5016600" y="2781360"/>
            <a:ext cx="46080" cy="1295280"/>
          </a:xfrm>
          <a:prstGeom prst="downArrow">
            <a:avLst>
              <a:gd name="adj1" fmla="val 50000"/>
              <a:gd name="adj2" fmla="val 495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TextBox 4"/>
          <p:cNvSpPr/>
          <p:nvPr/>
        </p:nvSpPr>
        <p:spPr>
          <a:xfrm>
            <a:off x="1116000" y="4797360"/>
            <a:ext cx="64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(6 + 4) : 2 = 6 : 2 + 4 : 2 = 3 + 2 = 5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23640" y="3933720"/>
            <a:ext cx="8259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(18+27):3 = 18 : 3 + 27 : 3 = 6 + 9 = 15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2" descr="http://egrup.ru/uploads/thumbs/7/2/b/72b8b77aec27fb10c4d2372c74d50bba.jpg"/>
          <p:cNvPicPr/>
          <p:nvPr/>
        </p:nvPicPr>
        <p:blipFill>
          <a:blip r:embed="rId1"/>
          <a:srcRect l="15650" t="0" r="19534" b="0"/>
          <a:stretch/>
        </p:blipFill>
        <p:spPr>
          <a:xfrm>
            <a:off x="324000" y="115920"/>
            <a:ext cx="28954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8:27:28Z</dcterms:created>
  <dc:creator>pc1</dc:creator>
  <dc:description/>
  <dc:language>en-US</dc:language>
  <cp:lastModifiedBy>pc1</cp:lastModifiedBy>
  <dcterms:modified xsi:type="dcterms:W3CDTF">2016-11-23T19:34:46Z</dcterms:modified>
  <cp:revision>7</cp:revision>
  <dc:subject/>
  <dc:title>Презентация PowerPoint</dc:title>
</cp:coreProperties>
</file>