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005-11A3-457A-ADC9-7BC66169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91E-7EE6-4A7D-A697-89E408E2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89A-E63C-4830-A438-F243ACFC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997-770B-4834-96F9-6D24BA2F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503-E891-47E2-842E-14A83CCF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0F39-CE14-4D6E-9104-CD939F1C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103B-8677-48AF-8906-C645628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54D-2525-411D-9FBC-2C96A2C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B8DD-A3DD-491F-AD4F-E2A6CE4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1B81-BF2C-40F9-9AB6-5627BFC2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83B3-C9FA-4A24-A477-5421BB2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E3F-D448-45A6-B9C7-05AE702E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785C-688A-4B39-A344-7F585C78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C03-8734-4BC4-96C7-A8F4F0B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1C75-FA23-4440-B8B1-062B481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61B3-37B2-4BAC-B7B2-47E42193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74D-3C4A-4606-B9A3-5C001E9A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2E616-A206-4CF4-9E8B-2138CA2D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E34AE-9910-4C3F-9BED-17D793A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A17C0-3637-4E6F-A9C2-716BC255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3AE0D-6A82-4F5D-B7D3-6B945997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2739-79DB-4846-8630-AB6277A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FBE-F40A-4711-AD96-6E98646F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6D02F-84BC-44CB-87F8-BB9E59EC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29D54-B2AE-4876-9F29-B98D22F9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0F745-8426-4A0D-B2AD-F500E7C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BF845-A74A-4D53-894D-C4FD1166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F500A-B88B-4464-AB58-11BEF8E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784CD-CB31-45F9-9F66-D8D46BFD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3A53C-BF3C-45F7-9CC8-CED55F42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E86B-D6E2-4A6B-BC91-22764D16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21CA-4B09-4EFB-B873-53614C74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3ED8-86DF-4C0A-A286-C7F9BCE8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0E6-F60A-4C92-B3D3-4D87F93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A5CE-37EF-4DB1-BEF8-1CC19D7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EDB6-AE4E-45F9-8440-0BD23F37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515B-F2A9-4F67-965F-779F4249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1C8F-323E-4AB8-B675-0AA6772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8F92-2DB7-4050-9370-C395922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F426-F78D-4784-BE5B-65DD76CB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57DD-028C-47BC-A972-C04E72F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9D87-BCDE-491B-97CB-04552AC3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8B49-5474-43E5-8B49-B774FDD6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CE3D1-E595-431D-BE54-1AA689E7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E95-F229-4F99-B51B-CFA740F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69BBF-638E-47AD-8161-1C73D79E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16AB0-7773-4F89-97C5-5773287A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3697B-5C78-4829-888E-5784404B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775BA-B3EE-4AA4-98DF-9495802F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E9E32-B1EC-46A4-B825-42D0F8D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030B6-8284-4621-A03B-B75FC68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E5044-9836-494E-9D45-8A28A6C2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3FB4C-8E8E-47DA-ACC6-1F3D792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B4CC5-6876-4D1D-A96F-9C3E2135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A4A7D-D042-4CED-BFC8-82092B66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5BC-11C5-4431-832F-6DDF621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778EC-8FB7-4DEA-B1DF-2E16F9EF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512B5-DA60-4127-984F-F5DD38A1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C14C9-59E2-4D50-A951-3154B596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C1950-FAB1-4978-B5DC-7400DFA7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6107B-3037-4BBB-90FA-E59E80D6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65B1B-036B-4AF7-B2B2-B55D93FB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0E6BE-113D-4DE6-8DE1-B019F76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2B6D9-4225-4222-9285-3645DF22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ABC60-9030-4658-BAE7-9D02C13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E33A3-FFC0-4CB3-8C6B-A0BEB41B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D5A-C4A5-4883-B042-ED0C482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2581C-0029-46AB-9233-942AB483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4EF4C-F899-4D62-88E4-09AED58C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B187D-0003-4848-BE12-5340B958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7DDDD-5302-4AA3-B260-9A258461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A0D64-DDE3-4364-980E-A3B3511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63C7B-11DB-43A3-B5DF-16850100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BBF70-4EB4-47AA-BBEF-68A54C3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DBF2E-D9A6-40D2-AB68-A7408D3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A9FA6-AB89-4AAF-94AE-34B3681F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594B2-CF08-451C-8B10-FC81F89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CD6-427A-4FE7-8D20-3119F669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A470E-9E86-451C-8662-F252070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AAFB7-EE5F-4D71-90A0-A19AA84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E775E-781B-48A9-BCAE-96268F9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F236C-5454-45E1-8231-FF3CF400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7346F-E410-4F1B-BBA8-320A3113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007-3148-494E-854E-67964C7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D93B-E6CE-4368-9B81-14CD65A751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2F12-3AEF-4D76-B38D-0D1416D9EB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CDE-9B0F-4425-8264-FC2BBFDB1A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FA6-6F8F-429D-9347-BA7CC070C1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B7A1-0970-4264-A532-58225FE286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5F9-BA98-49A1-9864-3BF8D9BCCF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B93A-66E8-484C-B2B3-27B323821E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5975280" cy="3462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3"/>
          <p:cNvSpPr/>
          <p:nvPr/>
        </p:nvSpPr>
        <p:spPr>
          <a:xfrm>
            <a:off x="755640" y="4149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41+7):6                (12+68):10            (18+27):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5975280" cy="34624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3"/>
          <p:cNvSpPr/>
          <p:nvPr/>
        </p:nvSpPr>
        <p:spPr>
          <a:xfrm>
            <a:off x="1187280" y="36752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341964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1692360" y="3645000"/>
            <a:ext cx="68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a + b) : 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1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способ: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раздели каждое слагаемое, сложи результат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2 способ: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найди сумму и раздели её на числ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560" y="517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      РАЗДЕЛИТЕ КУБИКИ НА 2 ГРУППЫ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РОВНУ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77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4016520" y="1692360"/>
            <a:ext cx="958680" cy="957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4"/>
          <a:stretch/>
        </p:blipFill>
        <p:spPr>
          <a:xfrm>
            <a:off x="1908000" y="1628640"/>
            <a:ext cx="957600" cy="957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5"/>
          <a:stretch/>
        </p:blipFill>
        <p:spPr>
          <a:xfrm>
            <a:off x="709308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6"/>
          <a:stretch/>
        </p:blipFill>
        <p:spPr>
          <a:xfrm>
            <a:off x="600696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"/>
          <p:cNvPicPr/>
          <p:nvPr/>
        </p:nvPicPr>
        <p:blipFill>
          <a:blip r:embed="rId7"/>
          <a:stretch/>
        </p:blipFill>
        <p:spPr>
          <a:xfrm>
            <a:off x="504972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http://zarskaya-kovka.ru/Images/Romana/Mik/Mm/elk-102.jpg"/>
          <p:cNvPicPr/>
          <p:nvPr/>
        </p:nvPicPr>
        <p:blipFill>
          <a:blip r:embed="rId8"/>
          <a:stretch/>
        </p:blipFill>
        <p:spPr>
          <a:xfrm>
            <a:off x="4975200" y="2924280"/>
            <a:ext cx="1255680" cy="942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http://zarskaya-kovka.ru/Images/Romana/Mik/Mm/elk-102.jpg"/>
          <p:cNvPicPr/>
          <p:nvPr/>
        </p:nvPicPr>
        <p:blipFill>
          <a:blip r:embed="rId9"/>
          <a:stretch/>
        </p:blipFill>
        <p:spPr>
          <a:xfrm>
            <a:off x="3867120" y="292428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http://zarskaya-kovka.ru/Images/Romana/Mik/Mm/elk-102.jpg"/>
          <p:cNvPicPr/>
          <p:nvPr/>
        </p:nvPicPr>
        <p:blipFill>
          <a:blip r:embed="rId10"/>
          <a:stretch/>
        </p:blipFill>
        <p:spPr>
          <a:xfrm>
            <a:off x="2852640" y="2924280"/>
            <a:ext cx="1255680" cy="942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zarskaya-kovka.ru/Images/Romana/Mik/Mm/elk-102.jpg"/>
          <p:cNvPicPr/>
          <p:nvPr/>
        </p:nvPicPr>
        <p:blipFill>
          <a:blip r:embed="rId11"/>
          <a:stretch/>
        </p:blipFill>
        <p:spPr>
          <a:xfrm>
            <a:off x="1714680" y="2924280"/>
            <a:ext cx="12571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560" y="517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      РАЗДЕЛИТЕ КУБИКИ НА 2 ГРУППЫ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РОВНУ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772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875040" y="3336840"/>
            <a:ext cx="744480" cy="744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7118280" y="326556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7765920" y="3265560"/>
            <a:ext cx="648000" cy="649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6334200" y="3336840"/>
            <a:ext cx="630000" cy="630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6"/>
          <a:stretch/>
        </p:blipFill>
        <p:spPr>
          <a:xfrm>
            <a:off x="5665680" y="33195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7"/>
          <a:stretch/>
        </p:blipFill>
        <p:spPr>
          <a:xfrm>
            <a:off x="4788000" y="33465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http://zarskaya-kovka.ru/Images/Romana/Mik/Mm/elk-102.jpg"/>
          <p:cNvPicPr/>
          <p:nvPr/>
        </p:nvPicPr>
        <p:blipFill>
          <a:blip r:embed="rId8"/>
          <a:stretch/>
        </p:blipFill>
        <p:spPr>
          <a:xfrm>
            <a:off x="2865600" y="3336840"/>
            <a:ext cx="1009440" cy="757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http://zarskaya-kovka.ru/Images/Romana/Mik/Mm/elk-102.jpg"/>
          <p:cNvPicPr/>
          <p:nvPr/>
        </p:nvPicPr>
        <p:blipFill>
          <a:blip r:embed="rId9"/>
          <a:stretch/>
        </p:blipFill>
        <p:spPr>
          <a:xfrm>
            <a:off x="1947960" y="3336840"/>
            <a:ext cx="1001520" cy="750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zarskaya-kovka.ru/Images/Romana/Mik/Mm/elk-102.jpg"/>
          <p:cNvPicPr/>
          <p:nvPr/>
        </p:nvPicPr>
        <p:blipFill>
          <a:blip r:embed="rId10"/>
          <a:stretch/>
        </p:blipFill>
        <p:spPr>
          <a:xfrm>
            <a:off x="1128600" y="3376440"/>
            <a:ext cx="995400" cy="746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http://zarskaya-kovka.ru/Images/Romana/Mik/Mm/elk-102.jpg"/>
          <p:cNvPicPr/>
          <p:nvPr/>
        </p:nvPicPr>
        <p:blipFill>
          <a:blip r:embed="rId11"/>
          <a:stretch/>
        </p:blipFill>
        <p:spPr>
          <a:xfrm>
            <a:off x="179280" y="3371760"/>
            <a:ext cx="949320" cy="711360"/>
          </a:xfrm>
          <a:prstGeom prst="rect">
            <a:avLst/>
          </a:prstGeom>
          <a:ln w="0">
            <a:noFill/>
          </a:ln>
        </p:spPr>
      </p:pic>
      <p:sp>
        <p:nvSpPr>
          <p:cNvPr id="383" name="Стрелка вниз 2"/>
          <p:cNvSpPr/>
          <p:nvPr/>
        </p:nvSpPr>
        <p:spPr>
          <a:xfrm>
            <a:off x="4619520" y="3141720"/>
            <a:ext cx="46080" cy="1439640"/>
          </a:xfrm>
          <a:prstGeom prst="downArrow">
            <a:avLst>
              <a:gd name="adj1" fmla="val 50000"/>
              <a:gd name="adj2" fmla="val 4961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826920" y="5013360"/>
            <a:ext cx="51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 + 4) : 2 = 10 : 2 = 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560" y="517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      РАЗДЕЛИТЕ КУБИКИ НА 2 ГРУППЫ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РОВНУ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77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4016520" y="1692360"/>
            <a:ext cx="958680" cy="957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4"/>
          <a:stretch/>
        </p:blipFill>
        <p:spPr>
          <a:xfrm>
            <a:off x="1908000" y="1628640"/>
            <a:ext cx="957600" cy="957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5"/>
          <a:stretch/>
        </p:blipFill>
        <p:spPr>
          <a:xfrm>
            <a:off x="709308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6"/>
          <a:stretch/>
        </p:blipFill>
        <p:spPr>
          <a:xfrm>
            <a:off x="600696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7"/>
          <a:stretch/>
        </p:blipFill>
        <p:spPr>
          <a:xfrm>
            <a:off x="504972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http://zarskaya-kovka.ru/Images/Romana/Mik/Mm/elk-102.jpg"/>
          <p:cNvPicPr/>
          <p:nvPr/>
        </p:nvPicPr>
        <p:blipFill>
          <a:blip r:embed="rId8"/>
          <a:stretch/>
        </p:blipFill>
        <p:spPr>
          <a:xfrm>
            <a:off x="6006960" y="29131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http://zarskaya-kovka.ru/Images/Romana/Mik/Mm/elk-102.jpg"/>
          <p:cNvPicPr/>
          <p:nvPr/>
        </p:nvPicPr>
        <p:blipFill>
          <a:blip r:embed="rId9"/>
          <a:stretch/>
        </p:blipFill>
        <p:spPr>
          <a:xfrm>
            <a:off x="4975200" y="2913120"/>
            <a:ext cx="1255680" cy="942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http://zarskaya-kovka.ru/Images/Romana/Mik/Mm/elk-102.jpg"/>
          <p:cNvPicPr/>
          <p:nvPr/>
        </p:nvPicPr>
        <p:blipFill>
          <a:blip r:embed="rId10"/>
          <a:stretch/>
        </p:blipFill>
        <p:spPr>
          <a:xfrm>
            <a:off x="3792600" y="292428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http://zarskaya-kovka.ru/Images/Romana/Mik/Mm/elk-102.jpg"/>
          <p:cNvPicPr/>
          <p:nvPr/>
        </p:nvPicPr>
        <p:blipFill>
          <a:blip r:embed="rId11"/>
          <a:stretch/>
        </p:blipFill>
        <p:spPr>
          <a:xfrm>
            <a:off x="2736720" y="2913120"/>
            <a:ext cx="1255680" cy="942840"/>
          </a:xfrm>
          <a:prstGeom prst="rect">
            <a:avLst/>
          </a:prstGeom>
          <a:ln w="0">
            <a:noFill/>
          </a:ln>
        </p:spPr>
      </p:pic>
      <p:sp>
        <p:nvSpPr>
          <p:cNvPr id="397" name="Стрелка вниз 2"/>
          <p:cNvSpPr/>
          <p:nvPr/>
        </p:nvSpPr>
        <p:spPr>
          <a:xfrm>
            <a:off x="5049720" y="1341360"/>
            <a:ext cx="46080" cy="1244520"/>
          </a:xfrm>
          <a:prstGeom prst="downArrow">
            <a:avLst>
              <a:gd name="adj1" fmla="val 50000"/>
              <a:gd name="adj2" fmla="val 496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Стрелка вниз 3"/>
          <p:cNvSpPr/>
          <p:nvPr/>
        </p:nvSpPr>
        <p:spPr>
          <a:xfrm>
            <a:off x="5016600" y="2781360"/>
            <a:ext cx="46080" cy="1295280"/>
          </a:xfrm>
          <a:prstGeom prst="downArrow">
            <a:avLst>
              <a:gd name="adj1" fmla="val 50000"/>
              <a:gd name="adj2" fmla="val 495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116000" y="4797360"/>
            <a:ext cx="64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 + 4) : 2 = 6 : 2 + 4 : 2 = 3 + 2 = 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23640" y="3933720"/>
            <a:ext cx="8259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(18+27):3 = 18 : 3 + 27 : 3 = 6 + 9 = 1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http://egrup.ru/uploads/thumbs/7/2/b/72b8b77aec27fb10c4d2372c74d50bba.jpg"/>
          <p:cNvPicPr/>
          <p:nvPr/>
        </p:nvPicPr>
        <p:blipFill>
          <a:blip r:embed="rId1"/>
          <a:srcRect l="15650" t="0" r="19534" b="0"/>
          <a:stretch/>
        </p:blipFill>
        <p:spPr>
          <a:xfrm>
            <a:off x="324000" y="115920"/>
            <a:ext cx="289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8:27:28Z</dcterms:created>
  <dc:creator>pc1</dc:creator>
  <dc:description/>
  <dc:language>en-US</dc:language>
  <cp:lastModifiedBy>pc1</cp:lastModifiedBy>
  <dcterms:modified xsi:type="dcterms:W3CDTF">2016-11-23T19:34:46Z</dcterms:modified>
  <cp:revision>7</cp:revision>
  <dc:subject/>
  <dc:title>Презентация PowerPoint</dc:title>
</cp:coreProperties>
</file>