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0304-C0D6-4ECA-994C-3D7A6DEBF1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75E2-5C76-4A9D-9BF1-895CA8E5917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C659-DA80-45B1-80BD-E6CE4C55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BCE-F7C7-4D37-8493-55430304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5058-BD8A-4A40-8B41-70B39A73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0528-1D4C-4FE4-8404-3471E5ED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263C-8435-4450-8709-AAA92CDE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D551-99C8-4D2C-94BB-399E85AC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144-C038-430A-A30E-747EA445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CC8-1176-4F3A-B698-882B0FB3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8A18-3095-49EF-BBE5-E0773A49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CF4-743A-49DB-BE2A-8CC89587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0B8-B8CD-4B53-9AF0-68915ACD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1D3E-5849-4FF7-B79B-642DB1DD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D592-FA44-4E58-A9B9-A56170E1B8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звестные  футболисты России</a:t>
            </a:r>
            <a:br>
              <a:rPr sz="2500"/>
            </a:br>
            <a:br>
              <a:rPr sz="29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000320" y="3285720"/>
            <a:ext cx="4500360" cy="23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Автор:  Кривошеев Владими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учащийся  6 «в» кла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Научный руководитель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Марчуков Александр Николаевич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учитель физической культуры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571680" y="293760"/>
            <a:ext cx="806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е бюджетное обще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Средняя общеобразовательная школа №30 с углубленным изучением отдельных предметов» Энгельсского муниципального района  Саратовской обла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000240" y="60217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гельс -201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Похожее изображение"/>
          <p:cNvPicPr/>
          <p:nvPr/>
        </p:nvPicPr>
        <p:blipFill>
          <a:blip r:embed="rId1"/>
          <a:stretch/>
        </p:blipFill>
        <p:spPr>
          <a:xfrm>
            <a:off x="5143680" y="714240"/>
            <a:ext cx="3357360" cy="3357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28800" y="4285800"/>
            <a:ext cx="325764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ман Анатольевич Павлючен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56760"/>
            <a:ext cx="46864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ман Анатольевич Павлюченк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российский футболист,  нападающий сборной России. Заслуженный мастер спорта (2008). С ноября 2002 года по август 2008 года выступал за футбольный клуб «Спартак» (Москва). С августа 2008 года играет за английский «Тоттенхэм Хотспур». С 2003 года выступает за сборную России, провел 37 матчей, забил 15 голов. Трижды Серебряный призёр чемпионата России, Обладатель Кубка России 2002/03 гг., В списках 33 лучших футболистов чемпионата Ро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учший бомбардир чемпионата России  2006 (18 голов), 2007 (14 голов).  Лучший бомбардир «Спартака» в чемпионатах России  2003—200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886000" y="272520"/>
            <a:ext cx="3257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Андрей Сергеевич Аршав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571320"/>
            <a:ext cx="57862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дрей Сергеевич Аршави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— российский футболист, капитан сборной России, заслуженный мастер спорта Росс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писках 33 лучших футболистов чемпионата Росс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01 г. - Лучший полузащитник чемпионата России. 2004 г. - Лучший футболист года. 2004 - 2006 гг. - Лучший второй нападающий.  2005 - 2006 гг. - Лучший бомбардир ФК «Зенит». 2006 г. - Лучший футболист года, Лучший игрок чемпионата России и обладатель приза «Лидер национальной сборной», 2007, 2008, 2009 г. - Приз «Лучший футболист стран СНГ и Балтии». 2008 г. - Лучший игрок финального матча Кубка УЕФА 200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7" descr=""/>
          <p:cNvPicPr/>
          <p:nvPr/>
        </p:nvPicPr>
        <p:blipFill>
          <a:blip r:embed="rId1"/>
          <a:stretch/>
        </p:blipFill>
        <p:spPr>
          <a:xfrm>
            <a:off x="5929200" y="1357200"/>
            <a:ext cx="2667240" cy="4849920"/>
          </a:xfrm>
          <a:prstGeom prst="rect">
            <a:avLst/>
          </a:prstGeom>
          <a:ln w="0">
            <a:noFill/>
          </a:ln>
        </p:spPr>
      </p:pic>
      <p:sp>
        <p:nvSpPr>
          <p:cNvPr id="101" name="Подзаголовок 2"/>
          <p:cNvSpPr/>
          <p:nvPr/>
        </p:nvSpPr>
        <p:spPr>
          <a:xfrm>
            <a:off x="428760" y="5357880"/>
            <a:ext cx="32860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56760" y="571320"/>
            <a:ext cx="82155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ходе выполнения данной работы, поставленная цель была достигнута: я изучил основные формы становления и развития футбола в России и проанализировал  вклад  футболистов в этот вид спорта. На сегодняшний день футбол является самым популярным и массовым видом спорта, передающий своему зрителю ту энергию, запал и стремление к победе, которую переживают игроки соревнующихся коман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него играют 240 млн. человек, то есть каждый 25 житель Земл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ункционируют 1,5 млн команд и 300 тысяч клуб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Картинки по запросу футбол"/>
          <p:cNvPicPr/>
          <p:nvPr/>
        </p:nvPicPr>
        <p:blipFill>
          <a:blip r:embed="rId1"/>
          <a:stretch/>
        </p:blipFill>
        <p:spPr>
          <a:xfrm>
            <a:off x="571680" y="4000680"/>
            <a:ext cx="80010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500040" y="500040"/>
            <a:ext cx="835812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тбол - особая спортивная иг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тбол - это страстное противоборство двух команд, в котором проявляются скорость, сила, ловкость, быстрота реак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тбол это искус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 один вид спорта не может с ним сравниться по популяр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утбол - это мужская война, в которой сражение - праздник, а победа - счастье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6" descr="http://www.footballvdn.com.ua/wp-content/uploads/2015/06/22.jpg"/>
          <p:cNvPicPr/>
          <p:nvPr/>
        </p:nvPicPr>
        <p:blipFill>
          <a:blip r:embed="rId1"/>
          <a:stretch/>
        </p:blipFill>
        <p:spPr>
          <a:xfrm>
            <a:off x="1714680" y="3214800"/>
            <a:ext cx="521460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28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СПАСИБО ЗА ВНИМАНИЕ 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6" descr="Картинки по запросу анимация футбольные мячи"/>
          <p:cNvPicPr/>
          <p:nvPr/>
        </p:nvPicPr>
        <p:blipFill>
          <a:blip r:embed="rId1"/>
          <a:stretch/>
        </p:blipFill>
        <p:spPr>
          <a:xfrm>
            <a:off x="285840" y="142920"/>
            <a:ext cx="842940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Картинки по запросу национальная сборная России по футболу юноши 1992 года"/>
          <p:cNvPicPr/>
          <p:nvPr/>
        </p:nvPicPr>
        <p:blipFill>
          <a:blip r:embed="rId1"/>
          <a:stretch/>
        </p:blipFill>
        <p:spPr>
          <a:xfrm>
            <a:off x="5786280" y="3000240"/>
            <a:ext cx="3357720" cy="3678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56760" y="2499840"/>
            <a:ext cx="607212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ить основные формы становления и развития футбола в России и проанализировать  вклад  футболистов в этот вид спор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571680" y="1857240"/>
            <a:ext cx="328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ь проект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428760" y="3429000"/>
            <a:ext cx="314316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 проект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Содержимое 1"/>
          <p:cNvSpPr/>
          <p:nvPr/>
        </p:nvSpPr>
        <p:spPr>
          <a:xfrm>
            <a:off x="214200" y="3857760"/>
            <a:ext cx="60724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ыявить направления развития футбола в различные периоды его становления в Росс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2. проанализировать влияние зарубежного опыта на процесс эволюции футбола в Росс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3. раскрыть основные тенденции, особенности развития футбола в Росс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357120" y="3571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утбол относится к разряду самых  привлекательных командных игр. Это объясняется его доступ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6500880" y="1035000"/>
            <a:ext cx="2428920" cy="1822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85840" y="428760"/>
            <a:ext cx="442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то точно не знает, когда и где зародился футбол. На честь называться родиной футбола претендуют Франция и Англия, Россия и Италия, да и практически любая страна мира. Первый футбольный резиновый мяч был изобретен в Америке в 1855 году Чарльзом Гудиером. С тех пор мячи стали синтетическими, но Америка твердо держит пальму первенства по изготовлению футбольных мяч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от футбольную одежду изобретали «всем миром». Внесли свою лепту в форму футболистов и Англия, и Венгрия, и Италия, и Амер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Картинки по запросу зарождение футбола"/>
          <p:cNvPicPr/>
          <p:nvPr/>
        </p:nvPicPr>
        <p:blipFill>
          <a:blip r:embed="rId1"/>
          <a:stretch/>
        </p:blipFill>
        <p:spPr>
          <a:xfrm>
            <a:off x="4714920" y="0"/>
            <a:ext cx="3589200" cy="20718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Картинки по запросу зарождение футбола"/>
          <p:cNvPicPr/>
          <p:nvPr/>
        </p:nvPicPr>
        <p:blipFill>
          <a:blip r:embed="rId2"/>
          <a:stretch/>
        </p:blipFill>
        <p:spPr>
          <a:xfrm>
            <a:off x="5143680" y="4786200"/>
            <a:ext cx="3333600" cy="2071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Картинки по запросу зарождение футбола"/>
          <p:cNvPicPr/>
          <p:nvPr/>
        </p:nvPicPr>
        <p:blipFill>
          <a:blip r:embed="rId3"/>
          <a:stretch/>
        </p:blipFill>
        <p:spPr>
          <a:xfrm>
            <a:off x="5500800" y="2214720"/>
            <a:ext cx="344808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857160" y="294840"/>
            <a:ext cx="7786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уси с незапамятных времен существовали игры с мячом, похожие на футбол. Играли в лаптях на льду или на базарных площадях кожаным мячом, набитым перьями. Одна из таких игр называлась «шалыгой»: игроки ногами стремились загнать мяч в «город» против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тбол появился в России в конце XIX века (в 1897 году), именно тогда появились первые дворовые коман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Картинки по запросу футбол на Руси"/>
          <p:cNvPicPr/>
          <p:nvPr/>
        </p:nvPicPr>
        <p:blipFill>
          <a:blip r:embed="rId1"/>
          <a:stretch/>
        </p:blipFill>
        <p:spPr>
          <a:xfrm>
            <a:off x="1785960" y="2857680"/>
            <a:ext cx="45972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571680" y="428760"/>
            <a:ext cx="7643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ой основания Российского футбола считается 24 по новому стилю октября 1897 года. Тогда состоялся первый зафиксированный отечественной спортивной печатью матч футбольных команд «Санкт-Петербургского кружка любителей спорта» и «Василеостровского общества футболистов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ние победили со счетом 6:0. В этом же году Россия была принята в ФИФ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ая футбольная  лига в нашей стране была создана в 1901 году в Петербурге, затем в Москве в 1909 го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1913 году, в стране насчитывалось более 150 клуб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ttp://opeterburge.ru/images/article/35.jpg"/>
          <p:cNvPicPr/>
          <p:nvPr/>
        </p:nvPicPr>
        <p:blipFill>
          <a:blip r:embed="rId1"/>
          <a:stretch/>
        </p:blipFill>
        <p:spPr>
          <a:xfrm>
            <a:off x="214200" y="4000680"/>
            <a:ext cx="4065840" cy="28573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428760" y="328608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й кубковый мат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97 год 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Картинки по запросу санкт-петербургский кружок любителей спорта футбол"/>
          <p:cNvPicPr/>
          <p:nvPr/>
        </p:nvPicPr>
        <p:blipFill>
          <a:blip r:embed="rId2"/>
          <a:stretch/>
        </p:blipFill>
        <p:spPr>
          <a:xfrm>
            <a:off x="4643280" y="3357720"/>
            <a:ext cx="4214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6"/>
          <p:cNvSpPr/>
          <p:nvPr/>
        </p:nvSpPr>
        <p:spPr>
          <a:xfrm>
            <a:off x="428760" y="328608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4857840" y="2286000"/>
            <a:ext cx="38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й международный матч. 19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http://opeterburge.ru/images/article/7_2.jpg"/>
          <p:cNvPicPr/>
          <p:nvPr/>
        </p:nvPicPr>
        <p:blipFill>
          <a:blip r:embed="rId1"/>
          <a:stretch/>
        </p:blipFill>
        <p:spPr>
          <a:xfrm>
            <a:off x="4857840" y="3143160"/>
            <a:ext cx="4143240" cy="28576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8"/>
          <p:cNvSpPr/>
          <p:nvPr/>
        </p:nvSpPr>
        <p:spPr>
          <a:xfrm>
            <a:off x="214200" y="214200"/>
            <a:ext cx="864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 июня 1912 года сборная России сыграла свой первый матч, впервые приняла участие в Олимпийских игр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игроки сборной России, стали лидерами сборной СССР. Михаил Бутусов, получил звание «форварда-убийцы», и играл ещё несколько лет за сборную СССР. Он был великим игроком того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ая советская сборная появилась в 1924 го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стяк сборной СССР составля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85840" y="2214720"/>
            <a:ext cx="442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атарь Лев Яши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тники Анатолий Башашкин, Анатолий Порхунов, Юрий Седов, Михаил Огоньков, Борис Кузнецов и Николай Тищенк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защитники Юрий Войнов, Игорь Нетто, Алексей Парамонов, Анатолий Масленкин, Иосиф Бец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адающие Борис Татушин, Анатолий Исаев, Никита Симонян, Сергей Сальников, Юрий Кузнецов, Валентин Иванов, Эдуард Стрельцов, Анатолий Ильин и Владимир Рыжк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571680" y="79308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распадом СССР сформирован Российский Футбольный Союз, ставший преемником предыдущих организаций и восстановленный в ФИФА в 1992 году. В июле того же года создана национальная сборная России. На сегодняшней день РФС объединяет два с половиной миллиона футболистов и насчитывает 44 тыс. клубов, 156 тыс. команд и 37 тыс. су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357960" y="-1289160"/>
          <a:ext cx="2143080" cy="627120"/>
        </p:xfrm>
        <a:graphic>
          <a:graphicData uri="http://schemas.openxmlformats.org/drawingml/2006/table">
            <a:tbl>
              <a:tblPr/>
              <a:tblGrid>
                <a:gridCol w="214308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Picture 5" descr="Сборная СНГ на EURO-92. Стоят (слева направо): Михайличенко, Харин, Чернышов, Лютый, Шалимов, О. Кузнецов, сидят: Колыванов, Канчельскис, Добровольский, Цвейба, Д. Кузнецов."/>
          <p:cNvPicPr/>
          <p:nvPr/>
        </p:nvPicPr>
        <p:blipFill>
          <a:blip r:embed="rId1"/>
          <a:stretch/>
        </p:blipFill>
        <p:spPr>
          <a:xfrm>
            <a:off x="0" y="3000240"/>
            <a:ext cx="5572080" cy="3643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5643720" y="3214800"/>
            <a:ext cx="328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борная СНГ на EURO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оят (слева направо): Михайличенко, Харин, Чернышов, Лютый, Шалимов, О. Кузнец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дят:Колыванов, Канчельскис, Добровольский, Цвейба, Д. Кузнец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99680" y="5357520"/>
            <a:ext cx="307188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Лев Иванович Яши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18" descr=""/>
          <p:cNvPicPr/>
          <p:nvPr/>
        </p:nvPicPr>
        <p:blipFill>
          <a:blip r:embed="rId1"/>
          <a:stretch/>
        </p:blipFill>
        <p:spPr>
          <a:xfrm>
            <a:off x="571680" y="642960"/>
            <a:ext cx="3000240" cy="4572000"/>
          </a:xfrm>
          <a:prstGeom prst="rect">
            <a:avLst/>
          </a:prstGeom>
          <a:ln w="0">
            <a:noFill/>
          </a:ln>
        </p:spPr>
      </p:pic>
      <p:sp>
        <p:nvSpPr>
          <p:cNvPr id="86" name="Подзаголовок 2"/>
          <p:cNvSpPr/>
          <p:nvPr/>
        </p:nvSpPr>
        <p:spPr>
          <a:xfrm>
            <a:off x="4357800" y="571680"/>
            <a:ext cx="42861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071960" y="240840"/>
            <a:ext cx="4429080" cy="56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в Иванович Яш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знаменитый советский футболист, вратарь, олимпийский чемпион 1956 года и чемпион Европы 1960 года, 5-кратный чемпион СССР, заслуженный мастер спорта СССР (1957). Лучший вратарь XX века. Входит в список лучших игроков XX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ртивные дости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ССР: 1 золотая медаль обладателя Кубка СССР по хоккею с шайбой (1953), 5 золотых, 5 серебряных, 1 бронзовая (1960) медали чемпионатов СССР по футболу, 3-кратный обладатель кубка СССР по футболу, 11 раз признавался лучшим вратарем страны, В списках лучших футболистов сезона в СССР 16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47149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ександр Анатольевич Кержаков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оссийский футболист, нападающий петербургского «Зенита» и национальной сборной России. Заслуженный мастер спорта России. Член Клуба 100 российских бомбардир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мпион России  2010 г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ребряный призёр чемпионата России: 2003, Бронзовый призёр чемпионата России 2001 г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датель Кубка Премьер-Лиги  2003 г., Обладатель Кубка России  2009/10 г., Футболист года в России по версии РФС в 2010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вляется лучшим бомбардиром «Зенита» за всю его российскую истор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4929120" y="2428920"/>
            <a:ext cx="3648240" cy="2857320"/>
          </a:xfrm>
          <a:prstGeom prst="rect">
            <a:avLst/>
          </a:prstGeom>
          <a:ln w="0">
            <a:noFill/>
          </a:ln>
        </p:spPr>
      </p:pic>
      <p:sp>
        <p:nvSpPr>
          <p:cNvPr id="92" name="Подзаголовок 2"/>
          <p:cNvSpPr/>
          <p:nvPr/>
        </p:nvSpPr>
        <p:spPr>
          <a:xfrm>
            <a:off x="4357800" y="171468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Александр Анатольевич Кержа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216000"/>
            <a:ext cx="87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Вклад футболистов  современной сборной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08:52:51Z</dcterms:created>
  <dc:creator>Андрей</dc:creator>
  <dc:description/>
  <dc:language>en-US</dc:language>
  <cp:lastModifiedBy>Пользователь</cp:lastModifiedBy>
  <dcterms:modified xsi:type="dcterms:W3CDTF">2017-05-26T16:34:22Z</dcterms:modified>
  <cp:revision>28</cp:revision>
  <dc:subject/>
  <dc:title>Слайд 1</dc:title>
</cp:coreProperties>
</file>