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3.jpeg" ContentType="image/jpeg"/>
  <Override PartName="/ppt/media/image27.jpeg" ContentType="image/jpeg"/>
  <Override PartName="/ppt/media/image26.jpeg" ContentType="image/jpeg"/>
  <Override PartName="/ppt/media/image25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7F52-FCD8-42B7-8477-B9F8663990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2C6C-2F47-460D-A914-8F4A6D4283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F1D-081F-4963-8BE7-D14F2E62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8F4-AB50-4554-86BD-6834058B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111-1A34-4F73-9B2C-B2177DB7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6DC-D073-410D-978E-982C24AF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6CA3-99E4-43E3-AB20-D9BC72D0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8CBC-F6B6-495C-A138-B8115DB2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2689-ABF0-404B-89DB-29B77C0B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C07D-031A-4E78-9F87-3CCC0C56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E9FB-EDCA-47FD-9BAC-138D64C8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4840-A351-4E42-BC96-874508CC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A816-FE41-4DE9-8019-34D3ABD6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F5A-6692-4C3B-989C-7F2D2866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3AC2-7F0A-4930-8AF6-92DBD12A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C639-A73C-4161-AA63-EDCEA662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848F-B947-4795-B840-A2D6E728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C407-03BD-4882-8019-D6CFF72A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5BD4-FD3D-46CA-9AED-F6D54F1D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4ADF0-91B8-479B-AF8F-66807018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D3BEE-BC3F-4879-9AA5-9ED51AE1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F3B44-8738-48A9-9A74-12C6522A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86895-E76D-49A8-B8F0-8D2E0174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CCD4C-E2FE-4155-B35A-74AB79F2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2DC-00ED-4E96-AE1D-064CD06B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4FE33-FD13-40BB-9613-CBDBD0C9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D269B-DA3D-4B90-8BE8-72F76883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44DA2-B6DD-4EEA-8D29-290167D8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4A02C-7B5A-49E1-BB1D-38739198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050F5-4C61-436A-8F9C-3224F8EF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5B66E-C716-4155-8AE9-88CC3B59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3CF56-D12C-4B89-8FF4-9D5B18E4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2CFA3-BB11-428E-8108-2176ADEA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5D8E0-6394-4CCB-9867-6244D448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3388B-8AE4-4DF0-8C5C-8C932B30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6F3-4901-41E6-B923-B04EE95F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BE46C-1C6C-49DC-9283-EE5FCF50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ADBF8-0A71-4536-9BB0-5EB8327A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6E83D-0BBE-4960-82A6-6AD7ED5B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01D7C-A974-4010-8BFD-7047F466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1CFAF-7374-4BDC-A3AD-55CA1DF3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47855-3FA8-45BF-B9D2-E5ADBA47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A75A3-F547-4C9F-85BC-6A8B34EF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00CAE-673A-4336-AEA0-AD3FD19C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77C43-8B0D-4F45-B590-8FE0248E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FF1B3-4A1E-42FF-B64E-601FDB57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8F3-2A6A-4CC8-BF67-9484A343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B5661-678A-4503-83F3-58B9E83D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9C2D7-DC72-4DBC-BF63-3A23F0FC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59527-BCF4-44EA-9E61-AA2F1D58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4EF18-6D56-4470-B29A-255A31F5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ECF1CF-4F46-4EE2-BFD5-EAE3BC18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30B6BA-F663-4931-9FF8-7EFA2725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BAEB2-C769-4DE4-AE91-F7743F31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BD485C-9A63-488A-A379-1E44BDFE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2849C-D214-4261-A0C8-6A5B9FBE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1F831-E5E5-4212-A1E7-61E0800E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271-71C5-49B4-8DA5-C30F5AB6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1EC521-56EF-4D2F-A609-C60E90CF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688360-CBAE-4B1C-86E0-32A58729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3264A-580B-4FD7-9178-5DA4606E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3F426-7EA6-496C-BBF6-C1A4B087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E6372-5076-4652-9EC4-3B6A7EC1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13472-A9AA-43AC-84C7-D114E4AC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29D2D-7A13-44E4-94E2-57ECE029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3CF0F4-3FFC-42B5-885A-DD551D57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936360-D534-4A41-872D-F213C19D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9D8110-3999-407F-A06E-E50FCA5E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9F5-1637-491F-BFFD-00B4A993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0DD633-8B7B-458B-B61E-966611AF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1E6F1-B919-4015-BAEF-EF73ABC8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27CD5-4A09-4560-A335-D6C446A9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3D8A6D-BE07-4F7C-98DB-E98A1735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2707D9-73EA-4419-9E84-E318DCE5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1B511-432D-4EC5-85D0-F55E72A3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60D58-0BE7-4F67-8544-F0EB7FA6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16039-6739-435A-8C2E-3E2CD9FA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1033D-000E-45C9-AB7B-9D853028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84C10-246A-41EF-97E2-123E0E5E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055-C273-4EA9-BD2A-4CFB9D3D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A0BA19-EB6B-4FDD-95DE-218E60E6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EC46FC-BCA1-4CC4-9E33-5C8879D4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1D714-4460-4D34-B3C4-B4FBE80C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EA65C-AC11-4C9E-BC80-B6D6A04A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D30D88-93CE-46F7-BB7F-69F54E0B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7BD33-B460-4E5E-8ADD-E3065B8A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CF37C-2F70-49F8-B093-FC5E8E83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94BAD-7EB5-42B1-8B30-40CAB770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4628D-DCEB-4806-B1E1-23EAD30B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84D22-8E36-442C-9C6F-2E993791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AC1-A5A0-4A84-A287-7007DF00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C17D4-EDA4-48FB-9151-6F6C725C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F0F44-748E-4C03-8DB5-3EE9466D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71522-84CC-46A4-8314-62021F49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6CB54-44C4-43CC-B02B-04BE5F57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F3C49-F6D3-481B-907C-C08FFC61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8A687-8D5D-45EE-9760-DBC4E90B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9B472-2C37-4EF0-AB76-2AC92A63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F6E8-E137-4D97-BD93-CBE4630507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6D42-BA5A-4B38-856C-9FEC88DC951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1950-B6FE-42C9-BAF9-34245442FF2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6761-B041-43E2-AE3B-F4D31CEE686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11D1-A1D9-4BCB-89AC-0F959D0258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A8C6-607B-4DDC-9F77-DF15F867B18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A0DE-C93C-4AE9-85F0-FD887D2B2EB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E7E9-B964-4F72-9370-2812A861789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5640" y="428760"/>
            <a:ext cx="617220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ЕСТОИМ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3 класс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Составила : Илькова Н 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Школа №137 , Самар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Схема 3" descr=""/>
          <p:cNvPicPr/>
          <p:nvPr/>
        </p:nvPicPr>
        <p:blipFill>
          <a:blip r:embed="rId1"/>
          <a:stretch/>
        </p:blipFill>
        <p:spPr>
          <a:xfrm>
            <a:off x="1523880" y="560520"/>
            <a:ext cx="6761160" cy="4902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ИМЯ СУЩЕСТВИТЕЛЬНО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1" name="Содержимое 3" descr="SDC10008.JPG"/>
          <p:cNvPicPr/>
          <p:nvPr/>
        </p:nvPicPr>
        <p:blipFill>
          <a:blip r:embed="rId1"/>
          <a:stretch/>
        </p:blipFill>
        <p:spPr>
          <a:xfrm>
            <a:off x="285840" y="3500280"/>
            <a:ext cx="2390760" cy="31878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4"/>
          <p:cNvSpPr/>
          <p:nvPr/>
        </p:nvSpPr>
        <p:spPr>
          <a:xfrm>
            <a:off x="857160" y="1571760"/>
            <a:ext cx="400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Arial"/>
              </a:rPr>
              <a:t>Постоянные признак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Arial"/>
              </a:rPr>
              <a:t>род, 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5"/>
          <p:cNvSpPr/>
          <p:nvPr/>
        </p:nvSpPr>
        <p:spPr>
          <a:xfrm>
            <a:off x="4143240" y="3571920"/>
            <a:ext cx="400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Непостоянные    призна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число, 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САМОСТОЯТЕЛЬНЫЕ ЧАСТИ РЕЧ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5" name="Содержимое 6" descr="SDC10009.JPG"/>
          <p:cNvPicPr/>
          <p:nvPr/>
        </p:nvPicPr>
        <p:blipFill>
          <a:blip r:embed="rId1"/>
          <a:stretch/>
        </p:blipFill>
        <p:spPr>
          <a:xfrm>
            <a:off x="628560" y="4127400"/>
            <a:ext cx="2102040" cy="26514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7" name="Содержимое 7" descr="SDC10010.JPG"/>
          <p:cNvPicPr/>
          <p:nvPr/>
        </p:nvPicPr>
        <p:blipFill>
          <a:blip r:embed="rId2"/>
          <a:stretch/>
        </p:blipFill>
        <p:spPr>
          <a:xfrm>
            <a:off x="3481560" y="1554120"/>
            <a:ext cx="2108160" cy="2736720"/>
          </a:xfrm>
          <a:prstGeom prst="rect">
            <a:avLst/>
          </a:prstGeom>
          <a:ln w="0">
            <a:noFill/>
          </a:ln>
        </p:spPr>
      </p:pic>
      <p:pic>
        <p:nvPicPr>
          <p:cNvPr id="448" name="Содержимое 8" descr="SDC10011.JPG"/>
          <p:cNvPicPr/>
          <p:nvPr/>
        </p:nvPicPr>
        <p:blipFill>
          <a:blip r:embed="rId3"/>
          <a:stretch/>
        </p:blipFill>
        <p:spPr>
          <a:xfrm>
            <a:off x="6340320" y="4127400"/>
            <a:ext cx="2102040" cy="26514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9"/>
          <p:cNvSpPr/>
          <p:nvPr/>
        </p:nvSpPr>
        <p:spPr>
          <a:xfrm>
            <a:off x="8143920" y="5286240"/>
            <a:ext cx="142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1"/>
          <p:cNvSpPr/>
          <p:nvPr/>
        </p:nvSpPr>
        <p:spPr>
          <a:xfrm rot="19783800">
            <a:off x="6783120" y="6137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8143920" y="6072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4"/>
          <p:cNvSpPr/>
          <p:nvPr/>
        </p:nvSpPr>
        <p:spPr>
          <a:xfrm>
            <a:off x="6643800" y="45007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5"/>
          <p:cNvSpPr/>
          <p:nvPr/>
        </p:nvSpPr>
        <p:spPr>
          <a:xfrm>
            <a:off x="7572240" y="564372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6"/>
          <p:cNvSpPr/>
          <p:nvPr/>
        </p:nvSpPr>
        <p:spPr>
          <a:xfrm rot="19238400">
            <a:off x="7799400" y="4549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7"/>
          <p:cNvSpPr/>
          <p:nvPr/>
        </p:nvSpPr>
        <p:spPr>
          <a:xfrm>
            <a:off x="7858080" y="5357880"/>
            <a:ext cx="1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8"/>
          <p:cNvSpPr/>
          <p:nvPr/>
        </p:nvSpPr>
        <p:spPr>
          <a:xfrm>
            <a:off x="7858080" y="5214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9"/>
          <p:cNvSpPr/>
          <p:nvPr/>
        </p:nvSpPr>
        <p:spPr>
          <a:xfrm>
            <a:off x="6715080" y="55720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20"/>
          <p:cNvSpPr/>
          <p:nvPr/>
        </p:nvSpPr>
        <p:spPr>
          <a:xfrm rot="2002200">
            <a:off x="7929720" y="6000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Прямоугольник 22" descr=""/>
          <p:cNvPicPr/>
          <p:nvPr/>
        </p:nvPicPr>
        <p:blipFill>
          <a:blip r:embed="rId4"/>
          <a:stretch/>
        </p:blipFill>
        <p:spPr>
          <a:xfrm>
            <a:off x="103320" y="3243240"/>
            <a:ext cx="3292200" cy="104760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23" descr=""/>
          <p:cNvPicPr/>
          <p:nvPr/>
        </p:nvPicPr>
        <p:blipFill>
          <a:blip r:embed="rId5"/>
          <a:stretch/>
        </p:blipFill>
        <p:spPr>
          <a:xfrm>
            <a:off x="3322800" y="4145040"/>
            <a:ext cx="2315880" cy="117612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оугольник 25" descr=""/>
          <p:cNvPicPr/>
          <p:nvPr/>
        </p:nvPicPr>
        <p:blipFill>
          <a:blip r:embed="rId6"/>
          <a:stretch/>
        </p:blipFill>
        <p:spPr>
          <a:xfrm>
            <a:off x="5748480" y="3230640"/>
            <a:ext cx="2993760" cy="1073160"/>
          </a:xfrm>
          <a:prstGeom prst="rect">
            <a:avLst/>
          </a:prstGeom>
          <a:ln w="0">
            <a:noFill/>
          </a:ln>
        </p:spPr>
      </p:pic>
      <p:sp>
        <p:nvSpPr>
          <p:cNvPr id="462" name="TextBox 26"/>
          <p:cNvSpPr/>
          <p:nvPr/>
        </p:nvSpPr>
        <p:spPr>
          <a:xfrm>
            <a:off x="785880" y="200016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меют грамматические призн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7"/>
          <p:cNvSpPr/>
          <p:nvPr/>
        </p:nvSpPr>
        <p:spPr>
          <a:xfrm>
            <a:off x="3500280" y="5357880"/>
            <a:ext cx="250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Являются членам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СЛУЖЕБНЫЕ ЧАСТИ РЕЧ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5" name="Содержимое 3" descr="SDC11465.JPG"/>
          <p:cNvPicPr/>
          <p:nvPr/>
        </p:nvPicPr>
        <p:blipFill>
          <a:blip r:embed="rId1"/>
          <a:stretch/>
        </p:blipFill>
        <p:spPr>
          <a:xfrm>
            <a:off x="4786200" y="1428840"/>
            <a:ext cx="3786480" cy="3187440"/>
          </a:xfrm>
          <a:prstGeom prst="rect">
            <a:avLst/>
          </a:prstGeom>
          <a:ln w="0">
            <a:noFill/>
          </a:ln>
        </p:spPr>
      </p:pic>
      <p:sp>
        <p:nvSpPr>
          <p:cNvPr id="466" name="TextBox 4"/>
          <p:cNvSpPr/>
          <p:nvPr/>
        </p:nvSpPr>
        <p:spPr>
          <a:xfrm>
            <a:off x="642960" y="1857240"/>
            <a:ext cx="371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Д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57160" y="335772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ужат для связи слов в предложении и частей сложного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7"/>
          <p:cNvSpPr/>
          <p:nvPr/>
        </p:nvSpPr>
        <p:spPr>
          <a:xfrm>
            <a:off x="2714760" y="528624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могают выразить отношение говорящего к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8"/>
          <p:cNvSpPr/>
          <p:nvPr/>
        </p:nvSpPr>
        <p:spPr>
          <a:xfrm>
            <a:off x="2786040" y="47862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АС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1500120" y="2500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Ю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entury Schoolbook"/>
              </a:rPr>
              <a:t>МЕСТОИМЕНИЕ – САМОСТОЯТЕЛЬНАЯ ЧАСТЬ РЕЧ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6e5a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eb6e5a"/>
                </a:solidFill>
                <a:latin typeface="Century Schoolbook"/>
              </a:rPr>
              <a:t>СКОЛЬКО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6e5a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eb6e5a"/>
                </a:solidFill>
                <a:latin typeface="Century Schoolbook"/>
              </a:rPr>
              <a:t>КОТОРЫЙ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 НА                  ЧИСЛИТЕЛЬНО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6e5a"/>
                </a:solidFill>
                <a:latin typeface="Century Schoolbook"/>
              </a:rPr>
              <a:t>КТО, НИКТО, ОН, Я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 Н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ЩЕСТВИТЕЛЬНО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6e5a"/>
                </a:solidFill>
                <a:latin typeface="Century Schoolbook"/>
              </a:rPr>
              <a:t>НИЧЕЙ, МОЙ, КАКОЙ, НИКАКОЙ, ВАШ, ТВ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 НА ПРИЛАГАТЕЛЬНО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Прямоугольник 10"/>
          <p:cNvSpPr/>
          <p:nvPr/>
        </p:nvSpPr>
        <p:spPr>
          <a:xfrm>
            <a:off x="4714920" y="4000680"/>
            <a:ext cx="3857760" cy="21430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1"/>
          <p:cNvSpPr/>
          <p:nvPr/>
        </p:nvSpPr>
        <p:spPr>
          <a:xfrm>
            <a:off x="5072040" y="4429080"/>
            <a:ext cx="28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ЕТ ГРАММАТИЧЕСКИ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45"/>
          <p:cNvSpPr/>
          <p:nvPr/>
        </p:nvSpPr>
        <p:spPr>
          <a:xfrm flipH="1">
            <a:off x="4498560" y="1643040"/>
            <a:ext cx="1800" cy="2144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47"/>
          <p:cNvSpPr/>
          <p:nvPr/>
        </p:nvSpPr>
        <p:spPr>
          <a:xfrm flipH="1" flipV="1">
            <a:off x="428400" y="1571760"/>
            <a:ext cx="407196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49"/>
          <p:cNvSpPr/>
          <p:nvPr/>
        </p:nvSpPr>
        <p:spPr>
          <a:xfrm flipH="1">
            <a:off x="426600" y="1643040"/>
            <a:ext cx="1800" cy="2144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51"/>
          <p:cNvSpPr/>
          <p:nvPr/>
        </p:nvSpPr>
        <p:spPr>
          <a:xfrm>
            <a:off x="428760" y="3786120"/>
            <a:ext cx="4143240" cy="1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53"/>
          <p:cNvSpPr/>
          <p:nvPr/>
        </p:nvSpPr>
        <p:spPr>
          <a:xfrm flipH="1">
            <a:off x="4498560" y="3930480"/>
            <a:ext cx="1800" cy="22147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57"/>
          <p:cNvSpPr/>
          <p:nvPr/>
        </p:nvSpPr>
        <p:spPr>
          <a:xfrm>
            <a:off x="428760" y="3929040"/>
            <a:ext cx="407196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ая соединительная линия 59"/>
          <p:cNvSpPr/>
          <p:nvPr/>
        </p:nvSpPr>
        <p:spPr>
          <a:xfrm flipH="1">
            <a:off x="426600" y="3930480"/>
            <a:ext cx="1800" cy="22860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ая соединительная линия 61"/>
          <p:cNvSpPr/>
          <p:nvPr/>
        </p:nvSpPr>
        <p:spPr>
          <a:xfrm>
            <a:off x="500040" y="6143760"/>
            <a:ext cx="400068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ая соединительная линия 63"/>
          <p:cNvSpPr/>
          <p:nvPr/>
        </p:nvSpPr>
        <p:spPr>
          <a:xfrm flipH="1">
            <a:off x="4642920" y="1571760"/>
            <a:ext cx="1800" cy="22161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ая соединительная линия 65"/>
          <p:cNvSpPr/>
          <p:nvPr/>
        </p:nvSpPr>
        <p:spPr>
          <a:xfrm>
            <a:off x="4643280" y="1571760"/>
            <a:ext cx="407196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69"/>
          <p:cNvSpPr/>
          <p:nvPr/>
        </p:nvSpPr>
        <p:spPr>
          <a:xfrm flipH="1">
            <a:off x="8714880" y="1643040"/>
            <a:ext cx="1800" cy="2144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71"/>
          <p:cNvSpPr/>
          <p:nvPr/>
        </p:nvSpPr>
        <p:spPr>
          <a:xfrm>
            <a:off x="4643280" y="3786120"/>
            <a:ext cx="4071960" cy="1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1" name="Содержимое 3" descr="SDC11435.JPG"/>
          <p:cNvPicPr/>
          <p:nvPr/>
        </p:nvPicPr>
        <p:blipFill>
          <a:blip r:embed="rId1"/>
          <a:stretch/>
        </p:blipFill>
        <p:spPr>
          <a:xfrm>
            <a:off x="0" y="0"/>
            <a:ext cx="957276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TextBox 4"/>
          <p:cNvSpPr/>
          <p:nvPr/>
        </p:nvSpPr>
        <p:spPr>
          <a:xfrm>
            <a:off x="1643040" y="57168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75c01"/>
                </a:solidFill>
                <a:latin typeface="Arial"/>
              </a:rPr>
              <a:t>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5"/>
          <p:cNvSpPr/>
          <p:nvPr/>
        </p:nvSpPr>
        <p:spPr>
          <a:xfrm>
            <a:off x="6357960" y="60008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МЯ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7143840" y="178596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ГЛА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7"/>
          <p:cNvSpPr/>
          <p:nvPr/>
        </p:nvSpPr>
        <p:spPr>
          <a:xfrm>
            <a:off x="928800" y="2571840"/>
            <a:ext cx="23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"/>
              </a:rPr>
              <a:t>ИМЯ ЧИСЛ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8"/>
          <p:cNvSpPr/>
          <p:nvPr/>
        </p:nvSpPr>
        <p:spPr>
          <a:xfrm>
            <a:off x="2428920" y="385776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ПРЕДЛОГ, СОЮЗ, ЧАС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9"/>
          <p:cNvSpPr/>
          <p:nvPr/>
        </p:nvSpPr>
        <p:spPr>
          <a:xfrm>
            <a:off x="6143760" y="2928960"/>
            <a:ext cx="164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0"/>
          <p:cNvSpPr/>
          <p:nvPr/>
        </p:nvSpPr>
        <p:spPr>
          <a:xfrm>
            <a:off x="4357800" y="4857840"/>
            <a:ext cx="128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1"/>
          <p:cNvSpPr/>
          <p:nvPr/>
        </p:nvSpPr>
        <p:spPr>
          <a:xfrm>
            <a:off x="6858000" y="4786200"/>
            <a:ext cx="14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2"/>
          <p:cNvSpPr/>
          <p:nvPr/>
        </p:nvSpPr>
        <p:spPr>
          <a:xfrm>
            <a:off x="3786120" y="235728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Прямоугольник 13" descr=""/>
          <p:cNvPicPr/>
          <p:nvPr/>
        </p:nvPicPr>
        <p:blipFill>
          <a:blip r:embed="rId2"/>
          <a:stretch/>
        </p:blipFill>
        <p:spPr>
          <a:xfrm>
            <a:off x="1785960" y="1914480"/>
            <a:ext cx="5894280" cy="920880"/>
          </a:xfrm>
          <a:prstGeom prst="rect">
            <a:avLst/>
          </a:prstGeom>
          <a:ln w="0">
            <a:noFill/>
          </a:ln>
        </p:spPr>
      </p:pic>
      <p:sp>
        <p:nvSpPr>
          <p:cNvPr id="502" name="TextBox 25"/>
          <p:cNvSpPr/>
          <p:nvPr/>
        </p:nvSpPr>
        <p:spPr>
          <a:xfrm>
            <a:off x="357120" y="57150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ОРФ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6"/>
          <p:cNvSpPr/>
          <p:nvPr/>
        </p:nvSpPr>
        <p:spPr>
          <a:xfrm>
            <a:off x="1071720" y="5357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А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3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 rot="5400000">
            <a:off x="3371400" y="3200400"/>
            <a:ext cx="63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ЗНАКИ ЗОДИАКА ИЛИ СОЗВЕЗДИЯ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11920" y="274680"/>
            <a:ext cx="1527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1.Козерог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2.Водолей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3.Рыбы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4.Овен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5.Телец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6.Близнецы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7.Рак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8.Лев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9.Дев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10.Весы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11.Скорпион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12.Стрелец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8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560" y="274320"/>
            <a:ext cx="5638680" cy="63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Рисунок 4" descr="к уроку Местоимение 004.jpg"/>
          <p:cNvPicPr/>
          <p:nvPr/>
        </p:nvPicPr>
        <p:blipFill>
          <a:blip r:embed="rId1"/>
          <a:stretch/>
        </p:blipFill>
        <p:spPr>
          <a:xfrm>
            <a:off x="0" y="0"/>
            <a:ext cx="61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4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4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713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ОСВОЕНИЕ КОСМОС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3" name="Picture 5" descr="dove"/>
          <p:cNvPicPr/>
          <p:nvPr/>
        </p:nvPicPr>
        <p:blipFill>
          <a:blip r:embed="rId1"/>
          <a:stretch/>
        </p:blipFill>
        <p:spPr>
          <a:xfrm>
            <a:off x="0" y="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8" descr="pg_004"/>
          <p:cNvPicPr/>
          <p:nvPr/>
        </p:nvPicPr>
        <p:blipFill>
          <a:blip r:embed="rId2"/>
          <a:stretch/>
        </p:blipFill>
        <p:spPr>
          <a:xfrm>
            <a:off x="3786120" y="1571760"/>
            <a:ext cx="2521080" cy="2657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1" descr="k_596i"/>
          <p:cNvPicPr/>
          <p:nvPr/>
        </p:nvPicPr>
        <p:blipFill>
          <a:blip r:embed="rId3"/>
          <a:srcRect l="0" t="0" r="8128" b="0"/>
          <a:stretch/>
        </p:blipFill>
        <p:spPr>
          <a:xfrm>
            <a:off x="0" y="1628640"/>
            <a:ext cx="3610080" cy="5229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 rot="10800000">
            <a:off x="4642560" y="6122880"/>
            <a:ext cx="4038840" cy="1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22" descr="pt_042"/>
          <p:cNvPicPr/>
          <p:nvPr/>
        </p:nvPicPr>
        <p:blipFill>
          <a:blip r:embed="rId4"/>
          <a:stretch/>
        </p:blipFill>
        <p:spPr>
          <a:xfrm>
            <a:off x="4071960" y="4500720"/>
            <a:ext cx="1936800" cy="20952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4" descr="gagarin_2_09"/>
          <p:cNvPicPr/>
          <p:nvPr/>
        </p:nvPicPr>
        <p:blipFill>
          <a:blip r:embed="rId5"/>
          <a:stretch/>
        </p:blipFill>
        <p:spPr>
          <a:xfrm>
            <a:off x="6588000" y="1125360"/>
            <a:ext cx="2160720" cy="2664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5" descr="AWUPTKJCA9KJ14RCASVILYSCA0875K7CA6PY10CCABSORF2CAUZZ9PDCA61DO3ECA1BD0S2CA0KK37ICAO494STCA7V0EUPCAI3SLLECABB102GCAOV6Z7BCAUDWUI3CAAJ6YRWCAU2CFJ4CAMTXOPPCACMR7NF"/>
          <p:cNvPicPr/>
          <p:nvPr/>
        </p:nvPicPr>
        <p:blipFill>
          <a:blip r:embed="rId6"/>
          <a:stretch/>
        </p:blipFill>
        <p:spPr>
          <a:xfrm>
            <a:off x="6588000" y="4149720"/>
            <a:ext cx="2160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68c4"/>
                </a:solidFill>
                <a:latin typeface="Century Schoolbook"/>
              </a:rPr>
              <a:t>ЛЕТАТЕЛЬНЫЕ АППАРАТ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1" name="Содержимое 16" descr="к уроку Местоимение 001.jpg"/>
          <p:cNvPicPr/>
          <p:nvPr/>
        </p:nvPicPr>
        <p:blipFill>
          <a:blip r:embed="rId1"/>
          <a:stretch/>
        </p:blipFill>
        <p:spPr>
          <a:xfrm>
            <a:off x="1017720" y="394164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17" descr="к уроку Местоимение 002.jpg"/>
          <p:cNvPicPr/>
          <p:nvPr/>
        </p:nvPicPr>
        <p:blipFill>
          <a:blip r:embed="rId2"/>
          <a:stretch/>
        </p:blipFill>
        <p:spPr>
          <a:xfrm>
            <a:off x="5208480" y="394164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md900_view2"/>
          <p:cNvPicPr/>
          <p:nvPr/>
        </p:nvPicPr>
        <p:blipFill>
          <a:blip r:embed="rId3"/>
          <a:stretch/>
        </p:blipFill>
        <p:spPr>
          <a:xfrm>
            <a:off x="717480" y="1600200"/>
            <a:ext cx="3517920" cy="2189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12157024597315"/>
          <p:cNvPicPr/>
          <p:nvPr/>
        </p:nvPicPr>
        <p:blipFill>
          <a:blip r:embed="rId4"/>
          <a:stretch/>
        </p:blipFill>
        <p:spPr>
          <a:xfrm>
            <a:off x="5543640" y="1600200"/>
            <a:ext cx="22478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75f6d"/>
                </a:solidFill>
                <a:latin typeface="Century Schoolbook"/>
              </a:rPr>
              <a:t>К…СМОНАВТ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6" name="Содержимое 3" descr="SDC11230.JPG"/>
          <p:cNvPicPr/>
          <p:nvPr/>
        </p:nvPicPr>
        <p:blipFill>
          <a:blip r:embed="rId1"/>
          <a:stretch/>
        </p:blipFill>
        <p:spPr>
          <a:xfrm>
            <a:off x="571680" y="16002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Вставив пропущенную букву, ты узнаешь окончание этого слов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8637"/>
                </a:solidFill>
                <a:latin typeface="Century Schoolbook"/>
              </a:rPr>
              <a:t>КОРЕНЬ ВОЗЬМИ У САМОГО КРУПНОГО ЖИВОТНОГО ЗЕМЛ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9" name="Содержимое 3" descr="к уроку Местоимение 008.jpg"/>
          <p:cNvPicPr/>
          <p:nvPr/>
        </p:nvPicPr>
        <p:blipFill>
          <a:blip r:embed="rId1"/>
          <a:stretch/>
        </p:blipFill>
        <p:spPr>
          <a:xfrm>
            <a:off x="2143080" y="1643040"/>
            <a:ext cx="4065480" cy="487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Schoolbook"/>
              </a:rPr>
              <a:t>А СУФФИКС В ЭТОМ РЕБУСЕ</a:t>
            </a:r>
            <a:r>
              <a:rPr b="1" lang="ru-RU" sz="4400" spc="-1" strike="noStrike">
                <a:solidFill>
                  <a:srgbClr val="b32c16"/>
                </a:solidFill>
                <a:latin typeface="Century Schoolbook"/>
              </a:rPr>
              <a:t>       </a:t>
            </a:r>
            <a:r>
              <a:rPr b="1" lang="ru-RU" sz="9600" spc="-1" strike="noStrike">
                <a:solidFill>
                  <a:srgbClr val="b32c16"/>
                </a:solidFill>
                <a:latin typeface="Century Schoolbook"/>
              </a:rPr>
              <a:t>  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1" name="Содержимое 3" descr="к уроку Местоимение 007.jpg"/>
          <p:cNvPicPr/>
          <p:nvPr/>
        </p:nvPicPr>
        <p:blipFill>
          <a:blip r:embed="rId1"/>
          <a:stretch/>
        </p:blipFill>
        <p:spPr>
          <a:xfrm>
            <a:off x="457200" y="29336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32" name="Содержимое 9" descr="к уроку Местоимение 002.jpg"/>
          <p:cNvPicPr/>
          <p:nvPr/>
        </p:nvPicPr>
        <p:blipFill>
          <a:blip r:embed="rId2"/>
          <a:stretch/>
        </p:blipFill>
        <p:spPr>
          <a:xfrm>
            <a:off x="4743360" y="2362320"/>
            <a:ext cx="2914920" cy="38862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668c4"/>
                </a:solidFill>
                <a:latin typeface="Century Schoolbook"/>
              </a:rPr>
              <a:t>,МЫШКИ</a:t>
            </a:r>
            <a:r>
              <a:rPr b="1" lang="ru-RU" sz="3800" spc="-1" strike="noStrike">
                <a:solidFill>
                  <a:srgbClr val="3668c4"/>
                </a:solidFill>
                <a:latin typeface="Century Schoolbook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414752"/>
                </a:solidFill>
                <a:latin typeface="Century Schoolbook"/>
              </a:rPr>
              <a:t>ЫШК</a:t>
            </a:r>
            <a:endParaRPr b="0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75f6d"/>
                </a:solidFill>
                <a:latin typeface="Century Schoolbook"/>
              </a:rPr>
              <a:t>ТАК ЧТО ЖЕ ЭТО? </a:t>
            </a:r>
            <a:r>
              <a:rPr b="0" lang="ru-RU" sz="4900" spc="-1" strike="noStrike">
                <a:solidFill>
                  <a:srgbClr val="f9e181"/>
                </a:solidFill>
                <a:latin typeface="Century Schoolbook"/>
              </a:rPr>
              <a:t> 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6" name="Содержимое 8" descr="к уроку Местоимение 001.jpg"/>
          <p:cNvPicPr/>
          <p:nvPr/>
        </p:nvPicPr>
        <p:blipFill>
          <a:blip r:embed="rId1"/>
          <a:stretch/>
        </p:blipFill>
        <p:spPr>
          <a:xfrm>
            <a:off x="946080" y="1600200"/>
            <a:ext cx="6489720" cy="4873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1"/>
          <p:cNvSpPr/>
          <p:nvPr/>
        </p:nvSpPr>
        <p:spPr>
          <a:xfrm>
            <a:off x="3248280" y="4429080"/>
            <a:ext cx="487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СЛОНЫШ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3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5" descr="spa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TextBox 2"/>
          <p:cNvSpPr/>
          <p:nvPr/>
        </p:nvSpPr>
        <p:spPr>
          <a:xfrm>
            <a:off x="3531960" y="5857920"/>
            <a:ext cx="515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entury Schoolbook"/>
              </a:rPr>
              <a:t>Счастливого пу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20:12:32Z</dcterms:created>
  <dc:creator>Admin</dc:creator>
  <dc:description/>
  <dc:language>en-US</dc:language>
  <cp:lastModifiedBy>pc1</cp:lastModifiedBy>
  <dcterms:modified xsi:type="dcterms:W3CDTF">2017-05-26T15:50:37Z</dcterms:modified>
  <cp:revision>56</cp:revision>
  <dc:subject/>
  <dc:title>Слайд 1</dc:title>
</cp:coreProperties>
</file>