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DD52-C5D3-48B1-8967-2CE3F1FF7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5D3-F259-45D0-B3D5-D64129057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E31-9119-4D9B-B45F-F1CC374B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6CB-F39B-48AE-9C3A-EEEE7932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01F-F422-42B2-99BD-F4D40BBD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FFD-9870-4202-B629-E93F72E1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A101-D085-46C1-A704-49CA7644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5AB-C11B-4E83-87D9-8ED0A0B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F202-7B7A-4783-A96C-15AEFD15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E91-0D55-4DB6-90CB-309A3F3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47E-AC31-4BF8-8F1D-38CD32E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B96-1856-483C-B313-C15505A8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E99-D31F-4815-861F-E3FC384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1C6-CC26-4B31-8437-277A760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EBB-8E8E-4C3F-9066-5E2E20C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D30-0474-44D5-A4BE-A5B3898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14E4-2258-42E1-ADE6-5B73D27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19C2-61A0-43FF-B6B7-535BEB9B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C3B-909F-4491-A1C6-088693CC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23DCB-08BC-463A-85B4-024D5572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45831-06D2-43BB-8DC3-6BC80BE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03D6E-EACC-4D87-ABB4-677249B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C7FE4-592A-405F-9EF9-DA8138D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A247D-8B70-4422-8B72-C5367161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659-3D6A-4D69-9033-E481E436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DF84E-5237-4657-BD3E-731875A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C4C24-9F28-4CEB-A5FB-FCD7E2DD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9B85A-2AF1-409E-9F21-6BA40B1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A9A5E-802E-4D99-B105-1E9B2A8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F7B47-DC85-42C3-AA82-63EA025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5F3AA-7257-43B6-8543-6A165AA1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96C75-0DBC-44C5-AF89-349AE70E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158F-9A52-4034-AAA0-F7D7D2A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3493-53F9-47DD-84A3-E849CC2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4BAA-2E78-45D8-A9FD-55BA908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E9F-29B2-40F2-A611-1ABA1F1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A991-C3D4-4D80-A47C-163AFFB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1F36-7165-4433-B622-F29D7D7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2AE4-72DF-4395-8584-E1FDF73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A645-AFBB-4C12-AE0E-B3B29A6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C16D-03F7-40CA-BE18-0FE7A3C7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9D3F-9A67-4405-9E7E-4F5BC18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6F8D-A549-4266-AA20-82A72E3F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3A27-17DF-41EC-B3D0-D575AB51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E7FE-89D9-499E-B0B7-B980F1BE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88135-82CD-4990-BB5E-A0CB1449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E9C-91F1-43B0-9434-3696581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B5C58-DA72-4F98-9C8E-4731890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375B0-C1E0-4B15-A8D9-18CF552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AB146-78D2-4111-8FCD-82DE2495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F5E98-7273-42C4-8699-AE512D0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BF54C-FB44-4C45-8A7A-494FA00F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9C35D-FA90-47F1-8E41-1CE4496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597EC-1CC6-462F-B7D8-A81AC79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1EA90-EE2F-4997-9FD6-595C875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E0BC4-B929-4529-A750-FCACBE3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B150F-D634-41BA-8597-79EB8828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C68-797B-48A5-9B09-BCC49E27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F46FA-FD84-4FB6-9916-1B55B25A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36CC2-8D79-4496-9304-BB441334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6945E-F93E-41A8-9CD9-ED4AA10C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F4C53-002D-44A8-9C37-0A5C1287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243B7-69DA-4279-BCAE-F4B99FB2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D2A05-7756-493C-A815-1BC9E1A6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3F1DF-2AAE-4AA3-963D-85DA84A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F0550-1FB9-4AC5-9624-73B2069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76229-0930-4773-9E3E-EABD43C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F79B9-755F-402A-99BE-D1B4F2D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0A5-445F-4090-BAE2-EDEDD9A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23738-F2A0-4DA3-8CEF-526E2BE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03F38-3845-438D-BAE6-EA4E8BB4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2C31B-63ED-4494-BCFE-3DAE2FB0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9E783-B169-43CE-B236-CBC8B23D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88AF6-4E42-4452-A166-BAC21E2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022DF-E7A3-4AEB-B230-B44B816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45AA1-5D14-43DE-ABAF-D18CEBD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C5739-35CF-4CB7-9297-21FF3508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01DFE-152E-4A11-893D-8910A91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0236B-26FA-4E3B-903C-58B7CD8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1E3-433E-44E5-A976-A0FFED1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5E5E6-274D-4A5C-8CAA-74B33CD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856DA-C556-43DF-BD5E-91F2A41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69E6F-FA8C-4DCA-81D2-AB0FFFA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99579-F7D4-43BC-95B1-14792C10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E7522-40DA-4E51-92CE-AE6DD003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DE5B7-4662-46F1-A512-54930D71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EBF3-23BC-40AE-9F9A-F384A9E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00647-D3CA-4DBC-ACAC-BB1C88E1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A51A7-ACFC-487D-A7A0-E08E287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F3646-EDAE-433A-8AD5-B2E4827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D9-AA28-42C9-A856-0A2F74B5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7EA29-708E-41FB-9DFB-1A5825FF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4BF64-8050-45B8-8257-ACBA0A8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0183F-11AA-452A-8666-CE3A91C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FEE8-D546-49D3-8F5E-9B6D1DAF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ED52-81E8-418D-82A0-21C7753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57E6-8513-4FDB-BF81-D0CEEF8D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3245-BB1C-43B3-AC1D-F2AD84E1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6EF4-A950-4AAE-BF32-1AD1C9BDA2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86E-7988-4BA4-A4AE-6AB9303651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A498-400E-4512-B43D-E067DFD75B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B28-435E-4A58-A3F1-88934324D1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7881-0889-4310-BF3B-50D81E364A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97E-4F15-4CA6-882A-9544F8683D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C250-5D2B-4D43-A55A-9B8F49C69C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A74-7D08-419A-AF66-699313A380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1722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СТОИМ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3 клас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Составила : Илькова Н 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Школа №137 , Сама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Схема 3" descr=""/>
          <p:cNvPicPr/>
          <p:nvPr/>
        </p:nvPicPr>
        <p:blipFill>
          <a:blip r:embed="rId1"/>
          <a:stretch/>
        </p:blipFill>
        <p:spPr>
          <a:xfrm>
            <a:off x="1523880" y="560520"/>
            <a:ext cx="6761160" cy="4902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ИМЯ СУЩЕСТВИТЕЛЬНО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Содержимое 3" descr="SDC10008.JPG"/>
          <p:cNvPicPr/>
          <p:nvPr/>
        </p:nvPicPr>
        <p:blipFill>
          <a:blip r:embed="rId1"/>
          <a:stretch/>
        </p:blipFill>
        <p:spPr>
          <a:xfrm>
            <a:off x="285840" y="3500280"/>
            <a:ext cx="2390760" cy="31878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857160" y="1571760"/>
            <a:ext cx="400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Arial"/>
              </a:rPr>
              <a:t>Постоянные признак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Arial"/>
              </a:rPr>
              <a:t>род,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4143240" y="3571920"/>
            <a:ext cx="400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епостоянные    призна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число,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САМОСТОЯТЕЛЬНЫЕ ЧАСТИ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5" name="Содержимое 6" descr="SDC10009.JPG"/>
          <p:cNvPicPr/>
          <p:nvPr/>
        </p:nvPicPr>
        <p:blipFill>
          <a:blip r:embed="rId1"/>
          <a:stretch/>
        </p:blipFill>
        <p:spPr>
          <a:xfrm>
            <a:off x="628560" y="4127400"/>
            <a:ext cx="2102040" cy="2651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Содержимое 7" descr="SDC10010.JPG"/>
          <p:cNvPicPr/>
          <p:nvPr/>
        </p:nvPicPr>
        <p:blipFill>
          <a:blip r:embed="rId2"/>
          <a:stretch/>
        </p:blipFill>
        <p:spPr>
          <a:xfrm>
            <a:off x="3481560" y="1554120"/>
            <a:ext cx="2108160" cy="273672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8" descr="SDC10011.JPG"/>
          <p:cNvPicPr/>
          <p:nvPr/>
        </p:nvPicPr>
        <p:blipFill>
          <a:blip r:embed="rId3"/>
          <a:stretch/>
        </p:blipFill>
        <p:spPr>
          <a:xfrm>
            <a:off x="6340320" y="4127400"/>
            <a:ext cx="2102040" cy="26514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9"/>
          <p:cNvSpPr/>
          <p:nvPr/>
        </p:nvSpPr>
        <p:spPr>
          <a:xfrm>
            <a:off x="8143920" y="528624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 rot="19783800">
            <a:off x="6783120" y="613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143920" y="6072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6643800" y="45007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7572240" y="56437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 rot="19238400">
            <a:off x="7799400" y="4549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7"/>
          <p:cNvSpPr/>
          <p:nvPr/>
        </p:nvSpPr>
        <p:spPr>
          <a:xfrm>
            <a:off x="7858080" y="5357880"/>
            <a:ext cx="1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8"/>
          <p:cNvSpPr/>
          <p:nvPr/>
        </p:nvSpPr>
        <p:spPr>
          <a:xfrm>
            <a:off x="7858080" y="5214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9"/>
          <p:cNvSpPr/>
          <p:nvPr/>
        </p:nvSpPr>
        <p:spPr>
          <a:xfrm>
            <a:off x="6715080" y="5572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0"/>
          <p:cNvSpPr/>
          <p:nvPr/>
        </p:nvSpPr>
        <p:spPr>
          <a:xfrm rot="2002200">
            <a:off x="7929720" y="6000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Прямоугольник 22" descr=""/>
          <p:cNvPicPr/>
          <p:nvPr/>
        </p:nvPicPr>
        <p:blipFill>
          <a:blip r:embed="rId4"/>
          <a:stretch/>
        </p:blipFill>
        <p:spPr>
          <a:xfrm>
            <a:off x="103320" y="3243240"/>
            <a:ext cx="3292200" cy="10476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3" descr=""/>
          <p:cNvPicPr/>
          <p:nvPr/>
        </p:nvPicPr>
        <p:blipFill>
          <a:blip r:embed="rId5"/>
          <a:stretch/>
        </p:blipFill>
        <p:spPr>
          <a:xfrm>
            <a:off x="3322800" y="4145040"/>
            <a:ext cx="2315880" cy="1176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5" descr=""/>
          <p:cNvPicPr/>
          <p:nvPr/>
        </p:nvPicPr>
        <p:blipFill>
          <a:blip r:embed="rId6"/>
          <a:stretch/>
        </p:blipFill>
        <p:spPr>
          <a:xfrm>
            <a:off x="5748480" y="3230640"/>
            <a:ext cx="2993760" cy="10731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6"/>
          <p:cNvSpPr/>
          <p:nvPr/>
        </p:nvSpPr>
        <p:spPr>
          <a:xfrm>
            <a:off x="785880" y="20001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меют грамматические призн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7"/>
          <p:cNvSpPr/>
          <p:nvPr/>
        </p:nvSpPr>
        <p:spPr>
          <a:xfrm>
            <a:off x="3500280" y="5357880"/>
            <a:ext cx="250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Являются членам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СЛУЖЕБНЫЕ ЧАСТИ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5" name="Содержимое 3" descr="SDC11465.JPG"/>
          <p:cNvPicPr/>
          <p:nvPr/>
        </p:nvPicPr>
        <p:blipFill>
          <a:blip r:embed="rId1"/>
          <a:stretch/>
        </p:blipFill>
        <p:spPr>
          <a:xfrm>
            <a:off x="4786200" y="1428840"/>
            <a:ext cx="3786480" cy="31874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642960" y="185724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57160" y="33577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для связи слов в предложении и частей сложного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2714760" y="52862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огают выразить отношение говорящего 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278604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1500120" y="25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entury Schoolbook"/>
              </a:rPr>
              <a:t>МЕСТОИМЕНИЕ – САМОСТОЯТЕЛЬНАЯ ЧАСТЬ РЕ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СКОЛЬКО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КОТОРЫЙ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                 ЧИСЛИТЕЛЬНО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КТО, НИКТО, ОН, Я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НИЧЕЙ, МОЙ, КАКОЙ, НИКАКОЙ, ВАШ, ТВ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ПРИЛАГАТЕЛЬН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4714920" y="4000680"/>
            <a:ext cx="3857760" cy="2143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1"/>
          <p:cNvSpPr/>
          <p:nvPr/>
        </p:nvSpPr>
        <p:spPr>
          <a:xfrm>
            <a:off x="5072040" y="442908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 ГРАММАТ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45"/>
          <p:cNvSpPr/>
          <p:nvPr/>
        </p:nvSpPr>
        <p:spPr>
          <a:xfrm flipH="1">
            <a:off x="449856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47"/>
          <p:cNvSpPr/>
          <p:nvPr/>
        </p:nvSpPr>
        <p:spPr>
          <a:xfrm flipH="1" flipV="1">
            <a:off x="428400" y="157176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49"/>
          <p:cNvSpPr/>
          <p:nvPr/>
        </p:nvSpPr>
        <p:spPr>
          <a:xfrm flipH="1">
            <a:off x="42660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51"/>
          <p:cNvSpPr/>
          <p:nvPr/>
        </p:nvSpPr>
        <p:spPr>
          <a:xfrm>
            <a:off x="428760" y="3786120"/>
            <a:ext cx="414324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53"/>
          <p:cNvSpPr/>
          <p:nvPr/>
        </p:nvSpPr>
        <p:spPr>
          <a:xfrm flipH="1">
            <a:off x="4498560" y="3930480"/>
            <a:ext cx="1800" cy="22147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57"/>
          <p:cNvSpPr/>
          <p:nvPr/>
        </p:nvSpPr>
        <p:spPr>
          <a:xfrm>
            <a:off x="428760" y="392904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59"/>
          <p:cNvSpPr/>
          <p:nvPr/>
        </p:nvSpPr>
        <p:spPr>
          <a:xfrm flipH="1">
            <a:off x="426600" y="3930480"/>
            <a:ext cx="1800" cy="2286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1"/>
          <p:cNvSpPr/>
          <p:nvPr/>
        </p:nvSpPr>
        <p:spPr>
          <a:xfrm>
            <a:off x="500040" y="6143760"/>
            <a:ext cx="400068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3"/>
          <p:cNvSpPr/>
          <p:nvPr/>
        </p:nvSpPr>
        <p:spPr>
          <a:xfrm flipH="1">
            <a:off x="4642920" y="1571760"/>
            <a:ext cx="1800" cy="2216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65"/>
          <p:cNvSpPr/>
          <p:nvPr/>
        </p:nvSpPr>
        <p:spPr>
          <a:xfrm>
            <a:off x="4643280" y="157176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69"/>
          <p:cNvSpPr/>
          <p:nvPr/>
        </p:nvSpPr>
        <p:spPr>
          <a:xfrm flipH="1">
            <a:off x="871488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71"/>
          <p:cNvSpPr/>
          <p:nvPr/>
        </p:nvSpPr>
        <p:spPr>
          <a:xfrm>
            <a:off x="4643280" y="3786120"/>
            <a:ext cx="40719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1" name="Содержимое 3" descr="SDC11435.JPG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4"/>
          <p:cNvSpPr/>
          <p:nvPr/>
        </p:nvSpPr>
        <p:spPr>
          <a:xfrm>
            <a:off x="1643040" y="57168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Arial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6357960" y="60008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7143840" y="17859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928800" y="257184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2428920" y="385776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ПРЕДЛОГ, СОЮЗ, 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6143760" y="2928960"/>
            <a:ext cx="16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4357800" y="485784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"/>
          <p:cNvSpPr/>
          <p:nvPr/>
        </p:nvSpPr>
        <p:spPr>
          <a:xfrm>
            <a:off x="6858000" y="478620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2"/>
          <p:cNvSpPr/>
          <p:nvPr/>
        </p:nvSpPr>
        <p:spPr>
          <a:xfrm>
            <a:off x="3786120" y="235728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Прямоугольник 13" descr=""/>
          <p:cNvPicPr/>
          <p:nvPr/>
        </p:nvPicPr>
        <p:blipFill>
          <a:blip r:embed="rId2"/>
          <a:stretch/>
        </p:blipFill>
        <p:spPr>
          <a:xfrm>
            <a:off x="1785960" y="1914480"/>
            <a:ext cx="5894280" cy="9208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25"/>
          <p:cNvSpPr/>
          <p:nvPr/>
        </p:nvSpPr>
        <p:spPr>
          <a:xfrm>
            <a:off x="357120" y="57150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РФ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6"/>
          <p:cNvSpPr/>
          <p:nvPr/>
        </p:nvSpPr>
        <p:spPr>
          <a:xfrm>
            <a:off x="1071720" y="5357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ЗНАКИ ЗОДИАКА ИЛИ СОЗВЕЗД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.Козеро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2.Водоле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Рыб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4.Ове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Телец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6.Близнец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7.Рак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8.Лев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9.Дев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0.Вес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1.Скорпио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2.Стрелец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2743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Рисунок 4" descr="к уроку Местоимение 004.jpg"/>
          <p:cNvPicPr/>
          <p:nvPr/>
        </p:nvPicPr>
        <p:blipFill>
          <a:blip r:embed="rId1"/>
          <a:stretch/>
        </p:blipFill>
        <p:spPr>
          <a:xfrm>
            <a:off x="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ОСВОЕНИЕ КОСМО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Picture 5" descr="dove"/>
          <p:cNvPicPr/>
          <p:nvPr/>
        </p:nvPicPr>
        <p:blipFill>
          <a:blip r:embed="rId1"/>
          <a:stretch/>
        </p:blipFill>
        <p:spPr>
          <a:xfrm>
            <a:off x="0" y="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pg_004"/>
          <p:cNvPicPr/>
          <p:nvPr/>
        </p:nvPicPr>
        <p:blipFill>
          <a:blip r:embed="rId2"/>
          <a:stretch/>
        </p:blipFill>
        <p:spPr>
          <a:xfrm>
            <a:off x="3786120" y="1571760"/>
            <a:ext cx="2521080" cy="2657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k_596i"/>
          <p:cNvPicPr/>
          <p:nvPr/>
        </p:nvPicPr>
        <p:blipFill>
          <a:blip r:embed="rId3"/>
          <a:srcRect l="0" t="0" r="8128" b="0"/>
          <a:stretch/>
        </p:blipFill>
        <p:spPr>
          <a:xfrm>
            <a:off x="0" y="1628640"/>
            <a:ext cx="3610080" cy="5229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 rot="10800000">
            <a:off x="4642560" y="6122880"/>
            <a:ext cx="4038840" cy="1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2" descr="pt_042"/>
          <p:cNvPicPr/>
          <p:nvPr/>
        </p:nvPicPr>
        <p:blipFill>
          <a:blip r:embed="rId4"/>
          <a:stretch/>
        </p:blipFill>
        <p:spPr>
          <a:xfrm>
            <a:off x="4071960" y="4500720"/>
            <a:ext cx="1936800" cy="2095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gagarin_2_09"/>
          <p:cNvPicPr/>
          <p:nvPr/>
        </p:nvPicPr>
        <p:blipFill>
          <a:blip r:embed="rId5"/>
          <a:stretch/>
        </p:blipFill>
        <p:spPr>
          <a:xfrm>
            <a:off x="6588000" y="112536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5" descr="AWUPTKJCA9KJ14RCASVILYSCA0875K7CA6PY10CCABSORF2CAUZZ9PDCA61DO3ECA1BD0S2CA0KK37ICAO494STCA7V0EUPCAI3SLLECABB102GCAOV6Z7BCAUDWUI3CAAJ6YRWCAU2CFJ4CAMTXOPPCACMR7NF"/>
          <p:cNvPicPr/>
          <p:nvPr/>
        </p:nvPicPr>
        <p:blipFill>
          <a:blip r:embed="rId6"/>
          <a:stretch/>
        </p:blipFill>
        <p:spPr>
          <a:xfrm>
            <a:off x="6588000" y="414972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68c4"/>
                </a:solidFill>
                <a:latin typeface="Century Schoolbook"/>
              </a:rPr>
              <a:t>ЛЕТАТЕЛЬНЫЕ АППАРА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1" name="Содержимое 16" descr="к уроку Местоимение 001.jpg"/>
          <p:cNvPicPr/>
          <p:nvPr/>
        </p:nvPicPr>
        <p:blipFill>
          <a:blip r:embed="rId1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7" descr="к уроку Местоимение 002.jpg"/>
          <p:cNvPicPr/>
          <p:nvPr/>
        </p:nvPicPr>
        <p:blipFill>
          <a:blip r:embed="rId2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d900_view2"/>
          <p:cNvPicPr/>
          <p:nvPr/>
        </p:nvPicPr>
        <p:blipFill>
          <a:blip r:embed="rId3"/>
          <a:stretch/>
        </p:blipFill>
        <p:spPr>
          <a:xfrm>
            <a:off x="717480" y="1600200"/>
            <a:ext cx="3517920" cy="2189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12157024597315"/>
          <p:cNvPicPr/>
          <p:nvPr/>
        </p:nvPicPr>
        <p:blipFill>
          <a:blip r:embed="rId4"/>
          <a:stretch/>
        </p:blipFill>
        <p:spPr>
          <a:xfrm>
            <a:off x="5543640" y="1600200"/>
            <a:ext cx="2247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5f6d"/>
                </a:solidFill>
                <a:latin typeface="Century Schoolbook"/>
              </a:rPr>
              <a:t>К…СМОНАВТ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Содержимое 3" descr="SDC11230.JPG"/>
          <p:cNvPicPr/>
          <p:nvPr/>
        </p:nvPicPr>
        <p:blipFill>
          <a:blip r:embed="rId1"/>
          <a:stretch/>
        </p:blipFill>
        <p:spPr>
          <a:xfrm>
            <a:off x="571680" y="1600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Вставив пропущенную букву, ты узнаешь окончание этого слов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8637"/>
                </a:solidFill>
                <a:latin typeface="Century Schoolbook"/>
              </a:rPr>
              <a:t>КОРЕНЬ ВОЗЬМИ У САМОГО КРУПНОГО ЖИВОТНОГО ЗЕМЛ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Содержимое 3" descr="к уроку Местоимение 008.jpg"/>
          <p:cNvPicPr/>
          <p:nvPr/>
        </p:nvPicPr>
        <p:blipFill>
          <a:blip r:embed="rId1"/>
          <a:stretch/>
        </p:blipFill>
        <p:spPr>
          <a:xfrm>
            <a:off x="2143080" y="1643040"/>
            <a:ext cx="4065480" cy="48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Schoolbook"/>
              </a:rPr>
              <a:t>А СУФФИКС В ЭТОМ РЕБУСЕ</a:t>
            </a:r>
            <a:r>
              <a:rPr b="1" lang="ru-RU" sz="4400" spc="-1" strike="noStrike">
                <a:solidFill>
                  <a:srgbClr val="b32c16"/>
                </a:solidFill>
                <a:latin typeface="Century Schoolbook"/>
              </a:rPr>
              <a:t>       </a:t>
            </a:r>
            <a:r>
              <a:rPr b="1" lang="ru-RU" sz="9600" spc="-1" strike="noStrike">
                <a:solidFill>
                  <a:srgbClr val="b32c16"/>
                </a:solidFill>
                <a:latin typeface="Century Schoolbook"/>
              </a:rPr>
              <a:t>  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Содержимое 3" descr="к уроку Местоимение 007.jpg"/>
          <p:cNvPicPr/>
          <p:nvPr/>
        </p:nvPicPr>
        <p:blipFill>
          <a:blip r:embed="rId1"/>
          <a:stretch/>
        </p:blipFill>
        <p:spPr>
          <a:xfrm>
            <a:off x="457200" y="2933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9" descr="к уроку Местоимение 002.jpg"/>
          <p:cNvPicPr/>
          <p:nvPr/>
        </p:nvPicPr>
        <p:blipFill>
          <a:blip r:embed="rId2"/>
          <a:stretch/>
        </p:blipFill>
        <p:spPr>
          <a:xfrm>
            <a:off x="4743360" y="236232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668c4"/>
                </a:solidFill>
                <a:latin typeface="Century Schoolbook"/>
              </a:rPr>
              <a:t>,МЫШКИ</a:t>
            </a:r>
            <a:r>
              <a:rPr b="1" lang="ru-RU" sz="3800" spc="-1" strike="noStrike">
                <a:solidFill>
                  <a:srgbClr val="3668c4"/>
                </a:solidFill>
                <a:latin typeface="Century Schoolbook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14752"/>
                </a:solidFill>
                <a:latin typeface="Century Schoolbook"/>
              </a:rPr>
              <a:t>ЫШК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5f6d"/>
                </a:solidFill>
                <a:latin typeface="Century Schoolbook"/>
              </a:rPr>
              <a:t>ТАК ЧТО ЖЕ ЭТО? </a:t>
            </a:r>
            <a:r>
              <a:rPr b="0" lang="ru-RU" sz="4900" spc="-1" strike="noStrike">
                <a:solidFill>
                  <a:srgbClr val="f9e181"/>
                </a:solidFill>
                <a:latin typeface="Century Schoolbook"/>
              </a:rPr>
              <a:t>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Содержимое 8" descr="к уроку Местоимение 001.jpg"/>
          <p:cNvPicPr/>
          <p:nvPr/>
        </p:nvPicPr>
        <p:blipFill>
          <a:blip r:embed="rId1"/>
          <a:stretch/>
        </p:blipFill>
        <p:spPr>
          <a:xfrm>
            <a:off x="946080" y="1600200"/>
            <a:ext cx="6489720" cy="4873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3248280" y="4429080"/>
            <a:ext cx="487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СЛО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3531960" y="58579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entury Schoolbook"/>
              </a:rPr>
              <a:t>Счастлив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12:32Z</dcterms:created>
  <dc:creator>Admin</dc:creator>
  <dc:description/>
  <dc:language>en-US</dc:language>
  <cp:lastModifiedBy>pc1</cp:lastModifiedBy>
  <dcterms:modified xsi:type="dcterms:W3CDTF">2017-05-26T15:50:37Z</dcterms:modified>
  <cp:revision>56</cp:revision>
  <dc:subject/>
  <dc:title>Слайд 1</dc:title>
</cp:coreProperties>
</file>