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632-F9D1-4F01-A90D-A2C0C0D4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60A-0370-4EF7-A7A3-4182ADB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D27-FF7C-4AA8-BB81-BAAD2AED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7D6-18C3-45D3-A673-E9DFAC76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E8A8-6784-4C57-8932-B269B62E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42B3-7D68-44BB-A942-A4D77FF3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AD69-2163-42BD-8D97-B33546A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02E-8EF2-4B82-8E8E-FF245A4A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EA0-553C-47BB-B271-9686B999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0593-9C85-40BF-83C5-10B2D9F7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D6B-1275-4B62-ABB1-CF080684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225-2027-4364-9CE3-B86E0781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CE70-E65D-499C-8ADE-0866960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9CB4-340B-494A-AE5D-4E4F3F13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7AC5-6D18-450D-B586-EDB6B68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6242-3755-48A7-8EE0-64D0137D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E9BB-47E4-4EAF-8BA9-63C6C957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F8D-B4FD-413A-91D9-EC94368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926-C45A-408B-9B03-D1BFAA0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223-7491-47E3-B084-85B24979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8D7-5E74-42C4-B23D-B7F06F71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BBC-D8D2-48F1-99DC-A2B8FDEC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C27-384B-468F-918B-72F17E4D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6D8-EB7A-4323-BDCB-0EB5C9A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3C6D-1BD2-43F0-8A4F-7206309EAF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F02-D45E-4CF5-9E1A-6B2DA95162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he’s got blue eyes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n toys live in a toy town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16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504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457440" cy="34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00360" y="3573360"/>
            <a:ext cx="2093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41680" y="692280"/>
            <a:ext cx="4702320" cy="470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0863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11:55:40Z</dcterms:created>
  <dc:creator>cabin218</dc:creator>
  <dc:description/>
  <dc:language>en-US</dc:language>
  <cp:lastModifiedBy>cabin218</cp:lastModifiedBy>
  <dcterms:modified xsi:type="dcterms:W3CDTF">2017-03-16T08:40:00Z</dcterms:modified>
  <cp:revision>5</cp:revision>
  <dc:subject/>
  <dc:title>My Toys!</dc:title>
</cp:coreProperties>
</file>