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A9E-86A1-4059-BE29-6874BC64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7E8-5591-4307-8D9B-1161D870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8AD-EF0F-4A0C-B1E0-9FB64BDA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37B-7AF4-475B-9FBB-87B80ADB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2B8A-7DF2-48EC-B1B9-9FA077E2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BAEF-2EB5-4E95-A39A-7683AD83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4C91-E1DF-414B-8D7D-D4EFB960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53A5-1B8A-4566-98E1-93FDEF36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6E7E-2E85-438E-89B1-D1EE2979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4473-04FC-4024-B6D3-9DFD9CC5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4440-70C4-4BDA-B45B-DD861B7A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4717-1782-4D5C-80D6-5989516C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F3E9-450F-43C7-BA65-B33CAE7D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9D25-1BAC-4505-8559-E0E84F59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F8BB-B0A2-4320-9713-A40606D8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904F-68A4-4A46-938F-90FB04A0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4D15-D479-4D44-94A5-DDC1A858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275-55D0-420C-BBC7-D16E158E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481E-37D5-4378-BED7-233C940F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88A-539D-4A02-9B67-0CC0F94B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990-072C-4800-AB61-23D61F4B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7CC-B1E6-4F3E-8EF9-7485BE30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3D4-3ABC-4726-BC63-AC3BB168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450-D29C-4907-83CB-DBEF4CE9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774D-B985-470F-96CD-3273F407D7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8B5D-950F-45AF-B8B9-7AA45F0EE77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She’s got blue eyes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n toys live in a toy town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16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75040" cy="3284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3457440" cy="3457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700360" y="3573360"/>
            <a:ext cx="20937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41680" y="692280"/>
            <a:ext cx="4702320" cy="470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408636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7T11:55:40Z</dcterms:created>
  <dc:creator>cabin218</dc:creator>
  <dc:description/>
  <dc:language>en-US</dc:language>
  <cp:lastModifiedBy>cabin218</cp:lastModifiedBy>
  <dcterms:modified xsi:type="dcterms:W3CDTF">2017-03-16T08:40:00Z</dcterms:modified>
  <cp:revision>5</cp:revision>
  <dc:subject/>
  <dc:title>My Toys!</dc:title>
</cp:coreProperties>
</file>