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5C6-0DAA-44DD-901F-208BC5C4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877-3C62-4F08-8D47-3583440F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39E-7908-4014-99CF-C656A77F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6AD-A0FD-40B4-BE11-D968A8DB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0F79-F8A2-4A0F-995F-E76AD775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FC99-98E9-408D-AF45-15EB6399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D49E-6926-4210-902F-D1E8246B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FF04-0EBD-40BF-B522-CEE1AB8F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AFF7-8FF2-4BF6-B348-6958D531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6C5-EA47-4E80-9161-2CF0D3E9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1C9D-763F-4DF4-B236-2E31EAC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A17-0CAD-4833-99DB-71311670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BE21-F48C-459A-96D4-C74E01E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3F7F-2912-4286-9D61-F617F5F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BED4-2D0D-4ADE-9CC9-5DF9B06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A09D-6B9E-4DC7-9C47-C785DE0F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B3A9-3232-48C1-B509-07519DBC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E0C10-83DD-4479-A492-E0900746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85ADC-8995-4E76-A93E-76EF77E8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AAD9-261B-4106-9EBB-97FD4B0A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78353-AAD9-4E9B-9FBB-B7C8793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E90EB-1713-4956-A570-72F3CBFE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12D-C1A8-4D1A-9E67-8589EC66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C497F-F6EA-454E-A0E0-07847E32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473C2-94ED-4F7C-A7FC-70BDEE35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14267-B669-41F7-9A50-1EEBDB0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F9496-6BAE-459C-B69A-2C4C5EE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83869-3350-44A7-925D-F671C9EA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1B406-3403-4951-A62B-559331CD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3E7D5-D4AD-4C9F-A872-31D5EB04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362B-326B-45EE-BD89-F416BAE6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DDF9-AF68-48F9-B82F-98071B5A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F5AC9-41DB-4634-9E7C-DF5E372D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817-EAF2-4925-A714-F48242B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7D76-7534-40D9-9434-2D999056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F859-C507-49FE-8049-E30CE507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AE2D-8C73-403B-B339-738BB841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E11D-7877-49D5-A964-B7FF142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3856-96DA-48C9-B157-B016535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7A3A-72B6-4D97-AF19-2D657E3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021B-9B67-44E2-850E-ABE539F4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DB33D-74A8-4030-A9FA-86A597DA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DC16-2043-48FB-9EB3-9D08D8F5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9EE-D870-4F1D-816C-B3230641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A0F-1882-4DCD-93A1-89DB50A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68F-6432-4D82-AB77-21D8421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0DF-D4DB-4EF1-8B72-659E0C7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75B-E854-4309-97BC-F9E71F6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0FB-95AF-4A85-8766-1FC686D3337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7179-BD2B-47FF-9E3F-15FE8CC7745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65A-0DFC-41FC-92FD-C7D01556050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8833-9A19-4119-B7CD-D12EE0A112F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akprosto.ru/" TargetMode="External"/><Relationship Id="rId2" Type="http://schemas.openxmlformats.org/officeDocument/2006/relationships/hyperlink" Target="http://www.studfiles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авописание приставк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ол-/ полу-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Слитное написание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итно с приставками пол-/полу- пишутся слова, вторая часть которых начинается с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огласно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буквы. Для того чтобы лучше запомнить это правило, обратите внимание, что почти все такие слова – имена существительные в форме родительного падежа: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олчетвертого, полтарелки, полмандарина, полкружки, полдня, полстоловой, полтарелки, полчаса, полсекунды, полминуты, полгода, полмесяца, полнедели, полмиллиона, полтысячи, полсотни, полвека, полтора (часа) и т.д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едует запомнить, что имена числительные (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олтретьего, полвторого, полпервого, полчетвертого, полпятого, полшестого, полседьмого, полвосьмого, полдевятого и т.д.)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сегда пишутся слитно с приставкой пол-.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Раздельное напис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дельное написание слов, начинающихся с пол-, встречается реже, чем слитное, однако существует два правила, которые регламентируют именно такое правописан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ервое правило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асит, что, когда между пол- и словом стоит другая часть речи (имя прилагательное или местоимение), такие слова всегда пишутся раздельно. Например: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 твоего яблока, пол этого поля, пол интересной книги, пол стеклянной чашки, пол чайной ложки, пол столовой ложк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торое правило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ворит о правописании со словом половина, которое также является раздельным: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овина третьего, половина яблока, половина абрикоса, пять с половиной сантиметров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аписание через дефи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ля того чтобы знать, в каких случаях необходимо писать слова с пол- через дефис, необходимо запомнить три случая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ервый случай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– когда слово начинается с гласной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абрикоса, пол-овала, пол-ириски, пол-аршина, пол-обеда, пол-елки, пол-ежевики и т.д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торой случай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– когда пол- предшествует имени собственному, например, названию города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Москвы, пол-Калининграда, пол-Мурманска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Байкала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Третий случай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– когда пол- предшествует слову, начинающемуся с буквы «л»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литра, пол-ложки, пол-лимона, пол-лампы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Что касается приставки полу-, все слова с ней всегда пишутся исключительно слитно: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полугодовой, полумесячный, получасовой, полугодие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Упражнение на закрепл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пишите слова в три колонки, разграничивая слитное, дефисное и раздельное написание слов с элементом пол- и полу-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Пол)ставки, (пол)Европы, (пол)часа, (полу)шёпот, (пол)арбуза, (пол)тысячи, (пол)стакана, (пол)граненого стакана, (пол)ложки, (пол)килограмма, (пол)литра, (полу)чистый, (пол)второго, (пол)цены, (пол)России, (полу)фабрикат, (пол)апельсина, (пол)лимона, (пол)эмалированного ведра, (полу)тон, (пол)года, (пол)миллиона, (полу)месяц, (пол)страницы, (пол)листа, (полу)грамотный, (полу)тяжёлый, (полу)финальный, (пол)большой тарелки, (пол)порции, (полу)разрушенный, (пол)очка, (пол)пути, (пол)сме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нтернет-ресурс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www.kakprosto.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www.StudFiles.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4T12:12:54Z</dcterms:created>
  <dc:creator>учитель</dc:creator>
  <dc:description/>
  <dc:language>en-US</dc:language>
  <cp:lastModifiedBy>учитель</cp:lastModifiedBy>
  <dcterms:modified xsi:type="dcterms:W3CDTF">2017-05-26T07:37:43Z</dcterms:modified>
  <cp:revision>4</cp:revision>
  <dc:subject/>
  <dc:title>Правописание приставки пол-</dc:title>
</cp:coreProperties>
</file>