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719-F1C7-40B7-97B3-F14F39BE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2D2-D7E0-44B0-9E05-6B226D41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7C6-56CF-43D4-95E9-36D5C80F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68E-CA30-4AC7-8026-9120E899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4616-1E6D-45B9-930D-39E5D290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0472-E03E-4BF2-97E9-46D7178B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E566-BC61-4CEB-ACEE-A00EBEF2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525B-5EA1-4C72-A26D-EBA3D5A6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B56B-0972-4995-9942-095BC0C2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89C1-3B09-43A4-B070-065AE84F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BACB-6256-4A21-AE8D-4DB40859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933-73E4-4B09-8E76-F1E9302B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5A02-F09B-4752-AD16-45CC58D8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15FF-075F-4348-A64D-533B253D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A19E-A197-4F26-A570-913F95A5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E28D-C624-4B84-BC6F-082F53E7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0EFF-5DAD-43E6-A641-1E2C448E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FF462-850E-49FA-96FC-76B72E64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42691-86DA-4B0F-B997-85F185B5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16255-1807-4671-9822-13A588FF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578FB-C818-4411-A8DE-6D311243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C1070-054B-404B-B1EB-65B8F766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7EB-EF43-4169-944C-DE05DB0E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E9CC4-B881-4CFA-9F73-722DAC86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29EC6-BF52-4012-84E3-062FFC65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E7AA1-51C3-41C9-AF37-7FFF8461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9E904-D530-4153-BCB5-7053A245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AD7D3-95F2-4447-84D9-D96ECFD5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6075C-DDA5-4FAB-B0EC-B73BF5A1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827E1-8939-40FA-B362-7C89BD92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F204-0D74-4EFF-B3AC-D3D831D0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3CE6-1FF9-4DD7-B246-A18E016A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8B0AD-E4EB-40D1-93E6-61AB60C8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D13-34E3-41E3-9BEA-6F64ABFF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BE739-CD3A-444F-B857-FCCC94EB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6F95-C45D-4D5E-B0CE-68ADE270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FFD11-795B-4041-A83E-E1ACB1EE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EE50B-ACFB-43C3-BBA9-ADA0DE7A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A6C9C-0A04-4EC0-932D-5E2A257D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06F2-C197-4A98-A211-CFBD74CD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0B47B-E417-4BCA-B600-69F839A7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CF8E4-1141-4B6B-9505-3ACA923E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F5361-6112-431D-9A29-0DDD1D1B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A67-469F-4A11-8AC4-9728193F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36D-A7A4-424E-A397-7ACE5297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425-70B8-48CC-B4E3-71066E8E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6CA-5D2D-4A3A-8CF8-4FEC853C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9B2-EE9F-467A-8CB5-C583A180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D224-248E-4547-BD68-0C894103001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0139-64DC-492B-BA7D-6CC53F4224E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FC66-B895-4129-A98A-C14DAB575EA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6C02-7431-491C-94BF-D71E65F420F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akprosto.ru/" TargetMode="External"/><Relationship Id="rId2" Type="http://schemas.openxmlformats.org/officeDocument/2006/relationships/hyperlink" Target="http://www.studfiles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авописание приставк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ол-/ полу-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Слитное написание</a:t>
            </a:r>
            <a:br>
              <a:rPr sz="36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литно с приставками пол-/полу- пишутся слова, вторая часть которых начинается с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согласной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буквы. Для того чтобы лучше запомнить это правило, обратите внимание, что почти все такие слова – имена существительные в форме родительного падежа: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полчетвертого, полтарелки, полмандарина, полкружки, полдня, полстоловой, полтарелки, полчаса, полсекунды, полминуты, полгода, полмесяца, полнедели, полмиллиона, полтысячи, полсотни, полвека, полтора (часа) и т.д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ледует запомнить, что имена числительные (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полтретьего, полвторого, полпервого, полчетвертого, полпятого, полшестого, полседьмого, полвосьмого, полдевятого и т.д.)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сегда пишутся слитно с приставкой пол-.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Раздельное напис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дельное написание слов, начинающихся с пол-, встречается реже, чем слитное, однако существует два правила, которые регламентируют именно такое правописани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ервое правило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ласит, что, когда между пол- и словом стоит другая часть речи (имя прилагательное или местоимение), такие слова всегда пишутся раздельно. Например: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л твоего яблока, пол этого поля, пол интересной книги, пол стеклянной чашки, пол чайной ложки, пол столовой ложк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торое правило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оворит о правописании со словом половина, которое также является раздельным: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ловина третьего, половина яблока, половина абрикоса, пять с половиной сантиметров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Написание через дефи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ля того чтобы знать, в каких случаях необходимо писать слова с пол- через дефис, необходимо запомнить три случая. 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Первый случай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– когда слово начинается с гласной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пол-абрикоса, пол-овала, пол-ириски, пол-аршина, пол-обеда, пол-елки, пол-ежевики и т.д. 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торой случай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– когда пол- предшествует имени собственному, например, названию города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пол-Москвы, пол-Калининграда, пол-Мурманска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пол-Байкала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Третий случай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– когда пол- предшествует слову, начинающемуся с буквы «л»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пол-литра, пол-ложки, пол-лимона, пол-лампы.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Что касается приставки полу-, все слова с ней всегда пишутся исключительно слитно: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полугодовой, полумесячный, получасовой, полугодие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Упражнение на закрепле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пишите слова в три колонки, разграничивая слитное, дефисное и раздельное написание слов с элементом пол- и полу-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(Пол)ставки, (пол)Европы, (пол)часа, (полу)шёпот, (пол)арбуза, (пол)тысячи, (пол)стакана, (пол)граненого стакана, (пол)ложки, (пол)килограмма, (пол)литра, (полу)чистый, (пол)второго, (пол)цены, (пол)России, (полу)фабрикат, (пол)апельсина, (пол)лимона, (пол)эмалированного ведра, (полу)тон, (пол)года, (пол)миллиона, (полу)месяц, (пол)страницы, (пол)листа, (полу)грамотный, (полу)тяжёлый, (полу)финальный, (пол)большой тарелки, (пол)порции, (полу)разрушенный, (пол)очка, (пол)пути, (пол)смен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нтернет-ресурс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www.kakprosto.r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www.StudFiles.r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4T12:12:54Z</dcterms:created>
  <dc:creator>учитель</dc:creator>
  <dc:description/>
  <dc:language>en-US</dc:language>
  <cp:lastModifiedBy>учитель</cp:lastModifiedBy>
  <dcterms:modified xsi:type="dcterms:W3CDTF">2017-05-26T07:37:43Z</dcterms:modified>
  <cp:revision>4</cp:revision>
  <dc:subject/>
  <dc:title>Правописание приставки пол-</dc:title>
</cp:coreProperties>
</file>