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9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082CA-A856-454B-9A61-6E23A7EFDA9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92CD9-DF53-4E36-90BC-333D22D46B1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8260-E669-467D-AF5A-0861CD9FD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392C-1571-40BC-A080-3B7980B9C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58F4-8041-4BCE-9BAA-188920373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8F5C-5B1F-4F16-9287-ABB78BB1C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B022-1DDB-4595-8D58-D20EF055F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FAD9-62F6-4EF9-9E06-B37036837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7723-721F-4CBE-935F-454789861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D89F-4769-408D-9D0D-F7D356DA6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B485-39A5-4DF6-A566-79047360F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A5BE-56C4-4388-8B5D-D6D56F87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6278-FAAE-4F03-AF29-86D14274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7830-D433-4CCF-8AEC-91F7E500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A1031-9C22-40DD-ACA8-1A1BAA7816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500"/>
            </a:br>
            <a:br>
              <a:rPr sz="2500"/>
            </a:br>
            <a:r>
              <a:rPr b="1" lang="en-US" sz="3600" spc="-1" strike="noStrike">
                <a:solidFill>
                  <a:srgbClr val="e90062"/>
                </a:solidFill>
                <a:latin typeface="Calibri"/>
              </a:rPr>
              <a:t>Гиподинамия — болезнь цивилизации</a:t>
            </a:r>
            <a:br>
              <a:rPr sz="2500"/>
            </a:br>
            <a:r>
              <a:rPr b="1" lang="ru-RU" sz="2500" spc="-1" strike="noStrike">
                <a:solidFill>
                  <a:srgbClr val="ff0000"/>
                </a:solidFill>
                <a:latin typeface="Calibri"/>
              </a:rPr>
              <a:t> </a:t>
            </a:r>
            <a:br>
              <a:rPr sz="2500"/>
            </a:br>
            <a:r>
              <a:rPr b="1" lang="ru-RU" sz="2500" spc="-1" strike="noStrike">
                <a:solidFill>
                  <a:srgbClr val="ff0000"/>
                </a:solidFill>
                <a:latin typeface="Calibri"/>
              </a:rPr>
              <a:t> </a:t>
            </a:r>
            <a:br>
              <a:rPr sz="25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415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Автор:  Герасимова Кари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учащаяся 6 «в» класс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Научный руководитель: 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Марчуков Александр Николаевич 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учитель физической культуры 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первой квалификационной категории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1"/>
          <p:cNvSpPr/>
          <p:nvPr/>
        </p:nvSpPr>
        <p:spPr>
          <a:xfrm>
            <a:off x="571680" y="415440"/>
            <a:ext cx="806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Муниципальное бюджетное общеобразовательное учрежд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«Средняя общеобразовательная школа №30 с углубленным изучением отдельных предметов» Энгельсского муниципального района  Саратовской обла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2428920" y="6021720"/>
            <a:ext cx="350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гельс -2017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Рекомендации по  профилактики гиподинамии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356760" y="1428840"/>
            <a:ext cx="56437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жедневно выполняйте утреннюю зарядку в течение не менее чем 30 мину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ймитесь спортом, бегом, запишитесь  в спортивные клубы или секц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бегайте пользоваться машиной, автобусом  больше ходит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 пользуйтесь лифтом, поднимайтесь по лестнице пешк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меньше времени проводите за компьютером и телевизором, больше двигайтесь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кажитесь от вредных привычек. Соблюдайте полноценное и режимное питание, правильно составленный распорядок дня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Картинки по запросу гиподинамия"/>
          <p:cNvPicPr/>
          <p:nvPr/>
        </p:nvPicPr>
        <p:blipFill>
          <a:blip r:embed="rId1"/>
          <a:stretch/>
        </p:blipFill>
        <p:spPr>
          <a:xfrm>
            <a:off x="6000840" y="1571760"/>
            <a:ext cx="28573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-360" y="785880"/>
            <a:ext cx="792972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601"/>
              </a:spcBef>
              <a:buClr>
                <a:srgbClr val="d51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519ff"/>
                </a:solidFill>
                <a:latin typeface="Calibri"/>
              </a:rPr>
              <a:t>Физические упражнения могут заменить множество лекарств, но ни одно лекарство в мире не может заменить физические упражнения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</a:t>
            </a:r>
            <a:r>
              <a:rPr b="0" lang="ru-RU" sz="2400" spc="-1" strike="noStrike">
                <a:solidFill>
                  <a:srgbClr val="d519ff"/>
                </a:solidFill>
                <a:latin typeface="Calibri"/>
              </a:rPr>
              <a:t>Альфред де Мюсс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d51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6" descr="Physical and health education curricula for all Canadian provinces"/>
          <p:cNvPicPr/>
          <p:nvPr/>
        </p:nvPicPr>
        <p:blipFill>
          <a:blip r:embed="rId1"/>
          <a:stretch/>
        </p:blipFill>
        <p:spPr>
          <a:xfrm>
            <a:off x="1857240" y="3714840"/>
            <a:ext cx="58294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500040"/>
          </a:xfrm>
          <a:prstGeom prst="rect">
            <a:avLst/>
          </a:prstGeom>
          <a:noFill/>
          <a:ln w="38160">
            <a:solidFill>
              <a:srgbClr val="d519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2bd8"/>
                </a:solidFill>
                <a:latin typeface="Calibri"/>
              </a:rPr>
              <a:t>Что такое гиподинамия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00040" y="1142640"/>
            <a:ext cx="4572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Жизнь современного человека, конечно, стала более комфортной и удобной, чем раньше. Технический прогресс заметно облегчил нам жизнь: транспорт, который нас довозит до нужного места, бытовая техника, которая все делает за нас. Гиподинамия — болезнь современного челове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иподинамия (от греческого hypo – внизу и dynamis – сила) – ослабление мышечной деятельности, обусловленное сидячим образом жизни и ограничением двигательной активност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иподинамию еще называют болезнью века и оборотной стороной прогресс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5187960" y="2139840"/>
            <a:ext cx="3979800" cy="60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28400" y="1071720"/>
            <a:ext cx="4786200" cy="45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d0d0d"/>
                </a:solidFill>
                <a:uFillTx/>
                <a:latin typeface="Arial"/>
                <a:ea typeface="Arial"/>
              </a:rPr>
              <a:t>Цель  проекта</a:t>
            </a:r>
            <a:r>
              <a:rPr b="0" lang="ru-RU" sz="2000" spc="-1" strike="noStrike">
                <a:solidFill>
                  <a:srgbClr val="0d0d0d"/>
                </a:solidFill>
                <a:latin typeface="Arial"/>
                <a:ea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Arial"/>
                <a:ea typeface="Arial"/>
              </a:rPr>
              <a:t>исследовать   характер влияния  гиподинамии  на здоровье учащихс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Arial"/>
                <a:ea typeface="Arial"/>
              </a:rPr>
              <a:t>Задачи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Arial"/>
                <a:ea typeface="Arial"/>
              </a:rPr>
              <a:t>изучить литературу по данному вопрос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d0d0d"/>
                </a:solidFill>
                <a:latin typeface="Arial"/>
                <a:ea typeface="Arial"/>
              </a:rPr>
              <a:t>определить влияние  физических  упражнений  на   основные  системы  организма  человек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Arial"/>
                <a:ea typeface="Arial"/>
              </a:rPr>
              <a:t>провести анкетирование среди учеников  и выявить  степень  их двигательной   актив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d0d0d"/>
                </a:solidFill>
                <a:latin typeface="Arial"/>
                <a:ea typeface="Arial"/>
              </a:rPr>
              <a:t>предложить методы профилактики гиподинам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Картинки по запросу гиподинамия"/>
          <p:cNvPicPr/>
          <p:nvPr/>
        </p:nvPicPr>
        <p:blipFill>
          <a:blip r:embed="rId1"/>
          <a:stretch/>
        </p:blipFill>
        <p:spPr>
          <a:xfrm>
            <a:off x="5214960" y="1857240"/>
            <a:ext cx="3929040" cy="2729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571320"/>
            <a:ext cx="810108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90062"/>
                </a:solidFill>
                <a:latin typeface="Calibri"/>
              </a:rPr>
              <a:t>Основные причины развития гиподинамии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28400" y="1356840"/>
            <a:ext cx="4214520" cy="4281480"/>
          </a:xfrm>
          <a:prstGeom prst="rect">
            <a:avLst/>
          </a:prstGeom>
          <a:solidFill>
            <a:srgbClr val="ffd7e8"/>
          </a:solidFill>
          <a:ln w="0">
            <a:noFill/>
          </a:ln>
        </p:spPr>
        <p:txBody>
          <a:bodyPr anchor="t">
            <a:noAutofit/>
          </a:bodyPr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лишком малоподвижный образ жизни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резмерное использование транспорта,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лишком продолжительный постельный режим,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лительная статическая нагрузка, особенно у школьников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достаточные занятия спорт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http://www.notemedical.com/wp-content/uploads/2012/04/%D0%BA%D0%B0%D1%80%D1%82%D0%B8%D0%BD%D0%BA%D0%B0-%D0%BC%D1%83%D0%B6%D1%87%D0%B8%D0%BD%D0%B0-%D0%B7%D0%B0-%D0%BA%D0%BE%D0%BC%D0%BF%D1%8C%D1%8E%D1%82%D0%B5%D1%80%D0%BE%D0%BC.jpg"/>
          <p:cNvPicPr/>
          <p:nvPr/>
        </p:nvPicPr>
        <p:blipFill>
          <a:blip r:embed="rId1"/>
          <a:stretch/>
        </p:blipFill>
        <p:spPr>
          <a:xfrm>
            <a:off x="4643280" y="1643040"/>
            <a:ext cx="4143600" cy="3357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0" y="642600"/>
            <a:ext cx="6143760" cy="49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6040" indent="1875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нимаясь физическими упражнениями, мы приобретаем необходимые в повседневной жизни и в труде двигательные навыки. Развивается ловкость, быстрота и сила движений нашего тела. Постоянная тренировка системы кровообращения ведет к ее функциональному совершенствованию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6040" indent="1875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крепляется и весь опорно-двигательный аппарат. Физическ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пражнен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пособствую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хороше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 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абот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рганов пищеварения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6040" indent="1875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ктивизируют деятельн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ече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чек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6040" indent="1875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лучшаю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желе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нутренне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секреци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6040" indent="1875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ренированный человек становится более выносливым, он может производить более интенсивные движения и совершать тяжелую мышечную работу в течение длительного времен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6040" indent="187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Картинки по запросу гиподинамия"/>
          <p:cNvPicPr/>
          <p:nvPr/>
        </p:nvPicPr>
        <p:blipFill>
          <a:blip r:embed="rId1"/>
          <a:stretch/>
        </p:blipFill>
        <p:spPr>
          <a:xfrm>
            <a:off x="6143760" y="1143000"/>
            <a:ext cx="3000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28760" y="713880"/>
            <a:ext cx="52862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Жизненная необходимость движений доказана в экспериментах на животных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ак, если крыс содержать в условиях полной неподвижности в течение 1 месяца, то 40 % животных погибае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Цыплята, выращенные в условиях обездвиживания в тесных клетках и выпущенные затем на волю, погибают после малейшей пробежки по двор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Картинки по запросу бегущие крысы"/>
          <p:cNvPicPr/>
          <p:nvPr/>
        </p:nvPicPr>
        <p:blipFill>
          <a:blip r:embed="rId1"/>
          <a:stretch/>
        </p:blipFill>
        <p:spPr>
          <a:xfrm>
            <a:off x="5143680" y="571680"/>
            <a:ext cx="3429000" cy="2627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Картинки по запросу цыплята"/>
          <p:cNvPicPr/>
          <p:nvPr/>
        </p:nvPicPr>
        <p:blipFill>
          <a:blip r:embed="rId2"/>
          <a:stretch/>
        </p:blipFill>
        <p:spPr>
          <a:xfrm>
            <a:off x="5572080" y="4051440"/>
            <a:ext cx="357192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90062"/>
                </a:solidFill>
                <a:latin typeface="Calibri"/>
              </a:rPr>
              <a:t>Симптомы и последствия гиподинам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28400" y="1285560"/>
            <a:ext cx="450036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Гиподинамия это  достаточно распространенное состояни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ри этом заболевании у людей отмечаются также и такие симптомы как частые головные боли, чрезмерная нервозность, бессонница, общая усталость, снижение работоспособности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тсутствие своевременных мер профилактики гиподинамии приводит к развитию разнообразных серьезных нарушений, таких как: вегето-сосудистая дистония, снижение силы и выносливости мышц, нарушение кровоснабжения различных органов и тканей, снижение работоспособности  мозга из-за нарушения питания, атрофия тканей, развитие ожирения, сколиоз, нарушение обмена веществ 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Картинки по запросу гиподинамия"/>
          <p:cNvPicPr/>
          <p:nvPr/>
        </p:nvPicPr>
        <p:blipFill>
          <a:blip r:embed="rId1"/>
          <a:stretch/>
        </p:blipFill>
        <p:spPr>
          <a:xfrm>
            <a:off x="4929120" y="2286000"/>
            <a:ext cx="39337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8572680" cy="1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e005f"/>
                </a:solidFill>
                <a:latin typeface="Calibri"/>
              </a:rPr>
              <a:t>Результаты  анкетирования среди учащихся 6-х класс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785880" y="1214280"/>
            <a:ext cx="35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лаете ли  вы зарядку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4"/>
          <p:cNvSpPr/>
          <p:nvPr/>
        </p:nvSpPr>
        <p:spPr>
          <a:xfrm>
            <a:off x="5214960" y="1357200"/>
            <a:ext cx="357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нимаетесь ли вы  спортом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357120" y="3643200"/>
            <a:ext cx="30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до ли  заниматься  спортом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Объект 300" descr=""/>
          <p:cNvPicPr/>
          <p:nvPr/>
        </p:nvPicPr>
        <p:blipFill>
          <a:blip r:embed="rId1"/>
          <a:stretch/>
        </p:blipFill>
        <p:spPr>
          <a:xfrm>
            <a:off x="5214960" y="2143080"/>
            <a:ext cx="3643200" cy="2357640"/>
          </a:xfrm>
          <a:prstGeom prst="rect">
            <a:avLst/>
          </a:prstGeom>
          <a:ln w="0">
            <a:noFill/>
          </a:ln>
        </p:spPr>
      </p:pic>
      <p:pic>
        <p:nvPicPr>
          <p:cNvPr id="73" name="Объект 300" descr=""/>
          <p:cNvPicPr/>
          <p:nvPr/>
        </p:nvPicPr>
        <p:blipFill>
          <a:blip r:embed="rId2"/>
          <a:stretch/>
        </p:blipFill>
        <p:spPr>
          <a:xfrm>
            <a:off x="571680" y="4071960"/>
            <a:ext cx="6000480" cy="3071880"/>
          </a:xfrm>
          <a:prstGeom prst="rect">
            <a:avLst/>
          </a:prstGeom>
          <a:ln w="0">
            <a:noFill/>
          </a:ln>
        </p:spPr>
      </p:pic>
      <p:pic>
        <p:nvPicPr>
          <p:cNvPr id="74" name="Объект 300" descr=""/>
          <p:cNvPicPr/>
          <p:nvPr/>
        </p:nvPicPr>
        <p:blipFill>
          <a:blip r:embed="rId3"/>
          <a:stretch/>
        </p:blipFill>
        <p:spPr>
          <a:xfrm>
            <a:off x="642960" y="1857240"/>
            <a:ext cx="4357800" cy="24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28760" y="1642680"/>
            <a:ext cx="4643280" cy="39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иподинамия отрицательно влияет на его здоровь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ольшинство школьников имеют низкую физическую  активно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исло страдающих гиподинамией людей увеличивается, и причина в техническом прогресс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Картинки по запросу гиподинамия"/>
          <p:cNvPicPr/>
          <p:nvPr/>
        </p:nvPicPr>
        <p:blipFill>
          <a:blip r:embed="rId1"/>
          <a:stretch/>
        </p:blipFill>
        <p:spPr>
          <a:xfrm>
            <a:off x="5143680" y="1428840"/>
            <a:ext cx="328104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5T11:28:27Z</dcterms:created>
  <dc:creator>Пользователь</dc:creator>
  <dc:description/>
  <dc:language>en-US</dc:language>
  <cp:lastModifiedBy>Пользователь</cp:lastModifiedBy>
  <dcterms:modified xsi:type="dcterms:W3CDTF">2017-05-26T16:29:14Z</dcterms:modified>
  <cp:revision>9</cp:revision>
  <dc:subject/>
  <dc:title>Гиподинамия — болезнь цивилизации</dc:title>
</cp:coreProperties>
</file>