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014E-C5E9-41DD-A280-9793801198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D26-B2C0-4868-BCA7-C071CED173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C79-13DB-4B86-AEFA-36355013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519-BD44-4D71-A719-0BA1019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2B3-9B1F-4EBA-B9FD-0940FED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4EC-CB03-4550-9FA8-EFB5B752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7E3-69F6-40A4-AEFB-78AC9A9A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D63-F3C4-4FE2-ABF3-2B832959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476-7A9E-45AF-9E3C-4BC83D7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B60-8678-4833-9B9B-63E79E54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84E-E997-4E04-9B1F-1E5DC061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6F0-DA40-48FD-BF46-1F1A64A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465-7D73-4F5C-A2E8-AA236A2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B0C-C93C-44A0-9F92-7BDCB5F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8F22-B80C-489A-A5EA-1AC5B4FDB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500"/>
            </a:br>
            <a:r>
              <a:rPr b="1" lang="en-US" sz="3600" spc="-1" strike="noStrike">
                <a:solidFill>
                  <a:srgbClr val="e90062"/>
                </a:solidFill>
                <a:latin typeface="Calibri"/>
              </a:rPr>
              <a:t>Гиподинамия — болезнь цивилизаци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5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1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втор:  Герасимова Кари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ащаяся 6 «в» класс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аучный руководитель: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арчуков Александр Николаевич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итель физической культуры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ой квалификационной категор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571680" y="415440"/>
            <a:ext cx="806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ниципальное бюджет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редняя общеобразовательная школа №30 с углубленным изучением отдельных предметов» Энгельсского муниципального района  Саратов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28920" y="602172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гельс -201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комендации по  профилактики гиподинами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6760" y="1428840"/>
            <a:ext cx="5643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жедневно выполняйте утреннюю зарядку в течение не менее чем 30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ймитесь спортом, бегом, запишитесь  в спортивные клубы или се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бегайте пользоваться машиной, автобусом  больше ходи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льзуйтесь лифтом, поднимайтесь по лестнице пеш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ньше времени проводите за компьютером и телевизором, больше двигайтес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ажитесь от вредных привычек. Соблюдайте полноценное и режимное питание, правильно составленный распорядок дня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6000840" y="1571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360" y="785880"/>
            <a:ext cx="79297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d51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19ff"/>
                </a:solidFill>
                <a:latin typeface="Calibri"/>
              </a:rPr>
              <a:t>Физические упражнения могут заменить множество лекарств, но ни одно лекарство в мире не может заменить физические упражнени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400" spc="-1" strike="noStrike">
                <a:solidFill>
                  <a:srgbClr val="d519ff"/>
                </a:solidFill>
                <a:latin typeface="Calibri"/>
              </a:rPr>
              <a:t>Альфред де Мю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51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Physical and health education curricula for all Canadian provinces"/>
          <p:cNvPicPr/>
          <p:nvPr/>
        </p:nvPicPr>
        <p:blipFill>
          <a:blip r:embed="rId1"/>
          <a:stretch/>
        </p:blipFill>
        <p:spPr>
          <a:xfrm>
            <a:off x="1857240" y="3714840"/>
            <a:ext cx="5829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00040"/>
          </a:xfrm>
          <a:prstGeom prst="rect">
            <a:avLst/>
          </a:prstGeom>
          <a:noFill/>
          <a:ln w="38160">
            <a:solidFill>
              <a:srgbClr val="d51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2bd8"/>
                </a:solidFill>
                <a:latin typeface="Calibri"/>
              </a:rPr>
              <a:t>Что такое гиподинамия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0040" y="114264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знь современного человека, конечно, стала более комфортной и удобной, чем раньше. Технический прогресс заметно облегчил нам жизнь: транспорт, который нас довозит до нужного места, бытовая техника, которая все делает за нас. Гиподинамия — болезнь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иподинамия (от греческого hypo – внизу и dynamis – сила) – ослабление мышечной деятельности, обусловленное сидячим образом жизни и ограничением двигательной актив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иподинамию еще называют болезнью века и оборотной стороной прогре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187960" y="2139840"/>
            <a:ext cx="397980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400" y="1071720"/>
            <a:ext cx="478620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  <a:ea typeface="Arial"/>
              </a:rPr>
              <a:t>Цель  проекта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исследовать   характер влияния  гиподинамии  на здоровье уча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изучить литературу по данному вопрос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пределить влияние  физических  упражнений  на   основные  системы  организма  челове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провести анкетирование среди учеников  и выявить  степень  их двигательной   актив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предложить методы профилактики гиподина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5214960" y="1857240"/>
            <a:ext cx="3929040" cy="27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81010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90062"/>
                </a:solidFill>
                <a:latin typeface="Calibri"/>
              </a:rPr>
              <a:t>Основные причины развития гиподинам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28400" y="1356840"/>
            <a:ext cx="4214520" cy="4281480"/>
          </a:xfrm>
          <a:prstGeom prst="rect">
            <a:avLst/>
          </a:prstGeom>
          <a:solidFill>
            <a:srgbClr val="ffd7e8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ишком малоподвижный образ жиз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резмерное использование транспорта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ишком продолжительный постельный режим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ая статическая нагрузка, особенно у школьник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ые занятия с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notemedical.com/wp-content/uploads/2012/04/%D0%BA%D0%B0%D1%80%D1%82%D0%B8%D0%BD%D0%BA%D0%B0-%D0%BC%D1%83%D0%B6%D1%87%D0%B8%D0%BD%D0%B0-%D0%B7%D0%B0-%D0%BA%D0%BE%D0%BC%D0%BF%D1%8C%D1%8E%D1%82%D0%B5%D1%80%D0%BE%D0%BC.jpg"/>
          <p:cNvPicPr/>
          <p:nvPr/>
        </p:nvPicPr>
        <p:blipFill>
          <a:blip r:embed="rId1"/>
          <a:stretch/>
        </p:blipFill>
        <p:spPr>
          <a:xfrm>
            <a:off x="4643280" y="1643040"/>
            <a:ext cx="414360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642600"/>
            <a:ext cx="61437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нимаясь физическими упражнениями, мы приобретаем необходимые в повседневной жизни и в труде двигательные навыки. Развивается ловкость, быстрота и сила движений нашего тела. Постоянная тренировка системы кровообращения ведет к ее функциональному совершенствован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крепляется и весь опорно-двигательный аппарат. Физическ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у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ов пищеварен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тивизируют деятель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ч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лучш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ел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екре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ированный человек становится более выносливым, он может производить более интенсивные движения и совершать тяжелую мышечную работу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18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6143760" y="1143000"/>
            <a:ext cx="300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713880"/>
            <a:ext cx="5286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зненная необходимость движений доказана в экспериментах на живот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, если крыс содержать в условиях полной неподвижности в течение 1 месяца, то 40 % животных погиб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ыплята, выращенные в условиях обездвиживания в тесных клетках и выпущенные затем на волю, погибают после малейшей пробежки по дв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Картинки по запросу бегущие крысы"/>
          <p:cNvPicPr/>
          <p:nvPr/>
        </p:nvPicPr>
        <p:blipFill>
          <a:blip r:embed="rId1"/>
          <a:stretch/>
        </p:blipFill>
        <p:spPr>
          <a:xfrm>
            <a:off x="5143680" y="571680"/>
            <a:ext cx="3429000" cy="26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и по запросу цыплята"/>
          <p:cNvPicPr/>
          <p:nvPr/>
        </p:nvPicPr>
        <p:blipFill>
          <a:blip r:embed="rId2"/>
          <a:stretch/>
        </p:blipFill>
        <p:spPr>
          <a:xfrm>
            <a:off x="5572080" y="4051440"/>
            <a:ext cx="35719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alibri"/>
              </a:rPr>
              <a:t>Симптомы и последствия гиподина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28400" y="1285560"/>
            <a:ext cx="45003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иподинамия это  достаточно распространенное состоя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заболевании у людей отмечаются также и такие симптомы как частые головные боли, чрезмерная нервозность, бессонница, общая усталость, снижение работоспособност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своевременных мер профилактики гиподинамии приводит к развитию разнообразных серьезных нарушений, таких как: вегето-сосудистая дистония, снижение силы и выносливости мышц, нарушение кровоснабжения различных органов и тканей, снижение работоспособности  мозга из-за нарушения питания, атрофия тканей, развитие ожирения, сколиоз, нарушение обмена веществ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4929120" y="2286000"/>
            <a:ext cx="3933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857268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005f"/>
                </a:solidFill>
                <a:latin typeface="Calibri"/>
              </a:rPr>
              <a:t>Результаты  анкетирования среди учащихся 6-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85880" y="12142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аете ли  вы зарядк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214960" y="13572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есь ли вы  спор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57120" y="3643200"/>
            <a:ext cx="30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о ли  заниматься  спор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300" descr=""/>
          <p:cNvPicPr/>
          <p:nvPr/>
        </p:nvPicPr>
        <p:blipFill>
          <a:blip r:embed="rId1"/>
          <a:stretch/>
        </p:blipFill>
        <p:spPr>
          <a:xfrm>
            <a:off x="5214960" y="2143080"/>
            <a:ext cx="3643200" cy="235764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300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6000480" cy="307188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00" descr=""/>
          <p:cNvPicPr/>
          <p:nvPr/>
        </p:nvPicPr>
        <p:blipFill>
          <a:blip r:embed="rId3"/>
          <a:stretch/>
        </p:blipFill>
        <p:spPr>
          <a:xfrm>
            <a:off x="642960" y="1857240"/>
            <a:ext cx="4357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46432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динамия отрицательно влияет на его здоров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школьников имеют низкую физическую  актив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страдающих гиподинамией людей увеличивается, и причина в техническом прогре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ртинки по запросу гиподинамия"/>
          <p:cNvPicPr/>
          <p:nvPr/>
        </p:nvPicPr>
        <p:blipFill>
          <a:blip r:embed="rId1"/>
          <a:stretch/>
        </p:blipFill>
        <p:spPr>
          <a:xfrm>
            <a:off x="5143680" y="1428840"/>
            <a:ext cx="32810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1:28:27Z</dcterms:created>
  <dc:creator>Пользователь</dc:creator>
  <dc:description/>
  <dc:language>en-US</dc:language>
  <cp:lastModifiedBy>Пользователь</cp:lastModifiedBy>
  <dcterms:modified xsi:type="dcterms:W3CDTF">2017-05-26T16:29:14Z</dcterms:modified>
  <cp:revision>9</cp:revision>
  <dc:subject/>
  <dc:title>Гиподинамия — болезнь цивилизации</dc:title>
</cp:coreProperties>
</file>