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46676-0EBA-4EE9-9D61-B017B1B7E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B1046-2474-4BC5-85B2-240791DFD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58E59-88FD-4701-874F-D13550E22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0DE9F-73EF-49D0-8E79-942BB9050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9270D-8FD9-4B16-A7ED-77EFE293A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617AB-E9F5-4830-ACCA-0880F95F0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99CBD-80E5-4656-BB94-A48C709AA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846EA-BA94-4EAA-9E99-CC3F7AAD4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656B6-6959-49A4-AEB7-11D2BB1E8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63321-E2EE-4F58-9D5E-DFD7929DE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A12A7-8CC0-408C-AD5B-711E4E483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AF5A7-62D3-468F-A2D2-D1795BE73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25B67-EF1F-4A89-BC2E-7723E9E4F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888BA-25FA-4193-A033-97940CD2E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01271-8310-4713-9D66-8BB0FC958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3928C-5289-47AC-8C4E-13345278C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3D862-02D7-499C-A5B8-104E3ABF7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D30FE2-BE4A-444D-9D42-8106E8F61C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596265-329C-4F3D-A44A-F13096B706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EC8763-2C6F-42B3-881E-D171016E7E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445139-155C-4D2C-BC27-0194EBB90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3359C-89B1-4943-B637-FF766D832A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A8647-16D3-463E-89EE-9E8C3CA8B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4A10A-CAD7-49AC-8DDD-09BCEC055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8BE7A-74F5-4B0A-BD7C-96CE633AE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EDCD5-71ED-41D2-BB5C-E11DADA10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456C3-534A-4CD5-94E0-98BBD19413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582630-91E8-4FB9-8C98-7D7C8B1099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B54796-5C5D-4879-820B-4846750504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2A35B2-40CA-49BB-BDAC-B17923419E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E276B1-0D04-4D8F-A356-9E7E5CB3D8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6F5FFC-58DA-40C2-8A14-EAA05F3B8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37D760-90B8-4A7B-86E5-882DDC47B2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A3008-7D7D-4B12-9AB6-A83067A0D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768E21-A94F-4376-9888-64F708EAA4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BB1C53-EDF3-4DD5-8F00-41B7FAE606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F92AD-318B-4C18-8411-F56E8F7FA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DE5EA-7134-4350-AA7F-961D96FD0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ABC023-CA8E-4D42-8713-70185352A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65ECD-6655-4109-A7CC-3589D2CBD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AA01C-B45A-42BB-A036-3A2682A8CC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2B585F-BE31-405B-A9AB-8D355305B3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DBC9DF-8080-4B66-BCC1-F463305AA5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D562F-9594-4A2F-80EF-3FC31F84E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43A1C-0ECB-4E95-9F38-83F61A49B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7A99C-F433-4352-A2CC-EAD651A49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79D41-F95E-47F6-93F7-C19448A63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7B21A-3A16-48CA-A68D-784241609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DE8A-0192-4F06-8ED9-4DDE3169231C}"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EFDC-3BDF-4DC2-A9B6-E66E96C741F1}"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3D1C-1B0A-46BA-AEDE-63FDDD66EA43}"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8328-4325-4DF0-8037-811D70D05509}"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000000"/>
                </a:solidFill>
                <a:latin typeface="Trebuchet MS"/>
              </a:rPr>
              <a:t>Именные части речи</a:t>
            </a:r>
            <a:endParaRPr b="0" lang="en-US" sz="5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7030a0"/>
                </a:solidFill>
                <a:latin typeface="Trebuchet MS"/>
              </a:rPr>
              <a:t>Местоимения</a:t>
            </a:r>
            <a:endParaRPr b="0" lang="en-US" sz="3600" spc="-1" strike="noStrike">
              <a:solidFill>
                <a:srgbClr val="90c226"/>
              </a:solidFill>
              <a:latin typeface="Trebuchet MS"/>
            </a:endParaRPr>
          </a:p>
        </p:txBody>
      </p:sp>
      <p:sp>
        <p:nvSpPr>
          <p:cNvPr id="23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rebuchet MS"/>
              </a:rPr>
              <a:t>часть речи, которая указывает на предметы, признаки и количества, но не называет их.</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rebuchet MS"/>
              </a:rPr>
              <a:t>часть речи, которая указывает на предметы, признаки и количества, но не называет их.</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5280" y="1268280"/>
            <a:ext cx="7848720" cy="5400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000000"/>
                </a:solidFill>
                <a:latin typeface="Trebuchet MS"/>
              </a:rPr>
              <a:t>Итак, </a:t>
            </a:r>
            <a:r>
              <a:rPr b="0" lang="ru-RU" sz="3600" spc="-1" strike="noStrike" u="sng">
                <a:solidFill>
                  <a:srgbClr val="000000"/>
                </a:solidFill>
                <a:uFillTx/>
                <a:latin typeface="Trebuchet MS"/>
              </a:rPr>
              <a:t>все именные части речи самостоятельны</a:t>
            </a:r>
            <a:r>
              <a:rPr b="0" lang="ru-RU" sz="3600" spc="-1" strike="noStrike">
                <a:solidFill>
                  <a:srgbClr val="000000"/>
                </a:solidFill>
                <a:latin typeface="Trebuchet MS"/>
              </a:rPr>
              <a:t>, имеют конкретное лексическое и общее грамматическое значение и постоянные морфологические признаки (грамматические значения).</a:t>
            </a:r>
            <a:endParaRPr b="0" lang="en-US" sz="3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95280" y="1125000"/>
            <a:ext cx="7416720" cy="4751640"/>
          </a:xfrm>
          <a:prstGeom prst="rect">
            <a:avLst/>
          </a:prstGeom>
          <a:noFill/>
          <a:ln w="0">
            <a:noFill/>
          </a:ln>
        </p:spPr>
        <p:txBody>
          <a:bodyPr anchor="t">
            <a:normAutofit fontScale="99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Начальная форма для именных частей речи — именительный падеж, единственное число, мужской род (кроме имени существительного). Непостоянные признаки также общие. Именные части речи изменяются по падежам, числам, родам (кроме имени существительного). Докажем это, изменив последовательно всё слова в словосочетании, состоящем из именных частей речи.</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39280" y="2636640"/>
            <a:ext cx="7201080" cy="1871640"/>
          </a:xfrm>
          <a:prstGeom prst="rect">
            <a:avLst/>
          </a:prstGeom>
          <a:noFill/>
          <a:ln w="0">
            <a:noFill/>
          </a:ln>
        </p:spPr>
        <p:txBody>
          <a:bodyPr anchor="t">
            <a:normAutofit fontScale="93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rebuchet MS"/>
              </a:rPr>
              <a:t>Именные части речи в предложении выступают в роли главных или второстепенных членов.</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108000" y="96840"/>
            <a:ext cx="8856720" cy="6647040"/>
          </a:xfrm>
          <a:prstGeom prst="rect">
            <a:avLst/>
          </a:prstGeom>
          <a:solidFill>
            <a:srgbClr val="ffffff"/>
          </a:solidFill>
          <a:ln w="0">
            <a:noFill/>
          </a:ln>
        </p:spPr>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ea typeface="Times New Roman"/>
              </a:rPr>
              <a:t>Укажите ошибки в образовании падежных </a:t>
            </a:r>
            <a:endParaRPr b="0" lang="en-US" sz="2400" spc="-1" strike="noStrike">
              <a:solidFill>
                <a:srgbClr val="40404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ea typeface="Times New Roman"/>
              </a:rPr>
              <a:t>форм числительных и существительных, объясните причины их появления. </a:t>
            </a:r>
            <a:endParaRPr b="0" lang="en-US" sz="2400" spc="-1" strike="noStrike">
              <a:solidFill>
                <a:srgbClr val="40404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В Доме культуры поют, танцуют и рисуют свыше двухста школьников. 2) Старая ферма волжского моста, которую только что заменили, весила около 1,5 тысячи тонн при длине 158 метров. 3) В романе «Война и мир» насчитывается более пятиста действующих лиц. 4) Обломов в детстве привык полагаться на трехсот своих Захаров. 5) Лирический герой страдает от боли, которая постигла миллионов русских людей. 6) Лирический герой говорит голосом тысячей матерей, жен, которые живут во мраке. 7) Стоимость обучения колеблется от тринадцати до двадцати одной тысяч рублей. 8) В прошлом году Испания усыновила шестьсот пятьдесят два российского ребенка. 9) Анархисты позволили выйти примерно двухсот пятидесяти людям, взятым в заложники. 10) В ведении менеджера насчитывается более триста пятьдесят одного сотрудника.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0000"/>
                </a:solidFill>
                <a:latin typeface="Times New Roman"/>
                <a:ea typeface="Times New Roman"/>
              </a:rPr>
              <a:t>Морфология </a:t>
            </a:r>
            <a:endParaRPr b="0" lang="en-US" sz="4000" spc="-1" strike="noStrike">
              <a:solidFill>
                <a:srgbClr val="90c226"/>
              </a:solidFill>
              <a:latin typeface="Trebuchet MS"/>
            </a:endParaRPr>
          </a:p>
        </p:txBody>
      </p:sp>
      <p:sp>
        <p:nvSpPr>
          <p:cNvPr id="214" name=""/>
          <p:cNvSpPr txBox="1"/>
          <p:nvPr/>
        </p:nvSpPr>
        <p:spPr>
          <a:xfrm>
            <a:off x="468000" y="1773360"/>
            <a:ext cx="7343640" cy="469728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00"/>
                </a:solidFill>
                <a:latin typeface="Times New Roman"/>
                <a:ea typeface="Times New Roman"/>
              </a:rPr>
              <a:t>Морфология – раздел науки о языке, который изучает слово как часть речи.</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00"/>
                </a:solidFill>
                <a:latin typeface="Times New Roman"/>
                <a:ea typeface="Times New Roman"/>
              </a:rPr>
              <a:t>В русском языке слово распределяется по разрядам или классам, которые различаются по своим основным значениям, по характеру  грамматических категорий, связанных с каждым из этих рядов, также по типам словообразования и формообразования. </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00"/>
                </a:solidFill>
                <a:latin typeface="Times New Roman"/>
                <a:ea typeface="Times New Roman"/>
              </a:rPr>
              <a:t>В Русском языке </a:t>
            </a:r>
            <a:r>
              <a:rPr b="1" lang="ru-RU" sz="2800" spc="-1" strike="noStrike" u="sng">
                <a:solidFill>
                  <a:srgbClr val="000000"/>
                </a:solidFill>
                <a:uFillTx/>
                <a:latin typeface="Times New Roman"/>
                <a:ea typeface="Times New Roman"/>
              </a:rPr>
              <a:t>10 именных частей речи</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Прямоугольник 3"/>
          <p:cNvSpPr/>
          <p:nvPr/>
        </p:nvSpPr>
        <p:spPr>
          <a:xfrm>
            <a:off x="357120" y="285840"/>
            <a:ext cx="8215560" cy="1000080"/>
          </a:xfrm>
          <a:prstGeom prst="rect">
            <a:avLst/>
          </a:prstGeom>
          <a:solidFill>
            <a:srgbClr val="e6b91e"/>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16" name="Прямоугольник 4" descr=""/>
          <p:cNvPicPr/>
          <p:nvPr/>
        </p:nvPicPr>
        <p:blipFill>
          <a:blip r:embed="rId1"/>
          <a:stretch/>
        </p:blipFill>
        <p:spPr>
          <a:xfrm>
            <a:off x="853920" y="360360"/>
            <a:ext cx="7216920" cy="919080"/>
          </a:xfrm>
          <a:prstGeom prst="rect">
            <a:avLst/>
          </a:prstGeom>
          <a:ln w="0">
            <a:noFill/>
          </a:ln>
        </p:spPr>
      </p:pic>
      <p:sp>
        <p:nvSpPr>
          <p:cNvPr id="217" name="Стрелка вниз 8"/>
          <p:cNvSpPr/>
          <p:nvPr/>
        </p:nvSpPr>
        <p:spPr>
          <a:xfrm>
            <a:off x="4432320" y="1357200"/>
            <a:ext cx="571320" cy="1714680"/>
          </a:xfrm>
          <a:prstGeom prst="downArrow">
            <a:avLst>
              <a:gd name="adj1" fmla="val 50000"/>
              <a:gd name="adj2" fmla="val 50021"/>
            </a:avLst>
          </a:prstGeom>
          <a:solidFill>
            <a:srgbClr val="ffff00"/>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8" name="Стрелка вниз 9"/>
          <p:cNvSpPr/>
          <p:nvPr/>
        </p:nvSpPr>
        <p:spPr>
          <a:xfrm>
            <a:off x="1714680" y="1357200"/>
            <a:ext cx="500040" cy="1785960"/>
          </a:xfrm>
          <a:prstGeom prst="downArrow">
            <a:avLst>
              <a:gd name="adj1" fmla="val 50000"/>
              <a:gd name="adj2" fmla="val 50003"/>
            </a:avLst>
          </a:prstGeom>
          <a:solidFill>
            <a:srgbClr val="ffff00"/>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9" name="Стрелка вниз 10"/>
          <p:cNvSpPr/>
          <p:nvPr/>
        </p:nvSpPr>
        <p:spPr>
          <a:xfrm>
            <a:off x="7286760" y="1357200"/>
            <a:ext cx="500040" cy="1714680"/>
          </a:xfrm>
          <a:prstGeom prst="downArrow">
            <a:avLst>
              <a:gd name="adj1" fmla="val 50000"/>
              <a:gd name="adj2" fmla="val 50007"/>
            </a:avLst>
          </a:prstGeom>
          <a:solidFill>
            <a:srgbClr val="ffff00"/>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20" name="Прямоугольник 11" descr=""/>
          <p:cNvPicPr/>
          <p:nvPr/>
        </p:nvPicPr>
        <p:blipFill>
          <a:blip r:embed="rId2"/>
          <a:stretch/>
        </p:blipFill>
        <p:spPr>
          <a:xfrm>
            <a:off x="225360" y="3206880"/>
            <a:ext cx="3157560" cy="2376360"/>
          </a:xfrm>
          <a:prstGeom prst="rect">
            <a:avLst/>
          </a:prstGeom>
          <a:ln w="0">
            <a:noFill/>
          </a:ln>
        </p:spPr>
      </p:pic>
      <p:sp>
        <p:nvSpPr>
          <p:cNvPr id="221" name="Прямоугольник 12"/>
          <p:cNvSpPr/>
          <p:nvPr/>
        </p:nvSpPr>
        <p:spPr>
          <a:xfrm>
            <a:off x="3643200" y="3214800"/>
            <a:ext cx="2428920" cy="2357280"/>
          </a:xfrm>
          <a:prstGeom prst="rect">
            <a:avLst/>
          </a:prstGeom>
          <a:solidFill>
            <a:srgbClr val="ffff00"/>
          </a:solidFill>
          <a:ln cap="rnd" w="19080">
            <a:solidFill>
              <a:srgbClr val="688e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лужебные</a:t>
            </a:r>
            <a:endParaRPr b="0" lang="en-US" sz="2800" spc="-1" strike="noStrike">
              <a:solidFill>
                <a:srgbClr val="000000"/>
              </a:solidFill>
              <a:latin typeface="Trebuchet MS"/>
            </a:endParaRPr>
          </a:p>
        </p:txBody>
      </p:sp>
      <p:sp>
        <p:nvSpPr>
          <p:cNvPr id="222" name="Прямоугольник 13"/>
          <p:cNvSpPr/>
          <p:nvPr/>
        </p:nvSpPr>
        <p:spPr>
          <a:xfrm>
            <a:off x="6357960" y="3214800"/>
            <a:ext cx="2357280" cy="2357280"/>
          </a:xfrm>
          <a:prstGeom prst="rect">
            <a:avLst/>
          </a:prstGeom>
          <a:solidFill>
            <a:srgbClr val="ffff00"/>
          </a:solidFill>
          <a:ln cap="rnd" w="19080">
            <a:solidFill>
              <a:srgbClr val="688e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еждометие</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7030a0"/>
                </a:solidFill>
                <a:latin typeface="Trebuchet MS"/>
              </a:rPr>
              <a:t>Самостоятельные части речи</a:t>
            </a:r>
            <a:endParaRPr b="0" lang="en-US" sz="3600" spc="-1" strike="noStrike">
              <a:solidFill>
                <a:srgbClr val="90c226"/>
              </a:solidFill>
              <a:latin typeface="Trebuchet MS"/>
            </a:endParaRPr>
          </a:p>
        </p:txBody>
      </p:sp>
      <p:sp>
        <p:nvSpPr>
          <p:cNvPr id="22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Имя существительное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Имя прилагательное</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Имя числительное</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Местоимение</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Глагол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Наречие</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002060"/>
                </a:solidFill>
                <a:latin typeface="Trebuchet MS"/>
              </a:rPr>
              <a:t>Служебные части речи</a:t>
            </a:r>
            <a:endParaRPr b="0" lang="en-US" sz="3600" spc="-1" strike="noStrike">
              <a:solidFill>
                <a:srgbClr val="90c226"/>
              </a:solidFill>
              <a:latin typeface="Trebuchet MS"/>
            </a:endParaRPr>
          </a:p>
        </p:txBody>
      </p:sp>
      <p:sp>
        <p:nvSpPr>
          <p:cNvPr id="22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Предлог</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Союз</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Частица</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002060"/>
                </a:solidFill>
                <a:latin typeface="Trebuchet MS"/>
              </a:rPr>
              <a:t>Каждую часть речи характеризуют:</a:t>
            </a:r>
            <a:endParaRPr b="0" lang="en-US" sz="3600" spc="-1" strike="noStrike">
              <a:solidFill>
                <a:srgbClr val="90c226"/>
              </a:solidFill>
              <a:latin typeface="Trebuchet MS"/>
            </a:endParaRPr>
          </a:p>
        </p:txBody>
      </p:sp>
      <p:sp>
        <p:nvSpPr>
          <p:cNvPr id="228" name=""/>
          <p:cNvSpPr txBox="1"/>
          <p:nvPr/>
        </p:nvSpPr>
        <p:spPr>
          <a:xfrm>
            <a:off x="609480" y="1773000"/>
            <a:ext cx="7491600" cy="4824360"/>
          </a:xfrm>
          <a:prstGeom prst="rect">
            <a:avLst/>
          </a:prstGeom>
          <a:noFill/>
          <a:ln w="0">
            <a:noFill/>
          </a:ln>
        </p:spPr>
        <p:txBody>
          <a:bodyPr anchor="t">
            <a:normAutofit fontScale="96000"/>
          </a:bodyPr>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rebuchet MS"/>
              </a:rPr>
              <a:t>1. Общее значение.</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rebuchet MS"/>
              </a:rPr>
              <a:t>2. Морфологические признаки (или грамматические значения). Морфологические признаки делятся на постоянные и непостоянные.</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rebuchet MS"/>
              </a:rPr>
              <a:t>3. Синтаксическая роль в предложении.</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Trebuchet MS"/>
              </a:rPr>
              <a:t>Самостоятельные части речи </a:t>
            </a:r>
            <a:r>
              <a:rPr b="0" lang="ru-RU" sz="2400" spc="-1" strike="noStrike">
                <a:solidFill>
                  <a:srgbClr val="000000"/>
                </a:solidFill>
                <a:latin typeface="Trebuchet MS"/>
              </a:rPr>
              <a:t>называют предметы, признаки, действия, количество и являются членами предложения.</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rebuchet MS"/>
              </a:rPr>
              <a:t>Служебные части речи не имеют лексического значения и не являются членами предложения.</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55280" y="333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7030a0"/>
                </a:solidFill>
                <a:latin typeface="Trebuchet MS"/>
              </a:rPr>
              <a:t>Имя существительное</a:t>
            </a:r>
            <a:endParaRPr b="0" lang="en-US" sz="3600" spc="-1" strike="noStrike">
              <a:solidFill>
                <a:srgbClr val="90c226"/>
              </a:solidFill>
              <a:latin typeface="Trebuchet MS"/>
            </a:endParaRPr>
          </a:p>
        </p:txBody>
      </p:sp>
      <p:sp>
        <p:nvSpPr>
          <p:cNvPr id="230" name=""/>
          <p:cNvSpPr txBox="1"/>
          <p:nvPr/>
        </p:nvSpPr>
        <p:spPr>
          <a:xfrm>
            <a:off x="468360" y="1267920"/>
            <a:ext cx="7199280" cy="54738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К именам существительным относятся слова, которые являются названиями живых существ (сестра, собака, насекомое), обозначают предметы, явления и события реальной действительности (улица, лист, книга, наводнение, снег) или называют в качестве предметов любые действия и состояния, свойства или отношения (игра, крик, сон, любовь, белизна, ходьба, радость).</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55280" y="333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7030a0"/>
                </a:solidFill>
                <a:latin typeface="Trebuchet MS"/>
              </a:rPr>
              <a:t>Имя прилагательное</a:t>
            </a:r>
            <a:r>
              <a:rPr b="1" lang="ru-RU" sz="3600" spc="-1" strike="noStrike">
                <a:solidFill>
                  <a:srgbClr val="90c226"/>
                </a:solidFill>
                <a:latin typeface="Trebuchet MS"/>
              </a:rPr>
              <a:t> </a:t>
            </a:r>
            <a:endParaRPr b="0" lang="en-US" sz="3600" spc="-1" strike="noStrike">
              <a:solidFill>
                <a:srgbClr val="90c226"/>
              </a:solidFill>
              <a:latin typeface="Trebuchet MS"/>
            </a:endParaRPr>
          </a:p>
        </p:txBody>
      </p:sp>
      <p:sp>
        <p:nvSpPr>
          <p:cNvPr id="232" name=""/>
          <p:cNvSpPr txBox="1"/>
          <p:nvPr/>
        </p:nvSpPr>
        <p:spPr>
          <a:xfrm>
            <a:off x="395280" y="1484280"/>
            <a:ext cx="7416720" cy="48974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К именам прилагательным относятся слова которые обозначают признак предмета и отвечает на вопросы какой? чей?</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По значению и форме прилагательные делятся на три разряда: качественные, относительные и притяжательные.</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480"/>
            <a:ext cx="6348600" cy="80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7030a0"/>
                </a:solidFill>
                <a:latin typeface="Trebuchet MS"/>
              </a:rPr>
              <a:t>Имя числительное</a:t>
            </a:r>
            <a:endParaRPr b="0" lang="en-US" sz="3600" spc="-1" strike="noStrike">
              <a:solidFill>
                <a:srgbClr val="90c226"/>
              </a:solidFill>
              <a:latin typeface="Trebuchet MS"/>
            </a:endParaRPr>
          </a:p>
        </p:txBody>
      </p:sp>
      <p:sp>
        <p:nvSpPr>
          <p:cNvPr id="234" name=""/>
          <p:cNvSpPr txBox="1"/>
          <p:nvPr/>
        </p:nvSpPr>
        <p:spPr>
          <a:xfrm>
            <a:off x="609480" y="1412640"/>
            <a:ext cx="6986880" cy="51116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00"/>
                </a:solidFill>
                <a:latin typeface="Trebuchet MS"/>
              </a:rPr>
              <a:t>часть речи, которая обозначает количество предметов, число, а также порядок предметов при счёте. Имена числительные отвечают на вопросы сколько? и какой?</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00"/>
                </a:solidFill>
                <a:latin typeface="Trebuchet MS"/>
              </a:rPr>
              <a:t>Имена числительные делятся на количественные и порядковые. Имена числительные изменяются по падежам.</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05:38:07Z</dcterms:created>
  <dc:creator>Наталья</dc:creator>
  <dc:description/>
  <dc:language>en-US</dc:language>
  <cp:lastModifiedBy>Egor Kaptelov</cp:lastModifiedBy>
  <dcterms:modified xsi:type="dcterms:W3CDTF">2017-01-08T15:44:06Z</dcterms:modified>
  <cp:revision>23</cp:revision>
  <dc:subject/>
  <dc:title>Именные части речи</dc:title>
</cp:coreProperties>
</file>