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835E-ADB5-4BF6-8FE2-C9DCBFF824BF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382680" y="685440"/>
            <a:ext cx="6092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557C-7915-4485-820F-A4AFF52542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619B-F2A8-4154-B6B6-A084F8E3621D}" type="slidenum">
              <a:rPr b="0" lang="ru-RU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583-371C-4A27-85AE-BBD69049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CD9-37E6-4FE0-820C-7D0682FE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81E9-54C8-4A71-8D75-C3BAB670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6856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150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6856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150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A7BA-2B53-4673-9DAF-13153AA7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C601-8AC9-43E0-BF17-ECC28BB4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3167-CD7E-4375-8EC7-462A0591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EB9B-0EC8-4D53-8C84-CF2C2505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064E-2669-458E-9D97-3412CB4C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B42A-B38B-478F-ACC7-B8995E33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440" y="533160"/>
            <a:ext cx="960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CA09-A65E-46DF-BA95-E9595FAC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DDA6-9D24-4B88-A552-AA44408E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CBB-B8C8-4D43-881F-361ECE60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375A-2193-4FFC-A4B6-17948680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4444-0B50-4ED7-B39D-52F58730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4288-FC46-4EF7-B11B-E0556D1B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C2B6-8169-4445-A6C1-A16EE12F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6856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150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4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76856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150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6618-9562-422E-A0DA-9958489E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7A538-78DA-44E6-8D1B-7CF99902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A8324-C6EA-4554-9276-66E7D787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0191E-AFF7-4EF1-AA96-9EE7A522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B01B2-7733-4836-9B56-E6791F6F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1E60F-07BB-4BB0-96C0-B4F6DB6F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A3E-47C6-42DC-BBBC-208FBDE3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2440" y="533160"/>
            <a:ext cx="960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BCB05-9FF1-4FBF-ABEB-E020ABA7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E44B-C4C8-4CCF-9B12-D00F3781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73C69-571D-4F25-B083-CBE2140A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504A8-08F2-4D16-9BC4-DE7863AF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EAC98-0C9A-4CA6-BCEE-AD4340AC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1CA16-8175-4098-B829-BC209A85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6856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150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224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76856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150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6CA74-46DF-47A3-9A50-B43306C1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0A5A2-88D9-40E2-A7A6-12C779AA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7C533-3267-44BD-A41D-00097DCC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5808E-4A9F-413B-8850-FF0B6913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5DB-18E9-45AA-8F4E-424A23A7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EEB1D-1572-4041-AF2F-905F0AAB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18C81-21E6-42E3-A887-1EB6675A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2440" y="533160"/>
            <a:ext cx="960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F0064-583F-4490-9D36-1554EF13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AC3D6-BC59-48B2-AE63-EE87B810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F9A1D-F737-4663-B58A-951E46CF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60E1D-56B4-4042-B0EB-37D4F1A5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D4AA2-960B-4617-814F-4D1160E2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55EE2-9E4F-496C-B510-D8EC9CBF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6856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150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5224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76856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150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26066-4A00-4B6D-83F3-5C44DBAF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A9BFE-EEDC-4D73-B966-49E77647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245-550D-4AD5-9844-263BA639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CAF6A-B2FE-449A-9B3F-B07ADEF3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A160C-9172-43D7-BB00-BE67F3AC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281B2-2E5D-46A4-93AA-FAA3A319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1056D-AE95-4C90-A383-1D811656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2440" y="533160"/>
            <a:ext cx="960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FF0E2-A0E2-4B13-8EBF-E9F0679B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AC258-767A-4E74-B69F-4DBA36D4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5C0E3-7DBD-46C8-9515-908DE973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43564-A240-4AB0-B2E2-8814564C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B66D9-E2D1-4789-8DF6-775FAA41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17994-5DD9-43F5-87D4-4E3E25B3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533160"/>
            <a:ext cx="960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3DB-2C70-4DAA-AA43-A242F2E7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6856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150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5224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76856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150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FC19E-F01F-4159-8770-1FE343F9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22440" y="533160"/>
            <a:ext cx="960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28D-B907-4594-9D10-1E01D2F5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6856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0150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5224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76856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0150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89D-37C2-4006-A85F-D7E8B3AE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820-8750-49BB-971C-8B15498B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4124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9669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17400" y="6172200"/>
            <a:ext cx="68626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8608680" y="6172200"/>
            <a:ext cx="1320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9E1B-39C6-4478-98CD-2446907E2A11}" type="datetime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132920" y="6172200"/>
            <a:ext cx="990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B68F-2AF6-4A87-A500-EE3327115468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4124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9669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517400" y="6172200"/>
            <a:ext cx="68626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8608680" y="6172200"/>
            <a:ext cx="1320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77D6-8EF7-40A2-ACD7-648642BDB89A}" type="datetime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0132920" y="6172200"/>
            <a:ext cx="990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2B94-B58E-458E-8E74-02613BB515D2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4124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9669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1517400" y="6172200"/>
            <a:ext cx="68626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8"/>
          </p:nvPr>
        </p:nvSpPr>
        <p:spPr>
          <a:xfrm>
            <a:off x="8608680" y="6172200"/>
            <a:ext cx="1320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C540-82F3-4A53-B035-BACE29526928}" type="datetime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0132920" y="6172200"/>
            <a:ext cx="990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1601-66BB-4B9A-BB62-C5AB5B12498D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4124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9669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1517400" y="6172200"/>
            <a:ext cx="68626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1"/>
          </p:nvPr>
        </p:nvSpPr>
        <p:spPr>
          <a:xfrm>
            <a:off x="8608680" y="6172200"/>
            <a:ext cx="1320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BCB5-A9B2-4FBC-ADA0-8EE2CC00E8CE}" type="datetime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10132920" y="6172200"/>
            <a:ext cx="990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8997-8053-417D-B50A-A7757D562EB5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4124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9669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3"/>
          </p:nvPr>
        </p:nvSpPr>
        <p:spPr>
          <a:xfrm>
            <a:off x="1517400" y="6172200"/>
            <a:ext cx="68626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4"/>
          </p:nvPr>
        </p:nvSpPr>
        <p:spPr>
          <a:xfrm>
            <a:off x="8608680" y="6172200"/>
            <a:ext cx="1320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9A3E-2AAE-4098-9C17-C79D0314C3B7}" type="datetime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0132920" y="6172200"/>
            <a:ext cx="990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3354-E4D3-4364-B4E5-9F581B626D44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 4" descr="Пустой заполнитель, вместо которого можно добавить изображение. Щелкните заполнитель и выберите изображение, которое необходимо добавить"/>
          <p:cNvPicPr/>
          <p:nvPr/>
        </p:nvPicPr>
        <p:blipFill>
          <a:blip r:embed="rId3"/>
          <a:stretch/>
        </p:blipFill>
        <p:spPr>
          <a:xfrm>
            <a:off x="5103720" y="458640"/>
            <a:ext cx="6626160" cy="5938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36000"/>
              </a:srgbClr>
            </a:outerShdw>
          </a:effectLst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4124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9669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53720" y="2707920"/>
            <a:ext cx="10225080" cy="13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ебные части речи. </a:t>
            </a: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62080" y="260280"/>
            <a:ext cx="1159344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62080" y="260280"/>
            <a:ext cx="1159344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77720" y="1628640"/>
            <a:ext cx="11233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ебные части речи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это слова, которые не называют ни предметов, ни действий, ни признаков, а выражают только отношения между ними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62080" y="260280"/>
            <a:ext cx="11593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лог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служебная часть речи, которая выражает зависимость существительного, числительного и местоимения от других слов в словосочетании, а значит, и в предложен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не изменяются и не являются членами предлож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выражают различные отношения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странственные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ременные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чинные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делятся на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изводные и производны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62080" y="0"/>
            <a:ext cx="11593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изводные предлог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ез, в, до, для, за, из, к, на, над, о, об, от, по, под, пред, при, про, с, у, через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ые предлог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бразованы от самостоятельных частей речи путем утраты ими своего значения и морфологических признаков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оти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ома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ед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тряда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ки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алатки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о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ада, 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л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ороги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близ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ерега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казанию;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си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иду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енастья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чет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боты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ледств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ождя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ече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ок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долже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очи, сказать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е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илу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бстоятельств;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ождю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олезнь.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ча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, состоящие из одного слова, называются 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стым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, на, к, от, до, из, вопреки, посл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др.). 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, состоящие из двух и более слов, называются 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ставным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, в заключе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др.).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262080" y="260280"/>
            <a:ext cx="11593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юз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служебная часть речи, которая связывает однородные члены в составе простого предложения и простые предложения в составе сложного предлож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ы делятся на 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чинительные и подчинительны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чинительны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ы связывают однородные члены и равноправные простые предложения в составе сложного (сложносочиненного)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ините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юзы связывают в сложном (сложноподчиненном) предложении простые предложения, из которых одно подчинен по смыслу другому, т.е. от одного предложения к другому можно поставить вопрос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ы, состоящие из одного слова, называются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ми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и, но, или, либо, то, как, что, когда, едва, буд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др.,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ы, состоящие из нескольких слов,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ными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тем что, ввиду того что, в то время как, вследствие того что, несмотря на то ч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др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62080" y="260280"/>
            <a:ext cx="11593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ительные союзы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ительные союзы делятся на три группы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те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; да (в значении и); не только... но и; как... так и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ите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; но; да (в значении но); однако же; зато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ите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ли; или... или; либо; то... то; не то... не то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некоторых союзов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... так и, не только... но и, не то... не 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др.) находятся при разных однородных членах или в разных частях сложного предложения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62080" y="260280"/>
            <a:ext cx="11593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инительные союзы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инительные союзы делятся на следующие группы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тому что; оттого что; так как; в виду того что; благодаря тому что; вследствие того что; в связи с тем что и др.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чтобы (чтоб); для того чтобы; с тем чтобы и др.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гда; лишь; лишь только; пока; едва и др.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сли; если бы; раз; ли; как скоро и др.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к; будто; словно; как будто; точно и др.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ъясните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что; чтобы; как и др.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те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есмотря на то что; хотя; как ни и др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62080" y="260280"/>
            <a:ext cx="11593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стица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служебная часть речи, которая вносит в предложение различные оттенки значения или служит для образования форм сл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ы не изменяются и не являются членами предлож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начения и роли в предложении частицы делятся на три разряда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образующие, отрицательные и модальные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образующие частиц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формообразующим относятся частицы, которые служат для образования условного и повелительного наклонения глагол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а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 (б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жет стоять перед глаголом, к которому относится, после глагола, может отделяться от глагола другими словами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ые частиц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трицательным относятся частицы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а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жет придавать предложения или отдельным словам не только отрицательное, но и положительное значение при двойном отрицании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62080" y="260280"/>
            <a:ext cx="11593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альные частицы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модальным относятся частицы, которые вносят в предложение различные смысловые оттенки, а также выражают чувства и отношение говорящег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ы, вносящие в предложение смысловые оттенки, делятся на группы по значению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ли, разве, неужели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т (а вот), вон (а вон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менно, как раз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, огранич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олько, лишь, исключительно, почти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ы, выражающие чувства и отношение говорящего, также делятся на группы по значению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лиц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что за, как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н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ряд ли, едва ли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аже, даже и, ни, и, же, ведь, уж, всё, всё-таки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ягчение, требо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-ка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7T14:06:38Z</dcterms:created>
  <dc:creator>Egor Kaptelov</dc:creator>
  <dc:description/>
  <dc:language>en-US</dc:language>
  <cp:lastModifiedBy>Egor Kaptelov</cp:lastModifiedBy>
  <dcterms:modified xsi:type="dcterms:W3CDTF">2017-01-17T14:46:03Z</dcterms:modified>
  <cp:revision>5</cp:revision>
  <dc:subject/>
  <dc:title>С</dc:title>
</cp:coreProperties>
</file>