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FA1A-027E-46FF-9211-6E03DF66A669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382680" y="685440"/>
            <a:ext cx="60926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25D0-32F1-4722-B9C3-C0D5C1F352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82680" y="685800"/>
            <a:ext cx="609264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0637-BFB4-4388-A445-13C5763F6855}" type="slidenum">
              <a:rPr b="0" lang="ru-RU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766-389F-4F2A-9726-8DA8C041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440" y="401832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D44B-0AA1-43F2-9B20-E0CF0770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4220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5F15-38E2-4187-B0B1-F0FC0AD11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6856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1504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44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6856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1504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9D18-44A5-42E9-8C7A-5F8E08E2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804F-52C5-4A71-B897-68E5A01D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3A46-93ED-42EF-B6F4-62C32847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67A4-ACDE-407F-8702-9A20C65B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B81C-5EED-4B3A-AB62-9C3EFCA8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0487-7F26-410F-B514-108E9BEA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440" y="533160"/>
            <a:ext cx="9601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78E1-A8CC-43B7-8F80-33ED0ADA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BA72-F846-41FF-A8B3-F1A4A9FB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876E-805C-4CEF-A83C-815062ED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4220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0D44-83A7-42F8-8A12-545EF1C6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A8FE-17CC-4B48-ADDD-AD51CB71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440" y="401832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91E5-FA56-4A39-A3E7-DE52E9EB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44220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F3F1-EDE7-4D40-A8F7-30393031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6856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1504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44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76856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1504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AD25-5BBD-4ABE-839B-64A0EC2C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1AAE7-3527-4664-88E5-BE9D56F8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7D0E0-EEA5-4DDE-867D-86579B5F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7B97D-3CE3-40E8-8F79-62A93230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3CCB8-93FD-46C8-BC2A-2414CB5F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2BADB-253C-4EDB-B39A-B71860E7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3259-D365-4EFD-80B5-25598E2C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2440" y="533160"/>
            <a:ext cx="9601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4ACF4-4B8D-465F-8FD1-37D72824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93201-6A2A-45B5-818D-F13682C2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44220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33D34-2F52-4556-8C13-CA5478CA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0EB53-E5CF-45CF-9AD2-108A3A75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522440" y="401832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F435E-0D9E-41E6-8831-A7E1313E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44220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1ACB3-AB3A-41AD-A053-82978449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6856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1504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52244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76856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1504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40D71-06CC-43AA-929D-EC6CDE8D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1DA83-0368-45D7-B612-CB3BD71B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A7115-BB3D-41E5-9553-435FE1DF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96D77-7CC7-451B-8EF5-3809A0EB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C8F-186F-4697-9C0D-7C29D348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11071-2BC7-4223-9C73-72BF90BD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79C64-3FA1-4542-B808-9826B305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522440" y="533160"/>
            <a:ext cx="9601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DFE8B-9311-4F56-A146-97947161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0AEDA-D518-4D09-82EE-37C8B189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44220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76EAF-0463-4EBE-BCCA-38DCEDEC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A4D0D-4F0E-4ACE-8038-37A885E7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522440" y="401832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3453D-5101-4F0E-915C-9E083E76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44220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FEFC5-D6A0-40D2-84BC-F1D221BE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6856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1504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52244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76856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1504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F295D-4FC4-4DB2-8D5D-05F5E6B9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53837-B90B-4536-BC80-71ADE53B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8D99-06F7-4EC9-A442-06C65C58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64528-F93C-4305-AB6F-129CBC4B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B5657-8475-4864-8898-1F1B5550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329A2-E7BC-4244-9103-632ABB79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66CF3-68AE-4D56-B060-5CD4CCBD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22440" y="533160"/>
            <a:ext cx="9601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AD499-6E52-40E6-AA6F-4451A732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AA9C6-721E-407B-874C-B10B9520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4220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AA1EF-CE07-4468-89A9-2F9CC627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B4DFD-6A0A-4F89-BF21-F55366A0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522440" y="401832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11776-C2B5-4649-B22C-F3154853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44220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D2C6B-2A4D-4336-984C-4E7BCC7F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440" y="533160"/>
            <a:ext cx="9601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9637-8298-4C9E-A231-72F92794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6856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1504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52244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76856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1504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37649-BCF0-4D8B-A071-2052DC34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22440" y="533160"/>
            <a:ext cx="9601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44220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1E4B-A68A-44EF-9560-DA30A22F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522440" y="401832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44220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6856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015040" y="18288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52244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76856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015040" y="401832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42200" y="401832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3B1F-BC06-4ACC-B4D9-D0B367EB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44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42200" y="18288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440" y="401832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1877-F67A-4E43-99E5-A30BE7CD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501480" indent="-22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741240" indent="-171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9669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17400" y="6172200"/>
            <a:ext cx="68626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8608680" y="6172200"/>
            <a:ext cx="1320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557F-A74F-4ACE-BA3A-5F00C6A5E465}" type="datetime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132920" y="6172200"/>
            <a:ext cx="990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DFC1-F927-49D3-891D-D60297CD03CB}" type="slidenum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501480" indent="-22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741240" indent="-171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9669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1517400" y="6172200"/>
            <a:ext cx="68626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8608680" y="6172200"/>
            <a:ext cx="1320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E6B9-4694-4EBE-A26C-93F58C1F03AA}" type="datetime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0132920" y="6172200"/>
            <a:ext cx="990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E9A2-8BF1-4839-8B08-C8EC88F6ACE5}" type="slidenum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501480" indent="-22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741240" indent="-171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9669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1517400" y="6172200"/>
            <a:ext cx="68626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8"/>
          </p:nvPr>
        </p:nvSpPr>
        <p:spPr>
          <a:xfrm>
            <a:off x="8608680" y="6172200"/>
            <a:ext cx="1320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A886-4292-4B47-9804-D4C006D53616}" type="datetime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0132920" y="6172200"/>
            <a:ext cx="990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6023-EFB1-4603-9EDF-5354057071B1}" type="slidenum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501480" indent="-22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741240" indent="-171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9669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1517400" y="6172200"/>
            <a:ext cx="68626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1"/>
          </p:nvPr>
        </p:nvSpPr>
        <p:spPr>
          <a:xfrm>
            <a:off x="8608680" y="6172200"/>
            <a:ext cx="1320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B6F8-8317-48BD-9494-B2CD159A348C}" type="datetime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10132920" y="6172200"/>
            <a:ext cx="990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5BF6-458F-426C-80BE-4AAECA827BF0}" type="slidenum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501480" indent="-22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741240" indent="-171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9669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3"/>
          </p:nvPr>
        </p:nvSpPr>
        <p:spPr>
          <a:xfrm>
            <a:off x="1517400" y="6172200"/>
            <a:ext cx="68626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4"/>
          </p:nvPr>
        </p:nvSpPr>
        <p:spPr>
          <a:xfrm>
            <a:off x="8608680" y="6172200"/>
            <a:ext cx="1320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E038-1354-46DA-A5DE-227E2367ED6F}" type="datetime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10132920" y="6172200"/>
            <a:ext cx="990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DD77-BEB4-417B-A691-F37576A59CDC}" type="slidenum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 4" descr="Пустой заполнитель, вместо которого можно добавить изображение. Щелкните заполнитель и выберите изображение, которое необходимо добавить"/>
          <p:cNvPicPr/>
          <p:nvPr/>
        </p:nvPicPr>
        <p:blipFill>
          <a:blip r:embed="rId3"/>
          <a:stretch/>
        </p:blipFill>
        <p:spPr>
          <a:xfrm>
            <a:off x="5103720" y="458640"/>
            <a:ext cx="6626160" cy="5938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36000"/>
              </a:srgbClr>
            </a:outerShdw>
          </a:effectLst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440" y="533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522440" y="182880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501480" indent="-22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741240" indent="-171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9669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1208160" indent="-1731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53720" y="2707920"/>
            <a:ext cx="10225080" cy="134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ебные части речи. </a:t>
            </a: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62080" y="260280"/>
            <a:ext cx="11593440" cy="633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62080" y="260280"/>
            <a:ext cx="11593440" cy="633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77720" y="1628640"/>
            <a:ext cx="11233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ебные части речи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это слова, которые не называют ни предметов, ни действий, ни признаков, а выражают только отношения между ними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62080" y="260280"/>
            <a:ext cx="11593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лог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служебная часть речи, которая выражает зависимость существительного, числительного и местоимения от других слов в словосочетании, а значит, и в предложени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и не изменяются и не являются членами предложени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и выражают различные отношения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странственные;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ременные;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ичинные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и делятся на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изводные и производны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62080" y="0"/>
            <a:ext cx="11593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изводные предлог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без, в, до, для, за, из, к, на, над, о, об, от, по, под, пред, при, про, с, у, через.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ные предлог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бразованы от самостоятельных частей речи путем утраты ими своего значения и морфологических признаков.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501480" indent="-22356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оти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дома, 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ед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тряда, 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еки, 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алатки, 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о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ада, 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501480" indent="-2235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ол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дороги, 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близ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берега, 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указанию;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501480" indent="-22356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круг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си, 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иду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енастья, 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чет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аботы, 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ледств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дождя, 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ечен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501480" indent="-2235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ок, 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должен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очи, сказать 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ключен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илу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бстоятельств;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501480" indent="-22356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дождю, 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болезнь.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чан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и, состоящие из одного слова, называются 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стым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, на, к, от, до, из, вопреки, посл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 др.). 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и, состоящие из двух и более слов, называются 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ставным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, в заключен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 др.).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262080" y="260280"/>
            <a:ext cx="11593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юз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служебная часть речи, которая связывает однородные члены в составе простого предложения и простые предложения в составе сложного предложени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ы делятся на 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чинительные и подчинительны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чинительные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ы связывают однородные члены и равноправные простые предложения в составе сложного (сложносочиненного)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инитель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юзы связывают в сложном (сложноподчиненном) предложении простые предложения, из которых одно подчинен по смыслу другому, т.е. от одного предложения к другому можно поставить вопрос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ы, состоящие из одного слова, называются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ыми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и, но, или, либо, то, как, что, когда, едва, будт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 др.,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ы, состоящие из нескольких слов,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ными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язи с тем что, ввиду того что, в то время как, вследствие того что, несмотря на то чт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 др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62080" y="260280"/>
            <a:ext cx="11593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ительные союзы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ительные союзы делятся на три группы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тель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; да (в значении и); не только... но и; как... так и;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итель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а; но; да (в значении но); однако же; зато;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итель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ли; или... или; либо; то... то; не то... не то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некоторых союзов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... так и, не только... но и, не то... не т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 др.) находятся при разных однородных членах или в разных частях сложного предложения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262080" y="260280"/>
            <a:ext cx="11593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инительные союзы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инительные союзы делятся на следующие группы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тому что; оттого что; так как; в виду того что; благодаря тому что; вследствие того что; в связи с тем что и др.;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чтобы (чтоб); для того чтобы; с тем чтобы и др.;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гда; лишь; лишь только; пока; едва и др.;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если; если бы; раз; ли; как скоро и др.;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ль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ак; будто; словно; как будто; точно и др.;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ъяснитель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что; чтобы; как и др.;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упитель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есмотря на то что; хотя; как ни и др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62080" y="260280"/>
            <a:ext cx="11593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стица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ц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служебная часть речи, которая вносит в предложение различные оттенки значения или служит для образования форм сл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цы не изменяются и не являются членами предложени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начения и роли в предложении частицы делятся на три разряда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образующие, отрицательные и модальные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образующие частиц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формообразующим относятся частицы, которые служат для образования условного и повелительного наклонения глагол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ца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 (б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ожет стоять перед глаголом, к которому относится, после глагола, может отделяться от глагола другими словами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цательные частиц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трицательным относятся частицы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ца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ожет придавать предложения или отдельным словам не только отрицательное, но и положительное значение при двойном отрицании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62080" y="260280"/>
            <a:ext cx="11593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альные частицы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модальным относятся частицы, которые вносят в предложение различные смысловые оттенки, а также выражают чувства и отношение говорящего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цы, вносящие в предложение смысловые оттенки, делятся на группы по значению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ли, разве, неужели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т (а вот), вон (а вон)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менно, как раз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ие, огранич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только, лишь, исключительно, почти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цы, выражающие чувства и отношение говорящего, также делятся на группы по значению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клиц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что за, как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н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ряд ли, едва ли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л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аже, даже и, ни, и, же, ведь, уж, всё, всё-таки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ягчение, требов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-ка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7T14:06:38Z</dcterms:created>
  <dc:creator>Egor Kaptelov</dc:creator>
  <dc:description/>
  <dc:language>en-US</dc:language>
  <cp:lastModifiedBy>Egor Kaptelov</cp:lastModifiedBy>
  <dcterms:modified xsi:type="dcterms:W3CDTF">2017-01-17T14:46:03Z</dcterms:modified>
  <cp:revision>5</cp:revision>
  <dc:subject/>
  <dc:title>С</dc:title>
</cp:coreProperties>
</file>