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6DFB-BC47-4FDA-8F0F-81D855FB8C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4562-A418-4C1B-A53E-05FBB879B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5775-58F6-4E25-AB23-CFFF74B5AD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80F2-0244-479F-83CF-995167E36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695-00FB-437C-B0CF-40E64998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C98-C512-4514-80CB-F8681D7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51D-1E17-477A-9205-C6530E51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8F5-A250-441C-9CAF-666D243D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F533-AEA7-4484-BED5-A2459419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2D46-0EA1-49B7-9805-F99171A1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6A59-4B2D-4D5C-A382-754434F3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E6C6-9275-4FAC-BF4E-B30C292C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2411-12B9-4BD3-AD7C-30C4510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2373-4A3A-4CB1-9633-31F376A5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769B-6E6E-4446-8988-165600CE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6F5-A16B-4D15-8223-6DA7AD52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825B-3434-4C2A-B472-A9BFD18F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1F7F-8000-4F6C-B0F2-8F91B9A5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8336-ECAA-4CA0-8250-A88DFBC2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6E8C-CFFD-44E2-8DC0-18C7E8D2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8922-B0AE-4160-8117-4A299DB9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A41-816E-4DB8-8BB9-8186D78D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54F-9C75-4E46-8C68-8D0A2F8B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03C-E227-4733-BB84-0A498949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254-C15F-436A-9049-F6264599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30A-FCCB-498F-8401-5CC24DFA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ECC-797E-4DBD-8C27-86A2E009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3EF-E134-4451-BC0E-1EF85D2C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F40C-6462-4DEB-A1F2-C94A2126F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591E-45FC-4FEA-8A29-E26018F6A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1628280"/>
            <a:ext cx="61437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облема формирования учебно-познавательной мотивации на уроках истории и обществознания.</a:t>
            </a:r>
            <a:br>
              <a:rPr sz="2900"/>
            </a:br>
            <a:r>
              <a:rPr b="1" lang="ru-RU" sz="2900" spc="-1" strike="noStrike">
                <a:solidFill>
                  <a:srgbClr val="0000ff"/>
                </a:solidFill>
                <a:latin typeface="Calibri"/>
              </a:rPr>
              <a:t> 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ондратенко Лариса Вячеславна – 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«Захаровская С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371520" y="165240"/>
            <a:ext cx="840744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2"/>
          <p:cNvGrpSpPr/>
          <p:nvPr/>
        </p:nvGrpSpPr>
        <p:grpSpPr>
          <a:xfrm>
            <a:off x="755640" y="1571760"/>
            <a:ext cx="7848360" cy="4939920"/>
            <a:chOff x="755640" y="1571760"/>
            <a:chExt cx="7848360" cy="4939920"/>
          </a:xfrm>
        </p:grpSpPr>
        <p:sp>
          <p:nvSpPr>
            <p:cNvPr id="114" name="Oval 3"/>
            <p:cNvSpPr/>
            <p:nvPr/>
          </p:nvSpPr>
          <p:spPr>
            <a:xfrm>
              <a:off x="3675960" y="3561840"/>
              <a:ext cx="1825200" cy="85176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лючевое сло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"/>
            <p:cNvSpPr/>
            <p:nvPr/>
          </p:nvSpPr>
          <p:spPr>
            <a:xfrm>
              <a:off x="1302840" y="2369520"/>
              <a:ext cx="2190240" cy="5108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5"/>
            <p:cNvSpPr/>
            <p:nvPr/>
          </p:nvSpPr>
          <p:spPr>
            <a:xfrm>
              <a:off x="1302840" y="5095440"/>
              <a:ext cx="2190240" cy="5108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"/>
            <p:cNvSpPr/>
            <p:nvPr/>
          </p:nvSpPr>
          <p:spPr>
            <a:xfrm>
              <a:off x="5683680" y="5095440"/>
              <a:ext cx="2190240" cy="5108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>
              <a:off x="5318640" y="2369520"/>
              <a:ext cx="2190240" cy="5108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1120320" y="310500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755640" y="378612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2930760" y="591588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1"/>
            <p:cNvSpPr/>
            <p:nvPr/>
          </p:nvSpPr>
          <p:spPr>
            <a:xfrm>
              <a:off x="1302840" y="583056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"/>
            <p:cNvSpPr/>
            <p:nvPr/>
          </p:nvSpPr>
          <p:spPr>
            <a:xfrm>
              <a:off x="4588560" y="6000840"/>
              <a:ext cx="54756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4953600" y="531972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6778800" y="6000840"/>
              <a:ext cx="54756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8056800" y="276408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4041000" y="259380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4588560" y="1912320"/>
              <a:ext cx="54756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44200" y="1571760"/>
              <a:ext cx="547200" cy="51120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3675960" y="208296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3310920" y="2764080"/>
              <a:ext cx="912600" cy="8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 flipH="1">
              <a:off x="4953600" y="2764080"/>
              <a:ext cx="547200" cy="8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>
              <a:off x="5318640" y="4297320"/>
              <a:ext cx="109512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H="1">
              <a:off x="2945520" y="4297320"/>
              <a:ext cx="109476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>
              <a:off x="1485720" y="2764080"/>
              <a:ext cx="18216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H="1">
              <a:off x="1119960" y="3615840"/>
              <a:ext cx="18252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3310920" y="2252520"/>
              <a:ext cx="36504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3493440" y="2593800"/>
              <a:ext cx="54720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5136120" y="2252880"/>
              <a:ext cx="36468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 flipH="1">
              <a:off x="7143840" y="2082960"/>
              <a:ext cx="18252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 flipH="1" flipV="1">
              <a:off x="7508520" y="2764080"/>
              <a:ext cx="54756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 flipH="1">
              <a:off x="1454760" y="5518440"/>
              <a:ext cx="18252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 flipV="1">
              <a:off x="5501160" y="5319360"/>
              <a:ext cx="18252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V="1">
              <a:off x="4953600" y="5830200"/>
              <a:ext cx="18252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7052760" y="5645880"/>
              <a:ext cx="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2945880" y="5595840"/>
              <a:ext cx="18216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4"/>
          <p:cNvSpPr/>
          <p:nvPr/>
        </p:nvSpPr>
        <p:spPr>
          <a:xfrm>
            <a:off x="3657600" y="2914560"/>
            <a:ext cx="2087640" cy="8254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е н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878040" y="1684440"/>
            <a:ext cx="244764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аи и трад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513240" y="1682640"/>
            <a:ext cx="237636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ы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194520" y="1684440"/>
            <a:ext cx="238608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ы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860400" y="3633840"/>
            <a:ext cx="1871640" cy="703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ески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541600" y="4619520"/>
            <a:ext cx="1942920" cy="703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5003640" y="4619520"/>
            <a:ext cx="1872000" cy="703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ы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6529320" y="3983040"/>
            <a:ext cx="201636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эти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Прямая со стрелкой 13"/>
          <p:cNvCxnSpPr>
            <a:stCxn id="147" idx="0"/>
          </p:cNvCxnSpPr>
          <p:nvPr/>
        </p:nvCxnSpPr>
        <p:spPr>
          <a:xfrm flipV="1">
            <a:off x="4700160" y="2084040"/>
            <a:ext cx="1080" cy="83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Прямая со стрелкой 15"/>
          <p:cNvCxnSpPr>
            <a:endCxn id="148" idx="2"/>
          </p:cNvCxnSpPr>
          <p:nvPr/>
        </p:nvCxnSpPr>
        <p:spPr>
          <a:xfrm flipH="1" flipV="1">
            <a:off x="2100960" y="2084040"/>
            <a:ext cx="2039400" cy="83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Прямая со стрелкой 17"/>
          <p:cNvCxnSpPr>
            <a:endCxn id="150" idx="2"/>
          </p:cNvCxnSpPr>
          <p:nvPr/>
        </p:nvCxnSpPr>
        <p:spPr>
          <a:xfrm flipV="1">
            <a:off x="5257800" y="2084040"/>
            <a:ext cx="2131200" cy="83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Прямая со стрелкой 19"/>
          <p:cNvCxnSpPr>
            <a:endCxn id="151" idx="3"/>
          </p:cNvCxnSpPr>
          <p:nvPr/>
        </p:nvCxnSpPr>
        <p:spPr>
          <a:xfrm flipH="1">
            <a:off x="2731320" y="3746520"/>
            <a:ext cx="1375560" cy="24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Прямая со стрелкой 21"/>
          <p:cNvCxnSpPr>
            <a:stCxn id="147" idx="2"/>
            <a:endCxn id="152" idx="0"/>
          </p:cNvCxnSpPr>
          <p:nvPr/>
        </p:nvCxnSpPr>
        <p:spPr>
          <a:xfrm flipH="1">
            <a:off x="3513240" y="3746160"/>
            <a:ext cx="1187640" cy="87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Прямая со стрелкой 23"/>
          <p:cNvCxnSpPr>
            <a:endCxn id="153" idx="0"/>
          </p:cNvCxnSpPr>
          <p:nvPr/>
        </p:nvCxnSpPr>
        <p:spPr>
          <a:xfrm>
            <a:off x="4749480" y="3746160"/>
            <a:ext cx="1191240" cy="87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Прямая со стрелкой 27"/>
          <p:cNvCxnSpPr>
            <a:endCxn id="154" idx="0"/>
          </p:cNvCxnSpPr>
          <p:nvPr/>
        </p:nvCxnSpPr>
        <p:spPr>
          <a:xfrm>
            <a:off x="5599080" y="3746160"/>
            <a:ext cx="193896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2" name="Прямоугольник 2"/>
          <p:cNvSpPr/>
          <p:nvPr/>
        </p:nvSpPr>
        <p:spPr>
          <a:xfrm>
            <a:off x="23558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262080" y="208080"/>
            <a:ext cx="85899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428760" y="1916280"/>
          <a:ext cx="8229600" cy="332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З»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Х» 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У» 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250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371520" y="165240"/>
            <a:ext cx="8407440" cy="12794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403280" y="549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З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28760" y="1785960"/>
          <a:ext cx="8229600" cy="4579920"/>
        </p:xfrm>
        <a:graphic>
          <a:graphicData uri="http://schemas.openxmlformats.org/drawingml/2006/table">
            <a:tbl>
              <a:tblPr/>
              <a:tblGrid>
                <a:gridCol w="2414520"/>
                <a:gridCol w="2665440"/>
                <a:gridCol w="3149640"/>
              </a:tblGrid>
              <a:tr h="92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З»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Х» 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У» 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записали: гражданин это человек. Гражданин трудится, учится. Это взрослый человек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гражданина есть обязанности, пра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записали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 гражданин отличается от не гражданина государ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паспор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можно стать граждани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ин страны пользуется всеми правами данного государства, имеет обязанн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порт – это документ, удостоверяющий личность человека с 14 лет, а до 14 лет свидетельство о рожден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ином можно стать «по крови», «по почве», подав заявление Президенту страны, достигнув 18 лет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жив в РФ 5 л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262080" y="208080"/>
            <a:ext cx="8589960" cy="1163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1"/>
          <a:stretch/>
        </p:blipFill>
        <p:spPr>
          <a:xfrm>
            <a:off x="371520" y="139680"/>
            <a:ext cx="8285040" cy="1347840"/>
          </a:xfrm>
          <a:prstGeom prst="rect">
            <a:avLst/>
          </a:prstGeom>
          <a:ln w="0">
            <a:noFill/>
          </a:ln>
        </p:spPr>
      </p:pic>
      <p:pic>
        <p:nvPicPr>
          <p:cNvPr id="170" name="Таблица 5" descr=""/>
          <p:cNvPicPr/>
          <p:nvPr/>
        </p:nvPicPr>
        <p:blipFill>
          <a:blip r:embed="rId2"/>
          <a:stretch/>
        </p:blipFill>
        <p:spPr>
          <a:xfrm>
            <a:off x="463680" y="1639800"/>
            <a:ext cx="8143920" cy="449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50920" y="1628640"/>
          <a:ext cx="8713800" cy="4907160"/>
        </p:xfrm>
        <a:graphic>
          <a:graphicData uri="http://schemas.openxmlformats.org/drawingml/2006/table">
            <a:tbl>
              <a:tblPr/>
              <a:tblGrid>
                <a:gridCol w="2193840"/>
                <a:gridCol w="65199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 обучающихся отметили знаком « V » предложение, где сообщалось, что Александр I сын Павла I и внук Екатерины II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% обучающихся поставили знак «+» у предложения “Император любил внешние формы свободы, как можно любить представление… Он охотно согласился бы, чтобы каждый был свободен, лишь бы все добровольно исполняли бы его волю”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ти все обучающиеся, 100 %, отметили знаком «-» абзацы, где говорится о взаимоотношениях отца и сына и участие Александра I в заговоре против отца, Павла I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% обучающихся поставили знак «?» у предложения «Современники называли его сфинксом, неразгаданным до гроба» - т.е. почти все обучающиеся хотели бы узнать больше об Александре 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9320" y="208080"/>
            <a:ext cx="9039240" cy="1412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152280" y="311040"/>
            <a:ext cx="8699760" cy="11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507960" y="1628640"/>
          <a:ext cx="8240760" cy="4364280"/>
        </p:xfrm>
        <a:graphic>
          <a:graphicData uri="http://schemas.openxmlformats.org/drawingml/2006/table">
            <a:tbl>
              <a:tblPr/>
              <a:tblGrid>
                <a:gridCol w="4119480"/>
                <a:gridCol w="4121280"/>
              </a:tblGrid>
              <a:tr h="478080"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886200"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позици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 обосн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подтвержд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ледств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считаю, что…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тому что …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могу это доказать это на примере …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ходя из этого, я делаю вывод о том, что…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152280" y="92160"/>
            <a:ext cx="8699760" cy="163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108000" y="1844640"/>
          <a:ext cx="8928000" cy="4549680"/>
        </p:xfrm>
        <a:graphic>
          <a:graphicData uri="http://schemas.openxmlformats.org/drawingml/2006/table">
            <a:tbl>
              <a:tblPr/>
              <a:tblGrid>
                <a:gridCol w="1859040"/>
                <a:gridCol w="7068960"/>
              </a:tblGrid>
              <a:tr h="36612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18908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и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Ю. Витте считает, что правительству России сейчас необходимо проводить политику протекционизма, развивать свою промышлен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1476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му что, Россия свои потребности в промышленных товарах удовлетворяет за счёт импорта из-за границы, расплачиваясь сырьё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дтвер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могу подтвердить это словами из доклада С. Ю. Витте: «Россия и по настоящее время остаётся ещё страной существенно земледельческой. За все свои обязательства перед иностранцами она расплачивается вывозом сырья, преимущественно хлеб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9064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лед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довательно, экономическая и политическая задача – создание своей собственной промышл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560" y="1413000"/>
            <a:ext cx="8497800" cy="48988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1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2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4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увства, эмоции (фраза из четырех слов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5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225360" y="165240"/>
            <a:ext cx="8699400" cy="118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24000" y="1341360"/>
            <a:ext cx="8496000" cy="511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мократические, свобод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яют, обязывают, направля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боры – прав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емокр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бир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рамотный, ответ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Голосует, агитирует, выдвиг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н определяет будущее ст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родовлас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к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ый, сур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ает, защищает, наказ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е условие существования об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25360" y="165240"/>
            <a:ext cx="8699400" cy="1060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522760" y="622440"/>
            <a:ext cx="3176640" cy="6491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250920" y="98280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«Все наши замыс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се поиски и построения превращаются в прах, если у ученика нет желания 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.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395280" y="4005360"/>
            <a:ext cx="8283600" cy="2470680"/>
          </a:xfrm>
          <a:prstGeom prst="rect">
            <a:avLst/>
          </a:prstGeom>
          <a:solidFill>
            <a:srgbClr val="ff99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Vijay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озникает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компетентности учащихся во многом зависит от внутренней потребности к саморазвитию и самообразованию, но на протяжении ряда лет в средних классах   наблюдалось снижение познавательной активности, мотивации к изучению предмета, что не способствовало развитию внутренних резервов личности учащих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693280" cy="13474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"/>
          <p:cNvSpPr/>
          <p:nvPr/>
        </p:nvSpPr>
        <p:spPr>
          <a:xfrm rot="2858400">
            <a:off x="738720" y="2784960"/>
            <a:ext cx="2352600" cy="22302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39640" y="3716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 rot="5195400">
            <a:off x="6641640" y="2869920"/>
            <a:ext cx="1871640" cy="1979640"/>
          </a:xfrm>
          <a:custGeom>
            <a:avLst/>
            <a:gdLst>
              <a:gd name="textAreaLeft" fmla="*/ 436320 w 1871640"/>
              <a:gd name="textAreaRight" fmla="*/ 1434600 w 1871640"/>
              <a:gd name="textAreaTop" fmla="*/ 208440 h 1979640"/>
              <a:gd name="textAreaBottom" fmla="*/ 1253520 h 1979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093080" y="3716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979640" y="3716280"/>
            <a:ext cx="46083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484360" y="2205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643280" y="2205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716360" y="5157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556000" y="5157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 rot="871800">
            <a:off x="2555640" y="2492280"/>
            <a:ext cx="43164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4"/>
          <p:cNvSpPr/>
          <p:nvPr/>
        </p:nvSpPr>
        <p:spPr>
          <a:xfrm rot="20928600">
            <a:off x="4716360" y="4221000"/>
            <a:ext cx="43344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 rot="20518800">
            <a:off x="2626920" y="4221000"/>
            <a:ext cx="43200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 rot="871800">
            <a:off x="4642920" y="2565000"/>
            <a:ext cx="43200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1"/>
          <a:stretch/>
        </p:blipFill>
        <p:spPr>
          <a:xfrm>
            <a:off x="262080" y="182520"/>
            <a:ext cx="8553240" cy="101304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8"/>
          <p:cNvSpPr/>
          <p:nvPr/>
        </p:nvSpPr>
        <p:spPr>
          <a:xfrm>
            <a:off x="0" y="2928960"/>
            <a:ext cx="2050920" cy="218592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2185920"/>
              <a:gd name="textAreaBottom" fmla="*/ 2185920 h 2185920"/>
            </a:gdLst>
            <a:ahLst/>
            <a:rect l="textAreaLeft" t="textAreaTop" r="textAreaRight" b="textAreaBottom"/>
            <a:pathLst>
              <a:path w="1013" h="1377">
                <a:moveTo>
                  <a:pt x="15" y="764"/>
                </a:moveTo>
                <a:cubicBezTo>
                  <a:pt x="0" y="567"/>
                  <a:pt x="642" y="0"/>
                  <a:pt x="786" y="83"/>
                </a:cubicBezTo>
                <a:cubicBezTo>
                  <a:pt x="930" y="166"/>
                  <a:pt x="1013" y="1149"/>
                  <a:pt x="877" y="1263"/>
                </a:cubicBezTo>
                <a:cubicBezTo>
                  <a:pt x="741" y="1377"/>
                  <a:pt x="30" y="961"/>
                  <a:pt x="15" y="764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1908000" y="4005360"/>
            <a:ext cx="475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0"/>
          <p:cNvSpPr/>
          <p:nvPr/>
        </p:nvSpPr>
        <p:spPr>
          <a:xfrm>
            <a:off x="6516720" y="2708280"/>
            <a:ext cx="2627280" cy="2797200"/>
          </a:xfrm>
          <a:custGeom>
            <a:avLst/>
            <a:gdLst>
              <a:gd name="textAreaLeft" fmla="*/ 0 w 2627280"/>
              <a:gd name="textAreaRight" fmla="*/ 2627640 w 2627280"/>
              <a:gd name="textAreaTop" fmla="*/ 0 h 2797200"/>
              <a:gd name="textAreaBottom" fmla="*/ 2797560 h 2797200"/>
            </a:gdLst>
            <a:ahLst/>
            <a:rect l="textAreaLeft" t="textAreaTop" r="textAreaRight" b="textAreaBottom"/>
            <a:pathLst>
              <a:path w="1240" h="1679">
                <a:moveTo>
                  <a:pt x="53" y="689"/>
                </a:moveTo>
                <a:cubicBezTo>
                  <a:pt x="106" y="439"/>
                  <a:pt x="726" y="106"/>
                  <a:pt x="915" y="53"/>
                </a:cubicBezTo>
                <a:cubicBezTo>
                  <a:pt x="1104" y="0"/>
                  <a:pt x="1187" y="250"/>
                  <a:pt x="1187" y="371"/>
                </a:cubicBezTo>
                <a:cubicBezTo>
                  <a:pt x="1187" y="492"/>
                  <a:pt x="915" y="590"/>
                  <a:pt x="915" y="779"/>
                </a:cubicBezTo>
                <a:cubicBezTo>
                  <a:pt x="915" y="968"/>
                  <a:pt x="1240" y="1377"/>
                  <a:pt x="1187" y="1505"/>
                </a:cubicBezTo>
                <a:cubicBezTo>
                  <a:pt x="1134" y="1633"/>
                  <a:pt x="794" y="1679"/>
                  <a:pt x="597" y="1550"/>
                </a:cubicBezTo>
                <a:cubicBezTo>
                  <a:pt x="400" y="1421"/>
                  <a:pt x="0" y="939"/>
                  <a:pt x="53" y="689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AutoShape 12"/>
          <p:cNvCxnSpPr/>
          <p:nvPr/>
        </p:nvCxnSpPr>
        <p:spPr>
          <a:xfrm flipH="1">
            <a:off x="1979280" y="2852640"/>
            <a:ext cx="93744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AutoShape 14"/>
          <p:cNvCxnSpPr/>
          <p:nvPr/>
        </p:nvCxnSpPr>
        <p:spPr>
          <a:xfrm flipH="1">
            <a:off x="2999880" y="2857320"/>
            <a:ext cx="93744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AutoShape 16"/>
          <p:cNvCxnSpPr/>
          <p:nvPr/>
        </p:nvCxnSpPr>
        <p:spPr>
          <a:xfrm flipH="1">
            <a:off x="4214520" y="2786040"/>
            <a:ext cx="93744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AutoShape 19"/>
          <p:cNvCxnSpPr/>
          <p:nvPr/>
        </p:nvCxnSpPr>
        <p:spPr>
          <a:xfrm flipH="1">
            <a:off x="5714640" y="2786040"/>
            <a:ext cx="93744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AutoShape 24"/>
          <p:cNvCxnSpPr/>
          <p:nvPr/>
        </p:nvCxnSpPr>
        <p:spPr>
          <a:xfrm flipH="1" flipV="1">
            <a:off x="1999800" y="407160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AutoShape 26"/>
          <p:cNvCxnSpPr/>
          <p:nvPr/>
        </p:nvCxnSpPr>
        <p:spPr>
          <a:xfrm flipH="1" flipV="1">
            <a:off x="3071520" y="407160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AutoShape 28"/>
          <p:cNvCxnSpPr/>
          <p:nvPr/>
        </p:nvCxnSpPr>
        <p:spPr>
          <a:xfrm flipH="1" flipV="1">
            <a:off x="4214520" y="407160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AutoShape 31"/>
          <p:cNvCxnSpPr/>
          <p:nvPr/>
        </p:nvCxnSpPr>
        <p:spPr>
          <a:xfrm flipH="1" flipV="1">
            <a:off x="5714640" y="414288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7" name="Text Box 34"/>
          <p:cNvSpPr/>
          <p:nvPr/>
        </p:nvSpPr>
        <p:spPr>
          <a:xfrm>
            <a:off x="428760" y="342900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распада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071880" y="5000760"/>
            <a:ext cx="1511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ия территорий по природным и хозяйственным услов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4500720" y="50007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ьное хозя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3143160" y="1428840"/>
            <a:ext cx="1285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иление экономичес-кой мощи отдельных 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4500720" y="1500120"/>
            <a:ext cx="172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ют тесные торговые связи между княжест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1"/>
          <p:cNvSpPr/>
          <p:nvPr/>
        </p:nvSpPr>
        <p:spPr>
          <a:xfrm>
            <a:off x="6786720" y="3429000"/>
            <a:ext cx="21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обленность на Руси была неизбеж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2"/>
          <p:cNvSpPr/>
          <p:nvPr/>
        </p:nvSpPr>
        <p:spPr>
          <a:xfrm>
            <a:off x="1785960" y="4929120"/>
            <a:ext cx="136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был определен порядок наследования киевского прест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4"/>
          <p:cNvSpPr/>
          <p:nvPr/>
        </p:nvSpPr>
        <p:spPr>
          <a:xfrm>
            <a:off x="1428840" y="1500120"/>
            <a:ext cx="172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оусобные войны и борьба за киевский прест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6"/>
          <p:cNvSpPr/>
          <p:nvPr/>
        </p:nvSpPr>
        <p:spPr>
          <a:xfrm>
            <a:off x="5929200" y="50007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т и развитие гор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6"/>
          <p:cNvSpPr/>
          <p:nvPr/>
        </p:nvSpPr>
        <p:spPr>
          <a:xfrm>
            <a:off x="6072120" y="150012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 не хотят подчиняться Киеву, стремятся к самосто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371520" y="165240"/>
            <a:ext cx="8285040" cy="10778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ысл этого приёма можно выразить следующими словами: «Я пишу для того, чтобы понять, что я думаю». Это свободное письмо на заданную тему, в котором ценится самостоятельность, проявление индивидуальности, дискуссионность, оригинальность решения проблемы, аргументации. Обычно эссе пишется прямо в классе после обсуждения проблемы и по времени занимает не более 5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4" descr=""/>
          <p:cNvPicPr/>
          <p:nvPr/>
        </p:nvPicPr>
        <p:blipFill>
          <a:blip r:embed="rId1"/>
          <a:stretch/>
        </p:blipFill>
        <p:spPr>
          <a:xfrm>
            <a:off x="560520" y="498600"/>
            <a:ext cx="8238960" cy="564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971640" y="189000"/>
            <a:ext cx="7272360" cy="82548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ознавательной актив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Диаграмма 5" descr=""/>
          <p:cNvPicPr/>
          <p:nvPr/>
        </p:nvPicPr>
        <p:blipFill>
          <a:blip r:embed="rId1"/>
          <a:stretch/>
        </p:blipFill>
        <p:spPr>
          <a:xfrm>
            <a:off x="344520" y="1146240"/>
            <a:ext cx="83106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77840" y="1844640"/>
            <a:ext cx="8715240" cy="4842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2"/>
          <p:cNvSpPr/>
          <p:nvPr/>
        </p:nvSpPr>
        <p:spPr>
          <a:xfrm>
            <a:off x="177840" y="189000"/>
            <a:ext cx="8715240" cy="1655640"/>
          </a:xfrm>
          <a:prstGeom prst="rect">
            <a:avLst/>
          </a:prstGeom>
          <a:solidFill>
            <a:srgbClr val="66cc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4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, обращаясь к старому, способен открыть новое, - достоин быть учи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8"/>
          <p:cNvSpPr/>
          <p:nvPr/>
        </p:nvSpPr>
        <p:spPr>
          <a:xfrm>
            <a:off x="414360" y="620640"/>
            <a:ext cx="8281800" cy="3020040"/>
          </a:xfrm>
          <a:prstGeom prst="rect">
            <a:avLst/>
          </a:prstGeom>
          <a:solidFill>
            <a:srgbClr val="ff99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оведения диагностических исследований выявлено, что у обучающихся недостаточно сформированы следующие навыки мыслительной деятель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делать выводы и обобщения из прочитанного: 47% обучающихся 6-х классов показали средний и низкий уровень восприятия тек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устанавливать причинно-следственные связи: 39% обучающихся 7-х классов показали средни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2"/>
          <p:cNvSpPr/>
          <p:nvPr/>
        </p:nvSpPr>
        <p:spPr>
          <a:xfrm>
            <a:off x="4284720" y="3860640"/>
            <a:ext cx="966600" cy="1152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900000" y="5013360"/>
            <a:ext cx="732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хнология развития критического мыш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937640" cy="1511280"/>
          </a:xfrm>
          <a:prstGeom prst="rect">
            <a:avLst/>
          </a:prstGeom>
          <a:ln w="0">
            <a:noFill/>
          </a:ln>
        </p:spPr>
      </p:pic>
      <p:grpSp>
        <p:nvGrpSpPr>
          <p:cNvPr id="98" name="Прямоугольник 4"/>
          <p:cNvGrpSpPr/>
          <p:nvPr/>
        </p:nvGrpSpPr>
        <p:grpSpPr>
          <a:xfrm>
            <a:off x="444600" y="1676520"/>
            <a:ext cx="8327880" cy="4559040"/>
            <a:chOff x="444600" y="1676520"/>
            <a:chExt cx="8327880" cy="4559040"/>
          </a:xfrm>
        </p:grpSpPr>
        <p:pic>
          <p:nvPicPr>
            <p:cNvPr id="9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44600" y="1676520"/>
              <a:ext cx="8327880" cy="45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4360" y="1916280"/>
              <a:ext cx="78483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крытое мышление, развивающееся путем наложения новой информации на личный жизненный опыт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шление, анализирующее информацию с точки зрения логики и личностно-ориентированного подхода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шление анализирующее, оценивающее и проблематизирующее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шление рефлексив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10" descr="AG00317_"/>
          <p:cNvPicPr/>
          <p:nvPr/>
        </p:nvPicPr>
        <p:blipFill>
          <a:blip r:embed="rId3"/>
          <a:stretch/>
        </p:blipFill>
        <p:spPr>
          <a:xfrm>
            <a:off x="-287280" y="20520"/>
            <a:ext cx="194292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7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95280" y="1628640"/>
            <a:ext cx="8229600" cy="4392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b0f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чебной мотивации школь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обучающихся к самостоятельным оценочным суждени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ставить вопросы, выделять главное, делать сравнение, устанавливать причинно – следственные связи и делать умозаклю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видеть смысл в информации, понимать проблему в цел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исследовательской деятельности, поиску, анализу, к творческой переработке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AG00315_"/>
          <p:cNvPicPr/>
          <p:nvPr/>
        </p:nvPicPr>
        <p:blipFill>
          <a:blip r:embed="rId2"/>
          <a:stretch/>
        </p:blipFill>
        <p:spPr>
          <a:xfrm>
            <a:off x="7524720" y="907920"/>
            <a:ext cx="1609920" cy="1944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28760" y="1785960"/>
            <a:ext cx="8229600" cy="3875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ового стиля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7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8760" y="1785600"/>
            <a:ext cx="8229600" cy="4164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ь источником ценной профессиональной информаци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500040" y="457200"/>
            <a:ext cx="82296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28760" y="178596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74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з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уждение интереса к получению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а учеником собственн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ысление содержа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еся соотносят старые знания с новы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екс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а учеником нов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1401840" y="1511280"/>
            <a:ext cx="6267240" cy="351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история</cp:lastModifiedBy>
  <dcterms:modified xsi:type="dcterms:W3CDTF">2017-03-29T08:24:10Z</dcterms:modified>
  <cp:revision>35</cp:revision>
  <dc:subject/>
  <dc:title>Слайд 1</dc:title>
</cp:coreProperties>
</file>