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E11C-CDE9-40BD-B261-9014C5E9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E9A0-5238-4793-85FB-F5C03ACD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52E6-34DA-4640-957A-A0ED1011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EB49-6B3E-4D8E-A755-690D7765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61B3-08DB-46FA-BD22-556E980A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2143-6043-4340-8746-61659C23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B163-7AEE-424D-BBA6-CF2B60C5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C392-E760-473D-B9A4-D6860007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7A00-B90F-42AE-9B6E-9E623D17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AFA1-3877-46F9-BAFC-00E4429E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6CF4-BC04-4F8F-8289-2EB5CC77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EBAB-0A97-43C7-B304-9A5B03E4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4036-6B49-4B3F-A013-F1631A82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9F3B-DADA-4F9D-AA6F-72BB1BAB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F813-C088-4761-B6EC-948B44DA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EFCE-6084-4655-B087-93F1EA34F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F126-7A1B-46DD-AB3C-5ED84922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B732-EDDF-4F87-B9B1-5B910B88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B4B9-A84E-48B3-B8F3-097C7751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29B1-2095-4D0A-86A9-37CA85DC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E72C-2D91-4952-B73D-7BBC5673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D040-A9ED-45D8-A56E-26E89E84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B97A-924E-481E-BE9C-37DFBBC3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0B90-1363-4D66-AD88-2CC765D2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1686-3564-4845-BA28-5A9F3E6A0E5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B691-36BF-4C61-9138-B1E2341C23A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5640" y="263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bbd71"/>
                </a:solidFill>
                <a:latin typeface="Arial"/>
              </a:rPr>
              <a:t>Рафаэль — «первый среди великих»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Рафаэль (1483-1520 гг.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402768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«Мадонна Конестабиле»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50529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«Сикстинская мадонна»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409572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«Афинская школа»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676908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«Портрет Анджело Дони»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3942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5T11:56:55Z</dcterms:created>
  <dc:creator>cabin218</dc:creator>
  <dc:description/>
  <dc:language>en-US</dc:language>
  <cp:lastModifiedBy>cabin218</cp:lastModifiedBy>
  <dcterms:modified xsi:type="dcterms:W3CDTF">2017-04-25T12:44:50Z</dcterms:modified>
  <cp:revision>5</cp:revision>
  <dc:subject/>
  <dc:title>Рафаэль — «первый среди великих»</dc:title>
</cp:coreProperties>
</file>