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4BC-1160-4FE1-BD0F-97C17CEE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D4B-0AE4-4A86-9053-73CD23DC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EAB-58E5-4AA6-8529-1A064CFF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CE2-D33D-4D41-B7F3-22779E49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05CB-2D4A-442D-9152-28419382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535B-EDF1-4F31-9DC2-22CD40D9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7398-BC05-4B3B-9FD4-C0947B59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8BB0-8F5F-418A-A647-9C254A2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6E09-A534-4D69-A89F-848F9AB1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6DB6-6D7C-4D65-B9F1-35587E48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5AEC-168B-4B41-BC9A-A7488390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6CF-5848-4383-B83F-9666DF6B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7560-42B6-4C37-94A7-9D3BC81E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DCBF-13D2-4258-8286-8FE643BF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CA74-9B55-4F1D-9FAE-AB729E4E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CC1A-CB00-4E7B-8B09-89223B57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FAA9-90BD-494E-BF9C-75F31E02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8A4-7179-4BE2-BB09-8BA4C9D8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ABA-1DA0-4EFE-874C-CB79FA19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CAA-9429-4B5C-9EAD-8E56564A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64A-57EA-43CC-8EF3-9310DD14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9E4-C25E-40E9-B29F-924B96F9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006-4A2B-49D3-9903-90B91AF5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D0B-01DB-44F0-B9AE-1F0213D6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E1EC-F2EF-416D-8430-0207B9BC2F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B0B5-E4AA-461F-83CD-8D3ED08431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26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Рафаэль — «первый среди великих»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фаэль (1483-1520 гг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0276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«Мадонна Конестабиле»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0529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«Сикстинская мадонна»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0957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«Афинская школа»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769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«Портрет Анджело Дони»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3942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5T11:56:55Z</dcterms:created>
  <dc:creator>cabin218</dc:creator>
  <dc:description/>
  <dc:language>en-US</dc:language>
  <cp:lastModifiedBy>cabin218</cp:lastModifiedBy>
  <dcterms:modified xsi:type="dcterms:W3CDTF">2017-04-25T12:44:50Z</dcterms:modified>
  <cp:revision>5</cp:revision>
  <dc:subject/>
  <dc:title>Рафаэль — «первый среди великих»</dc:title>
</cp:coreProperties>
</file>