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515B-FA4F-42BF-AAE5-DAE535F5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AC83-17CF-440A-8838-30CECAEE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7D4A-FAFD-464D-B809-CCDDE107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8D3A-6247-48C7-B586-2D465C84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0AF0-A5FC-44A2-956C-6F20B53EE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169F-63C0-4675-8647-3143EA04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5938-9C2D-4B7C-B9A5-F7B00C1F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F70D-BA18-49C9-B7EA-CB94ED0A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5CF5-B03C-4891-A86E-DD4B6DB7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035B-5831-42F3-B982-4652BC8F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CDAB-A455-4969-8BE4-39B238FE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3B30-CBCB-4697-BE39-233A7C23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9760-B977-4AEA-BDF6-8B83DB7B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C5B7-9401-4CE2-9EA7-F433B453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C0A5-FDBD-448B-A5EF-DE9CAB6D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56D5-1AD2-411A-B18F-243BA51FE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CA2F-AEF3-41E3-B4E4-F803628D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11188D-6AFB-4821-AD37-4C93B1A0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CAD674-7524-4219-9780-6A66BE90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386938-9330-4901-98F6-4AAE49CC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E3BF06-7EDB-464D-8429-6764E6FC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F646EA-737C-464B-A25D-F2FA7DBA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DD66-5276-45E1-AB55-5E3ACE27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96A24F-9AB2-4DD4-8211-A8A2FDD8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8ADC13-8576-49BD-82D3-59F0B595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F5E9F9-22D1-4AE3-9CF4-DA37DD9A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08D84B-4836-4474-A149-DBAFA0AC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6CA010-CF59-4F4F-B089-6C389F0D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E5CF89-A7F9-411B-81D2-9A7CF7BB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F93F7C-573E-459C-964A-184A3B2E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FC91CF-F514-408F-A48B-064BAFF9B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B88125-77B7-4E44-8DAB-2E11A24B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7CF666-6CF7-403E-8D72-975203BA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86B3-8EC1-4F3F-9421-265D40F1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0CC6C5-33AF-45DA-A676-7A7D2C57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5EFE4A-95A5-4C67-AE19-EC186E8E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03460F-FC64-4F19-B9D4-D216CFAD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7594F8-818B-4F74-9FEE-54A23344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6A4203-10F3-4DCA-8A79-A879AA45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DFA63A-9505-4BDD-AF50-D1F3D14D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4A49DD-BAFA-44EC-94C2-F9680A0D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80171D-C84F-4B95-9A9F-7C5593BC3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2FEDE4-9BC6-4E2B-84E5-68EE6C813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EC4D37-790E-418B-BE1C-D9402580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2808-BFBB-444E-9E94-0BA2707C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E6C0AB-57B8-4F8F-BC07-80AB2DBB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C82E5D-6D2E-40D0-8496-1317AB44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345E89-4D9E-4310-8049-D7F11E06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048AF6-A0E2-46B6-A085-810CE941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B8A6DD-E46B-49FD-A1B5-298043C2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07AD6D-E5C1-4613-9728-D04DA9AF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FAC93D-C4AC-43D9-B51E-380CF901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7301DC-4DBE-43DC-9E67-18F8CDF4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49B411-55F9-45F9-ADB8-070FACD0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BC49A2-E64D-4064-BB2D-AAE198A7F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F1DF-5659-4D04-A1A0-3478D7FC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00D4EF-8A03-48F3-8BD3-20C201ED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7A847-5C11-4B5C-B5F6-48F84DBB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7272A-FD97-473B-B60B-DAB749E7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55394-AA35-4794-9B63-BFC545EA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41C44-F8DD-4372-9688-C83E0E45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10854-39CE-4CE7-83A4-B0893641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72A0F-2A3A-45DF-B94B-6E024839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76DD4-A263-414D-B694-BB608AC9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9A116-7657-429E-B747-84BE2E39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468EA-8BEB-4305-9313-F62A57D7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EE5E-9166-462A-B27F-B0E97B41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F216B-78B4-422B-8C81-84F32E42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8A175-EF89-4948-BA76-060437C14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47C26-DB44-4FCC-8F65-5B8873C0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EB7A26-ECA7-405A-83A7-0C561F014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66F310-F361-48E0-87B9-E8653123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08C09B-6FF9-406C-ACBB-EAF8EBD0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772004-68DA-4199-AE21-8059ECC0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F6B84A-205B-40DE-86C6-BB1C09F8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9CD964-0F75-4B31-9342-E670AECE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6B4F08-D9D6-4F28-B967-B663E2CC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238C-EA97-425C-911F-46837A43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5795FB-183A-465A-A9AA-C6222E4E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06566D-56AB-41C4-B429-97CA6CC1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BEE578-0DBE-4990-923E-DBCCAC16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377967-2C72-49B2-B05C-9B8BA165F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EAA4CE-764F-48B7-AF75-D010B55D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8D337-A35D-4F82-BD3B-4AE14A478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05505-70D0-4268-924D-317C510F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66D0E-9940-422B-BAF6-AC6089A1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CD3E0-6695-440D-A0F8-4CA840D4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68BFD-E9E7-4937-883F-65650CA1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4995-E3C9-434F-8260-C2F15223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34F5E-4F49-4F9D-92EE-D3B1CD1C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EFBC2-8A40-4F72-9172-21A7D9AF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D7AB5-4721-40A5-B53A-D6792A2E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07C32-3B3A-4F0F-A7DD-C468B797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951C4-A4ED-4832-8C32-35D5F6C0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E9388-076D-4CD5-A393-367438CE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35E65-D23A-4053-B824-2787A4141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B1D0-D687-4B64-B450-185306EB7F5C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3D84-D50D-44B3-ACDD-EA51E8A1253F}" type="slidenum">
              <a:rPr b="1" lang="ru-RU" sz="1400" spc="-1" strike="noStrike">
                <a:solidFill>
                  <a:srgbClr val="ebddc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5B46-0D93-4828-85C2-8C07BAE3E91F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0C8F-9E27-44BD-964D-D97F21C57105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7253-B8D9-4EF1-9999-39D64E8157AC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C99A-38AD-475B-93D3-5699133352B8}" type="slidenum">
              <a:rPr b="1" lang="ru-RU" sz="1400" spc="-1" strike="noStrike">
                <a:solidFill>
                  <a:srgbClr val="775f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CDCA-CA29-4BDE-BE9D-A0567C560DBB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CF91-C729-41C2-86A1-BA65F678C005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dc3"/>
                </a:solidFill>
                <a:latin typeface="Calibri"/>
              </a:rPr>
              <a:t>СЛОЖНОПОДЧИНЕННЫЕ ПРЕДЛОЖЕНИЯ С НЕСКОЛЬКИМИ ПРИДАТОЧНЫМИ</a:t>
            </a: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9 класс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Определите тип подчинения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Было время, когда из предместья я мечтал по-мальчишески – в дым, что я буду богат и известен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Я спросил сегодня у менялы, что дает за полтумана по рублю, как сказать мне для прекрасной Лалы слово ласковое «люблю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Знаю я, что не цветут там чащи, не звенит лебяжьей шеей рожь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Сочетание союзов при последовательном подчинении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на сказала ему,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то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есл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он болен, надо лечитьс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на сказала ему,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то если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н болен,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надо лечитьс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Спишите, расставьте знаки препинания, составьте схемы.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 И папа прочёл заметку о том что прошлой ночью сейсмическая станция обсерватории отметила в нашем городе небольшие подземные толчки следствие отдалённого землетрясения эпицентр которого расположен на малоазиатском берегу Чёрного моря в Турции где разрушено несколько селений (Катаев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 Зуеву понравился Степан Буков чувством внутреннего достоинства которое присуще людям никогда ничем не поступавшимся ради того чтобы им было легче когда другим трудно (Кожевников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 Звягинцев не мог понять где он находится хотя хорошо знал этот район не раз бывал здесь (Чаковский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 Он [Звягинцев] мучительно старался вспомнить как же выглядели эти места раньше чтобы сориентироваться и определить где расположен завод (Чаковский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Перестань говорить тотчас же когда заметишь что раздражаешься сам или тот с кем говоришь. (Л. Толстой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 Долго было слышно как он шагал туда где светится огонёк чтобы поведать чужим людям о своём счастье. (А. Чехов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7. Человек одарён  разумом и творческой силой чтобы приумножить то что ему дано. (А. Чехов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8. Старик вернулся и заявил что кажется придумал как перебраться на другой берег незамеченным. (В.Арсеньев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9. Мне казалось что нужно иметь колоссальный запас знания чтобы по компасу и звёздам определить в какой части обширнейшего океана находится наше судно. (А. Новиков-Прибой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0.По узкой тропинке мы взобрались на площадку где ожидал нас Грушницкий с драгунским капитаном и другим своим секундантом которого звали Иваном Игнатьевичем. (М. Лермонтов.)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Домашняя работа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§ 28 упр 169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Орфографическая работ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Хр..нить с..мейные тр..диции, таинстве..ая прел..сть, в..теран войны, весе..ий к..рнавал, райо..ый ф..стиваль, ю..ые т..аланты, кожа..ый ч..модан, стекля..ая в..трина, ветря..ой двигатель, будущие пок..ления, ветр..ная погода, соб..рать стари..ые монеты, пря..ая зел..нь, гости..ый двор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Расставить знаки препинания, подчеркнуть грамматические основ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Виктор попросился в забойщики потому что слышал что это самая почетная профессия на шахт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Последовательное подчинение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[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]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, (потому что …), (что…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Выгнутая вверх стрелка 4"/>
          <p:cNvSpPr/>
          <p:nvPr/>
        </p:nvSpPr>
        <p:spPr>
          <a:xfrm>
            <a:off x="1258920" y="1700280"/>
            <a:ext cx="2736720" cy="649080"/>
          </a:xfrm>
          <a:custGeom>
            <a:avLst/>
            <a:gdLst>
              <a:gd name="textAreaLeft" fmla="*/ 623160 w 2736720"/>
              <a:gd name="textAreaRight" fmla="*/ 2032560 w 2736720"/>
              <a:gd name="textAreaTop" fmla="*/ 86760 h 649080"/>
              <a:gd name="textAreaBottom" fmla="*/ 562320 h 64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39" hR="21600" stAng="10800000" swAng="5400000"/>
                <a:lnTo>
                  <a:pt x="11121" y="0"/>
                </a:lnTo>
                <a:arcTo wR="9839" hR="21600" stAng="-5400000" swAng="3627233"/>
                <a:lnTo>
                  <a:pt x="21288" y="16200"/>
                </a:lnTo>
                <a:lnTo>
                  <a:pt x="20319" y="21600"/>
                </a:lnTo>
                <a:lnTo>
                  <a:pt x="18726" y="16200"/>
                </a:lnTo>
                <a:lnTo>
                  <a:pt x="19366" y="16200"/>
                </a:lnTo>
                <a:arcTo wR="9839" hR="21600" stAng="-1772767" swAng="-3525028"/>
                <a:lnTo>
                  <a:pt x="10480" y="46"/>
                </a:lnTo>
                <a:arcTo wR="9839" hR="21600" stAng="-5502205" swAng="-5297795"/>
                <a:close/>
              </a:path>
              <a:path fill="darkenLess" w="21600" h="21600">
                <a:moveTo>
                  <a:pt x="0" y="21600"/>
                </a:moveTo>
                <a:arcTo wR="9839" hR="21600" stAng="10800000" swAng="5400000"/>
                <a:lnTo>
                  <a:pt x="9839" y="0"/>
                </a:lnTo>
                <a:arcTo wR="9839" hR="21600" stAng="-5400000" swAng="102205"/>
                <a:lnTo>
                  <a:pt x="10480" y="46"/>
                </a:lnTo>
                <a:arcTo wR="9839" hR="21600" stAng="-5502205" swAng="-5297795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Выгнутая вверх стрелка 5"/>
          <p:cNvSpPr/>
          <p:nvPr/>
        </p:nvSpPr>
        <p:spPr>
          <a:xfrm>
            <a:off x="5148360" y="1773360"/>
            <a:ext cx="1727280" cy="503280"/>
          </a:xfrm>
          <a:custGeom>
            <a:avLst/>
            <a:gdLst>
              <a:gd name="textAreaLeft" fmla="*/ 384480 w 1727280"/>
              <a:gd name="textAreaRight" fmla="*/ 1279800 w 172728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20" hR="21600" stAng="10800000" swAng="5400000"/>
                <a:lnTo>
                  <a:pt x="11193" y="0"/>
                </a:lnTo>
                <a:arcTo wR="9620" hR="21600" stAng="-5400000" swAng="3593846"/>
                <a:lnTo>
                  <a:pt x="21295" y="16200"/>
                </a:lnTo>
                <a:lnTo>
                  <a:pt x="20027" y="21600"/>
                </a:lnTo>
                <a:lnTo>
                  <a:pt x="18148" y="16200"/>
                </a:lnTo>
                <a:lnTo>
                  <a:pt x="18935" y="16200"/>
                </a:lnTo>
                <a:arcTo wR="9620" hR="21600" stAng="-1806154" swAng="-3468306"/>
                <a:lnTo>
                  <a:pt x="10407" y="72"/>
                </a:lnTo>
                <a:arcTo wR="9620" hR="21600" stAng="-5525540" swAng="-5274460"/>
                <a:close/>
              </a:path>
              <a:path fill="darkenLess" w="21600" h="21600">
                <a:moveTo>
                  <a:pt x="0" y="21600"/>
                </a:moveTo>
                <a:arcTo wR="9620" hR="21600" stAng="10800000" swAng="5400000"/>
                <a:lnTo>
                  <a:pt x="9620" y="0"/>
                </a:lnTo>
                <a:arcTo wR="9620" hR="21600" stAng="-5400000" swAng="125540"/>
                <a:lnTo>
                  <a:pt x="10407" y="72"/>
                </a:lnTo>
                <a:arcTo wR="9620" hR="21600" stAng="-5525540" swAng="-527446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Расставить знаки препинания, подчеркнуть грамматические основ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Когда мы пришли отец показал мне окуней и плотиц которых он вылови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Параллельное подчинение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когда …), </a:t>
            </a: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[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]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, (которых …)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Выгнутая вверх стрелка 3"/>
          <p:cNvSpPr/>
          <p:nvPr/>
        </p:nvSpPr>
        <p:spPr>
          <a:xfrm>
            <a:off x="4500720" y="1700280"/>
            <a:ext cx="1871640" cy="576360"/>
          </a:xfrm>
          <a:custGeom>
            <a:avLst/>
            <a:gdLst>
              <a:gd name="textAreaLeft" fmla="*/ 413640 w 1871640"/>
              <a:gd name="textAreaRight" fmla="*/ 1386000 w 187164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53" hR="21600" stAng="10800000" swAng="5400000"/>
                <a:lnTo>
                  <a:pt x="11216" y="0"/>
                </a:lnTo>
                <a:arcTo wR="9553" hR="21600" stAng="-5400000" swAng="3583402"/>
                <a:lnTo>
                  <a:pt x="21297" y="16200"/>
                </a:lnTo>
                <a:lnTo>
                  <a:pt x="19938" y="21600"/>
                </a:lnTo>
                <a:lnTo>
                  <a:pt x="17972" y="16200"/>
                </a:lnTo>
                <a:lnTo>
                  <a:pt x="18803" y="16200"/>
                </a:lnTo>
                <a:arcTo wR="9553" hR="21600" stAng="-1816598" swAng="-3450627"/>
                <a:lnTo>
                  <a:pt x="10385" y="82"/>
                </a:lnTo>
                <a:arcTo wR="9553" hR="21600" stAng="-5532775" swAng="-5267225"/>
                <a:close/>
              </a:path>
              <a:path fill="darkenLess" w="21600" h="21600">
                <a:moveTo>
                  <a:pt x="0" y="21600"/>
                </a:moveTo>
                <a:arcTo wR="9553" hR="21600" stAng="10800000" swAng="5400000"/>
                <a:lnTo>
                  <a:pt x="9553" y="0"/>
                </a:lnTo>
                <a:arcTo wR="9553" hR="21600" stAng="-5400000" swAng="132775"/>
                <a:lnTo>
                  <a:pt x="10385" y="82"/>
                </a:lnTo>
                <a:arcTo wR="9553" hR="21600" stAng="-5532775" swAng="-5267225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Выгнутая влево стрелка 4"/>
          <p:cNvSpPr/>
          <p:nvPr/>
        </p:nvSpPr>
        <p:spPr>
          <a:xfrm rot="5400000">
            <a:off x="2964600" y="1146600"/>
            <a:ext cx="587160" cy="1694160"/>
          </a:xfrm>
          <a:custGeom>
            <a:avLst/>
            <a:gdLst>
              <a:gd name="textAreaLeft" fmla="*/ 78480 w 587160"/>
              <a:gd name="textAreaRight" fmla="*/ 508680 w 587160"/>
              <a:gd name="textAreaTop" fmla="*/ 368280 h 1694160"/>
              <a:gd name="textAreaBottom" fmla="*/ 1252440 h 169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96" stAng="-5400000" swAng="-5400000"/>
                <a:lnTo>
                  <a:pt x="0" y="11269"/>
                </a:lnTo>
                <a:arcTo wR="21600" hR="9396" stAng="10800000" swAng="-3558418"/>
                <a:lnTo>
                  <a:pt x="16200" y="21302"/>
                </a:lnTo>
                <a:lnTo>
                  <a:pt x="21600" y="19728"/>
                </a:lnTo>
                <a:lnTo>
                  <a:pt x="16200" y="17557"/>
                </a:lnTo>
                <a:lnTo>
                  <a:pt x="16200" y="18493"/>
                </a:lnTo>
                <a:arcTo wR="21600" hR="9396" stAng="7241582" swAng="3408718"/>
                <a:lnTo>
                  <a:pt x="108" y="10332"/>
                </a:lnTo>
                <a:arcTo wR="21600" hR="9396" stAng="-10650300" swAng="5250300"/>
                <a:close/>
              </a:path>
              <a:path fill="darkenLess" w="21600" h="21600">
                <a:moveTo>
                  <a:pt x="21600" y="0"/>
                </a:moveTo>
                <a:arcTo wR="21600" hR="9396" stAng="-5400000" swAng="-5400000"/>
                <a:lnTo>
                  <a:pt x="0" y="9396"/>
                </a:lnTo>
                <a:arcTo wR="21600" hR="9396" stAng="10800000" swAng="-149700"/>
                <a:lnTo>
                  <a:pt x="108" y="10332"/>
                </a:lnTo>
                <a:arcTo wR="21600" hR="9396" stAng="-10650300" swAng="52503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Расставить знаки препинания, подчеркнуть грамматические основ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Светлым солнечным утром когда еще вовсю распевали птицы когда еще не просохла роса на тенистых полянках парка весь лагерь пришел провожать Альк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Однородное подчинение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[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,(   когда…), ( когда …), …  </a:t>
            </a: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]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Выгнутая вверх стрелка 3"/>
          <p:cNvSpPr/>
          <p:nvPr/>
        </p:nvSpPr>
        <p:spPr>
          <a:xfrm>
            <a:off x="1332000" y="1844640"/>
            <a:ext cx="1800000" cy="432000"/>
          </a:xfrm>
          <a:custGeom>
            <a:avLst/>
            <a:gdLst>
              <a:gd name="textAreaLeft" fmla="*/ 409320 w 1800000"/>
              <a:gd name="textAreaRight" fmla="*/ 1336680 w 180000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29" hR="21600" stAng="10800000" swAng="5400000"/>
                <a:lnTo>
                  <a:pt x="11125" y="0"/>
                </a:lnTo>
                <a:arcTo wR="9829" hR="21600" stAng="-5400000" swAng="3625658"/>
                <a:lnTo>
                  <a:pt x="21288" y="16200"/>
                </a:lnTo>
                <a:lnTo>
                  <a:pt x="20305" y="21600"/>
                </a:lnTo>
                <a:lnTo>
                  <a:pt x="18698" y="16200"/>
                </a:lnTo>
                <a:lnTo>
                  <a:pt x="19345" y="16200"/>
                </a:lnTo>
                <a:arcTo wR="9829" hR="21600" stAng="-1774342" swAng="-3522332"/>
                <a:lnTo>
                  <a:pt x="10477" y="47"/>
                </a:lnTo>
                <a:arcTo wR="9829" hR="21600" stAng="-5503326" swAng="-5296674"/>
                <a:close/>
              </a:path>
              <a:path fill="darkenLess" w="21600" h="21600">
                <a:moveTo>
                  <a:pt x="0" y="21600"/>
                </a:moveTo>
                <a:arcTo wR="9829" hR="21600" stAng="10800000" swAng="5400000"/>
                <a:lnTo>
                  <a:pt x="9829" y="0"/>
                </a:lnTo>
                <a:arcTo wR="9829" hR="21600" stAng="-5400000" swAng="103326"/>
                <a:lnTo>
                  <a:pt x="10477" y="47"/>
                </a:lnTo>
                <a:arcTo wR="9829" hR="21600" stAng="-5503326" swAng="-5296674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Выгнутая вверх стрелка 4"/>
          <p:cNvSpPr/>
          <p:nvPr/>
        </p:nvSpPr>
        <p:spPr>
          <a:xfrm>
            <a:off x="1403280" y="1700280"/>
            <a:ext cx="4032360" cy="504720"/>
          </a:xfrm>
          <a:custGeom>
            <a:avLst/>
            <a:gdLst>
              <a:gd name="textAreaLeft" fmla="*/ 960840 w 4032360"/>
              <a:gd name="textAreaRight" fmla="*/ 3008520 w 403236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93" hR="21600" stAng="10800000" swAng="5400000"/>
                <a:lnTo>
                  <a:pt x="10969" y="0"/>
                </a:lnTo>
                <a:arcTo wR="10293" hR="21600" stAng="-5400000" swAng="3692980"/>
                <a:lnTo>
                  <a:pt x="21273" y="16200"/>
                </a:lnTo>
                <a:lnTo>
                  <a:pt x="20924" y="21600"/>
                </a:lnTo>
                <a:lnTo>
                  <a:pt x="19921" y="16200"/>
                </a:lnTo>
                <a:lnTo>
                  <a:pt x="20259" y="16200"/>
                </a:lnTo>
                <a:arcTo wR="10293" hR="21600" stAng="-1707020" swAng="-3639161"/>
                <a:lnTo>
                  <a:pt x="10631" y="12"/>
                </a:lnTo>
                <a:arcTo wR="10293" hR="21600" stAng="-5453819" swAng="-5346181"/>
                <a:close/>
              </a:path>
              <a:path fill="darkenLess" w="21600" h="21600">
                <a:moveTo>
                  <a:pt x="0" y="21600"/>
                </a:moveTo>
                <a:arcTo wR="10293" hR="21600" stAng="10800000" swAng="5400000"/>
                <a:lnTo>
                  <a:pt x="10293" y="0"/>
                </a:lnTo>
                <a:arcTo wR="10293" hR="21600" stAng="-5400000" swAng="53819"/>
                <a:lnTo>
                  <a:pt x="10631" y="12"/>
                </a:lnTo>
                <a:arcTo wR="10293" hR="21600" stAng="-5453819" swAng="-5346181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Знаки препинания в СПП с однородным подчинением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лышно было, как в саду шагал садовник и как скрипела его тач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онечка писала, что настроение тяжелое, но чтобы он и них не беспокоил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н раздражителен и когда здоров, и когда бол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Яков встал рано утром, когда солнце еще не палило так жарко и с моря сеяло бодрой свежест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6T16:08:19Z</dcterms:created>
  <dc:creator>User</dc:creator>
  <dc:description/>
  <dc:language>en-US</dc:language>
  <cp:lastModifiedBy>учитель</cp:lastModifiedBy>
  <dcterms:modified xsi:type="dcterms:W3CDTF">2017-05-26T08:30:24Z</dcterms:modified>
  <cp:revision>2</cp:revision>
  <dc:subject/>
  <dc:title>Сложноподчиненные предложения с несколькими придаточными</dc:title>
</cp:coreProperties>
</file>