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8D8-0875-46E2-A9BE-BB6250A5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063-93D7-48BE-8613-2A959665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171-5AC4-49E0-AB9F-964FC06D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4A3-B177-4B0B-A6BD-DC5216A3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2BD4-DEA9-4C3C-A724-675C55BA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2385-E962-4032-BFA4-68091533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5429-A8E0-4A67-85E3-C1E9CC07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6322-E10F-4824-AB61-77E0C9AA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C27A-E0CE-43FE-88C8-AC4DDAF7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7410-52F1-4502-B34D-18F1E5F8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6C1F-06D7-4A4B-96F1-65201DF4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061-3D88-46CA-A001-F6617CDF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BB1E-3EB4-45A3-B975-37A091D9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94C0-D4B4-43BF-9808-241B379C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393D-B092-4BF0-B625-1AFD193C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782E-C47C-4912-9464-C50A8E36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707A-E6D0-4ADB-B231-3ABEA3B9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6E6A0-5372-4610-8607-B47BA87A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78F92-A7EE-4255-9341-6358763C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FA7ED-43F9-468C-B161-F79BE870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09E2B-9C7E-41B7-8981-8D6003E9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419E1-6D3C-4C45-B6D0-ACA63542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3B5-AAA2-4802-8B31-4925B0B1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2DEBE-4042-4F78-93BA-EB91B54E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87CF2-8E59-4653-B86C-9A4CE21E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D88C5-54B2-41B4-9C3D-53C4C335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83E06-C8D3-43FC-B337-458937EF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B5AA0-EFF8-482D-96F3-FDDAD98E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FAD12-A9E1-42D0-A7C1-E7013D7A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6CD03-683F-4184-9A0E-46D945F3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B0F99-2E21-4A9B-8710-488DA98B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06E0E1-A37B-4591-B6BC-A7E990B8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5D2C7-6C7E-4925-AC56-F3BF52B6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E24-8D02-4434-82F0-EF0EA0C6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9FADA-C3D0-45FE-B54F-5A3C8158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0FA6C-8D42-4D31-A6E8-A59CD18A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E8C285-6E50-41D7-B22F-8DB77A94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9EE70-4D60-4AB7-B4D5-CA19CB77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7DA00-824D-4D2C-81BD-98920B9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9A3CA-6D86-4C5E-9BE7-43740370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C7BF8-9E2C-4557-8ED5-D016DE67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95EF9-5604-42B2-A349-5FE4AFCB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7348D-A372-4B9B-AC0B-8C867256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4E1EE-B516-4454-9E0B-DA6FA042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B2E-6C63-45C9-A8F7-D27EC1A5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E9C36-05F8-4777-99AB-39CA85E5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EA57D-413B-4835-B5EA-8DC49CCB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A6789-F958-4D3E-B36B-BAA419CD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E2762-A2A0-4A75-80A3-67D51C13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C5489-0148-40E2-BC72-939E8FC9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0C28D-27A6-42F7-918C-7AAB5CD9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EFE5F-71BF-4D03-9C37-F55885DC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0980D-8578-4DA7-9409-EDA459AE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9B3C9-4111-47B9-95D9-C261479A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DF74A-B9B2-46B5-A5BC-BE2F399B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AF1-5CE6-4C02-AF98-F399B0A4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14520-F67D-4270-AD89-5824AEA4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D52A0-EABA-4C5B-A849-B8750C3C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30BE5-7745-4A01-9F3A-F695D357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7BB21-5163-4EFF-BAC6-C282A4AA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D085-3400-4B6D-9FD5-0D673812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276C7-864A-44F4-A4F4-AC8BB086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2E0C9-DFA6-4517-9BAF-E78E01E4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86802-70E9-430B-905F-CCFC2EBA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E7DF-66E0-41B0-B9BB-5C571526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AA12D-6D9B-4C2F-A4A2-7A09A0CD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708-BAC4-48AA-AD34-87BB24D0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B2CEE-AE00-4E86-B2EE-3EF9F3D3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78BAD-4506-4FE1-868B-85EE274F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C8804-B280-4907-8386-4AEABC36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E09D5-5C0C-4222-8DD4-20A5C03C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532F8B-2388-460C-8B25-FA154D35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16C568-6407-4E8D-9E82-3CDA21F8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F81E2-0804-4B92-9434-B4A51419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509F1-CDF7-46DB-B47D-9CB13F20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B81E1-E607-4400-8AB8-A361A372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0CC4C-9084-484D-B300-0A9FD570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3D6-3A96-459E-8161-91FA240B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E7D38-3E49-442A-B5CC-64395F42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A28DF-B6D1-4CE5-9024-DED2010B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83AC6E-2A31-4CC8-8487-9CDC4C02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D7529-8142-4B29-AC5D-B311ADE5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D253B-54E6-4F6B-AF79-4810954C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27165-A6E6-428D-B0D6-40A847E3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2F30A-6D00-474E-B31E-29EB8BE4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B93D8-9A03-4E3D-A22C-72BA4776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F5401-F1A3-4FEF-A861-62534D9B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3710E-A54E-427D-B9B6-3A41841E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564-624B-4906-AE61-984BBF6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740DA-E770-48FA-B6A3-636F6F7F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BE4EB-E617-4B06-9E7F-73F286A4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CD613-88AC-4191-B5D1-ABBA3C15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FD702-943D-4A4A-9AE7-7603A089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B37C1-B21B-4CD0-8E77-777214FE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580A4-97B8-4F01-A7BF-20283846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F8A43-ECA9-4C3A-988A-78E0FFD4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606C-B318-4434-A613-AEA798AFDD6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A0F1-E89D-4F82-979F-459DD252CA04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371D-D515-4E2C-8BB4-ADE539DB013D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2C3F-9730-4E9D-8CDD-694BD2D2824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E24F-05CB-4AC9-B240-D86615F7A77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5542-87F0-4216-87A8-D52AA5108A2C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0B21-6C05-4D2E-9920-5E028B3C96B9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A2A7-351D-4E73-ADE7-ED246D4F796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СЛОЖНОПОДЧИНЕННЫЕ ПРЕДЛОЖЕНИЯ С НЕСКОЛЬКИМИ ПРИДАТОЧНЫМИ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9 класс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Определите тип подчинен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Было время, когда из предместья я мечтал по-мальчишески – в дым, что я буду богат и известе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Я спросил сегодня у менялы, что дает за полтумана по рублю, как сказать мне для прекрасной Лалы слово ласковое «люблю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Знаю я, что не цветут там чащи, не звенит лебяжьей шеей рож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очетание союзов при последовательном подчинени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а сказала ему,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н болен, надо лечить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а сказала ему,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если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 болен,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надо лечить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пишите, расставьте знаки препинания, составьте схемы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И папа прочёл заметку о том что прошлой ночью сейсмическая станция обсерватории отметила в нашем городе небольшие подземные толчки следствие отдалённого землетрясения эпицентр которого расположен на малоазиатском берегу Чёрного моря в Турции где разрушено несколько селений (Катаев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Зуеву понравился Степан Буков чувством внутреннего достоинства которое присуще людям никогда ничем не поступавшимся ради того чтобы им было легче когда другим трудно (Кожевников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Звягинцев не мог понять где он находится хотя хорошо знал этот район не раз бывал здесь (Чаковский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Он [Звягинцев] мучительно старался вспомнить как же выглядели эти места раньше чтобы сориентироваться и определить где расположен завод (Чаковский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Перестань говорить тотчас же когда заметишь что раздражаешься сам или тот с кем говоришь. (Л. Толстой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Долго было слышно как он шагал туда где светится огонёк чтобы поведать чужим людям о своём счастье. (А. Чехов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Человек одарён  разумом и творческой силой чтобы приумножить то что ему дано. (А. Чехов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Старик вернулся и заявил что кажется придумал как перебраться на другой берег незамеченным. (В.Арсеньев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 Мне казалось что нужно иметь колоссальный запас знания чтобы по компасу и звёздам определить в какой части обширнейшего океана находится наше судно. (А. Новиков-Прибо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.По узкой тропинке мы взобрались на площадку где ожидал нас Грушницкий с драгунским капитаном и другим своим секундантом которого звали Иваном Игнатьевичем. (М. Лермонтов.)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Домашняя работа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§ 28 упр 169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Орфографическая работ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Хр..нить с..мейные тр..диции, таинстве..ая прел..сть, в..теран войны, весе..ий к..рнавал, райо..ый ф..стиваль, ю..ые т..аланты, кожа..ый ч..модан, стекля..ая в..трина, ветря..ой двигатель, будущие пок..ления, ветр..ная погода, соб..рать стари..ые монеты, пря..ая зел..нь, гости..ый дво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Расставить знаки препинания, подчеркнуть грамматические основ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иктор попросился в забойщики потому что слышал что это самая почетная профессия на шах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оследовательное подчин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[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]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(потому что …), (что…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Выгнутая вверх стрелка 4"/>
          <p:cNvSpPr/>
          <p:nvPr/>
        </p:nvSpPr>
        <p:spPr>
          <a:xfrm>
            <a:off x="1258920" y="1700280"/>
            <a:ext cx="2736720" cy="649080"/>
          </a:xfrm>
          <a:custGeom>
            <a:avLst/>
            <a:gdLst>
              <a:gd name="textAreaLeft" fmla="*/ 623160 w 2736720"/>
              <a:gd name="textAreaRight" fmla="*/ 2032560 w 2736720"/>
              <a:gd name="textAreaTop" fmla="*/ 86760 h 649080"/>
              <a:gd name="textAreaBottom" fmla="*/ 562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39" hR="21600" stAng="10800000" swAng="5400000"/>
                <a:lnTo>
                  <a:pt x="11121" y="0"/>
                </a:lnTo>
                <a:arcTo wR="9839" hR="21600" stAng="-5400000" swAng="3627233"/>
                <a:lnTo>
                  <a:pt x="21288" y="16200"/>
                </a:lnTo>
                <a:lnTo>
                  <a:pt x="20319" y="21600"/>
                </a:lnTo>
                <a:lnTo>
                  <a:pt x="18726" y="16200"/>
                </a:lnTo>
                <a:lnTo>
                  <a:pt x="19366" y="16200"/>
                </a:lnTo>
                <a:arcTo wR="9839" hR="21600" stAng="-1772767" swAng="-3525028"/>
                <a:lnTo>
                  <a:pt x="10480" y="46"/>
                </a:lnTo>
                <a:arcTo wR="9839" hR="21600" stAng="-5502205" swAng="-5297795"/>
                <a:close/>
              </a:path>
              <a:path fill="darkenLess" w="21600" h="21600">
                <a:moveTo>
                  <a:pt x="0" y="21600"/>
                </a:moveTo>
                <a:arcTo wR="9839" hR="21600" stAng="10800000" swAng="5400000"/>
                <a:lnTo>
                  <a:pt x="9839" y="0"/>
                </a:lnTo>
                <a:arcTo wR="9839" hR="21600" stAng="-5400000" swAng="102205"/>
                <a:lnTo>
                  <a:pt x="10480" y="46"/>
                </a:lnTo>
                <a:arcTo wR="9839" hR="21600" stAng="-5502205" swAng="-5297795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Выгнутая вверх стрелка 5"/>
          <p:cNvSpPr/>
          <p:nvPr/>
        </p:nvSpPr>
        <p:spPr>
          <a:xfrm>
            <a:off x="5148360" y="1773360"/>
            <a:ext cx="1727280" cy="503280"/>
          </a:xfrm>
          <a:custGeom>
            <a:avLst/>
            <a:gdLst>
              <a:gd name="textAreaLeft" fmla="*/ 384480 w 1727280"/>
              <a:gd name="textAreaRight" fmla="*/ 1279800 w 172728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20" hR="21600" stAng="10800000" swAng="5400000"/>
                <a:lnTo>
                  <a:pt x="11193" y="0"/>
                </a:lnTo>
                <a:arcTo wR="9620" hR="21600" stAng="-5400000" swAng="3593846"/>
                <a:lnTo>
                  <a:pt x="21295" y="16200"/>
                </a:lnTo>
                <a:lnTo>
                  <a:pt x="20027" y="21600"/>
                </a:lnTo>
                <a:lnTo>
                  <a:pt x="18148" y="16200"/>
                </a:lnTo>
                <a:lnTo>
                  <a:pt x="18935" y="16200"/>
                </a:lnTo>
                <a:arcTo wR="9620" hR="21600" stAng="-1806154" swAng="-3468306"/>
                <a:lnTo>
                  <a:pt x="10407" y="72"/>
                </a:lnTo>
                <a:arcTo wR="9620" hR="21600" stAng="-5525540" swAng="-5274460"/>
                <a:close/>
              </a:path>
              <a:path fill="darkenLess" w="21600" h="21600">
                <a:moveTo>
                  <a:pt x="0" y="21600"/>
                </a:moveTo>
                <a:arcTo wR="9620" hR="21600" stAng="10800000" swAng="5400000"/>
                <a:lnTo>
                  <a:pt x="9620" y="0"/>
                </a:lnTo>
                <a:arcTo wR="9620" hR="21600" stAng="-5400000" swAng="125540"/>
                <a:lnTo>
                  <a:pt x="10407" y="72"/>
                </a:lnTo>
                <a:arcTo wR="9620" hR="21600" stAng="-5525540" swAng="-527446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Расставить знаки препинания, подчеркнуть грамматические основ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огда мы пришли отец показал мне окуней и плотиц которых он вылови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араллельное подчин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когда …), 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]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(которых …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Выгнутая вверх стрелка 3"/>
          <p:cNvSpPr/>
          <p:nvPr/>
        </p:nvSpPr>
        <p:spPr>
          <a:xfrm>
            <a:off x="4500720" y="1700280"/>
            <a:ext cx="1871640" cy="576360"/>
          </a:xfrm>
          <a:custGeom>
            <a:avLst/>
            <a:gdLst>
              <a:gd name="textAreaLeft" fmla="*/ 413640 w 1871640"/>
              <a:gd name="textAreaRight" fmla="*/ 1386000 w 1871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53" hR="21600" stAng="10800000" swAng="5400000"/>
                <a:lnTo>
                  <a:pt x="11216" y="0"/>
                </a:lnTo>
                <a:arcTo wR="9553" hR="21600" stAng="-5400000" swAng="3583402"/>
                <a:lnTo>
                  <a:pt x="21297" y="16200"/>
                </a:lnTo>
                <a:lnTo>
                  <a:pt x="19938" y="21600"/>
                </a:lnTo>
                <a:lnTo>
                  <a:pt x="17972" y="16200"/>
                </a:lnTo>
                <a:lnTo>
                  <a:pt x="18803" y="16200"/>
                </a:lnTo>
                <a:arcTo wR="9553" hR="21600" stAng="-1816598" swAng="-3450627"/>
                <a:lnTo>
                  <a:pt x="10385" y="82"/>
                </a:lnTo>
                <a:arcTo wR="9553" hR="21600" stAng="-5532775" swAng="-5267225"/>
                <a:close/>
              </a:path>
              <a:path fill="darkenLess" w="21600" h="21600">
                <a:moveTo>
                  <a:pt x="0" y="21600"/>
                </a:moveTo>
                <a:arcTo wR="9553" hR="21600" stAng="10800000" swAng="5400000"/>
                <a:lnTo>
                  <a:pt x="9553" y="0"/>
                </a:lnTo>
                <a:arcTo wR="9553" hR="21600" stAng="-5400000" swAng="132775"/>
                <a:lnTo>
                  <a:pt x="10385" y="82"/>
                </a:lnTo>
                <a:arcTo wR="9553" hR="21600" stAng="-5532775" swAng="-5267225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ыгнутая влево стрелка 4"/>
          <p:cNvSpPr/>
          <p:nvPr/>
        </p:nvSpPr>
        <p:spPr>
          <a:xfrm rot="5400000">
            <a:off x="2964600" y="1146600"/>
            <a:ext cx="587160" cy="1694160"/>
          </a:xfrm>
          <a:custGeom>
            <a:avLst/>
            <a:gdLst>
              <a:gd name="textAreaLeft" fmla="*/ 78480 w 587160"/>
              <a:gd name="textAreaRight" fmla="*/ 508680 w 587160"/>
              <a:gd name="textAreaTop" fmla="*/ 368280 h 1694160"/>
              <a:gd name="textAreaBottom" fmla="*/ 1252440 h 16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6" stAng="-5400000" swAng="-5400000"/>
                <a:lnTo>
                  <a:pt x="0" y="11269"/>
                </a:lnTo>
                <a:arcTo wR="21600" hR="9396" stAng="10800000" swAng="-3558418"/>
                <a:lnTo>
                  <a:pt x="16200" y="21302"/>
                </a:lnTo>
                <a:lnTo>
                  <a:pt x="21600" y="19728"/>
                </a:lnTo>
                <a:lnTo>
                  <a:pt x="16200" y="17557"/>
                </a:lnTo>
                <a:lnTo>
                  <a:pt x="16200" y="18493"/>
                </a:lnTo>
                <a:arcTo wR="21600" hR="9396" stAng="7241582" swAng="3408718"/>
                <a:lnTo>
                  <a:pt x="108" y="10332"/>
                </a:lnTo>
                <a:arcTo wR="21600" hR="9396" stAng="-10650300" swAng="5250300"/>
                <a:close/>
              </a:path>
              <a:path fill="darkenLess" w="21600" h="21600">
                <a:moveTo>
                  <a:pt x="21600" y="0"/>
                </a:moveTo>
                <a:arcTo wR="21600" hR="9396" stAng="-5400000" swAng="-5400000"/>
                <a:lnTo>
                  <a:pt x="0" y="9396"/>
                </a:lnTo>
                <a:arcTo wR="21600" hR="9396" stAng="10800000" swAng="-149700"/>
                <a:lnTo>
                  <a:pt x="108" y="10332"/>
                </a:lnTo>
                <a:arcTo wR="21600" hR="9396" stAng="-10650300" swAng="52503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Расставить знаки препинания, подчеркнуть грамматические основ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ветлым солнечным утром когда еще вовсю распевали птицы когда еще не просохла роса на тенистых полянках парка весь лагерь пришел провожать Аль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Однородное подчин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,(   когда…), ( когда …), …  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]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Выгнутая вверх стрелка 3"/>
          <p:cNvSpPr/>
          <p:nvPr/>
        </p:nvSpPr>
        <p:spPr>
          <a:xfrm>
            <a:off x="1332000" y="1844640"/>
            <a:ext cx="1800000" cy="432000"/>
          </a:xfrm>
          <a:custGeom>
            <a:avLst/>
            <a:gdLst>
              <a:gd name="textAreaLeft" fmla="*/ 409320 w 1800000"/>
              <a:gd name="textAreaRight" fmla="*/ 1336680 w 1800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9" hR="21600" stAng="10800000" swAng="5400000"/>
                <a:lnTo>
                  <a:pt x="11125" y="0"/>
                </a:lnTo>
                <a:arcTo wR="9829" hR="21600" stAng="-5400000" swAng="3625658"/>
                <a:lnTo>
                  <a:pt x="21288" y="16200"/>
                </a:lnTo>
                <a:lnTo>
                  <a:pt x="20305" y="21600"/>
                </a:lnTo>
                <a:lnTo>
                  <a:pt x="18698" y="16200"/>
                </a:lnTo>
                <a:lnTo>
                  <a:pt x="19345" y="16200"/>
                </a:lnTo>
                <a:arcTo wR="9829" hR="21600" stAng="-1774342" swAng="-3522332"/>
                <a:lnTo>
                  <a:pt x="10477" y="47"/>
                </a:lnTo>
                <a:arcTo wR="9829" hR="21600" stAng="-5503326" swAng="-5296674"/>
                <a:close/>
              </a:path>
              <a:path fill="darkenLess" w="21600" h="21600">
                <a:moveTo>
                  <a:pt x="0" y="21600"/>
                </a:moveTo>
                <a:arcTo wR="9829" hR="21600" stAng="10800000" swAng="5400000"/>
                <a:lnTo>
                  <a:pt x="9829" y="0"/>
                </a:lnTo>
                <a:arcTo wR="9829" hR="21600" stAng="-5400000" swAng="103326"/>
                <a:lnTo>
                  <a:pt x="10477" y="47"/>
                </a:lnTo>
                <a:arcTo wR="9829" hR="21600" stAng="-5503326" swAng="-5296674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Выгнутая вверх стрелка 4"/>
          <p:cNvSpPr/>
          <p:nvPr/>
        </p:nvSpPr>
        <p:spPr>
          <a:xfrm>
            <a:off x="1403280" y="1700280"/>
            <a:ext cx="4032360" cy="504720"/>
          </a:xfrm>
          <a:custGeom>
            <a:avLst/>
            <a:gdLst>
              <a:gd name="textAreaLeft" fmla="*/ 960840 w 4032360"/>
              <a:gd name="textAreaRight" fmla="*/ 3008520 w 403236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93" hR="21600" stAng="10800000" swAng="5400000"/>
                <a:lnTo>
                  <a:pt x="10969" y="0"/>
                </a:lnTo>
                <a:arcTo wR="10293" hR="21600" stAng="-5400000" swAng="3692980"/>
                <a:lnTo>
                  <a:pt x="21273" y="16200"/>
                </a:lnTo>
                <a:lnTo>
                  <a:pt x="20924" y="21600"/>
                </a:lnTo>
                <a:lnTo>
                  <a:pt x="19921" y="16200"/>
                </a:lnTo>
                <a:lnTo>
                  <a:pt x="20259" y="16200"/>
                </a:lnTo>
                <a:arcTo wR="10293" hR="21600" stAng="-1707020" swAng="-3639161"/>
                <a:lnTo>
                  <a:pt x="10631" y="12"/>
                </a:lnTo>
                <a:arcTo wR="10293" hR="21600" stAng="-5453819" swAng="-5346181"/>
                <a:close/>
              </a:path>
              <a:path fill="darkenLess" w="21600" h="21600">
                <a:moveTo>
                  <a:pt x="0" y="21600"/>
                </a:moveTo>
                <a:arcTo wR="10293" hR="21600" stAng="10800000" swAng="5400000"/>
                <a:lnTo>
                  <a:pt x="10293" y="0"/>
                </a:lnTo>
                <a:arcTo wR="10293" hR="21600" stAng="-5400000" swAng="53819"/>
                <a:lnTo>
                  <a:pt x="10631" y="12"/>
                </a:lnTo>
                <a:arcTo wR="10293" hR="21600" stAng="-5453819" swAng="-5346181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Знаки препинания в СПП с однородным подчинением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лышно было, как в саду шагал садовник и как скрипела его та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нечка писала, что настроение тяжелое, но чтобы он и них не беспокои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н раздражителен и когда здоров, и когда бол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Яков встал рано утром, когда солнце еще не палило так жарко и с моря сеяло бодрой свеже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16:08:19Z</dcterms:created>
  <dc:creator>User</dc:creator>
  <dc:description/>
  <dc:language>en-US</dc:language>
  <cp:lastModifiedBy>учитель</cp:lastModifiedBy>
  <dcterms:modified xsi:type="dcterms:W3CDTF">2017-05-26T08:30:24Z</dcterms:modified>
  <cp:revision>2</cp:revision>
  <dc:subject/>
  <dc:title>Сложноподчиненные предложения с несколькими придаточными</dc:title>
</cp:coreProperties>
</file>