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9.gif" ContentType="image/gif"/>
  <Override PartName="/ppt/media/image12.gif" ContentType="image/gif"/>
  <Override PartName="/ppt/media/image3.jpeg" ContentType="image/jpeg"/>
  <Override PartName="/ppt/media/image7.gif" ContentType="image/gif"/>
  <Override PartName="/ppt/media/image5.jpeg" ContentType="image/jpeg"/>
  <Override PartName="/ppt/media/image6.jpeg" ContentType="image/jpeg"/>
  <Override PartName="/ppt/media/image11.gif" ContentType="image/gif"/>
  <Override PartName="/ppt/media/image20.jpeg" ContentType="image/jpeg"/>
  <Override PartName="/ppt/media/image14.gif" ContentType="image/gif"/>
  <Override PartName="/ppt/media/image19.jpeg" ContentType="image/jpeg"/>
  <Override PartName="/ppt/media/image1.jpeg" ContentType="image/jpeg"/>
  <Override PartName="/ppt/media/image17.jpeg" ContentType="image/jpeg"/>
  <Override PartName="/ppt/media/image21.png" ContentType="image/png"/>
  <Override PartName="/ppt/media/image16.gif" ContentType="image/gif"/>
  <Override PartName="/ppt/media/image15.gif" ContentType="image/gif"/>
  <Override PartName="/ppt/media/image2.wmf" ContentType="image/x-wmf"/>
  <Override PartName="/ppt/media/image4.jpeg" ContentType="image/jpeg"/>
  <Override PartName="/ppt/media/image13.gif" ContentType="image/gif"/>
  <Override PartName="/ppt/media/image8.gif" ContentType="image/gif"/>
  <Override PartName="/ppt/media/image1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041-E84C-485C-BCC6-1E72417D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4F72-4F42-4A5B-8375-7E780A47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AF76-5C14-4205-A86D-D9A7EB4E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2397-98BF-4853-9204-81664FCC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5456-3EAE-4156-82AB-2F62FBF0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709A-BFA5-4AE0-B4B6-ED65B429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6412-E479-4653-8EA1-EEA104EA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6AAD-E650-41CA-AA88-41EF4D82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9715-E995-4AFC-B58B-AD738BB8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155E-7691-42C0-8ED6-3D0D64FD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29AC-F526-4E96-B679-C0A0AC61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5831-5D17-479F-BD2E-778E4A57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0EDB-0556-4761-AA74-9EA79D1A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AB1C-8021-451A-B541-3C4F013E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AABD-8E35-48BD-B226-68BFF970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446E-921E-4EFD-B2A3-A14A21B9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4568-C246-4597-8419-B6315B57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CCE95-2EBA-4788-A680-DE6A730C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992C0-9A2E-4307-8ECD-EF91830C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04F5A-93D3-42A5-B949-23FC2BCE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479B5-72F0-4547-B1D4-8C1A2242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64A30-9B33-4290-AA96-2593BB62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11D4-211B-49DE-BE97-6FA975C0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03B38-8C75-475D-AB24-E3A616A6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5A176-0FA9-4402-BBFB-DC3C96A4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03B2D-64F8-4903-B812-BA1E44C8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7C6D9-F923-4DB3-8447-824221C2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2B1F2-311A-4D46-A096-B1657D3E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D9B91-D6B4-4AAB-A79F-FAC4828D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1A855-1D64-4609-B65E-1FC942FC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AA4B-1065-4419-832B-86051E3F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F584-E21D-417E-A9CF-9A65C75D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D4E8-0070-4FCD-B59E-86D2693D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F261-2F9E-413F-8343-757C800B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6312-62AC-4703-9FB9-110CEB63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F366-B4D2-4805-A905-3E748001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2ECE-2F3D-4FEE-8159-3C64B13D83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F1FC-D9D6-4CC4-84B1-35407C721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EC82-7423-42AE-98ED-8329D55A1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Суд над математик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:\Users\АЗАТ\Desktop\83982.gif"/>
          <p:cNvPicPr/>
          <p:nvPr/>
        </p:nvPicPr>
        <p:blipFill>
          <a:blip r:embed="rId1"/>
          <a:stretch/>
        </p:blipFill>
        <p:spPr>
          <a:xfrm>
            <a:off x="7956720" y="4941720"/>
            <a:ext cx="876240" cy="1447920"/>
          </a:xfrm>
          <a:prstGeom prst="rect">
            <a:avLst/>
          </a:prstGeom>
          <a:ln w="0">
            <a:noFill/>
          </a:ln>
        </p:spPr>
      </p:pic>
      <p:sp>
        <p:nvSpPr>
          <p:cNvPr id="169" name="TextBox 4"/>
          <p:cNvSpPr/>
          <p:nvPr/>
        </p:nvSpPr>
        <p:spPr>
          <a:xfrm>
            <a:off x="468360" y="54936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очка 10 раз дернул за косичку Машу, 5 раз - Дашу, 7 раз - Клаву и 1 раз, по ошибке, - учителя математики. Спрашивается: сколько раз дергал Вовочка за косички и что теперь буде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4572000" y="2060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3, родители – к заву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468360" y="285264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на сделала в диктанте 12 ошибок, а Гриша , который у нее все списал, - 32 ошибки. Сколько своих собственных ошибок в диктанте у Гриш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7596360" y="4076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468360" y="4653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дырок окажется в клеенке, если во время обеда 12 раз проткнуть ее вилкой с 4 зубчик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7667640" y="5373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0" descr="http://klub-drug.ru/wp-content/uploads/2011/04/98.gif"/>
          <p:cNvPicPr/>
          <p:nvPr/>
        </p:nvPicPr>
        <p:blipFill>
          <a:blip r:embed="rId2"/>
          <a:stretch/>
        </p:blipFill>
        <p:spPr>
          <a:xfrm>
            <a:off x="1547640" y="5634000"/>
            <a:ext cx="936720" cy="1171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http://klub-drug.ru/wp-content/uploads/2011/04/100.gif"/>
          <p:cNvPicPr/>
          <p:nvPr/>
        </p:nvPicPr>
        <p:blipFill>
          <a:blip r:embed="rId3"/>
          <a:stretch/>
        </p:blipFill>
        <p:spPr>
          <a:xfrm>
            <a:off x="484200" y="5668920"/>
            <a:ext cx="1015920" cy="1000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http://klub-drug.ru/wp-content/uploads/2011/04/101.gif"/>
          <p:cNvPicPr/>
          <p:nvPr/>
        </p:nvPicPr>
        <p:blipFill>
          <a:blip r:embed="rId4"/>
          <a:stretch/>
        </p:blipFill>
        <p:spPr>
          <a:xfrm>
            <a:off x="2700360" y="5718240"/>
            <a:ext cx="934920" cy="950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C:\Users\АЗАТ\Desktop\83982.gif"/>
          <p:cNvPicPr/>
          <p:nvPr/>
        </p:nvPicPr>
        <p:blipFill>
          <a:blip r:embed="rId1"/>
          <a:stretch/>
        </p:blipFill>
        <p:spPr>
          <a:xfrm>
            <a:off x="7956720" y="4941720"/>
            <a:ext cx="876240" cy="1447920"/>
          </a:xfrm>
          <a:prstGeom prst="rect">
            <a:avLst/>
          </a:prstGeom>
          <a:ln w="0">
            <a:noFill/>
          </a:ln>
        </p:spPr>
      </p:pic>
      <p:sp>
        <p:nvSpPr>
          <p:cNvPr id="179" name="TextBox 5"/>
          <p:cNvSpPr/>
          <p:nvPr/>
        </p:nvSpPr>
        <p:spPr>
          <a:xfrm>
            <a:off x="395280" y="62064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бабушек пришли на именины к одному дедушке. Каждая бабушка принесла в подарок по 2 расчески. Сколько расчесок получил от бабушек совершенно лысый именинни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7380360" y="184464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395280" y="25653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, баба, внучка, Жучка, кошка и мышка тянули-тянули репку и, наконец, вытянули. Сколько глаз смотрело на репк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6875640" y="3500280"/>
            <a:ext cx="144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 глаз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468360" y="407664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ушка вязала внукам шарфы и варежки. Всего она связала 3 шарфа и 6 варежек. Сколько внуков у бабушк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6804000" y="4941720"/>
            <a:ext cx="18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вну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http://klub-drug.ru/wp-content/uploads/2011/04/61444841.gif"/>
          <p:cNvPicPr/>
          <p:nvPr/>
        </p:nvPicPr>
        <p:blipFill>
          <a:blip r:embed="rId2"/>
          <a:stretch/>
        </p:blipFill>
        <p:spPr>
          <a:xfrm>
            <a:off x="971640" y="4965840"/>
            <a:ext cx="1935000" cy="145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3"/>
          <p:cNvSpPr/>
          <p:nvPr/>
        </p:nvSpPr>
        <p:spPr>
          <a:xfrm>
            <a:off x="395280" y="549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е 4 года, брату 6 лет. Сколько лет будет брату, когда сестре исполнится 6 ле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7164360" y="1268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395280" y="191628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столовой, где обедали лыжники, пришедшие из похода, стояли 20 лыж, а в снег было воткнуто 20 палок. Сколько лыжников ходило в поход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6012000" y="3068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 лыж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468360" y="364500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знец подковал тройку лошадей. Сколько подков пришлось ему сделат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6551640" y="4292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 под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C:\Users\АЗАТ\Desktop\83982.gif"/>
          <p:cNvPicPr/>
          <p:nvPr/>
        </p:nvPicPr>
        <p:blipFill>
          <a:blip r:embed="rId1"/>
          <a:stretch/>
        </p:blipFill>
        <p:spPr>
          <a:xfrm>
            <a:off x="7956720" y="4941720"/>
            <a:ext cx="876240" cy="14479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0"/>
          <p:cNvSpPr/>
          <p:nvPr/>
        </p:nvSpPr>
        <p:spPr>
          <a:xfrm>
            <a:off x="468360" y="472428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бабушки Даши внучка Маша, кот Пушок, да пёс Дружок. Сколько у бабушки внук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4500720" y="5445000"/>
            <a:ext cx="41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, остальные 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2" descr="http://klub-drug.ru/wp-content/uploads/2011/04/51470012.gif"/>
          <p:cNvPicPr/>
          <p:nvPr/>
        </p:nvPicPr>
        <p:blipFill>
          <a:blip r:embed="rId2"/>
          <a:stretch/>
        </p:blipFill>
        <p:spPr>
          <a:xfrm>
            <a:off x="163440" y="5445000"/>
            <a:ext cx="1160640" cy="944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C:\Users\АЗАТ\Desktop\83982.gif"/>
          <p:cNvPicPr/>
          <p:nvPr/>
        </p:nvPicPr>
        <p:blipFill>
          <a:blip r:embed="rId1"/>
          <a:stretch/>
        </p:blipFill>
        <p:spPr>
          <a:xfrm>
            <a:off x="285840" y="5229360"/>
            <a:ext cx="876240" cy="14475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611280" y="33336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ерезе росло 50 яблок. Подул сильный ветер, и 10 яблок упало. Сколько осталось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4284720" y="1052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березе не растут ябл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6"/>
          <p:cNvSpPr/>
          <p:nvPr/>
        </p:nvSpPr>
        <p:spPr>
          <a:xfrm>
            <a:off x="611280" y="162864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месяцев в году имеют 28 дне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7"/>
          <p:cNvSpPr/>
          <p:nvPr/>
        </p:nvSpPr>
        <p:spPr>
          <a:xfrm>
            <a:off x="395280" y="206064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 12, в месяце 30 дней, то и 28 дней среди них 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611280" y="263700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оле лежало 4 яблока. Одно из них разрезали пополам и положили на стол. Сколько яблок на сто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9"/>
          <p:cNvSpPr/>
          <p:nvPr/>
        </p:nvSpPr>
        <p:spPr>
          <a:xfrm>
            <a:off x="8028000" y="3500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611280" y="39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парикмахер в Женеве скорее предпочтёт постричь двух французов, чем одного немц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1"/>
          <p:cNvSpPr/>
          <p:nvPr/>
        </p:nvSpPr>
        <p:spPr>
          <a:xfrm>
            <a:off x="1187280" y="486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тому что заработает на них вдвое 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2" descr="http://klub-drug.ru/wp-content/uploads/2011/04/95889810.gif"/>
          <p:cNvPicPr/>
          <p:nvPr/>
        </p:nvPicPr>
        <p:blipFill>
          <a:blip r:embed="rId2"/>
          <a:stretch/>
        </p:blipFill>
        <p:spPr>
          <a:xfrm>
            <a:off x="7812000" y="5173560"/>
            <a:ext cx="1003320" cy="120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3" descr="img-87390.jpeg"/>
          <p:cNvPicPr/>
          <p:nvPr/>
        </p:nvPicPr>
        <p:blipFill>
          <a:blip r:embed="rId1"/>
          <a:stretch/>
        </p:blipFill>
        <p:spPr>
          <a:xfrm>
            <a:off x="2411280" y="1341360"/>
            <a:ext cx="5532480" cy="414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Содержимое 5" descr="information_items_324.jpg"/>
          <p:cNvPicPr/>
          <p:nvPr/>
        </p:nvPicPr>
        <p:blipFill>
          <a:blip r:embed="rId1"/>
          <a:stretch/>
        </p:blipFill>
        <p:spPr>
          <a:xfrm>
            <a:off x="1979640" y="1413000"/>
            <a:ext cx="5916600" cy="443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Содержимое 3" descr="fedbc4c3eddf40c56cdb695d27d.jpg"/>
          <p:cNvPicPr/>
          <p:nvPr/>
        </p:nvPicPr>
        <p:blipFill>
          <a:blip r:embed="rId1"/>
          <a:stretch/>
        </p:blipFill>
        <p:spPr>
          <a:xfrm>
            <a:off x="2411280" y="1341360"/>
            <a:ext cx="5819760" cy="436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Содержимое 3" descr="TYtYWYwOS.jpg"/>
          <p:cNvPicPr/>
          <p:nvPr/>
        </p:nvPicPr>
        <p:blipFill>
          <a:blip r:embed="rId1"/>
          <a:stretch/>
        </p:blipFill>
        <p:spPr>
          <a:xfrm>
            <a:off x="2195640" y="1628640"/>
            <a:ext cx="5340240" cy="4005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Содержимое 5" descr="Безымянный.png"/>
          <p:cNvPicPr/>
          <p:nvPr/>
        </p:nvPicPr>
        <p:blipFill>
          <a:blip r:embed="rId1"/>
          <a:stretch/>
        </p:blipFill>
        <p:spPr>
          <a:xfrm>
            <a:off x="2268360" y="1700280"/>
            <a:ext cx="4954680" cy="3717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1523880" y="182880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ttp://static6.depositphotos.com/1000126/578/v/950/depositphotos_5785638-Builder-man-with-derby-tool-building-a-brick-wall.jpg"/>
          <p:cNvPicPr/>
          <p:nvPr/>
        </p:nvPicPr>
        <p:blipFill>
          <a:blip r:embed="rId1"/>
          <a:stretch/>
        </p:blipFill>
        <p:spPr>
          <a:xfrm>
            <a:off x="971640" y="1978200"/>
            <a:ext cx="6156360" cy="458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m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m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m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http://cdn.imgbb.ru/user/21/211914/c6fbe93fe4a853d1237d0599a5f90e0a.jpg"/>
          <p:cNvPicPr/>
          <p:nvPr/>
        </p:nvPicPr>
        <p:blipFill>
          <a:blip r:embed="rId1"/>
          <a:stretch/>
        </p:blipFill>
        <p:spPr>
          <a:xfrm>
            <a:off x="826920" y="549360"/>
            <a:ext cx="5940720" cy="4452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m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http://static7.depositphotos.com/1206014/691/i/950/depositphotos_6919407-The-man-the-bookkeeper-counts-money.jpg"/>
          <p:cNvPicPr/>
          <p:nvPr/>
        </p:nvPicPr>
        <p:blipFill>
          <a:blip r:embed="rId1"/>
          <a:stretch/>
        </p:blipFill>
        <p:spPr>
          <a:xfrm>
            <a:off x="1079640" y="352440"/>
            <a:ext cx="3949560" cy="29383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"/>
          <p:cNvSpPr/>
          <p:nvPr/>
        </p:nvSpPr>
        <p:spPr>
          <a:xfrm>
            <a:off x="487440" y="343080"/>
            <a:ext cx="11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7380360" y="343080"/>
            <a:ext cx="143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755640" y="566100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https://im3-tub-ru.yandex.net/i?id=3d880d3fc3ab8f241262989e0a1786bc&amp;n=33&amp;h=190&amp;w=285"/>
          <p:cNvPicPr/>
          <p:nvPr/>
        </p:nvPicPr>
        <p:blipFill>
          <a:blip r:embed="rId2"/>
          <a:stretch/>
        </p:blipFill>
        <p:spPr>
          <a:xfrm>
            <a:off x="5027760" y="3798720"/>
            <a:ext cx="3622680" cy="2416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85016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нимательные задач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8360" y="40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Коля и Толя были маленькими, они часто пугались, и от страха у них по спинам мурашки бегали. У Коли по спине бегало 27 мурашек, а у Толи - на 3 мурашки больше. Сколько всего мурашек бегало у Коли и Толи по спинам, когда они были маленькими и часто пуга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7308720" y="2349360"/>
            <a:ext cx="5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2"/>
          <p:cNvSpPr/>
          <p:nvPr/>
        </p:nvSpPr>
        <p:spPr>
          <a:xfrm>
            <a:off x="826920" y="2997360"/>
            <a:ext cx="756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я свой дневник с двойками закопал на глубину 5 метров, а Толя закопал свой дневник на глубину 12 метров. Насколько метров глубже закопал свой дневник с двойками Тол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6948360" y="443700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7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4"/>
          <p:cNvSpPr/>
          <p:nvPr/>
        </p:nvSpPr>
        <p:spPr>
          <a:xfrm>
            <a:off x="900000" y="5300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ушей у пяти малыше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5"/>
          <p:cNvSpPr/>
          <p:nvPr/>
        </p:nvSpPr>
        <p:spPr>
          <a:xfrm>
            <a:off x="7020000" y="5877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C:\Users\АЗАТ\Desktop\83982.gif"/>
          <p:cNvPicPr/>
          <p:nvPr/>
        </p:nvPicPr>
        <p:blipFill>
          <a:blip r:embed="rId1"/>
          <a:stretch/>
        </p:blipFill>
        <p:spPr>
          <a:xfrm>
            <a:off x="7956720" y="4941720"/>
            <a:ext cx="876240" cy="1447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3"/>
          <p:cNvSpPr/>
          <p:nvPr/>
        </p:nvSpPr>
        <p:spPr>
          <a:xfrm>
            <a:off x="826920" y="47628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ушек у трех старуш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7451640" y="9810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900000" y="134136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носов у двух пс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7451640" y="191628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900000" y="249228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хвостов у семи кот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7451640" y="292428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C:\Users\АЗАТ\Desktop\83982.gif"/>
          <p:cNvPicPr/>
          <p:nvPr/>
        </p:nvPicPr>
        <p:blipFill>
          <a:blip r:embed="rId1"/>
          <a:stretch/>
        </p:blipFill>
        <p:spPr>
          <a:xfrm>
            <a:off x="7956720" y="4941720"/>
            <a:ext cx="876240" cy="144792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1"/>
          <p:cNvSpPr/>
          <p:nvPr/>
        </p:nvSpPr>
        <p:spPr>
          <a:xfrm>
            <a:off x="900000" y="35002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аденец Кузя орёт как резаный 5 часов в сутки и спит как убитый 16 часов в сутки. Остальное время младенец Кузя радуется жизни всеми доступными ему способами. Сколько часов в сутки младенец Кузя радуется жиз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7451640" y="522936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" descr="Скачать анимации для презентаций - Анимашки"/>
          <p:cNvPicPr/>
          <p:nvPr/>
        </p:nvPicPr>
        <p:blipFill>
          <a:blip r:embed="rId2"/>
          <a:stretch/>
        </p:blipFill>
        <p:spPr>
          <a:xfrm>
            <a:off x="-338040" y="4941720"/>
            <a:ext cx="2260440" cy="2260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Users\АЗАТ\Desktop\83982.gif"/>
          <p:cNvPicPr/>
          <p:nvPr/>
        </p:nvPicPr>
        <p:blipFill>
          <a:blip r:embed="rId1"/>
          <a:stretch/>
        </p:blipFill>
        <p:spPr>
          <a:xfrm>
            <a:off x="7956720" y="4941720"/>
            <a:ext cx="876240" cy="144792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468360" y="549360"/>
            <a:ext cx="82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 Кати - 1 м 75 см. Сладко вытянувшись во весь рост, она спит под любимым одеялом, длина которого - 155 см. Сколько сантиметров сладко вытянувшейся во весь рост Кати торчит из-под ее любимого одея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7308720" y="21337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468360" y="2708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бе летят 35 утят, а 27 котят на дереве сидят и глядят на утят. На сколько утят больше, чем котят, которые на них глядя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7380360" y="3933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468360" y="4437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очка в зоопарке дразнил трех верблюдов сразу. Каждый из этих верблюдов плюнул на Вовочку по три раза. Сколько раз плевали верблюды на Вовочк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9"/>
          <p:cNvSpPr/>
          <p:nvPr/>
        </p:nvSpPr>
        <p:spPr>
          <a:xfrm>
            <a:off x="7524720" y="5516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0" descr="http://klub-drug.ru/wp-content/uploads/2011/04/65200360.gif"/>
          <p:cNvPicPr/>
          <p:nvPr/>
        </p:nvPicPr>
        <p:blipFill>
          <a:blip r:embed="rId2"/>
          <a:stretch/>
        </p:blipFill>
        <p:spPr>
          <a:xfrm>
            <a:off x="7956720" y="2395440"/>
            <a:ext cx="952200" cy="1905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http://klub-drug.ru/wp-content/uploads/2011/04/93.gif"/>
          <p:cNvPicPr/>
          <p:nvPr/>
        </p:nvPicPr>
        <p:blipFill>
          <a:blip r:embed="rId3"/>
          <a:stretch/>
        </p:blipFill>
        <p:spPr>
          <a:xfrm>
            <a:off x="460440" y="5837400"/>
            <a:ext cx="1500120" cy="1104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2T11:20:26Z</dcterms:created>
  <dc:creator>АЗАТ</dc:creator>
  <dc:description/>
  <dc:language>en-US</dc:language>
  <cp:lastModifiedBy>User</cp:lastModifiedBy>
  <dcterms:modified xsi:type="dcterms:W3CDTF">2017-05-26T15:42:38Z</dcterms:modified>
  <cp:revision>29</cp:revision>
  <dc:subject/>
  <dc:title>Слайд 1</dc:title>
</cp:coreProperties>
</file>