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5.gif" ContentType="image/gif"/>
  <Override PartName="/ppt/media/image2.wmf" ContentType="image/x-wmf"/>
  <Override PartName="/ppt/media/image4.jpeg" ContentType="image/jpeg"/>
  <Override PartName="/ppt/media/image13.gif" ContentType="image/gif"/>
  <Override PartName="/ppt/media/image8.gif" ContentType="image/gif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B1A-111E-4EC3-8ED3-C5197239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5AE-084D-449C-8B73-B8B1F769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F0D-8249-4A41-B524-6F88C357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84E-1A68-416D-ADB9-A21701FB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50CC-E97F-4B5E-8AF5-5739ECED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410F-CEBB-4CDD-AEA2-13DA6DA2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6511-FD41-470A-8AE4-B7609ABD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05BC-D02F-407A-9E7A-9C89F81C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A1A2-1918-4CCC-96A4-381DEAC5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0066-C224-46B4-BAFA-81AB9A0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3EC7-8C81-4E12-8EEF-F2A3E0F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38B-A8DD-4D4B-900E-1B19C4F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3375-F7E1-4099-91AD-70A34BB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61A-9823-4423-92E1-CFE9D3D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BFD6-6A00-4763-B39E-38522D5C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4A0B-E723-44E4-B71A-F895D556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ECD1-E2E3-4BDA-9A9F-C2E301E9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29CE-5296-4A19-BE06-0D7AB523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14260-23A2-4F02-ADC7-50D19F4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F0D6A-87C9-445D-8C79-3159E3E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5488-9FF8-497E-BF00-6276974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9470-AC31-4CFD-87E1-F5DBB4F3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14C-7301-4C28-90C0-B60BEA9D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0EBE-EBB9-4C36-8EA0-2F503759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EB06-80BE-4057-857D-D81AC47C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F1E5-6068-4BE5-AF36-C97C395D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C7E2-6EE9-43C4-B202-3FB81A0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A5E7-1933-408D-AA21-4648F399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F742-BE80-4BA7-B644-2FC07859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2C5F-6B7D-40E0-94A5-9CFEE11A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FA7-6C69-4BF2-8CF7-F658256B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62C-66F7-41BB-AB5C-01F2E905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F4B-0F7E-423A-8A72-0591418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724-FDEF-42C4-AFF8-E81462AE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BA7-2357-4D48-923A-37ABBA5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C2F-57A1-40E5-934A-D5867D9A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CAC2-D65E-4DA0-8479-157A01C765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1CDA-85E2-4EF0-ABC1-18BBBB150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FA36-6318-45D1-B221-52ED9B5B8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уд над математи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468360" y="54936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очка 10 раз дернул за косичку Машу, 5 раз - Дашу, 7 раз - Клаву и 1 раз, по ошибке, - учителя математики. Спрашивается: сколько раз дергал Вовочка за косички и что теперь буд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4572000" y="2060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, родители – к заву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68360" y="2852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делала в диктанте 12 ошибок, а Гриша , который у нее все списал, - 32 ошибки. Сколько своих собственных ошибок в диктанте у Гриш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7596360" y="40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468360" y="465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ырок окажется в клеенке, если во время обеда 12 раз проткнуть ее вилкой с 4 зубчик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7667640" y="537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http://klub-drug.ru/wp-content/uploads/2011/04/98.gif"/>
          <p:cNvPicPr/>
          <p:nvPr/>
        </p:nvPicPr>
        <p:blipFill>
          <a:blip r:embed="rId2"/>
          <a:stretch/>
        </p:blipFill>
        <p:spPr>
          <a:xfrm>
            <a:off x="1547640" y="5634000"/>
            <a:ext cx="936720" cy="1171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ttp://klub-drug.ru/wp-content/uploads/2011/04/100.gif"/>
          <p:cNvPicPr/>
          <p:nvPr/>
        </p:nvPicPr>
        <p:blipFill>
          <a:blip r:embed="rId3"/>
          <a:stretch/>
        </p:blipFill>
        <p:spPr>
          <a:xfrm>
            <a:off x="484200" y="5668920"/>
            <a:ext cx="101592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http://klub-drug.ru/wp-content/uploads/2011/04/101.gif"/>
          <p:cNvPicPr/>
          <p:nvPr/>
        </p:nvPicPr>
        <p:blipFill>
          <a:blip r:embed="rId4"/>
          <a:stretch/>
        </p:blipFill>
        <p:spPr>
          <a:xfrm>
            <a:off x="2700360" y="5718240"/>
            <a:ext cx="934920" cy="950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395280" y="620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бабушек пришли на именины к одному дедушке. Каждая бабушка принесла в подарок по 2 расчески. Сколько расчесок получил от бабушек совершенно лысый именин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7380360" y="18446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395280" y="2565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, баба, внучка, Жучка, кошка и мышка тянули-тянули репку и, наконец, вытянули. Сколько глаз смотрело на реп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6875640" y="350028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глаз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468360" y="4076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 вязала внукам шарфы и варежки. Всего она связала 3 шарфа и 6 варежек. Сколько внуков у бабуш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6804000" y="494172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вну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http://klub-drug.ru/wp-content/uploads/2011/04/61444841.gif"/>
          <p:cNvPicPr/>
          <p:nvPr/>
        </p:nvPicPr>
        <p:blipFill>
          <a:blip r:embed="rId2"/>
          <a:stretch/>
        </p:blipFill>
        <p:spPr>
          <a:xfrm>
            <a:off x="971640" y="4965840"/>
            <a:ext cx="193500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4 года, брату 6 лет. Сколько лет будет брату, когда сестре исполнится 6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7164360" y="126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395280" y="1916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столовой, где обедали лыжники, пришедшие из похода, стояли 20 лыж, а в снег было воткнуто 20 палок. Сколько лыжников ходило в похо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6012000" y="3068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лы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68360" y="3645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 подковал тройку лошадей. Сколько подков пришлось ему сдел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6551640" y="4292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по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0"/>
          <p:cNvSpPr/>
          <p:nvPr/>
        </p:nvSpPr>
        <p:spPr>
          <a:xfrm>
            <a:off x="468360" y="47242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абушки Даши внучка Маша, кот Пушок, да пёс Дружок. Сколько у бабушки внук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00720" y="544500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 остальные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http://klub-drug.ru/wp-content/uploads/2011/04/51470012.gif"/>
          <p:cNvPicPr/>
          <p:nvPr/>
        </p:nvPicPr>
        <p:blipFill>
          <a:blip r:embed="rId2"/>
          <a:stretch/>
        </p:blipFill>
        <p:spPr>
          <a:xfrm>
            <a:off x="163440" y="5445000"/>
            <a:ext cx="1160640" cy="9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285840" y="5229360"/>
            <a:ext cx="876240" cy="144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611280" y="333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езе росло 50 яблок. Подул сильный ветер, и 10 яблок упало. Сколько осталось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4284720" y="1052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березе не растут 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611280" y="1628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месяцев в году имеют 28 дн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395280" y="2060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12, в месяце 30 дней, то и 28 дней среди них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611280" y="263700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лежало 4 яблока. Одно из них разрезали пополам и положили на стол. Сколько яблок на ст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8028000" y="35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611280" y="39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арикмахер в Женеве скорее предпочтёт постричь двух французов, чем одного немц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1187280" y="486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ому что заработает на них вдвое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" descr="http://klub-drug.ru/wp-content/uploads/2011/04/95889810.gif"/>
          <p:cNvPicPr/>
          <p:nvPr/>
        </p:nvPicPr>
        <p:blipFill>
          <a:blip r:embed="rId2"/>
          <a:stretch/>
        </p:blipFill>
        <p:spPr>
          <a:xfrm>
            <a:off x="7812000" y="5173560"/>
            <a:ext cx="1003320" cy="120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img-87390.jpeg"/>
          <p:cNvPicPr/>
          <p:nvPr/>
        </p:nvPicPr>
        <p:blipFill>
          <a:blip r:embed="rId1"/>
          <a:stretch/>
        </p:blipFill>
        <p:spPr>
          <a:xfrm>
            <a:off x="2411280" y="1341360"/>
            <a:ext cx="5532480" cy="414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Содержимое 5" descr="information_items_324.jpg"/>
          <p:cNvPicPr/>
          <p:nvPr/>
        </p:nvPicPr>
        <p:blipFill>
          <a:blip r:embed="rId1"/>
          <a:stretch/>
        </p:blipFill>
        <p:spPr>
          <a:xfrm>
            <a:off x="1979640" y="1413000"/>
            <a:ext cx="5916600" cy="443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3" descr="fedbc4c3eddf40c56cdb695d27d.jpg"/>
          <p:cNvPicPr/>
          <p:nvPr/>
        </p:nvPicPr>
        <p:blipFill>
          <a:blip r:embed="rId1"/>
          <a:stretch/>
        </p:blipFill>
        <p:spPr>
          <a:xfrm>
            <a:off x="2411280" y="1341360"/>
            <a:ext cx="5819760" cy="436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Содержимое 3" descr="TYtYWYwOS.jpg"/>
          <p:cNvPicPr/>
          <p:nvPr/>
        </p:nvPicPr>
        <p:blipFill>
          <a:blip r:embed="rId1"/>
          <a:stretch/>
        </p:blipFill>
        <p:spPr>
          <a:xfrm>
            <a:off x="2195640" y="1628640"/>
            <a:ext cx="5340240" cy="40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Содержимое 5" descr="Безымянный.png"/>
          <p:cNvPicPr/>
          <p:nvPr/>
        </p:nvPicPr>
        <p:blipFill>
          <a:blip r:embed="rId1"/>
          <a:stretch/>
        </p:blipFill>
        <p:spPr>
          <a:xfrm>
            <a:off x="2268360" y="1700280"/>
            <a:ext cx="4954680" cy="371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523880" y="18288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static6.depositphotos.com/1000126/578/v/950/depositphotos_5785638-Builder-man-with-derby-tool-building-a-brick-wall.jpg"/>
          <p:cNvPicPr/>
          <p:nvPr/>
        </p:nvPicPr>
        <p:blipFill>
          <a:blip r:embed="rId1"/>
          <a:stretch/>
        </p:blipFill>
        <p:spPr>
          <a:xfrm>
            <a:off x="971640" y="1978200"/>
            <a:ext cx="6156360" cy="45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cdn.imgbb.ru/user/21/211914/c6fbe93fe4a853d1237d0599a5f90e0a.jpg"/>
          <p:cNvPicPr/>
          <p:nvPr/>
        </p:nvPicPr>
        <p:blipFill>
          <a:blip r:embed="rId1"/>
          <a:stretch/>
        </p:blipFill>
        <p:spPr>
          <a:xfrm>
            <a:off x="826920" y="549360"/>
            <a:ext cx="5940720" cy="44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ttp://static7.depositphotos.com/1206014/691/i/950/depositphotos_6919407-The-man-the-bookkeeper-counts-money.jpg"/>
          <p:cNvPicPr/>
          <p:nvPr/>
        </p:nvPicPr>
        <p:blipFill>
          <a:blip r:embed="rId1"/>
          <a:stretch/>
        </p:blipFill>
        <p:spPr>
          <a:xfrm>
            <a:off x="1079640" y="352440"/>
            <a:ext cx="3949560" cy="2938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487440" y="34308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7380360" y="34308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755640" y="566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s://im3-tub-ru.yandex.net/i?id=3d880d3fc3ab8f241262989e0a1786bc&amp;n=33&amp;h=190&amp;w=285"/>
          <p:cNvPicPr/>
          <p:nvPr/>
        </p:nvPicPr>
        <p:blipFill>
          <a:blip r:embed="rId2"/>
          <a:stretch/>
        </p:blipFill>
        <p:spPr>
          <a:xfrm>
            <a:off x="5027760" y="3798720"/>
            <a:ext cx="362268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имательны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0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ля и Толя были маленькими, они часто пугались, и от страха у них по спинам мурашки бегали. У Коли по спине бегало 27 мурашек, а у Толи - на 3 мурашки больше. Сколько всего мурашек бегало у Коли и Толи по спинам, когда они были маленькими и часто пуг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7308720" y="234936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826920" y="299736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свой дневник с двойками закопал на глубину 5 метров, а Толя закопал свой дневник на глубину 12 метров. Насколько метров глубже закопал свой дневник с двойками Тол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6948360" y="443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7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900000" y="5300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ушей у пяти малыш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7020000" y="587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82692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ушек у трех старуш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7451640" y="981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900000" y="134136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осов у двух пс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451640" y="1916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900000" y="2492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хвостов у семи ко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7451640" y="2924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1"/>
          <p:cNvSpPr/>
          <p:nvPr/>
        </p:nvSpPr>
        <p:spPr>
          <a:xfrm>
            <a:off x="900000" y="3500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енец Кузя орёт как резаный 5 часов в сутки и спит как убитый 16 часов в сутки. Остальное время младенец Кузя радуется жизни всеми доступными ему способами. Сколько часов в сутки младенец Кузя радуется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451640" y="5229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Скачать анимации для презентаций - Анимашки"/>
          <p:cNvPicPr/>
          <p:nvPr/>
        </p:nvPicPr>
        <p:blipFill>
          <a:blip r:embed="rId2"/>
          <a:stretch/>
        </p:blipFill>
        <p:spPr>
          <a:xfrm>
            <a:off x="-338040" y="4941720"/>
            <a:ext cx="2260440" cy="226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468360" y="549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Кати - 1 м 75 см. Сладко вытянувшись во весь рост, она спит под любимым одеялом, длина которого - 155 см. Сколько сантиметров сладко вытянувшейся во весь рост Кати торчит из-под ее любимого одея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308720" y="21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68360" y="270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летят 35 утят, а 27 котят на дереве сидят и глядят на утят. На сколько утят больше, чем котят, которые на них гля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38036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68360" y="4437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очка в зоопарке дразнил трех верблюдов сразу. Каждый из этих верблюдов плюнул на Вовочку по три раза. Сколько раз плевали верблюды на Вовоч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752472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http://klub-drug.ru/wp-content/uploads/2011/04/65200360.gif"/>
          <p:cNvPicPr/>
          <p:nvPr/>
        </p:nvPicPr>
        <p:blipFill>
          <a:blip r:embed="rId2"/>
          <a:stretch/>
        </p:blipFill>
        <p:spPr>
          <a:xfrm>
            <a:off x="7956720" y="2395440"/>
            <a:ext cx="952200" cy="1905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http://klub-drug.ru/wp-content/uploads/2011/04/93.gif"/>
          <p:cNvPicPr/>
          <p:nvPr/>
        </p:nvPicPr>
        <p:blipFill>
          <a:blip r:embed="rId3"/>
          <a:stretch/>
        </p:blipFill>
        <p:spPr>
          <a:xfrm>
            <a:off x="460440" y="5837400"/>
            <a:ext cx="1500120" cy="110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2T11:20:26Z</dcterms:created>
  <dc:creator>АЗАТ</dc:creator>
  <dc:description/>
  <dc:language>en-US</dc:language>
  <cp:lastModifiedBy>User</cp:lastModifiedBy>
  <dcterms:modified xsi:type="dcterms:W3CDTF">2017-05-26T15:42:38Z</dcterms:modified>
  <cp:revision>29</cp:revision>
  <dc:subject/>
  <dc:title>Слайд 1</dc:title>
</cp:coreProperties>
</file>