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30F-6E2A-47D1-88C7-DB3D25D0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C67-2AB9-4F2C-AEF1-C7CDB7C4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973-C6FA-4509-83D6-A01FCE23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FC4-306E-4492-9E12-A11A5EF2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E45-2F64-4B34-864B-B8C2D3CE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EA3-7337-4A2B-AF51-A6805533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4FE-B1BE-42FE-9A92-A1EF3F78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8D1-5668-4249-AD3F-FE500D1E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B21-6D22-4184-8EC5-F9BF2D1A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449-2E2E-4DCF-AFBA-146C678E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3A9-26AB-401D-BECE-69258318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C45-E1A0-471C-89EC-282B41C3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6169-988D-451A-A045-D9F2318A4E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ОЦЕНИВАНИЯ ПО ПРОГРАММЕ «ШКОЛА 2100»</a:t>
            </a: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: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Школа 2100» </a:t>
            </a:r>
            <a:br>
              <a:rPr sz="35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неев Р. Н</a:t>
            </a:r>
            <a:br>
              <a:rPr sz="40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вн"/>
          <p:cNvPicPr/>
          <p:nvPr/>
        </p:nvPicPr>
        <p:blipFill>
          <a:blip r:embed="rId1"/>
          <a:stretch/>
        </p:blipFill>
        <p:spPr>
          <a:xfrm>
            <a:off x="2046240" y="142920"/>
            <a:ext cx="452592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5T05:55:56Z</dcterms:created>
  <dc:creator>Александра</dc:creator>
  <dc:description/>
  <dc:language>en-US</dc:language>
  <cp:lastModifiedBy>Александра</cp:lastModifiedBy>
  <dcterms:modified xsi:type="dcterms:W3CDTF">2017-05-25T05:57:33Z</dcterms:modified>
  <cp:revision>1</cp:revision>
  <dc:subject/>
  <dc:title>ТЕХНОЛОГИЯ ОЦЕНИВАНИЯ ПО ПРОГРАММЕ «ШКОЛА 2100»  Программа: «Школа 2100»  Автор: Бунеев Р. Н </dc:title>
</cp:coreProperties>
</file>