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909-47D8-4408-ABB2-67C56191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185-A719-43A4-9AA3-57A76F73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580-FCF0-461B-A5B0-54211F55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A56-456C-4DE2-B268-5ABFA3BB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C45-A0F3-44C2-B2A4-94236E42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288-ADC6-4E4E-B89B-04B409D1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3CC-446B-4BB5-95C2-260CDA02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3C7-C00B-4E63-BB3B-802D8E78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FF4-F54E-4A5E-AB05-D174C68B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8B8-1E90-464C-BC26-C97967F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C7D-BD06-46B9-B36E-4199445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222-A17D-49EB-BB71-38082A3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BD4-4BAD-4C3E-B351-62FD02504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ЦЕНИВАНИЯ ПО ПРОГРАММЕ «ШКОЛА 2100»</a:t>
            </a: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: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Школа 2100» 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неев Р. Н</a:t>
            </a:r>
            <a:br>
              <a:rPr sz="40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вн"/>
          <p:cNvPicPr/>
          <p:nvPr/>
        </p:nvPicPr>
        <p:blipFill>
          <a:blip r:embed="rId1"/>
          <a:stretch/>
        </p:blipFill>
        <p:spPr>
          <a:xfrm>
            <a:off x="2046240" y="142920"/>
            <a:ext cx="45259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5:55:56Z</dcterms:created>
  <dc:creator>Александра</dc:creator>
  <dc:description/>
  <dc:language>en-US</dc:language>
  <cp:lastModifiedBy>Александра</cp:lastModifiedBy>
  <dcterms:modified xsi:type="dcterms:W3CDTF">2017-05-25T05:57:33Z</dcterms:modified>
  <cp:revision>1</cp:revision>
  <dc:subject/>
  <dc:title>ТЕХНОЛОГИЯ ОЦЕНИВАНИЯ ПО ПРОГРАММЕ «ШКОЛА 2100»  Программа: «Школа 2100»  Автор: Бунеев Р. Н </dc:title>
</cp:coreProperties>
</file>