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F12-C323-4FFA-BCC6-BBA59BA5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409-74D4-4B8D-9B74-04A3A56B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4B5-51A2-4886-8746-C5B9CC6F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F2B-1E30-4F71-8A3C-04B4B184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35B-F0E8-4F92-BF01-CF3BDB5C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E08-BB4C-4FE8-9D60-D349D886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B56-37B0-4A68-8B4A-366E0042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B37-047F-43EE-9758-DC9FCC12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D81-C49B-4F05-8F42-20CCBD3C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9C5-ADDA-4658-8335-E4DB3D21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B33-E400-494E-BF9B-98899FB5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D51-1C57-4929-BF2A-6B1A437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BB0B-F020-47FA-A173-498325133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9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c5eb16ed7f86.png"/>
          <p:cNvPicPr/>
          <p:nvPr/>
        </p:nvPicPr>
        <p:blipFill>
          <a:blip r:embed="rId1"/>
          <a:stretch/>
        </p:blipFill>
        <p:spPr>
          <a:xfrm>
            <a:off x="3921120" y="684360"/>
            <a:ext cx="2981160" cy="2636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oduvan10.png"/>
          <p:cNvPicPr/>
          <p:nvPr/>
        </p:nvPicPr>
        <p:blipFill>
          <a:blip r:embed="rId2"/>
          <a:stretch/>
        </p:blipFill>
        <p:spPr>
          <a:xfrm>
            <a:off x="2452680" y="71391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strek13.png"/>
          <p:cNvPicPr/>
          <p:nvPr/>
        </p:nvPicPr>
        <p:blipFill>
          <a:blip r:embed="rId3"/>
          <a:stretch/>
        </p:blipFill>
        <p:spPr>
          <a:xfrm>
            <a:off x="177840" y="3884760"/>
            <a:ext cx="1609560" cy="752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4c4ad66a1830.png"/>
          <p:cNvPicPr/>
          <p:nvPr/>
        </p:nvPicPr>
        <p:blipFill>
          <a:blip r:embed="rId4"/>
          <a:stretch/>
        </p:blipFill>
        <p:spPr>
          <a:xfrm>
            <a:off x="4529160" y="4956120"/>
            <a:ext cx="2214720" cy="2467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2" descr="10cb61ae9416.png"/>
          <p:cNvPicPr/>
          <p:nvPr/>
        </p:nvPicPr>
        <p:blipFill>
          <a:blip r:embed="rId5"/>
          <a:stretch/>
        </p:blipFill>
        <p:spPr>
          <a:xfrm>
            <a:off x="5423040" y="3906720"/>
            <a:ext cx="928440" cy="74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oduvan10.png"/>
          <p:cNvPicPr/>
          <p:nvPr/>
        </p:nvPicPr>
        <p:blipFill>
          <a:blip r:embed="rId6"/>
          <a:stretch/>
        </p:blipFill>
        <p:spPr>
          <a:xfrm>
            <a:off x="3002040" y="6372360"/>
            <a:ext cx="633240" cy="690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4" descr="oduvan10.png"/>
          <p:cNvPicPr/>
          <p:nvPr/>
        </p:nvPicPr>
        <p:blipFill>
          <a:blip r:embed="rId7"/>
          <a:stretch/>
        </p:blipFill>
        <p:spPr>
          <a:xfrm>
            <a:off x="3635280" y="6794640"/>
            <a:ext cx="633600" cy="690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5" descr=""/>
          <p:cNvPicPr/>
          <p:nvPr/>
        </p:nvPicPr>
        <p:blipFill>
          <a:blip r:embed="rId8"/>
          <a:stretch/>
        </p:blipFill>
        <p:spPr>
          <a:xfrm>
            <a:off x="201600" y="3114720"/>
            <a:ext cx="637056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ое бюджетное образовательное учрежде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тский сад №126 Выборг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1" descr="e1d66faae395.png"/>
          <p:cNvPicPr/>
          <p:nvPr/>
        </p:nvPicPr>
        <p:blipFill>
          <a:blip r:embed="rId9"/>
          <a:stretch/>
        </p:blipFill>
        <p:spPr>
          <a:xfrm>
            <a:off x="203040" y="5773680"/>
            <a:ext cx="1998720" cy="284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viki\AppData\Local\Microsoft\Windows\Temporary Internet Files\Content.IE5\16OLWOMK\MCj04381650000[1].wmf"/>
          <p:cNvPicPr/>
          <p:nvPr/>
        </p:nvPicPr>
        <p:blipFill>
          <a:blip r:embed="rId10"/>
          <a:stretch/>
        </p:blipFill>
        <p:spPr>
          <a:xfrm rot="20949000">
            <a:off x="42840" y="1506600"/>
            <a:ext cx="2298600" cy="140472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549360" y="80280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ила воспитатель 1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урба Анастасия Дмитри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4400" y="666720"/>
            <a:ext cx="6801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46c0a"/>
                </a:solidFill>
                <a:uFillTx/>
                <a:latin typeface="Calibri"/>
              </a:rPr>
              <a:t>Учимся наблюдать </a:t>
            </a:r>
            <a:br>
              <a:rPr sz="2400"/>
            </a:br>
            <a:r>
              <a:rPr b="1" lang="ru-RU" sz="2400" spc="-1" strike="noStrike" u="sng">
                <a:solidFill>
                  <a:srgbClr val="e46c0a"/>
                </a:solidFill>
                <a:uFillTx/>
                <a:latin typeface="Calibri"/>
              </a:rPr>
              <a:t>за изменениями в природ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286200" y="2499840"/>
            <a:ext cx="51577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райтесь понаблюдать с ребенком за такими явлениями, как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трення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а, гроза,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дуга, тум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айте ребенку загадки о явле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ды. Познакомьте с пословицами и поговорками о летних явлениях прир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0" y="128412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Летом старайтесь как можно </a:t>
            </a:r>
            <a:r>
              <a:rPr b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больше </a:t>
            </a:r>
            <a:r>
              <a:rPr b="0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времени проводить с ребенком на улице. На прогулке обращайте внимание сына или дочери на то, что  летом  </a:t>
            </a:r>
            <a:r>
              <a:rPr b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дни самые </a:t>
            </a:r>
            <a:r>
              <a:rPr b="1" i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длинные, а ночи </a:t>
            </a:r>
            <a:r>
              <a:rPr b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самые короткие; солнце поднимается высоко, ярко светит и греет; температура </a:t>
            </a:r>
            <a:r>
              <a:rPr b="1" i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воздуха </a:t>
            </a:r>
            <a:r>
              <a:rPr b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самая высокая в </a:t>
            </a:r>
            <a:r>
              <a:rPr b="1" i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году. </a:t>
            </a:r>
            <a:r>
              <a:rPr b="0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Продолжайте наблюдения за изменениями в при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c5eb16ed7f86.png"/>
          <p:cNvPicPr/>
          <p:nvPr/>
        </p:nvPicPr>
        <p:blipFill>
          <a:blip r:embed="rId1"/>
          <a:stretch/>
        </p:blipFill>
        <p:spPr>
          <a:xfrm>
            <a:off x="3876840" y="2643120"/>
            <a:ext cx="2981160" cy="2637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0" y="4643280"/>
            <a:ext cx="678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Понаблюдайте с ребенком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н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 Обратите внимание на то, что пение птиц в парках и лесах уже не такое разноголосое, как весной. Многие птицы уже обзавелись потомством и заняты выкармливанием птен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 время прогулок объясните ребенку, что полевые и луговые цветы лучше не рвать. За долгую прогулку они завянут, и их придется выки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зьмите с собой на прогулку аль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карандаши и предложите ребенку нарис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 увиденные интересные рас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oduvan10.png"/>
          <p:cNvPicPr/>
          <p:nvPr/>
        </p:nvPicPr>
        <p:blipFill>
          <a:blip r:embed="rId2"/>
          <a:stretch/>
        </p:blipFill>
        <p:spPr>
          <a:xfrm>
            <a:off x="2286000" y="800100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strek13.png"/>
          <p:cNvPicPr/>
          <p:nvPr/>
        </p:nvPicPr>
        <p:blipFill>
          <a:blip r:embed="rId3"/>
          <a:stretch/>
        </p:blipFill>
        <p:spPr>
          <a:xfrm>
            <a:off x="71280" y="7858080"/>
            <a:ext cx="1609920" cy="752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4c4ad66a1830.png"/>
          <p:cNvPicPr/>
          <p:nvPr/>
        </p:nvPicPr>
        <p:blipFill>
          <a:blip r:embed="rId4"/>
          <a:stretch/>
        </p:blipFill>
        <p:spPr>
          <a:xfrm>
            <a:off x="4572000" y="6676920"/>
            <a:ext cx="2214720" cy="2467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10cb61ae9416.png"/>
          <p:cNvPicPr/>
          <p:nvPr/>
        </p:nvPicPr>
        <p:blipFill>
          <a:blip r:embed="rId5"/>
          <a:stretch/>
        </p:blipFill>
        <p:spPr>
          <a:xfrm>
            <a:off x="3214800" y="7858080"/>
            <a:ext cx="928440" cy="744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oduvan10.png"/>
          <p:cNvPicPr/>
          <p:nvPr/>
        </p:nvPicPr>
        <p:blipFill>
          <a:blip r:embed="rId6"/>
          <a:stretch/>
        </p:blipFill>
        <p:spPr>
          <a:xfrm>
            <a:off x="1285920" y="8453520"/>
            <a:ext cx="633240" cy="6904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oduvan10.png"/>
          <p:cNvPicPr/>
          <p:nvPr/>
        </p:nvPicPr>
        <p:blipFill>
          <a:blip r:embed="rId7"/>
          <a:stretch/>
        </p:blipFill>
        <p:spPr>
          <a:xfrm>
            <a:off x="4071960" y="8453520"/>
            <a:ext cx="633240" cy="6904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5" descr=""/>
          <p:cNvPicPr/>
          <p:nvPr/>
        </p:nvPicPr>
        <p:blipFill>
          <a:blip r:embed="rId8"/>
          <a:stretch/>
        </p:blipFill>
        <p:spPr>
          <a:xfrm>
            <a:off x="201600" y="-109440"/>
            <a:ext cx="637056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9880" y="714240"/>
            <a:ext cx="45860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«Давай поиграем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Прямоугольник 3" descr=""/>
          <p:cNvPicPr/>
          <p:nvPr/>
        </p:nvPicPr>
        <p:blipFill>
          <a:blip r:embed="rId1"/>
          <a:stretch/>
        </p:blipFill>
        <p:spPr>
          <a:xfrm>
            <a:off x="212760" y="-30240"/>
            <a:ext cx="6370560" cy="871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0" y="1214280"/>
            <a:ext cx="6858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ето предоставляет самые широкие  возможности для организаци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гр на улице с водой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 время отдых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 вод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ивлеките ребенка к сооружению замков, мостов; покажите, как можно лепить скульптуры из песка и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иобретите набор формочек «Алфавит», и ваш ребенок будет делать не просто куличик из песка, 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тренируется в составлении и чтении сл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Просто напишите на песке половинки букв. Пусть ребенок узнает их и допишет, а потом составит из них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е забудьте про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пуск бумажных кораблик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 ручей или реку! А игры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здушным змеем, томагавком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етающей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арелкой! Они разовьют ловкость, меткость, общую моторику будущего первокласс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916280" y="4425840"/>
            <a:ext cx="4941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* Ни с чем не сравнимо удовольствие от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гр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ячом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зрослый предлагает ребёнку поиграть с мячом, затем показывает, как подбросить и поймать мяч, предлагает повторить малышу. Свои действия сопровождает словами:     Мой весёлый, звонкий мяч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ы куда пустился вскач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расный, жёлтый, голу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е угнаться за т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сле слов бросает мяч вперёд, просит ребёнка догнать свой мяч, делая вид, что хочет обогнать малыша и первым взять мяч. Игра повторяется снова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* Обязательно приобретите детский бадминтон, скакал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*  Летом можно научиться кататься на 2х колесном велосип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643120" y="8034480"/>
            <a:ext cx="4214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63d"/>
                </a:solidFill>
                <a:latin typeface="Book Antiqua"/>
                <a:ea typeface="Arial"/>
              </a:rPr>
              <a:t>Пусть летом ребенок как можно больше двигается, дышит свежим воздухом, набирается сил на следующий свой  учебн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9" descr="dc701436b9b3.png"/>
          <p:cNvPicPr/>
          <p:nvPr/>
        </p:nvPicPr>
        <p:blipFill>
          <a:blip r:embed="rId2"/>
          <a:stretch/>
        </p:blipFill>
        <p:spPr>
          <a:xfrm>
            <a:off x="1285920" y="8072280"/>
            <a:ext cx="857160" cy="858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e1d66faae395.png"/>
          <p:cNvPicPr/>
          <p:nvPr/>
        </p:nvPicPr>
        <p:blipFill>
          <a:blip r:embed="rId3"/>
          <a:stretch/>
        </p:blipFill>
        <p:spPr>
          <a:xfrm>
            <a:off x="71280" y="5143680"/>
            <a:ext cx="2000520" cy="2841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oduvan10.png"/>
          <p:cNvPicPr/>
          <p:nvPr/>
        </p:nvPicPr>
        <p:blipFill>
          <a:blip r:embed="rId4"/>
          <a:stretch/>
        </p:blipFill>
        <p:spPr>
          <a:xfrm>
            <a:off x="214200" y="814392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4" descr="oduvan10.png"/>
          <p:cNvPicPr/>
          <p:nvPr/>
        </p:nvPicPr>
        <p:blipFill>
          <a:blip r:embed="rId5"/>
          <a:stretch/>
        </p:blipFill>
        <p:spPr>
          <a:xfrm>
            <a:off x="2143080" y="7572240"/>
            <a:ext cx="5158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5"/>
          <p:cNvSpPr/>
          <p:nvPr/>
        </p:nvSpPr>
        <p:spPr>
          <a:xfrm>
            <a:off x="0" y="7429680"/>
            <a:ext cx="6597720" cy="1714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delf03.png"/>
          <p:cNvPicPr/>
          <p:nvPr/>
        </p:nvPicPr>
        <p:blipFill>
          <a:blip r:embed="rId1"/>
          <a:stretch/>
        </p:blipFill>
        <p:spPr>
          <a:xfrm>
            <a:off x="71280" y="5786280"/>
            <a:ext cx="2760840" cy="29196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" descr=""/>
          <p:cNvPicPr/>
          <p:nvPr/>
        </p:nvPicPr>
        <p:blipFill>
          <a:blip r:embed="rId2"/>
          <a:stretch/>
        </p:blipFill>
        <p:spPr>
          <a:xfrm>
            <a:off x="201600" y="-23760"/>
            <a:ext cx="637056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142920" y="642960"/>
            <a:ext cx="671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«Игры малышей с вод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0" y="10000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да — первый и любимый всеми детьми объект для игр и для исследования. Игры с водой создают у детей радостное настрое­ние, повышают жизненный тонус, дают детям массу приятных и полезных впечатлений, переживаний и знаний. Особенно это важно для самых маленьк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0" y="2500200"/>
            <a:ext cx="68580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2060"/>
                </a:solidFill>
                <a:latin typeface="Calibri"/>
                <a:ea typeface="Arial"/>
              </a:rPr>
              <a:t>Какие игры с водой можно организовать дома?</a:t>
            </a:r>
            <a:r>
              <a:rPr b="1" i="1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На столах стоят емкости с водой и игровое оборудование, бумажные полотен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1. Знакомство со свойствами вод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а разливается, она жидка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Ее можно собрать тряпочкой или губко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а бывает горячая, теплая и холодная. Попробовать на ощуп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а чистая, прозрачная, через нее все видно. Сравнить воду и молок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у можно наливать и переливать. Дети сами наливают вод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у можно окрасить, добавив в нее краситель (чай,  гуашь, зеленку..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2. Переливание воды разными емкостями (ложкой, баночкой, кружкой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3. Наливание воды в разные сосуды (чашку, бутылочку, кастрюльку..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4. Веселая рыбалка (вылавливание ложкой разных предмет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5. Тонет — не тонет (игры на экспериментировани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6. Игры с мыльными пузыря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7. Игры с заводными плавающими игрушк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8. Игры с мелкими резиновыми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пластмассовыми игрушками в вод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9. Игры с куклой: "Умоем куклу"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"Помоем кукольную посуду"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олилиния 10"/>
          <p:cNvGrpSpPr/>
          <p:nvPr/>
        </p:nvGrpSpPr>
        <p:grpSpPr>
          <a:xfrm>
            <a:off x="-476280" y="2017800"/>
            <a:ext cx="7658280" cy="664920"/>
            <a:chOff x="-476280" y="2017800"/>
            <a:chExt cx="7658280" cy="664920"/>
          </a:xfrm>
        </p:grpSpPr>
        <p:pic>
          <p:nvPicPr>
            <p:cNvPr id="85" name="Полилиния 10" descr=""/>
            <p:cNvPicPr/>
            <p:nvPr/>
          </p:nvPicPr>
          <p:blipFill>
            <a:blip r:embed="rId3"/>
            <a:stretch/>
          </p:blipFill>
          <p:spPr>
            <a:xfrm>
              <a:off x="-245160" y="2017800"/>
              <a:ext cx="7427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-476280" y="2100240"/>
              <a:ext cx="7621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ый треугольник 11"/>
          <p:cNvSpPr/>
          <p:nvPr/>
        </p:nvSpPr>
        <p:spPr>
          <a:xfrm flipH="1">
            <a:off x="2071080" y="7358040"/>
            <a:ext cx="4786200" cy="17859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wnloads\4f5687779a3c.png"/>
          <p:cNvPicPr/>
          <p:nvPr/>
        </p:nvPicPr>
        <p:blipFill>
          <a:blip r:embed="rId5"/>
          <a:stretch/>
        </p:blipFill>
        <p:spPr>
          <a:xfrm>
            <a:off x="5283360" y="7000920"/>
            <a:ext cx="1385640" cy="167004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2"/>
          <p:cNvSpPr/>
          <p:nvPr/>
        </p:nvSpPr>
        <p:spPr>
          <a:xfrm>
            <a:off x="5300640" y="8244000"/>
            <a:ext cx="428760" cy="3571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201600" y="-23760"/>
            <a:ext cx="6370560" cy="84132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142920" y="714240"/>
            <a:ext cx="6715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«Игры малышей с песк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0" y="1143000"/>
            <a:ext cx="68580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Игры с песком в песочнице позволяют детям устанавливать первые контакты друг с другом, являются прекрасным средством для развития и самореализации ребенка. Играя с песком, дети узнают о его свойствах: сыпучесть, рыхлость, способность пропускать воду, состоит из мелких пес­чинок и т.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Песок - хорошее психопрофилактическое средство. Он спосо­бен "заземлять" негативную психическую энергию и устанавли­вать стабильное эмоциональное состоян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0" y="3071880"/>
            <a:ext cx="68580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Какие игровые упраж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можно делать с малыша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т какие наши ручки (ребенок слег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давливает руку в песок, проговари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воих ощущениях  песок сырой, тепл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т так наши кулачки (нажимать на пес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улачками и костяшками пальцев — сравнивать, на что похож отпечато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альчики гуляют ("пройтись" поочередно каждым пальчи­ком левой и правой руки по песку, затем двумя руками одновремен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альчики играют ("поиграть" одновременно пальцами по поверхности песка, как на пиани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лзают ладошки (зигзагообразные и круговые движения ладошками по песку — едет машина, ползет жук, крутится карусель...). То же самое ребром ладо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то здесь пробегал (Оставлять следы одновременно разным количеством пальцев. Придумать, кто оставил эти след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С помощью таких игр мы не только обучаем детей, но и развиваем тактильно-кинестетическую чувствительность, а также мелкую моторику рук. Формируем у них такие черты характера, как инициативность, самостоятельность, развиваем воображение и реч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Играть в песочнице мы начинаем с того, что учим детей "лепить" куличики из формочек и ведерок, а затем украшаем их разными узорами. В дальнейшем можно организовывать тематические игры с песк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viki\AppData\Local\Microsoft\Windows\Temporary Internet Files\Content.IE5\16OLWOMK\MCj04381650000[1].wmf"/>
          <p:cNvPicPr/>
          <p:nvPr/>
        </p:nvPicPr>
        <p:blipFill>
          <a:blip r:embed="rId2"/>
          <a:stretch/>
        </p:blipFill>
        <p:spPr>
          <a:xfrm rot="250200">
            <a:off x="4443120" y="3058920"/>
            <a:ext cx="229860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c5eb16ed7f86.png"/>
          <p:cNvPicPr/>
          <p:nvPr/>
        </p:nvPicPr>
        <p:blipFill>
          <a:blip r:embed="rId1"/>
          <a:stretch/>
        </p:blipFill>
        <p:spPr>
          <a:xfrm>
            <a:off x="3759120" y="23760"/>
            <a:ext cx="2981520" cy="2637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oduvan10.png"/>
          <p:cNvPicPr/>
          <p:nvPr/>
        </p:nvPicPr>
        <p:blipFill>
          <a:blip r:embed="rId2"/>
          <a:stretch/>
        </p:blipFill>
        <p:spPr>
          <a:xfrm>
            <a:off x="2349360" y="7308720"/>
            <a:ext cx="785880" cy="8575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strek13.png"/>
          <p:cNvPicPr/>
          <p:nvPr/>
        </p:nvPicPr>
        <p:blipFill>
          <a:blip r:embed="rId3"/>
          <a:stretch/>
        </p:blipFill>
        <p:spPr>
          <a:xfrm>
            <a:off x="203040" y="2568600"/>
            <a:ext cx="1609920" cy="752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0" descr="4c4ad66a1830.png"/>
          <p:cNvPicPr/>
          <p:nvPr/>
        </p:nvPicPr>
        <p:blipFill>
          <a:blip r:embed="rId4"/>
          <a:stretch/>
        </p:blipFill>
        <p:spPr>
          <a:xfrm>
            <a:off x="4516560" y="6161040"/>
            <a:ext cx="221436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2" descr="10cb61ae9416.png"/>
          <p:cNvPicPr/>
          <p:nvPr/>
        </p:nvPicPr>
        <p:blipFill>
          <a:blip r:embed="rId5"/>
          <a:stretch/>
        </p:blipFill>
        <p:spPr>
          <a:xfrm>
            <a:off x="5702400" y="2743200"/>
            <a:ext cx="928440" cy="744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3" descr="oduvan10.png"/>
          <p:cNvPicPr/>
          <p:nvPr/>
        </p:nvPicPr>
        <p:blipFill>
          <a:blip r:embed="rId6"/>
          <a:stretch/>
        </p:blipFill>
        <p:spPr>
          <a:xfrm>
            <a:off x="3002040" y="6372360"/>
            <a:ext cx="633240" cy="690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4" descr="oduvan10.png"/>
          <p:cNvPicPr/>
          <p:nvPr/>
        </p:nvPicPr>
        <p:blipFill>
          <a:blip r:embed="rId7"/>
          <a:stretch/>
        </p:blipFill>
        <p:spPr>
          <a:xfrm>
            <a:off x="3605040" y="7174080"/>
            <a:ext cx="633600" cy="6904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5" descr=""/>
          <p:cNvPicPr/>
          <p:nvPr/>
        </p:nvPicPr>
        <p:blipFill>
          <a:blip r:embed="rId8"/>
          <a:stretch/>
        </p:blipFill>
        <p:spPr>
          <a:xfrm>
            <a:off x="201600" y="3492360"/>
            <a:ext cx="6370560" cy="1328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e1d66faae395.png"/>
          <p:cNvPicPr/>
          <p:nvPr/>
        </p:nvPicPr>
        <p:blipFill>
          <a:blip r:embed="rId9"/>
          <a:stretch/>
        </p:blipFill>
        <p:spPr>
          <a:xfrm>
            <a:off x="216000" y="5560920"/>
            <a:ext cx="2000160" cy="284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viki\AppData\Local\Microsoft\Windows\Temporary Internet Files\Content.IE5\16OLWOMK\MCj04381650000[1].wmf"/>
          <p:cNvPicPr/>
          <p:nvPr/>
        </p:nvPicPr>
        <p:blipFill>
          <a:blip r:embed="rId10"/>
          <a:stretch/>
        </p:blipFill>
        <p:spPr>
          <a:xfrm rot="20949000">
            <a:off x="752400" y="639720"/>
            <a:ext cx="22986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6:02:15Z</dcterms:created>
  <dc:creator>Кузнецова Виктория</dc:creator>
  <dc:description/>
  <dc:language>en-US</dc:language>
  <cp:lastModifiedBy>Nastia</cp:lastModifiedBy>
  <dcterms:modified xsi:type="dcterms:W3CDTF">2016-05-24T19:23:25Z</dcterms:modified>
  <cp:revision>12</cp:revision>
  <dc:subject/>
  <dc:title>Слайд 1</dc:title>
</cp:coreProperties>
</file>