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303-66EC-406E-B18E-401E2C01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C98-9EB2-4F49-B305-6E453CB6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537-D139-4778-AC23-291D2970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01F-A76E-484C-8973-5D9F1384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9BB4-CB73-40CC-9925-462DFD7F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978B-7CD7-4887-9035-1C3BD30C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B9F1-CCA4-4970-8107-8DB2ED1A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91AA-170B-4452-AA4E-3663FF13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E3BA-E6F3-449A-BFBE-45732654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40B6-84E8-471A-9DD5-AA7080D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0FBE-A462-4BCE-A7AE-E669BD33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CF9-7B0B-4E94-AAD2-ECCCC40E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A1E7-F993-4B87-A57B-579C730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8FD6-AFC2-44CD-8C6A-1898546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B369-4188-4BD6-8C95-7D7427D4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9A1B-FC76-4914-97A7-29D04444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2371-4476-408A-B0D9-7F08A624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F583-EB78-41F2-BD24-C5D54D4C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FC32-A4DF-4283-AE1C-93456227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1F24-2455-4F16-8D8A-2E8C318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6D81-DFF3-4622-BDD4-E27F71DF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92B6-A3F2-427E-A93D-A88A5F4B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114-607A-4B83-8B3C-9C47391C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5F2F-F1E3-4418-BC3A-A9AD47BF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0005-DEC2-4230-BD0B-D4EA0188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0AAE-A8B4-44C2-B098-96B01AB3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A314-5D86-402F-AC99-6547A27C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2744-2D2E-4D9C-A8D2-1BD64759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0456A-814B-464A-93E8-BE96BB67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252F-6DB0-4903-89B3-34CA6A63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83B1-4EA2-4A18-B567-6AEDC51E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94AA3-F504-44D3-B5DE-DB42907D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0BF8-C6BA-47A0-BDAB-98A4A346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C1A-8666-4380-AF6F-C65A3573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AC5C-7731-47D4-A04F-5392A1A7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0DAF-BB3C-419E-8903-ED1DE3C5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0F1C-A3DD-4EF1-9664-D11B92C9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FFB2-A944-408D-844E-460F730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BE29-0FDB-40AE-883B-FB23B847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DDB8-4C5D-4C99-9CA3-E7D4A217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70F9D-2548-4EFF-8F14-D5529B5F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8A20-D12F-41D2-84FD-E2255C52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A462-11D3-41AE-A28D-23C5C50B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4DEDF-4B01-4416-BCD6-AED0D3C3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EF3-3392-4E9E-AB80-12040370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953B5-F2B4-4D43-8589-D0300C0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2026C-825A-4B4F-963C-3F515721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C4EFB-43A4-43B9-A731-7C3EF7F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D819-7FEF-4870-9995-DDA55AAD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8CED0-E796-4E62-BDD1-4F5D10E8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4CFE2-BF66-4526-99E2-1FB7D053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4B758-5325-4E5E-B528-CD91E20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C2C49-960D-4FA9-9C0E-9394DC4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7B0BF-AAC6-4F4B-BA41-166DA776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27DEB-D37C-4C39-8D57-D79F1E2C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9FB-45F6-479A-835E-7BB8945B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E396D-05F1-4C5A-8B5A-452317C1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B53-ECCD-4436-9C6E-B25E892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96A-28E5-4B8B-B28E-C8B02D76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6DD-E1C8-4801-B31D-AC714A7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C03E-FAAF-4E7E-8318-F53EDD8DB44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1532-96BC-46DF-B9C6-0D067D7E0CEA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D3BD-B05D-4D64-B3F0-332BD4A2AFD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867C-A615-4E49-A7A9-FE0AE90FA4F6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0038-F4D5-401A-9A9E-E4F1871E42C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Рисунок 3" descr="original.jpg"/>
          <p:cNvPicPr/>
          <p:nvPr/>
        </p:nvPicPr>
        <p:blipFill>
          <a:blip r:embed="rId2"/>
          <a:stretch/>
        </p:blipFill>
        <p:spPr>
          <a:xfrm>
            <a:off x="7394400" y="4230720"/>
            <a:ext cx="1749600" cy="2627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75091094_2222299_310371x450.jpg"/>
          <p:cNvPicPr/>
          <p:nvPr/>
        </p:nvPicPr>
        <p:blipFill>
          <a:blip r:embed="rId3"/>
          <a:stretch/>
        </p:blipFill>
        <p:spPr>
          <a:xfrm>
            <a:off x="0" y="0"/>
            <a:ext cx="2521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0663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дремучем лесу затерялась избушк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избушке живет непростая старушка -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ерет помело, да в ступу садится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 тут же над лесом взлетает, как птица!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689040" y="0"/>
            <a:ext cx="7235640" cy="1438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E:\Полина\0.1 Полина\Работа\Школа\2011-2012\2 класс\1 четверть\2 класс 2 урок\Баба Яга\73166015_baba_yaga.jpg"/>
          <p:cNvPicPr/>
          <p:nvPr/>
        </p:nvPicPr>
        <p:blipFill>
          <a:blip r:embed="rId2"/>
          <a:stretch/>
        </p:blipFill>
        <p:spPr>
          <a:xfrm>
            <a:off x="1752480" y="1295280"/>
            <a:ext cx="54864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2" descr=""/>
          <p:cNvPicPr/>
          <p:nvPr/>
        </p:nvPicPr>
        <p:blipFill>
          <a:blip r:embed="rId2"/>
          <a:stretch/>
        </p:blipFill>
        <p:spPr>
          <a:xfrm>
            <a:off x="426960" y="1536840"/>
            <a:ext cx="727236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4956120"/>
            <a:ext cx="8291520" cy="1451160"/>
          </a:xfrm>
          <a:prstGeom prst="rect">
            <a:avLst/>
          </a:prstGeom>
          <a:ln w="0">
            <a:noFill/>
          </a:ln>
        </p:spPr>
      </p:pic>
      <p:sp>
        <p:nvSpPr>
          <p:cNvPr id="227" name="Текст 5"/>
          <p:cNvSpPr/>
          <p:nvPr/>
        </p:nvSpPr>
        <p:spPr>
          <a:xfrm>
            <a:off x="608040" y="579600"/>
            <a:ext cx="3930480" cy="792000"/>
          </a:xfrm>
          <a:prstGeom prst="rect">
            <a:avLst/>
          </a:prstGeom>
          <a:gradFill rotWithShape="0">
            <a:gsLst>
              <a:gs pos="0">
                <a:srgbClr val="fbcc93"/>
              </a:gs>
              <a:gs pos="100000">
                <a:srgbClr val="ffc052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12600" dir="5400000" blurRad="0" rotWithShape="0">
              <a:srgbClr val="986d1f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Сергей Прокофь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Текст 6"/>
          <p:cNvSpPr/>
          <p:nvPr/>
        </p:nvSpPr>
        <p:spPr>
          <a:xfrm>
            <a:off x="4653000" y="579600"/>
            <a:ext cx="3930480" cy="792000"/>
          </a:xfrm>
          <a:prstGeom prst="rect">
            <a:avLst/>
          </a:prstGeom>
          <a:gradFill rotWithShape="0">
            <a:gsLst>
              <a:gs pos="0">
                <a:srgbClr val="e7a492"/>
              </a:gs>
              <a:gs pos="100000">
                <a:srgbClr val="f07b54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12600" dir="5400000" blurRad="0" rotWithShape="0">
              <a:srgbClr val="873f1d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Агния  Бар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Содержимое 3" descr="1292950404_prok.jpg"/>
          <p:cNvPicPr/>
          <p:nvPr/>
        </p:nvPicPr>
        <p:blipFill>
          <a:blip r:embed="rId2"/>
          <a:stretch/>
        </p:blipFill>
        <p:spPr>
          <a:xfrm>
            <a:off x="1295280" y="1447920"/>
            <a:ext cx="2532240" cy="34891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8" descr="176d28f31169.jpg"/>
          <p:cNvPicPr/>
          <p:nvPr/>
        </p:nvPicPr>
        <p:blipFill>
          <a:blip r:embed="rId3"/>
          <a:stretch/>
        </p:blipFill>
        <p:spPr>
          <a:xfrm>
            <a:off x="4653000" y="1717560"/>
            <a:ext cx="393048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2" descr=""/>
          <p:cNvPicPr/>
          <p:nvPr/>
        </p:nvPicPr>
        <p:blipFill>
          <a:blip r:embed="rId2"/>
          <a:stretch/>
        </p:blipFill>
        <p:spPr>
          <a:xfrm>
            <a:off x="231840" y="1390680"/>
            <a:ext cx="7845480" cy="47721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i.jpeg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5562720" cy="685800"/>
          </a:xfrm>
          <a:prstGeom prst="rect">
            <a:avLst/>
          </a:prstGeom>
          <a:gradFill rotWithShape="0">
            <a:gsLst>
              <a:gs pos="0">
                <a:srgbClr val="ffeae5"/>
              </a:gs>
              <a:gs pos="100000">
                <a:srgbClr val="ffc5b7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24840" dir="5400000" blurRad="0" rotWithShape="0">
              <a:srgbClr val="9a3302">
                <a:alpha val="38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олько их – один? Два?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Содержимое 3" descr="1235335044_17menuet2.jpg"/>
          <p:cNvPicPr/>
          <p:nvPr/>
        </p:nvPicPr>
        <p:blipFill>
          <a:blip r:embed="rId1"/>
          <a:stretch/>
        </p:blipFill>
        <p:spPr>
          <a:xfrm>
            <a:off x="1219320" y="2057400"/>
            <a:ext cx="5715000" cy="4524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609480" y="1752480"/>
            <a:ext cx="6096240" cy="64260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го изобразила эта музыка: мужчину или женщ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2438280" y="1143000"/>
            <a:ext cx="5334120" cy="64260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то они будут – петь, танцевать, марш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7284960" cy="1457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Менуэт» в переводе – маленький шаг, старинный французский танец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Рисунок 3" descr="b5ece8a32579.jpg"/>
          <p:cNvPicPr/>
          <p:nvPr/>
        </p:nvPicPr>
        <p:blipFill>
          <a:blip r:embed="rId2"/>
          <a:stretch/>
        </p:blipFill>
        <p:spPr>
          <a:xfrm>
            <a:off x="1600200" y="2819520"/>
            <a:ext cx="46483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7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http://brain-music.ru/uploads/images/v/o/l/volfgang_amadej_motsart.jpg"/>
          <p:cNvPicPr/>
          <p:nvPr/>
        </p:nvPicPr>
        <p:blipFill>
          <a:blip r:embed="rId3"/>
          <a:stretch/>
        </p:blipFill>
        <p:spPr>
          <a:xfrm>
            <a:off x="1981080" y="1609560"/>
            <a:ext cx="441036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238880" cy="1143000"/>
          </a:xfrm>
          <a:prstGeom prst="rect">
            <a:avLst/>
          </a:prstGeom>
          <a:gradFill rotWithShape="0">
            <a:gsLst>
              <a:gs pos="0">
                <a:srgbClr val="fbcc93"/>
              </a:gs>
              <a:gs pos="100000">
                <a:srgbClr val="ffc052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5560" dir="5400000" blurRad="0" rotWithShape="0">
              <a:srgbClr val="986d1f">
                <a:alpha val="83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В каком характере звучит музыка?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7242120" cy="498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029200" cy="54900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Какая здесь мелодия?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819520" y="2133720"/>
            <a:ext cx="5486400" cy="8380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 ком она рассказывает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990720" y="3809880"/>
            <a:ext cx="5333760" cy="825480"/>
          </a:xfrm>
          <a:prstGeom prst="rect">
            <a:avLst/>
          </a:prstGeom>
          <a:gradFill rotWithShape="0">
            <a:gsLst>
              <a:gs pos="0">
                <a:srgbClr val="fce8ed"/>
              </a:gs>
              <a:gs pos="100000">
                <a:srgbClr val="f0bec9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кой характер у этого незнаком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дмитрий</cp:lastModifiedBy>
  <dcterms:modified xsi:type="dcterms:W3CDTF">2017-05-27T06:13:28Z</dcterms:modified>
  <cp:revision>19</cp:revision>
  <dc:subject/>
  <dc:title>Музыкальные портреты</dc:title>
</cp:coreProperties>
</file>