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853-432C-45F2-8667-BFAC1366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FAE-1E4F-4250-A776-5FA024D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E3C-4346-4F9B-8630-734675E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413-0524-4C84-9209-1AF495BA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FA51-3F9E-4F2B-8F38-F394803E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46A-1D54-4A05-818D-2D4A4EBE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FFA1-7D7E-4669-B274-A87EBC6B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C6F7-518D-4D51-9682-82D7C50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A2CB-C072-48BB-91D1-D54ADEDC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041-1615-4AAD-B921-FDD18A6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B1D-5633-4C01-9487-296CCF6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73F-3817-460C-A0A2-4F7444B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8F24-09FE-46C0-9AE7-1CEF774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6F9-137C-4774-BD24-3EE0AEA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E5B-98C6-4334-A4DA-6401961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8A3-E202-42D7-9A31-70239663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49AB-093C-4AE9-9E61-11C41E4D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2031-609D-4773-8C82-A22EE2AD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F31D-3F26-4E0E-AC08-4BD17BA2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55B7-06CE-4066-8D56-367403B2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6AAF-3AB1-4005-A6C4-661D2500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1BD6-044E-4B49-9741-1FF7A7D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9F2-040B-4F0F-9473-166CEAD6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11DB-B905-40DE-ACB1-55BC758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BEED-5C9B-4C08-8F64-F271FB2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7C9D-6DB9-457A-92BB-FE62F7C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0174-3BA1-4214-9D73-909610F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87D3-3EC2-4A87-9A3E-85E9570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5C68-D3B7-438B-9CBF-8133153F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D6FE-9BBF-4C07-89CD-DA41B6B0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75D5-1F90-4145-AAFA-9CB7DB3E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C591-6F92-4779-B0A8-06D1CB1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E159-B3D7-4F2B-9415-7288643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5C7-0057-4219-B1FE-98F7AE94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A905-A5B0-45D7-8844-AE2B1AA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3F74-AFA5-40A5-AE43-E3FE4CC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DD3C-040A-4BAB-B161-89811BB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CC636-92CB-49DB-BBF1-5C652FF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AE35-438C-42ED-98B0-37423AA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85E9-4D51-42C4-8045-826FD79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D50E-08E5-44DD-89A0-D9485AF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EF60-FB94-4C9D-BC38-060BDBEF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3075E-B724-4109-BD23-BFD196B3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AA54-7A26-4771-8617-5FC0D2A9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B62-171F-4D36-8AF6-4FA11BB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82AC8-1A64-44C9-87F7-1A3B128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630D-0E5E-471A-AE08-01D7099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7DE2-11DB-4B29-AF54-DCBCA7D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6FBA-7D98-4959-A94A-55D76A8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8BF7-09B8-4C42-80F4-C07C39AC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4D6D2-9B10-46CC-B117-F4B3470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804E-B9C3-4C8D-99DC-86DF9F4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915A0-A415-481D-9C5F-5224B7E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2B31-D253-4DCE-A908-87AA771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46ED-1FCE-4CF7-AA6D-B2F0BBC6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F5F-BEBE-46D1-881F-2F2E0176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1C27-23E1-4CD5-8713-30C51429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9C9-82B3-40E0-A042-0778760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8AC-3FAA-4B7B-A1E0-C62222E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187-D3A4-4637-8A04-A0DD1F2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7BB-ECFA-46C0-9E7E-D251F05A739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3723-78CE-479F-A74F-9119B37F9E7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651-51BD-4613-B1B3-7D01AD05871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F704-5F67-4652-B93F-D4C0B0B1AD84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E31-5C59-4335-A975-6CE51C2E9E4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Рисунок 3" descr="original.jpg"/>
          <p:cNvPicPr/>
          <p:nvPr/>
        </p:nvPicPr>
        <p:blipFill>
          <a:blip r:embed="rId2"/>
          <a:stretch/>
        </p:blipFill>
        <p:spPr>
          <a:xfrm>
            <a:off x="7394400" y="4230720"/>
            <a:ext cx="1749600" cy="2627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75091094_2222299_310371x450.jpg"/>
          <p:cNvPicPr/>
          <p:nvPr/>
        </p:nvPicPr>
        <p:blipFill>
          <a:blip r:embed="rId3"/>
          <a:stretch/>
        </p:blipFill>
        <p:spPr>
          <a:xfrm>
            <a:off x="0" y="0"/>
            <a:ext cx="252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0663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дремучем лесу затерялась избуш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избушке живет непростая старушка -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рет помело, да в ступу садится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 тут же над лесом взлетает, как птица!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689040" y="0"/>
            <a:ext cx="7235640" cy="1438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E:\Полина\0.1 Полина\Работа\Школа\2011-2012\2 класс\1 четверть\2 класс 2 урок\Баба Яга\73166015_baba_yaga.jpg"/>
          <p:cNvPicPr/>
          <p:nvPr/>
        </p:nvPicPr>
        <p:blipFill>
          <a:blip r:embed="rId2"/>
          <a:stretch/>
        </p:blipFill>
        <p:spPr>
          <a:xfrm>
            <a:off x="1752480" y="1295280"/>
            <a:ext cx="54864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36840"/>
            <a:ext cx="72723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4956120"/>
            <a:ext cx="8291520" cy="1451160"/>
          </a:xfrm>
          <a:prstGeom prst="rect">
            <a:avLst/>
          </a:prstGeom>
          <a:ln w="0">
            <a:noFill/>
          </a:ln>
        </p:spPr>
      </p:pic>
      <p:sp>
        <p:nvSpPr>
          <p:cNvPr id="227" name="Текст 5"/>
          <p:cNvSpPr/>
          <p:nvPr/>
        </p:nvSpPr>
        <p:spPr>
          <a:xfrm>
            <a:off x="608040" y="579600"/>
            <a:ext cx="3930480" cy="792000"/>
          </a:xfrm>
          <a:prstGeom prst="rect">
            <a:avLst/>
          </a:prstGeom>
          <a:gradFill rotWithShape="0">
            <a:gsLst>
              <a:gs pos="0">
                <a:srgbClr val="fbcc93"/>
              </a:gs>
              <a:gs pos="100000">
                <a:srgbClr val="ffc052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12600" dir="5400000" blurRad="0" rotWithShape="0">
              <a:srgbClr val="986d1f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ергей Прокофь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Текст 6"/>
          <p:cNvSpPr/>
          <p:nvPr/>
        </p:nvSpPr>
        <p:spPr>
          <a:xfrm>
            <a:off x="4653000" y="579600"/>
            <a:ext cx="3930480" cy="7920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12600" dir="5400000" blurRad="0" rotWithShape="0">
              <a:srgbClr val="873f1d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Агния  Бар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Содержимое 3" descr="1292950404_prok.jpg"/>
          <p:cNvPicPr/>
          <p:nvPr/>
        </p:nvPicPr>
        <p:blipFill>
          <a:blip r:embed="rId2"/>
          <a:stretch/>
        </p:blipFill>
        <p:spPr>
          <a:xfrm>
            <a:off x="1295280" y="1447920"/>
            <a:ext cx="2532240" cy="34891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8" descr="176d28f31169.jpg"/>
          <p:cNvPicPr/>
          <p:nvPr/>
        </p:nvPicPr>
        <p:blipFill>
          <a:blip r:embed="rId3"/>
          <a:stretch/>
        </p:blipFill>
        <p:spPr>
          <a:xfrm>
            <a:off x="4653000" y="1717560"/>
            <a:ext cx="39304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231840" y="1390680"/>
            <a:ext cx="7845480" cy="4772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i.jpeg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5562720" cy="685800"/>
          </a:xfrm>
          <a:prstGeom prst="rect">
            <a:avLst/>
          </a:prstGeom>
          <a:gradFill rotWithShape="0">
            <a:gsLst>
              <a:gs pos="0">
                <a:srgbClr val="ffeae5"/>
              </a:gs>
              <a:gs pos="100000">
                <a:srgbClr val="ffc5b7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4840" dir="5400000" blurRad="0" rotWithShape="0">
              <a:srgbClr val="9a3302">
                <a:alpha val="38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их – один? Два?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Содержимое 3" descr="1235335044_17menuet2.jpg"/>
          <p:cNvPicPr/>
          <p:nvPr/>
        </p:nvPicPr>
        <p:blipFill>
          <a:blip r:embed="rId1"/>
          <a:stretch/>
        </p:blipFill>
        <p:spPr>
          <a:xfrm>
            <a:off x="1219320" y="2057400"/>
            <a:ext cx="5715000" cy="4524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609480" y="1752480"/>
            <a:ext cx="6096240" cy="64260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го изобразила эта музыка: мужчину или женщ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2438280" y="1143000"/>
            <a:ext cx="5334120" cy="6426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 они будут – петь, танцевать, марш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7284960" cy="145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Менуэт» в переводе – маленький шаг, старинный французский тане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3" descr="b5ece8a32579.jpg"/>
          <p:cNvPicPr/>
          <p:nvPr/>
        </p:nvPicPr>
        <p:blipFill>
          <a:blip r:embed="rId2"/>
          <a:stretch/>
        </p:blipFill>
        <p:spPr>
          <a:xfrm>
            <a:off x="1600200" y="2819520"/>
            <a:ext cx="4648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7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http://brain-music.ru/uploads/images/v/o/l/volfgang_amadej_motsart.jpg"/>
          <p:cNvPicPr/>
          <p:nvPr/>
        </p:nvPicPr>
        <p:blipFill>
          <a:blip r:embed="rId3"/>
          <a:stretch/>
        </p:blipFill>
        <p:spPr>
          <a:xfrm>
            <a:off x="1981080" y="1609560"/>
            <a:ext cx="44103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143000"/>
          </a:xfrm>
          <a:prstGeom prst="rect">
            <a:avLst/>
          </a:prstGeom>
          <a:gradFill rotWithShape="0">
            <a:gsLst>
              <a:gs pos="0">
                <a:srgbClr val="fbcc93"/>
              </a:gs>
              <a:gs pos="100000">
                <a:srgbClr val="ffc052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5560" dir="5400000" blurRad="0" rotWithShape="0">
              <a:srgbClr val="986d1f">
                <a:alpha val="83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В каком характере звучит музыка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7242120" cy="498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029200" cy="54900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Какая здесь мелодия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19520" y="2133720"/>
            <a:ext cx="5486400" cy="8380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 ком она рассказыва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990720" y="3809880"/>
            <a:ext cx="5333760" cy="82548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ой характер у этого незнаком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дмитрий</cp:lastModifiedBy>
  <dcterms:modified xsi:type="dcterms:W3CDTF">2017-05-27T06:13:28Z</dcterms:modified>
  <cp:revision>19</cp:revision>
  <dc:subject/>
  <dc:title>Музыкальные портреты</dc:title>
</cp:coreProperties>
</file>