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3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32C4-4497-4B14-91AF-9F3E2581D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9F93-C0CB-4906-8140-2D96A8DA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7D07-1AAD-4B61-85B4-C94E951DD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F665-D375-401B-B72A-F9B71091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B3EA-F357-48B6-BBE5-A08439A4D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2F71-DF3F-4A3C-B633-8D02B7A5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888B-A33A-43C6-A11D-5A28B726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1AEE-B010-468D-B86C-91100C2B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B0CA-CB0F-4D4C-912D-6BAB891B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AE6C-F836-48A4-AAA5-C4AA57FF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C610-9AA1-4757-84B5-49F0A177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B82D-A49D-400C-8F9E-90579B56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5D23-DCC2-4344-810A-561D5357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C2FB-A0FA-4261-9ADE-ABC08468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627D-2F58-4D33-8208-C5C029C4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F76C-5B83-436E-AFCD-D5C5C39E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B3E9-4836-4B33-B0A2-3108D4F9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EB40-AB9E-4967-A68F-C8DFF4DC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18EE-3BFB-4844-BC5D-71BA7D79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74A0-F240-43C8-AF51-B5996824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5647-83C0-426D-8079-2D5AF55A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6CD8-22CC-4856-8F9F-50161278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D3FF-CDD2-405C-A20A-E5EDC3E6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A36D-E3C3-4CA5-87FB-5EE8D641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5771-7049-4EC2-A0B3-DFFE11F7579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5103-8E64-45DC-971A-0AB8B3A5E72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32000" y="6021360"/>
            <a:ext cx="640080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</a:rPr>
              <a:t>Выполнила: обучающаяся 8 «Б» класса Макеенкова  Марина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</a:rPr>
              <a:t>Руководитель: учитель физической культуры Карасев Сергей Петрович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Заголовок 3" descr=""/>
          <p:cNvPicPr/>
          <p:nvPr/>
        </p:nvPicPr>
        <p:blipFill>
          <a:blip r:embed="rId1"/>
          <a:stretch/>
        </p:blipFill>
        <p:spPr>
          <a:xfrm>
            <a:off x="165240" y="328680"/>
            <a:ext cx="9204120" cy="4535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G:\PICTURES\Photos\19.12.2011\DCIM\271CANON\IMG_7102.JPG"/>
          <p:cNvPicPr/>
          <p:nvPr/>
        </p:nvPicPr>
        <p:blipFill>
          <a:blip r:embed="rId1"/>
          <a:stretch/>
        </p:blipFill>
        <p:spPr>
          <a:xfrm>
            <a:off x="4788000" y="3645000"/>
            <a:ext cx="4105080" cy="307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4" name="Picture 5" descr="I:\Рабочий стол\2.jpg"/>
          <p:cNvPicPr/>
          <p:nvPr/>
        </p:nvPicPr>
        <p:blipFill>
          <a:blip r:embed="rId2"/>
          <a:stretch/>
        </p:blipFill>
        <p:spPr>
          <a:xfrm>
            <a:off x="285840" y="714240"/>
            <a:ext cx="4162320" cy="5572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I:\Рабочий стол\3.jpg"/>
          <p:cNvPicPr/>
          <p:nvPr/>
        </p:nvPicPr>
        <p:blipFill>
          <a:blip r:embed="rId3"/>
          <a:stretch/>
        </p:blipFill>
        <p:spPr>
          <a:xfrm>
            <a:off x="4786200" y="285840"/>
            <a:ext cx="4095720" cy="3076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C:\Users\Вит\Desktop\скалиоз.jpg"/>
          <p:cNvPicPr/>
          <p:nvPr/>
        </p:nvPicPr>
        <p:blipFill>
          <a:blip r:embed="rId1"/>
          <a:stretch/>
        </p:blipFill>
        <p:spPr>
          <a:xfrm>
            <a:off x="5796000" y="4292640"/>
            <a:ext cx="3203640" cy="2421000"/>
          </a:xfrm>
          <a:prstGeom prst="rect">
            <a:avLst/>
          </a:prstGeom>
          <a:ln w="0">
            <a:noFill/>
          </a:ln>
        </p:spPr>
      </p:pic>
      <p:pic>
        <p:nvPicPr>
          <p:cNvPr id="107" name="Заголовок 1" descr=""/>
          <p:cNvPicPr/>
          <p:nvPr/>
        </p:nvPicPr>
        <p:blipFill>
          <a:blip r:embed="rId2"/>
          <a:stretch/>
        </p:blipFill>
        <p:spPr>
          <a:xfrm>
            <a:off x="3651120" y="249120"/>
            <a:ext cx="5548320" cy="2249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79280" y="2708280"/>
            <a:ext cx="85075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омогает преодолевать трудности в учебе и повышает работоспособность 3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оздает хорошее настроение 2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ерестал ждать перемены 5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уроки проходят быстрее 6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уроки стали интереснее 7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улучшились учебные результаты 8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2" descr="C:\Users\Вит\Desktop\x_38a2d18d.jpg"/>
          <p:cNvPicPr/>
          <p:nvPr/>
        </p:nvPicPr>
        <p:blipFill>
          <a:blip r:embed="rId3"/>
          <a:stretch/>
        </p:blipFill>
        <p:spPr>
          <a:xfrm>
            <a:off x="395280" y="171360"/>
            <a:ext cx="3240000" cy="2430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53964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систематизировала знания, факты, провела и определила их место в системе уже имеющихся знаний о ЗОЖ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старалась способствовать формированию осознанного отношения к своему здоровью у учащихся и взрослых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стремилась помочь учащимся адаптироваться в школьной жизни, бороться с вредными привычками, а также вести профилактику их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способствовала систематической спортивно-оздоровительной работе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учила детей быть здоровыми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проводя исследования, я приобрела навыки самоанализа, научилась поиску информации, её структурированию, выделению главного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С интересом провела исследования санитарно-гигиенического состояния школы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я научилась анализировать свою исследовательскую деятельность, обдумывать, как внедрить идеи личной ответственности к экологической проблеме, своему здоровью и здоровью окружающих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выполняя проект, я поняла, что проблем и в школе, и дома по сохранению ЗОЖ много и решать их надо всем совместно, поэтому здесь нужна активная жизненная позиция, в том числе и моя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ffffff"/>
                </a:solidFill>
                <a:uFillTx/>
                <a:latin typeface="Times New Roman"/>
              </a:rPr>
              <a:t>Я пришла к выводу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в нашей школе хорошие условия для успешной учебы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требования к учебно-воспитательному процессу соблюдается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проанализировав анкеты учащихся, я поняла, что проблем много и решать будем их вместе с педколлективом, родителями и учащимися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все результаты исследований доведены до администрации школы, родителей, учащихся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262080" y="268200"/>
            <a:ext cx="8705880" cy="1158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I:\Рабочий стол\1.jpg"/>
          <p:cNvPicPr/>
          <p:nvPr/>
        </p:nvPicPr>
        <p:blipFill>
          <a:blip r:embed="rId2"/>
          <a:stretch/>
        </p:blipFill>
        <p:spPr>
          <a:xfrm>
            <a:off x="857160" y="1214280"/>
            <a:ext cx="7172280" cy="5400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Журналы: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Классный руководитель» № 1. 200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Физкультура в школе» № 1, 2 2004. № 2, 3, 4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ниги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.Г. Хрипкова, Д.В. Колесов «Гигиена и здоровье школьника» М. «Просвещение» 1988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.К. Маркова, Т.А. Матис, А.Б. Орлов «Формирование мотивации учения» М. «Просвещение» 199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.В. Чижевский «Как победить остеохондроз» М. «Советский спорт» 199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.А. Обухова, Н.А. Лемяскина, О.Е. Жиренко «Новые 135 уроков здоровья, школа или докторов природы» М. «ВАКО». 2008С.М. Громбах «Школа и психическое здоровье учащихся» М. «Медицина» 1988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.С. Ротенберг, С.М. Бондаренко «Мозг. Обучение. Здоровье» М. «Просвещение» 1989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.М. Безруких и В.Д. Сонькина «Организация и оценка здоровьесберегающей деятельности образовательных учреждений» М. 2004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.Т. Белякова «Фигура, грация, осанка» М. «Просвещение» 1978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.И. Дереклеева «Двигательные игры, тренинги и уроки здоровья» Москва. «ВАКО». 200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ль С. Брэгг «Нервная сила» (лечение без лекарств) М. 199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2048040" y="109440"/>
            <a:ext cx="5133960" cy="1152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9528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Введение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Основная часть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Глава 1. Здоровьесберегающая среда школы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1.1.. Рациональная организация учебного процесса. Мотивация учения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1.2.Рациональная организация труда и отдыха учащихся и педагогов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1.3.Примерный объём двигательной активности. Домашние задания в двигательный режим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1.4. Требования к спортивным залам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1.5. Требование к оснащению образовательного процесса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1.6. Психологический комфорт обучения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1.7. Как школьные будни меняют детей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2.Здоровьесберегающая среда дома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2.1. Рациональное питание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2.2. Соблюдение режима дня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2.3. Компьютер и мобильный телефон в жизни школьника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2.4. Экология дома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2.5. ЗОЖ семьи, борьба с вредными привычками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Глава 2. Исследования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Заключение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Литература</a:t>
            </a:r>
            <a:r>
              <a:rPr b="0" i="1" lang="ru-RU" sz="15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действие всем учащимся в приобретении знаний, умений, навыков, необходимых для формирования устойчивости мотивации на здоровье и здоровый образ жизн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крепление здоровья учащихс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рмирование физически и духовно здоровых личносте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ведение комплексной диагностики, исследовани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рмирование базы данных о состоянии здоровья дет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оздание необходимых оптимальных условий, способствующих реализации основных целей проекта, и формирование здоровьесберегающей среды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разработка и реализация индивидуальных программ оздоровления учащихся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оптимизация учебно-воспитательного процесса на валеологической основе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Times New Roman"/>
              </a:rPr>
              <a:t>Прогнозируемый результат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отработается механизм совместной деятельности школы и семьи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укрепится материально-техническая база школы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улучшится здоровьесберегающая среда школы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формируются основы здоровьесберегающей культуры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улучшится здоровье детей и взрослых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26960" y="-182520"/>
            <a:ext cx="8515440" cy="1609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-1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тавленные в проекте цели будут достигнуты следующими методам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7480" indent="-18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оретическими (анализ методической литературы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7480" indent="-18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мпирическими (наблюдение, диагностика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7480" indent="-18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атистическими (обработка и анализ результатов исследования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7480" indent="-18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611280" y="1557360"/>
          <a:ext cx="7921440" cy="4106880"/>
        </p:xfrm>
        <a:graphic>
          <a:graphicData uri="http://schemas.openxmlformats.org/drawingml/2006/table">
            <a:tbl>
              <a:tblPr/>
              <a:tblGrid>
                <a:gridCol w="3722760"/>
                <a:gridCol w="420480"/>
                <a:gridCol w="3778200"/>
              </a:tblGrid>
              <a:tr h="77436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й класс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льчики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– рост 122-134, вес– от 25 до 35 кг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вочки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– рост 125-134, вес 22-35 кг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-й класс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Юноши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рост 170-190, вес 65-90 кг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вушки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– рост 165-180, вес – 50-75 кг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 годы обучения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рвно- психические расстройства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– в </a:t>
                      </a: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раза (страдает </a:t>
                      </a: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школьников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болеваемость органов зрения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растает в </a:t>
                      </a: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-5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раз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страдает не менее </a:t>
                      </a: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школьников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болевания эндокринной системы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– в </a:t>
                      </a: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раз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36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орно-двигательного аппарата и костно-мышечной системы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– в </a:t>
                      </a: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-5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раз (страдает более </a:t>
                      </a: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нарушением осанки-</a:t>
                      </a: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болевания туберкулезом-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в </a:t>
                      </a: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раза (</a:t>
                      </a: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5%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детей в выпускных классах болеют туберкулезом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ов пищеварения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– в </a:t>
                      </a: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раза (страдает не менее </a:t>
                      </a: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% девушек имеют хронические заболевания, которые впоследствии могут повлиять на репродуктивную сферу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3773520" y="268200"/>
            <a:ext cx="5126040" cy="201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539640" y="2421000"/>
          <a:ext cx="8353440" cy="3097080"/>
        </p:xfrm>
        <a:graphic>
          <a:graphicData uri="http://schemas.openxmlformats.org/drawingml/2006/table">
            <a:tbl>
              <a:tblPr/>
              <a:tblGrid>
                <a:gridCol w="2448000"/>
                <a:gridCol w="1368360"/>
                <a:gridCol w="647640"/>
                <a:gridCol w="576360"/>
                <a:gridCol w="576360"/>
                <a:gridCol w="647640"/>
                <a:gridCol w="647640"/>
                <a:gridCol w="792360"/>
                <a:gridCol w="649080"/>
              </a:tblGrid>
              <a:tr h="387360">
                <a:tc rowSpan="2"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ий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23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зетивно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зразличное Отрицательно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Rectangle 1"/>
          <p:cNvSpPr/>
          <p:nvPr/>
        </p:nvSpPr>
        <p:spPr>
          <a:xfrm>
            <a:off x="539640" y="580752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Отношение к школе у детей в основном позитивное, хотя 6% учащихся относятся  к школе отрицатель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2" descr="C:\Users\Вит\Desktop\1295510739_skolniex.jpg"/>
          <p:cNvPicPr/>
          <p:nvPr/>
        </p:nvPicPr>
        <p:blipFill>
          <a:blip r:embed="rId2"/>
          <a:stretch/>
        </p:blipFill>
        <p:spPr>
          <a:xfrm>
            <a:off x="539640" y="189000"/>
            <a:ext cx="3132360" cy="2087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Вит\Desktop\0015-015-SHkolnaja-motivatsij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Users\Вит\Desktop\3500431.jpg"/>
          <p:cNvPicPr/>
          <p:nvPr/>
        </p:nvPicPr>
        <p:blipFill>
          <a:blip r:embed="rId1"/>
          <a:stretch/>
        </p:blipFill>
        <p:spPr>
          <a:xfrm>
            <a:off x="395280" y="115920"/>
            <a:ext cx="2881440" cy="1873080"/>
          </a:xfrm>
          <a:prstGeom prst="rect">
            <a:avLst/>
          </a:prstGeom>
          <a:ln w="0">
            <a:noFill/>
          </a:ln>
        </p:spPr>
      </p:pic>
      <p:pic>
        <p:nvPicPr>
          <p:cNvPr id="100" name="Заголовок 1" descr=""/>
          <p:cNvPicPr/>
          <p:nvPr/>
        </p:nvPicPr>
        <p:blipFill>
          <a:blip r:embed="rId2"/>
          <a:stretch/>
        </p:blipFill>
        <p:spPr>
          <a:xfrm>
            <a:off x="3054240" y="237960"/>
            <a:ext cx="5881680" cy="161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395280" y="2133720"/>
          <a:ext cx="8353440" cy="3527280"/>
        </p:xfrm>
        <a:graphic>
          <a:graphicData uri="http://schemas.openxmlformats.org/drawingml/2006/table">
            <a:tbl>
              <a:tblPr/>
              <a:tblGrid>
                <a:gridCol w="939960"/>
                <a:gridCol w="938160"/>
                <a:gridCol w="1314360"/>
                <a:gridCol w="1316160"/>
                <a:gridCol w="1314360"/>
                <a:gridCol w="2530440"/>
              </a:tblGrid>
              <a:tr h="961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-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нк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та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увству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бя нормаль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увству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бя всег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орош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4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Rectangle 1"/>
          <p:cNvSpPr/>
          <p:nvPr/>
        </p:nvSpPr>
        <p:spPr>
          <a:xfrm>
            <a:off x="684360" y="573552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вод: 45,8% детей устают во время обучения, 42,2% чувствуют себя нормально, 12% чувствуют всегда хорош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10:54:32Z</dcterms:created>
  <dc:creator>vi</dc:creator>
  <dc:description/>
  <dc:language>en-US</dc:language>
  <cp:lastModifiedBy>vit</cp:lastModifiedBy>
  <dcterms:modified xsi:type="dcterms:W3CDTF">2017-05-27T11:39:45Z</dcterms:modified>
  <cp:revision>25</cp:revision>
  <dc:subject/>
  <dc:title>Исследовательская работа по физической культуре    на тему: «Создание здоровьесберегающей среды для обучающихся»</dc:title>
</cp:coreProperties>
</file>