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9511A-7885-4ADE-86E1-FCC74417B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1C0D2-DDBB-4F00-BCB4-D571A411B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B5F80-D9C5-4C97-A9D0-C3762F545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23333-0777-41F5-B301-C6BE85B2D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25781-D51D-4A6D-A8EB-47F13621F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6BB0A-A3D9-432C-AF29-9F6B9760D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04E77-6D9E-4F8C-936F-7422205A9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4602C-7DC4-4070-AB9D-08C9EC5A5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09411-DD38-41C6-91C2-56C0ACF75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D9F87-6687-48F4-ADE2-A95F6EDD9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72B88-EAB9-43FE-B6C4-F4B2236EC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FECBB-5B7D-4231-8917-5B8EEB26B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F343A-44A4-4DF9-9C0C-3FF995DC6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A62D6-C7BF-436F-9B25-9B01955C5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F4A02-B52E-4B3A-90FF-D2ED42BDD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4C18E-7D33-4038-A571-3C213BF71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1A842-0BC5-460E-B58E-66959AFE0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BF89E-9A58-446C-BE93-B765BB4F9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898E2-6972-4AEE-AE7D-C1456D8C8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16548-247C-4069-86F7-3FFB8512E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7E60C-AFA5-40CB-8486-9635F2BD9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E4A5F-98B6-4873-84C4-7B03F0FED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43C05-4D27-4433-8E1D-145C3EC67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AD370-92A9-4ED0-8C1D-A23F9C94A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98DF3-F1AB-4B30-BD9D-509B63012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8341-7EAD-47EA-AB5C-5B50F37A7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F5DD-4EF1-413B-8648-503F7663C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238F-057B-4432-9F8B-AA4DFBD19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EE07-AECC-4125-89D4-25B97276E1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04A1-C869-4BF9-A546-33D9F2F136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98D6-8241-4882-B51A-39AA37B51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198C-6812-4FB9-A040-8054AABC6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D674-155B-4B0C-8655-67AC837B5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3A5E-09B5-477D-A0A1-07BB806CD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092D-5D45-4883-815F-6F7920934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4F67-C3EE-4856-8DEE-BDCE15F0D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C6CE-16E8-4765-9B47-B70B3494B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011D0C-6446-406F-9DC1-1495B71A11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260360" y="2519280"/>
            <a:ext cx="3780000" cy="4319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539640" y="708120"/>
            <a:ext cx="90709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узыкальные иллюстрации Г.В.Свиридова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 повести А. С. Пушкина "Метель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558800" y="1979640"/>
            <a:ext cx="3660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звуки валь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859280" y="5719680"/>
            <a:ext cx="3780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няя дор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400720" y="720720"/>
            <a:ext cx="3959280" cy="28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260360" y="3959280"/>
            <a:ext cx="3780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720720" y="3887640"/>
            <a:ext cx="907092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rmAutofit/>
          </a:bodyPr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к что же объединяет А. С. Пушкина и Г.В. Свиридов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.Любовь к Родине, русскому народу, его культуре, традициям, простым человеческим чувствам. Всё это выражено глубоко, по-русски задушевно как у великого поэта А.С.Пушкина, так и в музыке Свиридо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3600360" y="439560"/>
            <a:ext cx="2502000" cy="33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289080" y="689040"/>
            <a:ext cx="907092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rmAutofit/>
          </a:bodyPr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ушая музыку Свиридова так и видишь бесконечные заснеженные просторы России, занесенную дорогу, и по ней мчится вдаль русская трой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и преодолевают снежную пелену, ямщик напряженно вглядывается вдаль, а путник, укутанный в теплую шубу, мирно дремлет под однозвучную песню русского колокольчика. Метель! Как бы беде не случиться, не сбиться с дорог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879640" y="3240000"/>
            <a:ext cx="5040360" cy="39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700360" y="2340000"/>
            <a:ext cx="4680000" cy="485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63440" y="104760"/>
            <a:ext cx="2716200" cy="295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6648480" y="179280"/>
            <a:ext cx="32526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42880" y="1843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ой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5580000" y="1440000"/>
            <a:ext cx="414036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rm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и мчатся по бугр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пчут снег глубокий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т, в сторонке божий хр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ден одинокий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друг метелица круг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ег валит клок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ный вран, свистя крыло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ьется над сан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щий стон гласит печал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и торопли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тко смотрят в темну дал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дымая гривы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ук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03280" y="2340000"/>
            <a:ext cx="5075280" cy="3570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9180360" y="6480000"/>
            <a:ext cx="5493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01 - Г. Свиридов - Метель - Тройка.mp3" descr=""/>
          <p:cNvPicPr/>
          <p:nvPr/>
        </p:nvPicPr>
        <p:blipFill>
          <a:blip r:embed="rId2"/>
          <a:stretch/>
        </p:blipFill>
        <p:spPr>
          <a:xfrm>
            <a:off x="9255240" y="6566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99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ль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900000" y="1940040"/>
            <a:ext cx="8460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rmAutofit/>
          </a:bodyPr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мелодия – легкая, игривая, полет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торая – яркая, празднич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тья – энергичная, торжествен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800360" y="3789360"/>
            <a:ext cx="6840360" cy="3411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9171000" y="6675480"/>
            <a:ext cx="549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9326520" y="6851520"/>
            <a:ext cx="30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02 - Г. Свиридов - Метель - Вальс.mp3" descr=""/>
          <p:cNvPicPr/>
          <p:nvPr/>
        </p:nvPicPr>
        <p:blipFill>
          <a:blip r:embed="rId2"/>
          <a:stretch/>
        </p:blipFill>
        <p:spPr>
          <a:xfrm>
            <a:off x="9398160" y="6923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582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нч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360360" y="1917720"/>
            <a:ext cx="648000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rm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Я вошел в церковь, слабо освещенную двумя или тремя свечами. Девушка сидела на лавочке в темном углу церкви; другая терла ей виск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ый священник подошел ко мне с вопросом: "Прикажете начинать?" - "Начинайте, начинайте, батюшка", - отвечал я рассеянно. Девушку подняли. Она показалась мне недурна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онятная, непростительная ветренность... я стал подле нее перед налоем; священник торопился; трое мужчин и горничная поддерживали невесту и заняты были только ею. Нас обвенча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Поцелуйтесь", - сказали нам. Жена моя обратила ко мне бледное свое лицо. Я хотел было ее поцеловать... Она вскрикнула: "Ай, не он! не он!"  - и упала без памяти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7051680" y="1979640"/>
            <a:ext cx="2666880" cy="49896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291360" y="6840360"/>
            <a:ext cx="549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07 - Г. Свиридов - Метель - Венчание.mp3" descr=""/>
          <p:cNvPicPr/>
          <p:nvPr/>
        </p:nvPicPr>
        <p:blipFill>
          <a:blip r:embed="rId2"/>
          <a:stretch/>
        </p:blipFill>
        <p:spPr>
          <a:xfrm>
            <a:off x="639756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324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сна и ос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328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15160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50328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754200" y="2779560"/>
            <a:ext cx="4105080" cy="393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5397480" y="2779560"/>
            <a:ext cx="4070520" cy="3902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8999640" y="665964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03 - Г. Свиридов - Метель - Весна. Осень.mp3" descr=""/>
          <p:cNvPicPr/>
          <p:nvPr/>
        </p:nvPicPr>
        <p:blipFill>
          <a:blip r:embed="rId3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7524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стора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79280" y="2879640"/>
            <a:ext cx="97203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rmAutofit/>
          </a:bodyPr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астораль в переводе с латинского означает "пастушечий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музыкальное произведение, рисующее сцены безмятежной сельской жизни, картины приро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519280" y="4500720"/>
            <a:ext cx="5400720" cy="2382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7662960" y="992160"/>
            <a:ext cx="2057400" cy="13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8280360" y="4859280"/>
            <a:ext cx="1260360" cy="18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4"/>
          <a:stretch/>
        </p:blipFill>
        <p:spPr>
          <a:xfrm>
            <a:off x="692280" y="5553000"/>
            <a:ext cx="1468440" cy="110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5"/>
          <a:stretch/>
        </p:blipFill>
        <p:spPr>
          <a:xfrm>
            <a:off x="720720" y="90000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9058320" y="6721560"/>
            <a:ext cx="54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05 - Г. Свиридов - Метель - Пастораль.mp3" descr=""/>
          <p:cNvPicPr/>
          <p:nvPr/>
        </p:nvPicPr>
        <p:blipFill>
          <a:blip r:embed="rId6"/>
          <a:stretch/>
        </p:blipFill>
        <p:spPr>
          <a:xfrm>
            <a:off x="932652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423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енный мар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539640" y="1800360"/>
            <a:ext cx="907092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rmAutofit/>
          </a:bodyPr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жду тем война со славою была конч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ки наши возвращались из-за границ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од бежал им навстречу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ремя незабвенное! Время славы и востор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619280" y="3060720"/>
            <a:ext cx="6840360" cy="3419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8999640" y="665640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06 - Г. Свиридов - Метель - Военный марш.mp3" descr=""/>
          <p:cNvPicPr/>
          <p:nvPr/>
        </p:nvPicPr>
        <p:blipFill>
          <a:blip r:embed="rId2"/>
          <a:stretch/>
        </p:blipFill>
        <p:spPr>
          <a:xfrm>
            <a:off x="918360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450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ман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680000" y="2700360"/>
            <a:ext cx="5040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rm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льминацией пушкинской повести является момент объяснения в любв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кульминацией музыкальных иллюст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яется "Романс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720720" y="2328840"/>
            <a:ext cx="3635280" cy="4330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9171000" y="6480000"/>
            <a:ext cx="549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04 - Г. Свиридов - Метель - Романс.mp3" descr=""/>
          <p:cNvPicPr/>
          <p:nvPr/>
        </p:nvPicPr>
        <p:blipFill>
          <a:blip r:embed="rId2"/>
          <a:stretch/>
        </p:blipFill>
        <p:spPr>
          <a:xfrm>
            <a:off x="9398160" y="66373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3428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3Z</dcterms:created>
  <dc:creator/>
  <dc:description/>
  <dc:language>en-US</dc:language>
  <cp:lastModifiedBy>ксюша</cp:lastModifiedBy>
  <dcterms:modified xsi:type="dcterms:W3CDTF">2017-02-22T10:32:47Z</dcterms:modified>
  <cp:revision>14</cp:revision>
  <dc:subject/>
  <dc:title>Музыкальные иллюстрации Г.В.Свиридова  к повести А. С. Пушкина "Метель"</dc:title>
</cp:coreProperties>
</file>