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0F8A1-B48C-40D9-875E-392FA792C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242A2-1CC7-4967-9604-2F3522AA8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82FE3-4EB0-4E04-8FCD-BDA08637B2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4A5AE-352D-47DE-BF39-4735F44456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82B9C-EA8A-4334-AA90-08E10E7DA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96C78-F232-4757-9A9C-AFDBBD6AC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3C94B-7B4D-47FE-98AB-BFCAAD0F1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B065B-C285-4DF1-9365-90882219B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43318-37C3-43FB-9A98-A71DB78F6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5C3A4-C179-424E-A1C7-61F4E7AA0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E7EB7-E1D2-4579-9728-AF69FD0832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FDB74-D43B-436D-BE5D-5081DD039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E0C06-BE8E-4C2D-B58B-6BF4A95D6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01532-1F05-4F45-9AFF-393B5E5E9D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85445-976F-42E2-837F-777014AEDE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085EA-2EC7-451B-8060-5F1A99B4F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7E0E8-3F7B-4331-90E6-9B9557F45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25DF9-22E5-497D-9E2D-337E64593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85FA0-984B-48FA-9D9F-B6926A50DA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34EEF-9840-4938-B5DE-ABB7B68D8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382AC-28D7-4ED5-BFBD-005EAA5BA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2A525-E1AE-4AB1-ACBB-6515A28D7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445A5-556B-4809-887B-6196990AC9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9BCDA-F5D6-4F0F-A32D-FFB5F38D3F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E5905-8826-4D14-BCFC-F46352EF3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679F-E009-4181-AC67-CC3931583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32F8-8ADF-41B1-A03F-665605D1F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3409-A739-4F78-BAB0-2DF183FF4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EDD4-C79D-40A6-9742-E63C91614B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ADF6-3DB8-4076-875F-9E52B79998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1144-0BAC-4F1A-AF26-431A57D05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9764-9598-4BE8-A2AB-1E91667F3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11A3-E7C0-4BD9-846D-20E80F8F8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4C1F-C3E9-46B1-B7CF-27C236630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1399-BFA6-4CA1-905D-8E1CE63EF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4552-C7B8-462C-B482-5964A6282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97B9-142E-4364-B60E-8BB235873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B1FFC8-1C25-4655-8D84-3D01BF0D966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260360" y="2519280"/>
            <a:ext cx="3780000" cy="4319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539640" y="708120"/>
            <a:ext cx="90709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узыкальные иллюстрации Г.В.Свиридова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 повести А. С. Пушкина "Метель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15160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1558800" y="1979640"/>
            <a:ext cx="36608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звуки валь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859280" y="5719680"/>
            <a:ext cx="3780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имняя дор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400720" y="720720"/>
            <a:ext cx="3959280" cy="28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260360" y="3959280"/>
            <a:ext cx="37800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720720" y="3887640"/>
            <a:ext cx="907092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rmAutofit/>
          </a:bodyPr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к что же объединяет А. С. Пушкина и Г.В. Свиридов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.Любовь к Родине, русскому народу, его культуре, традициям, простым человеческим чувствам. Всё это выражено глубоко, по-русски задушевно как у великого поэта А.С.Пушкина, так и в музыке Свиридо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3600360" y="439560"/>
            <a:ext cx="2502000" cy="33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289080" y="689040"/>
            <a:ext cx="9070920" cy="29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rmAutofit/>
          </a:bodyPr>
          <a:p>
            <a:pPr marL="431640" indent="-32220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ушая музыку Свиридова так и видишь бесконечные заснеженные просторы России, занесенную дорогу, и по ней мчится вдаль русская трой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и преодолевают снежную пелену, ямщик напряженно вглядывается вдаль, а путник, укутанный в теплую шубу, мирно дремлет под однозвучную песню русского колокольчика. Метель! Как бы беде не случиться, не сбиться с дорог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879640" y="3240000"/>
            <a:ext cx="5040360" cy="39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2700360" y="2340000"/>
            <a:ext cx="4680000" cy="4859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63440" y="104760"/>
            <a:ext cx="2716200" cy="2955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6648480" y="179280"/>
            <a:ext cx="32526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542880" y="18432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ой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5580000" y="1440000"/>
            <a:ext cx="414036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rm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и мчатся по бугр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пчут снег глубокий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т, в сторонке божий хр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ден одинокий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друг метелица круг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нег валит клок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рный вран, свистя крыло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ьется над сан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щий стон гласит печал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и торопли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тко смотрят в темну дал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дымая гривы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ук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03280" y="2340000"/>
            <a:ext cx="5075280" cy="35701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9180360" y="6480000"/>
            <a:ext cx="5493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01 - Г. Свиридов - Метель - Тройка.mp3" descr=""/>
          <p:cNvPicPr/>
          <p:nvPr/>
        </p:nvPicPr>
        <p:blipFill>
          <a:blip r:embed="rId2"/>
          <a:stretch/>
        </p:blipFill>
        <p:spPr>
          <a:xfrm>
            <a:off x="9255240" y="6566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99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ль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900000" y="1940040"/>
            <a:ext cx="8460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rmAutofit/>
          </a:bodyPr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ая мелодия – легкая, игривая, полет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торая – яркая, празднич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тья – энергичная, торжествен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800360" y="3789360"/>
            <a:ext cx="6840360" cy="3411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9171000" y="6675480"/>
            <a:ext cx="549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9326520" y="6851520"/>
            <a:ext cx="304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02 - Г. Свиридов - Метель - Вальс.mp3" descr=""/>
          <p:cNvPicPr/>
          <p:nvPr/>
        </p:nvPicPr>
        <p:blipFill>
          <a:blip r:embed="rId2"/>
          <a:stretch/>
        </p:blipFill>
        <p:spPr>
          <a:xfrm>
            <a:off x="9398160" y="6923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5828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нч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360360" y="1917720"/>
            <a:ext cx="648000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rm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Я вошел в церковь, слабо освещенную двумя или тремя свечами. Девушка сидела на лавочке в темном углу церкви; другая терла ей виски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ый священник подошел ко мне с вопросом: "Прикажете начинать?" - "Начинайте, начинайте, батюшка", - отвечал я рассеянно. Девушку подняли. Она показалась мне недурна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понятная, непростительная ветренность... я стал подле нее перед налоем; священник торопился; трое мужчин и горничная поддерживали невесту и заняты были только ею. Нас обвенчал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Поцелуйтесь", - сказали нам. Жена моя обратила ко мне бледное свое лицо. Я хотел было ее поцеловать... Она вскрикнула: "Ай, не он! не он!"  - и упала без памяти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7051680" y="1979640"/>
            <a:ext cx="2666880" cy="49896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6291360" y="6840360"/>
            <a:ext cx="549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07 - Г. Свиридов - Метель - Венчание.mp3" descr=""/>
          <p:cNvPicPr/>
          <p:nvPr/>
        </p:nvPicPr>
        <p:blipFill>
          <a:blip r:embed="rId2"/>
          <a:stretch/>
        </p:blipFill>
        <p:spPr>
          <a:xfrm>
            <a:off x="6397560" y="6780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324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сна и осен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328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515160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15160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50328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754200" y="2779560"/>
            <a:ext cx="4105080" cy="3935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2"/>
          <a:stretch/>
        </p:blipFill>
        <p:spPr>
          <a:xfrm>
            <a:off x="5397480" y="2779560"/>
            <a:ext cx="4070520" cy="3902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>
            <a:off x="8999640" y="6659640"/>
            <a:ext cx="54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03 - Г. Свиридов - Метель - Весна. Осень.mp3" descr=""/>
          <p:cNvPicPr/>
          <p:nvPr/>
        </p:nvPicPr>
        <p:blipFill>
          <a:blip r:embed="rId3"/>
          <a:stretch/>
        </p:blipFill>
        <p:spPr>
          <a:xfrm>
            <a:off x="9469440" y="6923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27524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стора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179280" y="2879640"/>
            <a:ext cx="972036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rmAutofit/>
          </a:bodyPr>
          <a:p>
            <a:pPr marL="431640" indent="-32220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астораль в переводе с латинского означает "пастушечий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 музыкальное произведение, рисующее сцены безмятежной сельской жизни, картины природ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2519280" y="4500720"/>
            <a:ext cx="5400720" cy="2382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7662960" y="992160"/>
            <a:ext cx="2057400" cy="13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8280360" y="4859280"/>
            <a:ext cx="1260360" cy="180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4"/>
          <a:stretch/>
        </p:blipFill>
        <p:spPr>
          <a:xfrm>
            <a:off x="692280" y="5553000"/>
            <a:ext cx="1468440" cy="1108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5"/>
          <a:stretch/>
        </p:blipFill>
        <p:spPr>
          <a:xfrm>
            <a:off x="720720" y="90000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9058320" y="6721560"/>
            <a:ext cx="549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05 - Г. Свиридов - Метель - Пастораль.mp3" descr=""/>
          <p:cNvPicPr/>
          <p:nvPr/>
        </p:nvPicPr>
        <p:blipFill>
          <a:blip r:embed="rId6"/>
          <a:stretch/>
        </p:blipFill>
        <p:spPr>
          <a:xfrm>
            <a:off x="9326520" y="6923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423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енный мар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539640" y="1800360"/>
            <a:ext cx="907092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rmAutofit/>
          </a:bodyPr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жду тем война со славою была конч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ки наши возвращались из-за границ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од бежал им навстречу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ремя незабвенное! Время славы и восторга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619280" y="3060720"/>
            <a:ext cx="6840360" cy="3419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8999640" y="6656400"/>
            <a:ext cx="54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06 - Г. Свиридов - Метель - Военный марш.mp3" descr=""/>
          <p:cNvPicPr/>
          <p:nvPr/>
        </p:nvPicPr>
        <p:blipFill>
          <a:blip r:embed="rId2"/>
          <a:stretch/>
        </p:blipFill>
        <p:spPr>
          <a:xfrm>
            <a:off x="9183600" y="6780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450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ман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680000" y="2700360"/>
            <a:ext cx="5040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rmAutofit/>
          </a:bodyPr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льминацией пушкинской повести является момент объяснения в любв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кульминацией музыкальных иллюстр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вляется "Романс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720720" y="2328840"/>
            <a:ext cx="3635280" cy="4330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9171000" y="6480000"/>
            <a:ext cx="5493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04 - Г. Свиридов - Метель - Романс.mp3" descr=""/>
          <p:cNvPicPr/>
          <p:nvPr/>
        </p:nvPicPr>
        <p:blipFill>
          <a:blip r:embed="rId2"/>
          <a:stretch/>
        </p:blipFill>
        <p:spPr>
          <a:xfrm>
            <a:off x="9398160" y="66373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3428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3Z</dcterms:created>
  <dc:creator/>
  <dc:description/>
  <dc:language>en-US</dc:language>
  <cp:lastModifiedBy>ксюша</cp:lastModifiedBy>
  <dcterms:modified xsi:type="dcterms:W3CDTF">2017-02-22T10:32:47Z</dcterms:modified>
  <cp:revision>14</cp:revision>
  <dc:subject/>
  <dc:title>Музыкальные иллюстрации Г.В.Свиридова  к повести А. С. Пушкина "Метель"</dc:title>
</cp:coreProperties>
</file>