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079-4327-444C-9B99-5ECF5B55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7BC-0854-4C1B-8D82-245F13BB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D4F-29A5-4C91-94FD-D6938EA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CB4-CCB7-49B9-8122-CF344AC5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675-89EB-4035-AC7C-50B6332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BA8-5148-4BE0-B3C7-79BD783E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C0D-2FB9-46A8-B120-ED54EA9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87A5-8711-41D9-B93B-25B42BB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905-FA06-4A9F-8DCA-76C4CA05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D98F-A661-4DFB-9ACC-DB99EFC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84D-118C-407C-A814-57ED726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CF9-347B-4A6E-9E4E-D1E86071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86A6-536C-41B9-965B-E0EDF2C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2B9B-3BD8-4560-9242-C9C1339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BFE6-B85C-42F2-8CBC-DD3299B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84F-A117-49FD-93D0-648081A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99B1-845A-48F6-9A79-FC673A21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922E-C2C7-4EED-9535-D0450F3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254A-97BC-4BB7-8753-9C1B848E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ACE0-9EC9-48F2-866F-D0C84D7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A93D-14B6-44C0-A654-236DB15A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DADB-8407-4E47-AB01-694A9E8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F52-3E12-488D-B06C-FB45F10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3678-3D18-49E6-A556-53AD01C3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4FA8-19B3-48C8-91B0-144D79C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AD60-38DC-4743-8F41-03E1F88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E502-68AF-41AE-B0D7-E901D24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AE96-1951-43EB-BDEA-BFE72B59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3EE6-83EA-462C-B6B2-ACAB5B3B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CE59-2607-42CC-9498-2C8CA1F1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56D5-EFF8-4825-B422-923ED250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274B-6326-4EAB-B9EA-9CC0FE4C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1CB0-1C66-484D-81D4-E78AD6A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B4F-2421-4748-AD1A-8A09DA14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0424-98D9-4A93-939A-431D9FB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D9E3-5CBC-4E91-BB4D-3DF58F4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0EE5-B8CD-4BB0-9A23-75B7A79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07C8-2EB0-4ED9-8F82-DAC34FF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0141B-F6ED-43F6-8AA0-1E5B9E2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8490-0CD9-4750-9ADC-00CFA60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93CB-C314-4757-8F3E-92989EB8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FB9A-7A5A-4364-AB08-4F7407AE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45E1-D450-4CB4-B2EC-6DCFC6B2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BC3F1-B4D1-44AC-9B2B-879BCDCB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D26-2D38-4141-9236-AA264062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0F31-02E2-4EA8-8276-2B8E726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53A8-649C-4B35-B21C-CC424790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9232-BC65-400D-9966-7C11E384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1991-4439-4B5E-9AD7-BE6D645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5E04D-2261-4BE7-81F9-0C34FE8E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3C90-8C10-49A4-A45F-30F06EE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5B57-036A-4210-BA6E-9A98E1A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AA4A-43A7-4307-9BFE-42FAA2C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51D8-F0A2-49E1-BD3C-CABDC55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4661-5977-4C03-B075-B50DE00D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88E-AFCE-4CBC-B820-B691114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11E2-D761-4B43-BCE5-4E34922B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081-29C0-4801-AE10-EDDE8DA6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515-0E5F-44AD-AC0E-BF514BA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2FD-D6D2-466A-BCA7-A8BE4A0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3D4-0FA1-4E0F-AC43-CD450152AAB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F4D3-D95C-47D0-8792-091E4C490C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E9D-8242-4FAC-8FF4-0719F8DC91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47A-F3B6-4249-9392-96AD01A8E7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107-4D9B-4CEF-BE21-CBD8F8168D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5280" y="4365360"/>
            <a:ext cx="813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Подготовил воспитатель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Михайло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коммуникативных умений у старших дошкольников в сюжетно-ролевой игре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1476360" y="115920"/>
            <a:ext cx="7221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НО ДО «Планета детства «Лада»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Детский сад № 99 «Капелька»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1187280" y="6093000"/>
            <a:ext cx="7221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г.о. Тольятти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755640" y="320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1610"/>
                </a:solidFill>
                <a:latin typeface="Times New Roman"/>
                <a:ea typeface="Times New Roman"/>
              </a:rPr>
              <a:t>Перспективный план работы с детьми в центре «Редакция газеты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5280" y="1052640"/>
          <a:ext cx="5040360" cy="5352840"/>
        </p:xfrm>
        <a:graphic>
          <a:graphicData uri="http://schemas.openxmlformats.org/drawingml/2006/table">
            <a:tbl>
              <a:tblPr/>
              <a:tblGrid>
                <a:gridCol w="892080"/>
                <a:gridCol w="4148280"/>
              </a:tblGrid>
              <a:tr h="28728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Обогащение цент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 Рассмот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естных периодических из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 Знакомство с профессиями: редактор, репортёр, корреспондент, художник - оформитель, фотокорреспон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 Совместное изготовление газеты воспитателя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. Привлечение родителей к изготовлению газет с деть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. Самостоятельное составление газет, афиш, открыток деть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22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240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Диаграмма 3"/>
          <p:cNvGraphicFramePr/>
          <p:nvPr/>
        </p:nvGraphicFramePr>
        <p:xfrm>
          <a:off x="1568520" y="1305000"/>
          <a:ext cx="61974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305000"/>
                    <a:ext cx="61974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Прямоугольник 4" descr=""/>
          <p:cNvPicPr/>
          <p:nvPr/>
        </p:nvPicPr>
        <p:blipFill>
          <a:blip r:embed="rId3"/>
          <a:stretch/>
        </p:blipFill>
        <p:spPr>
          <a:xfrm>
            <a:off x="682560" y="480960"/>
            <a:ext cx="77058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2401920" y="17002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2762280" y="3573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543480" y="443700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4176720" y="28623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44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6948360" y="407664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5219640" y="2252520"/>
            <a:ext cx="360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3780000" y="215100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4859280" y="35956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6662880" y="171936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6302520" y="35812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5580000" y="3573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5051520" y="5443560"/>
            <a:ext cx="2287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Контрольный эксперимент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4"/>
          <p:cNvSpPr/>
          <p:nvPr/>
        </p:nvSpPr>
        <p:spPr>
          <a:xfrm>
            <a:off x="826920" y="1989000"/>
            <a:ext cx="734544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1610"/>
                </a:solidFill>
                <a:latin typeface="Calibri"/>
              </a:rPr>
              <a:t>Теоретические полож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б общении как коммуникативной деятельности(М.И. Лисина, А.Г. Рузская, Т.А. Репина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влиянии коммуникативных умений на психическое развитие дошкольника (А.В. Запорожец, М.И. Лисина, А.Г. Рузская)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сюжетно-ролевой игре как основном виде игры дошкольника (Л.С.Выготский, С.Л.Рубинштейн, Д.Б.Эльконин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руководстве детскими играми (Д.В. Менджерицкая, Р.И. Жуковская, В.П. Залогина, Н.Я. Михайленко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о педагогическом сопровождении сюжетно-ролевых игр (О.В.Солнцев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2000" y="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ммуникативных умений у старших дошкольников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306360" y="9111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Предмет исследования 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коммуникативных умений у старших дошкольников в сюжетно-ролевой иг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81080" y="1746720"/>
            <a:ext cx="882000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Гипотеза исследова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витие коммуникативных умений у старших дошкольников в сюжетно- ролевой игре  повысится при следующих условиях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спользовать педагогические технологии сюжетно-ролевых игр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удет разработана серия сюжетно-ролевых игр, направленных на развитие коммуникативных умений у старших дошкольников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468360" y="636840"/>
            <a:ext cx="8207280" cy="50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1610"/>
                </a:solidFill>
                <a:latin typeface="Arial"/>
                <a:ea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изучить психолого-педагогическую литературу по проблеме исследовани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выявить уровень развития коммуникативных умений у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работать содержание работы по развитию коммуникативных умений у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450720" algn="just">
              <a:lnSpc>
                <a:spcPct val="100000"/>
              </a:lnSpc>
              <a:buClr>
                <a:srgbClr val="4e161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обобщить и проанализировать результаты проведенного исследования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24000" y="1557360"/>
          <a:ext cx="8569080" cy="5194440"/>
        </p:xfrm>
        <a:graphic>
          <a:graphicData uri="http://schemas.openxmlformats.org/drawingml/2006/table">
            <a:tbl>
              <a:tblPr/>
              <a:tblGrid>
                <a:gridCol w="4518000"/>
                <a:gridCol w="4051080"/>
              </a:tblGrid>
              <a:tr h="771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казател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ая метод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детей понимать состояние сверстника, взрослого и рассказывать о н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Отражение чувст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84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выслушать другого человека, с уважением относиться к его мнению, интересам; спокойно отстаивать своё м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2 «Необитаемый остр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мение соотносить свои желания, стремления с интересами других лю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иагностическое задание 3 «Помощни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900000" y="337680"/>
            <a:ext cx="73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Показатели уровня развития коммуникативных умений у старших дошколь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76364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067280" y="44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50920" y="183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Прямоугольник 10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058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Диаграмма 24"/>
          <p:cNvGraphicFramePr/>
          <p:nvPr/>
        </p:nvGraphicFramePr>
        <p:xfrm>
          <a:off x="1473120" y="1346040"/>
          <a:ext cx="6197760" cy="416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Диаграмма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3120" y="1346040"/>
                    <a:ext cx="619776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Box 1"/>
          <p:cNvSpPr/>
          <p:nvPr/>
        </p:nvSpPr>
        <p:spPr>
          <a:xfrm>
            <a:off x="2627280" y="42195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4176720" y="1969920"/>
            <a:ext cx="3589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4932360" y="1509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5951520" y="247320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44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6588000" y="3357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3132000" y="386064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1610"/>
                </a:solidFill>
                <a:latin typeface="Calibri"/>
              </a:rPr>
              <a:t>Этапы педагогической технологии</a:t>
            </a:r>
            <a:br>
              <a:rPr sz="3600"/>
            </a:br>
            <a:r>
              <a:rPr b="1" lang="ru-RU" sz="3600" spc="-1" strike="noStrike">
                <a:solidFill>
                  <a:srgbClr val="4e1610"/>
                </a:solidFill>
                <a:latin typeface="Calibri"/>
              </a:rPr>
              <a:t>(О.В.Солнцева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6000" y="1699920"/>
            <a:ext cx="7570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1 этап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 Обогащение представлений о той сфере действительности, которую ребёнок  будет отображать в игр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2 этап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Организация сюжетно-ролевой игры  («игра в  подготовку к игре»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1610"/>
                </a:solidFill>
                <a:latin typeface="Cambria"/>
              </a:rPr>
              <a:t>3 этап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амостоятельная игровая деятельность дет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24000" y="1397160"/>
          <a:ext cx="8496000" cy="5343480"/>
        </p:xfrm>
        <a:graphic>
          <a:graphicData uri="http://schemas.openxmlformats.org/drawingml/2006/table">
            <a:tbl>
              <a:tblPr/>
              <a:tblGrid>
                <a:gridCol w="1301760"/>
                <a:gridCol w="3809880"/>
                <a:gridCol w="3384360"/>
              </a:tblGrid>
              <a:tr h="5490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 этап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 иг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умения распознавать эмоциональное состояние другого человека, называть это состояние и учитывать его при взаимодейств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Услышь своё им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нка мяч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Передай мас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умения вести диалог со взрослыми и сверстниками, принимать участие в коллективных де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Возьмите меня в иг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Сороконож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Совет волшебни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Придумаю и нарисую правила иг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ировать навыки позитивного общения со взрослыми и сверст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ы поссорились из-за машин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а обиделась и ни с кем не хочет игр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Кукла забрала все игрушки и ни с кем не хочет делить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Прямоугольник 2"/>
          <p:cNvSpPr/>
          <p:nvPr/>
        </p:nvSpPr>
        <p:spPr>
          <a:xfrm>
            <a:off x="97164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1610"/>
                </a:solidFill>
                <a:latin typeface="Cambria"/>
              </a:rPr>
              <a:t>Серия игр и игровых упражнений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988920" y="878040"/>
            <a:ext cx="7883640" cy="5575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250920" y="8650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1610"/>
                </a:solidFill>
                <a:latin typeface="Arial"/>
                <a:ea typeface="Times New Roman"/>
              </a:rPr>
              <a:t>Развивающая предметно –пространственная сре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5T04:57:18Z</dcterms:created>
  <dc:creator>Наиля;Елена М.</dc:creator>
  <dc:description/>
  <dc:language>en-US</dc:language>
  <cp:lastModifiedBy>Юля</cp:lastModifiedBy>
  <dcterms:modified xsi:type="dcterms:W3CDTF">2017-05-27T18:15:21Z</dcterms:modified>
  <cp:revision>46</cp:revision>
  <dc:subject/>
  <dc:title>Развитие коммуникативных умений у старших дошкольников в сюжетно-ролевой игре</dc:title>
</cp:coreProperties>
</file>