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EC0-5D9F-4FCE-8577-B5EE5460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085-A031-46EB-84FF-349880D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DAA-E128-4457-B595-E90618E8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EE1-9034-4E2E-BDEB-B1B68FB8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366-D390-45F0-BB88-E6D8603D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EA81-B051-4C15-B217-40C3921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84F1-855B-453D-8BFF-033BB20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DAD-2EE7-449E-BD19-316F4AB1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7ADE-F4FF-4C7F-828F-BC1F87D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2432-77DC-429F-9BE8-977995FE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D0CD-60E0-436E-B9A6-0E0A42D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3AD-58D5-4289-A680-6BFDB63F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3CDD-47B9-483E-ACFC-904D418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797E-C7FD-468E-B3C6-1EFEDFFD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3F05-DBC1-4F93-840E-EC6AE91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1BB4-F6FC-472E-AA68-EDF38551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CA1-25FF-423C-99B4-6D0797A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B599-D4D3-4E97-8792-EB8B800F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A7C5-D7A3-4020-B5EF-40A6CDCE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1096-46EE-4371-9B8B-BF491370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718A-DC18-4B4A-A4B1-A8CC8A8A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1D7E-09A8-4191-A61B-252B9E0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7A2-F216-46A4-AFB0-DD019F9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52D4-5D6D-4EF3-9F3B-F7CEA52D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89A4-D793-4DC3-9DD6-E080CB7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C63F-109F-4D78-8FA5-79A9EA59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B505-7094-4689-83E9-CAFCD9D6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073F-33F2-4F7E-811D-649188EB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E2D7-AFDC-47E1-A9A2-5C656CC5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38DB-AF52-47ED-8AC9-013A6052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8E573-9621-4025-9F2B-3C7658B5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AE18-F87C-49E5-973D-D826C9C5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2C54-CF42-494D-BD32-01A989CA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C07-52D7-48F8-9B58-0BF4E3F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14D3-DC0B-4EBB-B508-B9D8B8B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69FCB-53BB-4292-B03A-A15FBA2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3C33-5250-4FEE-909E-27A23D3D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687F-7240-4FB7-81F2-63FF1E8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898D-8D42-4C10-9230-5796E33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F5EA-A448-4872-A0E4-FC1B41D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B558-7A15-4293-8187-B91A2C76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964C-D73E-4691-A4F9-8EABF245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EBF2-6366-4CC3-BAD6-EA2DC0AE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00FAD-F964-45C9-8AD2-525A2FEE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26D-DD0C-4C59-8D18-0E59F9CB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6CFD0-C09E-448C-B312-8B6183F6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2F5CA-6DE1-4013-81E9-A4B83C3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CF94-665C-42AD-AB00-6A55F31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DDF3-C214-43DD-A2B0-46192A08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98C3-E46D-4848-BE42-60D7502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E2AB-5548-4642-B793-C220499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FD74-8F89-4DC7-8840-25C76CA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71AD-4E38-4368-BE81-15167D2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4980-640D-4D91-A3C7-D3A5AF57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86AD-01FA-4BBD-89B6-61D4A293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C86-7A6E-4F21-A100-91F273B7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CBCD0-D87E-4638-86D9-380155DF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AD8-83AE-4E30-BAD7-F20F9EA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612-0B4D-4BAD-894E-EDCC029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D57-2363-4D91-9454-AA9D9E4F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CEA5-C2AB-4756-8F0F-654E79648D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2C3B-DF3F-4574-8770-C82B99B5EA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234-393A-4FCF-85D1-9BD672B705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CC46-6E6A-4E85-9C13-EFCDB8F4612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9662-CA22-402A-B741-2EA4E6AE6D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5280" y="4365360"/>
            <a:ext cx="813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Подготовил воспитатель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Михайло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коммуникативных умений у старших дошкольников в сюжетно-ролевой игре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одзаголовок 2"/>
          <p:cNvSpPr/>
          <p:nvPr/>
        </p:nvSpPr>
        <p:spPr>
          <a:xfrm>
            <a:off x="1476360" y="115920"/>
            <a:ext cx="7221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НО ДО «Планета детства «Лада»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Детский сад № 99 «Капелька»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1187280" y="6093000"/>
            <a:ext cx="7221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г.о. Тольятти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755640" y="320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1610"/>
                </a:solidFill>
                <a:latin typeface="Times New Roman"/>
                <a:ea typeface="Times New Roman"/>
              </a:rPr>
              <a:t>Перспективный план работы с детьми в центре «Редакция газеты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5280" y="1052640"/>
          <a:ext cx="5040360" cy="5352840"/>
        </p:xfrm>
        <a:graphic>
          <a:graphicData uri="http://schemas.openxmlformats.org/drawingml/2006/table">
            <a:tbl>
              <a:tblPr/>
              <a:tblGrid>
                <a:gridCol w="892080"/>
                <a:gridCol w="4148280"/>
              </a:tblGrid>
              <a:tr h="28728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 Обогащение цент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 Рассмот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естных периодических из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 Знакомство с профессиями: редактор, репортёр, корреспондент, художник - оформитель, фотокорреспонд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 Совместное изготовление газеты воспитателя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. Привлечение родителей к изготовлению газет с деть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. Самостоятельное составление газет, афиш, открыток деть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22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240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Диаграмма 3"/>
          <p:cNvGraphicFramePr/>
          <p:nvPr/>
        </p:nvGraphicFramePr>
        <p:xfrm>
          <a:off x="1568520" y="1305000"/>
          <a:ext cx="619740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305000"/>
                    <a:ext cx="61974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Прямоугольник 4" descr=""/>
          <p:cNvPicPr/>
          <p:nvPr/>
        </p:nvPicPr>
        <p:blipFill>
          <a:blip r:embed="rId3"/>
          <a:stretch/>
        </p:blipFill>
        <p:spPr>
          <a:xfrm>
            <a:off x="682560" y="480960"/>
            <a:ext cx="77058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"/>
          <p:cNvSpPr/>
          <p:nvPr/>
        </p:nvSpPr>
        <p:spPr>
          <a:xfrm>
            <a:off x="2401920" y="17002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2762280" y="3573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3543480" y="443700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4176720" y="28623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44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6948360" y="407664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5219640" y="2252520"/>
            <a:ext cx="360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3780000" y="215100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4859280" y="35956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6662880" y="171936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6302520" y="35812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5580000" y="3573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5051520" y="5443560"/>
            <a:ext cx="2287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Контрольный эксперимент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4"/>
          <p:cNvSpPr/>
          <p:nvPr/>
        </p:nvSpPr>
        <p:spPr>
          <a:xfrm>
            <a:off x="826920" y="1989000"/>
            <a:ext cx="7345440" cy="1152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1610"/>
                </a:solidFill>
                <a:latin typeface="Calibri"/>
              </a:rPr>
              <a:t>Теоретические полож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б общении как коммуникативной деятельности(М.И. Лисина, А.Г. Рузская, Т.А. Репина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влиянии коммуникативных умений на психическое развитие дошкольника (А.В. Запорожец, М.И. Лисина, А.Г. Рузская)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сюжетно-ролевой игре как основном виде игры дошкольника (Л.С.Выготский, С.Л.Рубинштейн, Д.Б.Эльконин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руководстве детскими играми (Д.В. Менджерицкая, Р.И. Жуковская, В.П. Залогина, Н.Я. Михайленко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педагогическом сопровождении сюжетно-ролевых игр (О.В.Солнцев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2000" y="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коммуникативных умений у старших дошкольников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306360" y="9111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Предмет исследования 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коммуникативных умений у старших дошкольников в сюжетно-ролевой иг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81080" y="1746720"/>
            <a:ext cx="882000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Гипотеза исследова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Развитие коммуникативных умений у старших дошкольников в сюжетно- ролевой игре  повысится при следующих условиях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использовать педагогические технологии сюжетно-ролевых игр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удет разработана серия сюжетно-ролевых игр, направленных на развитие коммуникативных умений у старших дошкольников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468360" y="636840"/>
            <a:ext cx="8207280" cy="50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1610"/>
                </a:solidFill>
                <a:latin typeface="Arial"/>
                <a:ea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изучить психолого-педагогическую литературу по проблеме исследования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выявить уровень развития коммуникативных умений у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разработать содержание работы по развитию коммуникативных умений у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обобщить и проанализировать результаты проведенного исследования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24000" y="1557360"/>
          <a:ext cx="8569080" cy="5194440"/>
        </p:xfrm>
        <a:graphic>
          <a:graphicData uri="http://schemas.openxmlformats.org/drawingml/2006/table">
            <a:tbl>
              <a:tblPr/>
              <a:tblGrid>
                <a:gridCol w="4518000"/>
                <a:gridCol w="4051080"/>
              </a:tblGrid>
              <a:tr h="771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казател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ая метод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детей понимать состояние сверстника, взрослого и рассказывать о н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ое задание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Отражение чувст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84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выслушать другого человека, с уважением относиться к его мнению, интересам; спокойно отстаивать своё м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ое задание 2 «Необитаемый остр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соотносить свои желания, стремления с интересами других лю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ое задание 3 «Помощни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900000" y="337680"/>
            <a:ext cx="73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Показатели уровня развития коммуникативных умений у старших дошкольник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76364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067280" y="44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50920" y="183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Прямоугольник 10" descr=""/>
          <p:cNvPicPr/>
          <p:nvPr/>
        </p:nvPicPr>
        <p:blipFill>
          <a:blip r:embed="rId1"/>
          <a:stretch/>
        </p:blipFill>
        <p:spPr>
          <a:xfrm>
            <a:off x="682560" y="480960"/>
            <a:ext cx="77058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Диаграмма 24"/>
          <p:cNvGraphicFramePr/>
          <p:nvPr/>
        </p:nvGraphicFramePr>
        <p:xfrm>
          <a:off x="1473120" y="1346040"/>
          <a:ext cx="6197760" cy="416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Диаграмма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3120" y="1346040"/>
                    <a:ext cx="619776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Box 1"/>
          <p:cNvSpPr/>
          <p:nvPr/>
        </p:nvSpPr>
        <p:spPr>
          <a:xfrm>
            <a:off x="2627280" y="42195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4176720" y="1969920"/>
            <a:ext cx="3589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4932360" y="1509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5951520" y="247320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44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6588000" y="3357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3132000" y="386064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1610"/>
                </a:solidFill>
                <a:latin typeface="Calibri"/>
              </a:rPr>
              <a:t>Этапы педагогической технологии</a:t>
            </a:r>
            <a:br>
              <a:rPr sz="3600"/>
            </a:br>
            <a:r>
              <a:rPr b="1" lang="ru-RU" sz="3600" spc="-1" strike="noStrike">
                <a:solidFill>
                  <a:srgbClr val="4e1610"/>
                </a:solidFill>
                <a:latin typeface="Calibri"/>
              </a:rPr>
              <a:t>(О.В.Солнцева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16000" y="1699920"/>
            <a:ext cx="7570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1610"/>
                </a:solidFill>
                <a:latin typeface="Cambria"/>
              </a:rPr>
              <a:t>1 этап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 Обогащение представлений о той сфере действительности, которую ребёнок  будет отображать в игр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1610"/>
                </a:solidFill>
                <a:latin typeface="Cambria"/>
              </a:rPr>
              <a:t>2 этап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Организация сюжетно-ролевой игры  («игра в  подготовку к игре»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1610"/>
                </a:solidFill>
                <a:latin typeface="Cambria"/>
              </a:rPr>
              <a:t>3 этап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Самостоятельная игровая деятельность дет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24000" y="1397160"/>
          <a:ext cx="8496000" cy="5343480"/>
        </p:xfrm>
        <a:graphic>
          <a:graphicData uri="http://schemas.openxmlformats.org/drawingml/2006/table">
            <a:tbl>
              <a:tblPr/>
              <a:tblGrid>
                <a:gridCol w="1301760"/>
                <a:gridCol w="3809880"/>
                <a:gridCol w="3384360"/>
              </a:tblGrid>
              <a:tr h="5490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 этап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та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ировать умения распознавать эмоциональное состояние другого человека, называть это состояние и учитывать его при взаимодейств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Услышь своё им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нка мяч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Передай мас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ировать умения вести диалог со взрослыми и сверстниками, принимать участие в коллективных де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Возьмите меня в иг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Сороконож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Совет волшебник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Придумаю и нарисую правила иг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ировать навыки позитивного общения со взрослыми и сверст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Куклы поссорились из-за машин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Кукла обиделась и ни с кем не хочет игр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Кукла забрала все игрушки и ни с кем не хочет делитьс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Прямоугольник 2"/>
          <p:cNvSpPr/>
          <p:nvPr/>
        </p:nvSpPr>
        <p:spPr>
          <a:xfrm>
            <a:off x="97164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1610"/>
                </a:solidFill>
                <a:latin typeface="Cambria"/>
              </a:rPr>
              <a:t>Серия игр и игровых упражнений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988920" y="878040"/>
            <a:ext cx="7883640" cy="5575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250920" y="8650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Развивающая предметно –пространственная сре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5T04:57:18Z</dcterms:created>
  <dc:creator>Наиля;Елена М.</dc:creator>
  <dc:description/>
  <dc:language>en-US</dc:language>
  <cp:lastModifiedBy>Юля</cp:lastModifiedBy>
  <dcterms:modified xsi:type="dcterms:W3CDTF">2017-05-27T18:15:21Z</dcterms:modified>
  <cp:revision>46</cp:revision>
  <dc:subject/>
  <dc:title>Развитие коммуникативных умений у старших дошкольников в сюжетно-ролевой игре</dc:title>
</cp:coreProperties>
</file>