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BE44-0380-4627-A57A-59D0B16DC5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E8C7-0306-4714-9144-666B30DAF7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61B3-6540-47B4-9625-0549FF57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C969-BD2E-48F5-91FA-AE108A4D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8D5B-5B71-42E2-8D4C-EFBDCF81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6F57-B617-4AEF-8328-EB851B88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1A5-7C80-46B0-AC7E-2902272F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A00-20EC-499F-B80C-CF98445A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BCD-DBB7-40C6-B33F-96B505C6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5C2-84B9-4226-A246-5ABF6658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1D37-8EF5-4EAC-A937-061AC651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84C-DBC9-47A2-85E1-9694D0F9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15EF-C3F5-4D4D-B57E-1253AAAF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913-33A0-4204-9569-C9373A30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CD68-4776-4FDC-B44D-CD42690B4E4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8288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ЛЁГКАЯ АТЛЕТИКА,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1 класс</a:t>
            </a:r>
            <a:br>
              <a:rPr sz="4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ема урока: «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ег на 3000 м. юноши, 2000м девушки на результат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638680" y="4343400"/>
            <a:ext cx="3200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Авторы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польская Вера Владимиро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асев Сергей Петрови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Мажарова Вера Дмитрие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мышева Светлана Евгенье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Лавкова  Надежда Григорье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Аксассова  Татьяна Евгенье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274680"/>
          <a:ext cx="8229600" cy="6354720"/>
        </p:xfrm>
        <a:graphic>
          <a:graphicData uri="http://schemas.openxmlformats.org/drawingml/2006/table">
            <a:tbl>
              <a:tblPr/>
              <a:tblGrid>
                <a:gridCol w="3657600"/>
                <a:gridCol w="1828800"/>
                <a:gridCol w="2743200"/>
              </a:tblGrid>
              <a:tr h="635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 И.п. основная стойка руки на поясе, большие пальцы вперё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4 вращаем тазом вправо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-8 вращаем тазом влев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 И.п. выпад правой ногой, руки на коле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3 покачивани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прыжком смена положения но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 И.п. основная стойка руки на поя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выпад правой ногой, руки на колено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и.п.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выпад левой ногой, руки на колено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пус на колено не опускать. Выпад глубоки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пус держать прям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ягивать мышцы бед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33520" y="990720"/>
          <a:ext cx="8229600" cy="5641920"/>
        </p:xfrm>
        <a:graphic>
          <a:graphicData uri="http://schemas.openxmlformats.org/drawingml/2006/table">
            <a:tbl>
              <a:tblPr/>
              <a:tblGrid>
                <a:gridCol w="3657600"/>
                <a:gridCol w="1828800"/>
                <a:gridCol w="2743200"/>
              </a:tblGrid>
              <a:tr h="37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 И.п. сед на левой ноге, правая прямая в сторон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2 перекатиться на правую ногу, левая прямая в сторону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-4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 И.п. основная стойка, руки на поя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прыжок, ноги на ширине плеч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ыжки выполнять на передней части сто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полнять мягко, как можно выш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емление мягко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 И.п. основная стойка. Прыжки из полного присед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 Выпрыгивание вверх с подтягиванием коленей к груд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каждый шаг высоко поднимать коле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072080" y="228240"/>
            <a:ext cx="657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ч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ециальные беговые упражн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189080"/>
          <a:ext cx="8229600" cy="5516640"/>
        </p:xfrm>
        <a:graphic>
          <a:graphicData uri="http://schemas.openxmlformats.org/drawingml/2006/table">
            <a:tbl>
              <a:tblPr/>
              <a:tblGrid>
                <a:gridCol w="3276720"/>
                <a:gridCol w="1447560"/>
                <a:gridCol w="3505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ысокое бедр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хлёст голен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  В шаге, прыжки с ноги на но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х30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уки работают как при бег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Шаг выполняется коленом вперё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и выполнении помогаем рукам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 Роллинг (шаг, прыжок вверх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. Многоскоки (продвижение на передней части стопы вперёд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. Правым боком приставными шагам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х30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ежать быстр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92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1447560" cy="1130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3" descr=""/>
          <p:cNvPicPr/>
          <p:nvPr/>
        </p:nvPicPr>
        <p:blipFill>
          <a:blip r:embed="rId2"/>
          <a:stretch/>
        </p:blipFill>
        <p:spPr>
          <a:xfrm>
            <a:off x="5334120" y="4191120"/>
            <a:ext cx="30477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57200" y="762120"/>
          <a:ext cx="8458200" cy="5821200"/>
        </p:xfrm>
        <a:graphic>
          <a:graphicData uri="http://schemas.openxmlformats.org/drawingml/2006/table">
            <a:tbl>
              <a:tblPr/>
              <a:tblGrid>
                <a:gridCol w="3733920"/>
                <a:gridCol w="1600200"/>
                <a:gridCol w="3124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евым боком приставными шагам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. Ускор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Упр. на восстановление дых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х30 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жать быстр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ки в верх вдох , руки в низ выдо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Бег по стадиону 100м-быстро, 100м-медленно,100м-быстр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.Фартлек. Бег быстро- медленно- быстро-3м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.Пробегание 200м в три четверти сил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.Пробегание 3000м  юноши 2000м девушки на результа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едить за постановкой сто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желательно переходить на ходьб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жать легко свобод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139480" y="456480"/>
            <a:ext cx="54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aключительная часть уро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371600"/>
          <a:ext cx="8229600" cy="5135400"/>
        </p:xfrm>
        <a:graphic>
          <a:graphicData uri="http://schemas.openxmlformats.org/drawingml/2006/table">
            <a:tbl>
              <a:tblPr/>
              <a:tblGrid>
                <a:gridCol w="3505320"/>
                <a:gridCol w="1981080"/>
                <a:gridCol w="2743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Упражнения на восстановление дыхания и расслабление мышц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-4 р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уки вверх - вдох, руки вниз – выдох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стряхнуть ноги и ру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 Рефлексия. Выставление оцено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азать на ошибки, отметить лучших. Ответить на вопросы учащих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Домашнее задани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ворческое задание:  Почему в большом спорте используется низкий старт? Почему он считается более эффективны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:\Photos\2010\10.05.2010\DCIM\262CANON\IMG_62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52280" y="2133720"/>
            <a:ext cx="87631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ка физической подготовки выпуск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www.obrazov-gshum.edu.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ходное положение - стоя, ноги на ширине плеч, руки перед груд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cl.rushkolnik.ru/docs/7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ги на ширине плеч, вытяните руки перед собой на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www.sympaty.net/2010050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376640" y="1295280"/>
            <a:ext cx="57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пользуем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228600" y="1544040"/>
            <a:ext cx="8610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ип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ческое заня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тод проведе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весный, наглядный, игр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сс:  1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я проведения: по распис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о часов: 45 м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вентарь: свисток, секундомер,  м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533520" y="1699200"/>
            <a:ext cx="8001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ысить уровень физического развития и подготовленности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Развитие силы, быстроты, лов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одействовать развитию: внимания, памяти мышления в ходе двиг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Воспитание у учащихся навыков сознательного и активного отношения к учебному процесс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водно-подготовительная часть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2270160"/>
          <a:ext cx="8763120" cy="4567320"/>
        </p:xfrm>
        <a:graphic>
          <a:graphicData uri="http://schemas.openxmlformats.org/drawingml/2006/table">
            <a:tbl>
              <a:tblPr/>
              <a:tblGrid>
                <a:gridCol w="2921040"/>
                <a:gridCol w="2556000"/>
                <a:gridCol w="32860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зиро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роен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етств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об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 урок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ми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ерить стойку, наличие форм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дленный бег по стадиону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 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жать легко, свободно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азминка (ОРУ)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80880" y="2133720"/>
          <a:ext cx="8458200" cy="441792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.п. основная стойка, руки на поясе, разминаем мышцы шеи (наклоны, вращения головы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мплитуда вращения полна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2 рывки согнутыми руками перед грудью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-4 рывки прямыми руками в стороны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пина прямая, локти не опускать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1447920"/>
          <a:ext cx="8229600" cy="5052960"/>
        </p:xfrm>
        <a:graphic>
          <a:graphicData uri="http://schemas.openxmlformats.org/drawingml/2006/table">
            <a:tbl>
              <a:tblPr/>
              <a:tblGrid>
                <a:gridCol w="2971800"/>
                <a:gridCol w="2133720"/>
                <a:gridCol w="3124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.п. ноги на ширине плеч, правая рука вверху, левая вниз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2 рывки руками назад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-4 смена положения ру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8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уки прямые, рывки интенсив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 И.п. ноги на ширине плеч, руки к плеч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2-3-4 круговые вращения руками вперёд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-6-7-8 круговые вращения наз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5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ращения выполнять по полной амплитуд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уки прям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28600" y="274680"/>
          <a:ext cx="8763120" cy="6502320"/>
        </p:xfrm>
        <a:graphic>
          <a:graphicData uri="http://schemas.openxmlformats.org/drawingml/2006/table">
            <a:tbl>
              <a:tblPr/>
              <a:tblGrid>
                <a:gridCol w="3732120"/>
                <a:gridCol w="2109960"/>
                <a:gridCol w="29210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.п. ноги на ширине плеч, руки опущены вдоль туловищ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2-3-4 вращения прямыми руками вперёд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-6-7-8 вращения прямыми руками наз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5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ени не сгибать. Пальцами рук дотянуться до пола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.п. ноги на ширине плеч, руки на поя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2-3 наклон вперёд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-8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 И.п. ноги на ширине плеч, руки к плеч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2-3-4 круговые вращения руками вперёд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-6-7-8 круговые вращения наз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5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ращения выполнять по полной амплитуде. Руки прям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68" descr=""/>
          <p:cNvPicPr/>
          <p:nvPr/>
        </p:nvPicPr>
        <p:blipFill>
          <a:blip r:embed="rId1"/>
          <a:stretch/>
        </p:blipFill>
        <p:spPr>
          <a:xfrm>
            <a:off x="4038480" y="5181480"/>
            <a:ext cx="46483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28600" y="274680"/>
          <a:ext cx="8610480" cy="6492960"/>
        </p:xfrm>
        <a:graphic>
          <a:graphicData uri="http://schemas.openxmlformats.org/drawingml/2006/table">
            <a:tbl>
              <a:tblPr/>
              <a:tblGrid>
                <a:gridCol w="3444840"/>
                <a:gridCol w="1955880"/>
                <a:gridCol w="3209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.п. ноги на ширине плеч, руки на пояс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прогнуться назад, достать пя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. п. ноги на ширине плеч, руки перед грудь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2 рывки согнутыми руками перед грудью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-4 рывки прямыми руками в сторо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8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клоны строго в сторону, как можно ниж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. И.п. ноги на ширине плеч, руки на пояс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2 наклоны в правую сторону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-4 наклоны в левую сторон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8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пина прямая, мах интенсивный, руки не опуска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216000"/>
          <a:ext cx="8305920" cy="6254640"/>
        </p:xfrm>
        <a:graphic>
          <a:graphicData uri="http://schemas.openxmlformats.org/drawingml/2006/table">
            <a:tbl>
              <a:tblPr/>
              <a:tblGrid>
                <a:gridCol w="3276720"/>
                <a:gridCol w="2286000"/>
                <a:gridCol w="2743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 И.п. ноги на ширине плеч руки вытянуты вперёд на уровне груди 1-2 мах правой ногой, стопой достать левую кисть руки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-4 мах левой ногой, стопой достать правую кисть ру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сед полн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 И.п. ноги на ширине плеч, руки на поясе 1 присесть, руки вперёд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и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5 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уться сильне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 И.п. ноги на ширине плеч, руки на поя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прогнуться назад, руки верх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наклониться вперёд, руки вниз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присесть, руки вперёд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и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8 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пус прямо, вращать только таз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64" descr=""/>
          <p:cNvPicPr/>
          <p:nvPr/>
        </p:nvPicPr>
        <p:blipFill>
          <a:blip r:embed="rId1"/>
          <a:stretch/>
        </p:blipFill>
        <p:spPr>
          <a:xfrm>
            <a:off x="3733920" y="4343400"/>
            <a:ext cx="22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5:04:38Z</dcterms:created>
  <dc:creator>user</dc:creator>
  <dc:description/>
  <dc:language>en-US</dc:language>
  <cp:lastModifiedBy>Vera</cp:lastModifiedBy>
  <dcterms:modified xsi:type="dcterms:W3CDTF">2016-10-24T19:27:4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