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629A-8529-4385-871A-0FC92535E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8017-5054-4A9A-85E9-91F09658A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9FA-247C-4BAF-BB1D-F236CE47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08E-D5C4-4E6F-8822-0684AD8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AC6-D84E-476B-97D1-A477A039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56D-1AE3-45D9-944D-426C19F8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A3F-72E4-4E2A-84FD-A14D099B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C44-F7F3-4F0F-B788-8A78BE28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875-0479-4066-8305-300220A2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C91-5392-4804-84E6-BABFAC15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55C-6AD9-4508-A87B-E5B77555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642-2DAD-49F8-AEE4-DCF59B7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943-E3BC-42AB-A540-035BF32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2C0-9C04-4C98-A1B8-E0DE3F2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EC67-C390-4B4D-9996-EA8328614C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ЁГКАЯ АТЛЕТИКА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1 класс</a:t>
            </a: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а урока: «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г на 3000 м. юноши, 2000м девушки на результат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38680" y="4343400"/>
            <a:ext cx="3200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Авторы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польская Вера Владими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асев Сергей Петрови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ажарова Вера Дмитри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мышева Светлана Евген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Лавкова  Надежда Григор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Аксассова  Татьяна Евген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74680"/>
          <a:ext cx="8229600" cy="635472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63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И.п. основная стойка руки на поясе, большие пальцы вперё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4 вращаем тазом вправ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 И.п. выпад правой ногой, руки на ко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 покачива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прыжком смена положения но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И.п. основная стойка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ыпад пра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и.п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выпад ле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пус на колено не опускать. Выпад глубок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пус держать прям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3520" y="990720"/>
          <a:ext cx="8229600" cy="564192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 И.п. сед на левой ноге, правая прямая в сторо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2 перекатиться на правую ногу, левая прямая в сторон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 И.п. основная стойка,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прыжок, ноги на ширине плеч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нять мягко, как можно выш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емление мягко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 И.п. основная стойка. Прыжки из полного присе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Выпрыгивание вверх с подтягиванием коленей к гру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072080" y="22824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ециальные беговые упражн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189080"/>
          <a:ext cx="8229600" cy="551664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сокое бед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хлёст голен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 В шаге, прыжки с ноги на но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работают как при бег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Шаг выполняется коленом вперё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 выполнении помогаем ру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Роллинг (шаг, прыжок вверх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 Многоскоки (продвижение на передней части стопы вперёд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 Правым боком приставными шагам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92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1447560" cy="113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3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3047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762120"/>
          <a:ext cx="8458200" cy="5821200"/>
        </p:xfrm>
        <a:graphic>
          <a:graphicData uri="http://schemas.openxmlformats.org/drawingml/2006/table">
            <a:tbl>
              <a:tblPr/>
              <a:tblGrid>
                <a:gridCol w="3733920"/>
                <a:gridCol w="1600200"/>
                <a:gridCol w="312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вым боком приставными шаг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 Ускор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Упр. на восстановление дых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х3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и в верх вдох , руки в низ выдо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Бег по стадиону 100м-быстро, 100м-медленно,100м-быстр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Фартлек. Бег быстро- медленно- быстро-3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Пробегание 200м в три четверти си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Пробегание 3000м  юноши 2000м девушки на результа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дить за постановкой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желательно переходить на ходьб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жать легко свобод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139480" y="456480"/>
            <a:ext cx="54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aключительная часть уро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371600"/>
          <a:ext cx="8229600" cy="5135400"/>
        </p:xfrm>
        <a:graphic>
          <a:graphicData uri="http://schemas.openxmlformats.org/drawingml/2006/table">
            <a:tbl>
              <a:tblPr/>
              <a:tblGrid>
                <a:gridCol w="3505320"/>
                <a:gridCol w="198108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Упражнения на восстановление дыхания и расслабление мыш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вверх - вдох, руки вниз – выдо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тряхнуть ноги и ру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Рефлексия. Выставление оцено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азать на ошибки, отметить лучших. Ответить на вопросы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Домашнее задан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ворческое задание:  Почему в большом спорте используется низкий старт? Почему он считается более эффективны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:\Photos\2010\10.05.2010\DCIM\262CANON\IMG_62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52280" y="2133720"/>
            <a:ext cx="8763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физической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obrazov-gshum.edu.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на ширине плеч, руки перед груд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cl.rushkolnik.ru/docs/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ги на ширине плеч, вытяните руки перед собой на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sympaty.net/2010050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376640" y="1295280"/>
            <a:ext cx="57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уем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28600" y="154404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п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ое за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 провед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есный, наглядный, иг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:  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проведения: по распис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часов: 45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нтарь: свисток, секундомер,  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3520" y="169920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Развитие силы, быстроты, лов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водно-подготовительная часть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2270160"/>
          <a:ext cx="8763120" cy="4567320"/>
        </p:xfrm>
        <a:graphic>
          <a:graphicData uri="http://schemas.openxmlformats.org/drawingml/2006/table">
            <a:tbl>
              <a:tblPr/>
              <a:tblGrid>
                <a:gridCol w="2921040"/>
                <a:gridCol w="2556000"/>
                <a:gridCol w="3286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ро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етств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об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рить стойку, наличие фор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ленный бег по стади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жать легко, свобод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зминка (ОРУ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2133720"/>
          <a:ext cx="8458200" cy="44179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основная стойка, руки на поясе, разминаем мышцы шеи (наклоны, вращения головы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мплитуда вращения полн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пина прямая, локти не опускать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447920"/>
          <a:ext cx="8229600" cy="5052960"/>
        </p:xfrm>
        <a:graphic>
          <a:graphicData uri="http://schemas.openxmlformats.org/drawingml/2006/table">
            <a:tbl>
              <a:tblPr/>
              <a:tblGrid>
                <a:gridCol w="2971800"/>
                <a:gridCol w="2133720"/>
                <a:gridCol w="312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правая рука вверху, левая вни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рывки руками наза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смена положения р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прямые, рывки интенсив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274680"/>
          <a:ext cx="8763120" cy="6502320"/>
        </p:xfrm>
        <a:graphic>
          <a:graphicData uri="http://schemas.openxmlformats.org/drawingml/2006/table">
            <a:tbl>
              <a:tblPr/>
              <a:tblGrid>
                <a:gridCol w="3732120"/>
                <a:gridCol w="2109960"/>
                <a:gridCol w="2921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руки опущены вдоль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-4 вращения прямыми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-6-7-8 вращения прямыми руками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ени не сгибать. Пальцами рук дотянуться до пол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 наклон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68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4648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274680"/>
          <a:ext cx="8610480" cy="6492960"/>
        </p:xfrm>
        <a:graphic>
          <a:graphicData uri="http://schemas.openxmlformats.org/drawingml/2006/table">
            <a:tbl>
              <a:tblPr/>
              <a:tblGrid>
                <a:gridCol w="3444840"/>
                <a:gridCol w="1955880"/>
                <a:gridCol w="3209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прогнуться назад, достать пя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 п. ноги на ширине плеч, руки перед грудь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клоны строго в сторону, как можно ниж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 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наклоны в правую сторону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наклоны в левую стор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пина прямая, мах интенсивный, руки не опуск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216000"/>
          <a:ext cx="8305920" cy="6254640"/>
        </p:xfrm>
        <a:graphic>
          <a:graphicData uri="http://schemas.openxmlformats.org/drawingml/2006/table">
            <a:tbl>
              <a:tblPr/>
              <a:tblGrid>
                <a:gridCol w="3276720"/>
                <a:gridCol w="22860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 И.п. ноги на ширине плеч руки вытянуты вперёд на уровне груди 1-2 мах правой ногой, стопой достать левую кисть руки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мах левой ногой, стопой достать правую кисть ру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 И.п. ноги на ширине плеч, руки на поясе 1 присесть, руки вперё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.п. ноги на ширине плеч, руки на поя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прогнуться назад, руки верх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наклониться вперёд, руки вниз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присесть, руки вперё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и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64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04:38Z</dcterms:created>
  <dc:creator>user</dc:creator>
  <dc:description/>
  <dc:language>en-US</dc:language>
  <cp:lastModifiedBy>Vera</cp:lastModifiedBy>
  <dcterms:modified xsi:type="dcterms:W3CDTF">2016-10-24T19:27:4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