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84A6-3E0B-46C4-AB6E-592C72BF2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EA6C-13D9-4F23-ABFD-65A115668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4616-A075-4BDF-8AD7-10E93F8AA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6AB8-796E-4C72-83BD-75B26E22B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001-2774-4B4E-B7FE-5AECE505E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D6C4-A15E-4ED2-ADE7-DC4C100062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8A7D-B7F8-4C3B-9164-9BFDC3873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FD1E-B74B-4992-A7C4-8BB4FB2F56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AA1-A83F-4FB4-AF4F-0D505E753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2FB-B858-4037-8609-242452FDCD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6CD-FA15-4F37-8BD8-257D3ECCBD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61B2-9485-4234-AC43-0263AEBC1D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C98-5A6D-4EDF-99B9-CE239E150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DEA-F2B2-459B-A894-E6AEE1DB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3A-DA87-4481-B1A4-FD4B3CFF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634-B655-4EE9-B17D-2F4C0B39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0FD-D9D9-40B1-A8E8-AD337B24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F7A7-D6CD-46F0-B0CA-385A500F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1A50-0C6D-410C-AA1C-9AB7A1AE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3FB9-AAD7-4DFB-9988-AD62330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8D2A-3FB8-47A1-844C-C50D3487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1B14-69D6-4780-BA26-96233966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45B6-89B4-4830-ABE8-041C0EB5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D014-1754-4EF0-A967-6B36D93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24A-EF47-485A-A35E-21A0DE17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3050-B40B-464F-853E-F9C63C14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874A-BC59-41B5-A36B-821260E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591F-0BCC-442E-A5EF-BBE46252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F444-17D9-4CF3-AD30-EB27A0D4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84C6-0428-445C-98E9-D6532E3C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3DE-1E2C-40FE-B58B-5F88DB98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7D1-B85B-45A2-8EE3-16AAE53D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5DD-908B-4EF2-B4D5-8E9A34F1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FE8-7D78-49BE-89B7-92B9CA37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C1E-03DB-4D18-9E08-5CCF79D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025-5E82-4E27-BD98-BEFDEE6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BD8-2C2A-4695-99DD-83797B20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7A46-198A-409A-8AE1-A0A6FBB14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5" descr="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DDE3-D65A-4204-BE82-F1EA548C8D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5" descr="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ниципальное казенное учреждение дополнительного образования «Центр детского творчества»</a:t>
            </a: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285840" y="907920"/>
            <a:ext cx="8462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й поиск форм и методов обучения в формировании творческого потенциала детей посредством сказочных художественны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468360" y="5300640"/>
            <a:ext cx="83898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 дополнительного образования, руководитель объединения «Плетение из солом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доровец Натали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00000" y="188640"/>
            <a:ext cx="590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ленький ребёнок явл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подражателем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cat_with_glasses_wallpaper_background_27357.jpg"/>
          <p:cNvPicPr/>
          <p:nvPr/>
        </p:nvPicPr>
        <p:blipFill>
          <a:blip r:embed="rId1"/>
          <a:stretch/>
        </p:blipFill>
        <p:spPr>
          <a:xfrm>
            <a:off x="2050920" y="1700280"/>
            <a:ext cx="6301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img7.jpg"/>
          <p:cNvPicPr/>
          <p:nvPr/>
        </p:nvPicPr>
        <p:blipFill>
          <a:blip r:embed="rId1"/>
          <a:stretch/>
        </p:blipFill>
        <p:spPr>
          <a:xfrm>
            <a:off x="2124000" y="2494080"/>
            <a:ext cx="7020000" cy="4363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684360" y="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зочные герои  имеют  у  дет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авторите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280" y="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ступное и простое изложение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гче понять самые сложные чувства в человеке, о которых непросто говорить ребенку напрямую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6" descr="p19ipef9sk31bt11646t801dj31.jpg"/>
          <p:cNvPicPr/>
          <p:nvPr/>
        </p:nvPicPr>
        <p:blipFill>
          <a:blip r:embed="rId1"/>
          <a:stretch/>
        </p:blipFill>
        <p:spPr>
          <a:xfrm>
            <a:off x="1511280" y="1676520"/>
            <a:ext cx="7632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5_9.jpg"/>
          <p:cNvPicPr/>
          <p:nvPr/>
        </p:nvPicPr>
        <p:blipFill>
          <a:blip r:embed="rId1"/>
          <a:stretch/>
        </p:blipFill>
        <p:spPr>
          <a:xfrm>
            <a:off x="2411280" y="2276640"/>
            <a:ext cx="6481800" cy="430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dok\Desktop\выступление на брудновских чтениях\для презентации\013.jpg"/>
          <p:cNvPicPr/>
          <p:nvPr/>
        </p:nvPicPr>
        <p:blipFill>
          <a:blip r:embed="rId2"/>
          <a:stretch/>
        </p:blipFill>
        <p:spPr>
          <a:xfrm>
            <a:off x="0" y="0"/>
            <a:ext cx="2050920" cy="2409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000" y="-459000"/>
            <a:ext cx="6875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 - «зеркало» души нашего общества, и обществу нужно присмотреться к детям, чтобы через них понять, какое будущее мы себе готови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Users\dok\Desktop\выступление на брудновских чтениях\для презентации\013.jpg"/>
          <p:cNvPicPr/>
          <p:nvPr/>
        </p:nvPicPr>
        <p:blipFill>
          <a:blip r:embed="rId1"/>
          <a:stretch/>
        </p:blipFill>
        <p:spPr>
          <a:xfrm>
            <a:off x="0" y="0"/>
            <a:ext cx="2050920" cy="2409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1979640" y="0"/>
            <a:ext cx="71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педаг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ь ребенка общаться с другими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общить их к «этической азбу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9" descr="COLOURBOX2105255 sшsken.jpg"/>
          <p:cNvPicPr/>
          <p:nvPr/>
        </p:nvPicPr>
        <p:blipFill>
          <a:blip r:embed="rId2"/>
          <a:stretch/>
        </p:blipFill>
        <p:spPr>
          <a:xfrm>
            <a:off x="1947960" y="2060640"/>
            <a:ext cx="71960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, способствующие формированию  полноценного эстетического развития ребен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71640" y="1916280"/>
            <a:ext cx="7129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убеж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при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проблемных ситуац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тод побуждения к сопережив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азка формирует этическое созн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5" descr="952899337.jpg"/>
          <p:cNvPicPr/>
          <p:nvPr/>
        </p:nvPicPr>
        <p:blipFill>
          <a:blip r:embed="rId1"/>
          <a:stretch/>
        </p:blipFill>
        <p:spPr>
          <a:xfrm>
            <a:off x="6418440" y="2492280"/>
            <a:ext cx="2725560" cy="360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4" name="Рисунок 4" descr="Сказки Братья Гримм.jpg"/>
          <p:cNvPicPr/>
          <p:nvPr/>
        </p:nvPicPr>
        <p:blipFill>
          <a:blip r:embed="rId2"/>
          <a:stretch/>
        </p:blipFill>
        <p:spPr>
          <a:xfrm>
            <a:off x="3355920" y="1916280"/>
            <a:ext cx="28386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5" name="Рисунок 3" descr="wpid-sbornik-sovetskih-mul-tfil-mov-po-skazkam-a.s.-pushkina.-1950_i_11.jpg"/>
          <p:cNvPicPr/>
          <p:nvPr/>
        </p:nvPicPr>
        <p:blipFill>
          <a:blip r:embed="rId3"/>
          <a:stretch/>
        </p:blipFill>
        <p:spPr>
          <a:xfrm>
            <a:off x="395280" y="1413000"/>
            <a:ext cx="2735280" cy="3598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5084640"/>
            <a:ext cx="7490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 способствует становлению мировоззрения ребе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4" descr="shutterstock_53340589.jpg"/>
          <p:cNvPicPr/>
          <p:nvPr/>
        </p:nvPicPr>
        <p:blipFill>
          <a:blip r:embed="rId1"/>
          <a:stretch/>
        </p:blipFill>
        <p:spPr>
          <a:xfrm>
            <a:off x="684360" y="404640"/>
            <a:ext cx="5903640" cy="4429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-316080"/>
            <a:ext cx="889308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, услышанная в детстве, может стать основой жизненного плана человека и определить его судьб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4" descr="al_oldotkr12_4441.jpg"/>
          <p:cNvPicPr/>
          <p:nvPr/>
        </p:nvPicPr>
        <p:blipFill>
          <a:blip r:embed="rId1"/>
          <a:stretch/>
        </p:blipFill>
        <p:spPr>
          <a:xfrm>
            <a:off x="1042920" y="1628640"/>
            <a:ext cx="3241800" cy="44830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10" name="Содержимое 5" descr="b247177.jpg"/>
          <p:cNvPicPr/>
          <p:nvPr/>
        </p:nvPicPr>
        <p:blipFill>
          <a:blip r:embed="rId2"/>
          <a:stretch/>
        </p:blipFill>
        <p:spPr>
          <a:xfrm>
            <a:off x="4716360" y="1628640"/>
            <a:ext cx="3449880" cy="45007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4" descr="kids_group2.jpg"/>
          <p:cNvPicPr/>
          <p:nvPr/>
        </p:nvPicPr>
        <p:blipFill>
          <a:blip r:embed="rId1"/>
          <a:stretch/>
        </p:blipFill>
        <p:spPr>
          <a:xfrm>
            <a:off x="826920" y="1341360"/>
            <a:ext cx="6313680" cy="4735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684360" y="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 помогает ребенку занять свое ме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окружающе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ы влияния сказки на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280" y="764640"/>
            <a:ext cx="7931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ировосприят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Ребёнок принимает сказку «за чистую монет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3" descr="N7FA191BE57B8.jpg"/>
          <p:cNvPicPr/>
          <p:nvPr/>
        </p:nvPicPr>
        <p:blipFill>
          <a:blip r:embed="rId1"/>
          <a:stretch/>
        </p:blipFill>
        <p:spPr>
          <a:xfrm>
            <a:off x="1908000" y="1812960"/>
            <a:ext cx="72360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dok</cp:lastModifiedBy>
  <dcterms:modified xsi:type="dcterms:W3CDTF">2017-05-27T07:16:10Z</dcterms:modified>
  <cp:revision>144</cp:revision>
  <dc:subject/>
  <dc:title>Слайд 1</dc:title>
</cp:coreProperties>
</file>