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5AE-6BDD-4BB1-AC1B-1311F7308A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4004-3346-4552-8D9C-C76CCA43A6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01E-AB4F-4DA3-BECD-DA93AA72A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4EC-B2F5-4A7B-A906-75B4D51C9D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38B-D5CE-439B-8D37-8A869D8C51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DBC5-62EA-43DF-A94A-022B1BE36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BB4-4ED7-4F68-9151-8AC6455FD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B43C-499B-450B-91A0-9E8463E64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5E4C-A9D4-4233-AACF-4D1F639213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A72-370B-4722-9846-604CF7B34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E02-7223-40DA-BB9C-328EFA5B0C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36D6-4179-4760-9EDD-1DC1A828C7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535-881D-47EB-ACA3-2FABB0DD76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D6E-E167-43F2-A479-06608BDD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039-ACBE-44B4-8E72-EC5BC0DF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046-3D85-42DD-863A-32081791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6CB-1086-4CA8-B4C0-A6E81336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0F81-AA7E-40DD-A3C5-A7E04173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F146-3DF8-4D92-B33A-EF879F2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C3A-70B2-4AD5-A2A1-69611E2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3DD4-2553-44B2-A577-9BC7E3C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1A2C-E20F-48C6-8E3A-C6DE091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723-C815-44AD-9E65-BC6B3F8D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F41-0181-4654-AFB7-A206139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FCB-E8B0-41A2-9C3D-C9E1C52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5D30-5F82-4D45-941F-E340B88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5182-DDE7-46B5-A4D3-9DD5512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129-B1B7-4209-8F0F-C135142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0D5-DEF4-4631-92D0-8685A73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B20-954F-4E0A-B60D-705EB74B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223-E766-4B42-BD10-F4FFBB62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8E8-6663-4DAC-93CD-3E395DD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15B-123E-4DD6-B8EB-E1A8F2ED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19F-C98A-4F54-B359-CE90604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25F-3978-4EAC-9DD9-477333F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D22-0916-47AC-8909-EC644FC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170-47FA-44FE-AC2C-5CAEDB6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E1B2-5224-4EDE-8FD4-285B586E0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5" descr="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ED2B-283B-4DBE-893D-55D312547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5" descr="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ниципальное казенное учреждение дополнительного образования «Центр детского творчества»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285840" y="907920"/>
            <a:ext cx="8462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поиск форм и методов обучения в формировании творческого потенциала детей посредством сказочных 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68360" y="5300640"/>
            <a:ext cx="8389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 дополнительного образования, руководитель объединения «Плетение из солом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доровец Натали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00000" y="188640"/>
            <a:ext cx="590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ленький ребёнок явл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одражателем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cat_with_glasses_wallpaper_background_27357.jpg"/>
          <p:cNvPicPr/>
          <p:nvPr/>
        </p:nvPicPr>
        <p:blipFill>
          <a:blip r:embed="rId1"/>
          <a:stretch/>
        </p:blipFill>
        <p:spPr>
          <a:xfrm>
            <a:off x="2050920" y="1700280"/>
            <a:ext cx="6301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img7.jpg"/>
          <p:cNvPicPr/>
          <p:nvPr/>
        </p:nvPicPr>
        <p:blipFill>
          <a:blip r:embed="rId1"/>
          <a:stretch/>
        </p:blipFill>
        <p:spPr>
          <a:xfrm>
            <a:off x="2124000" y="2494080"/>
            <a:ext cx="7020000" cy="4363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684360" y="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зочные герои  имеют  у  дет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авторит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280" y="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ступное и простое изложение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гче понять самые сложные чувства в человеке, о которых непросто говорить ребенку напрямую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6" descr="p19ipef9sk31bt11646t801dj31.jpg"/>
          <p:cNvPicPr/>
          <p:nvPr/>
        </p:nvPicPr>
        <p:blipFill>
          <a:blip r:embed="rId1"/>
          <a:stretch/>
        </p:blipFill>
        <p:spPr>
          <a:xfrm>
            <a:off x="1511280" y="1676520"/>
            <a:ext cx="7632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5_9.jpg"/>
          <p:cNvPicPr/>
          <p:nvPr/>
        </p:nvPicPr>
        <p:blipFill>
          <a:blip r:embed="rId1"/>
          <a:stretch/>
        </p:blipFill>
        <p:spPr>
          <a:xfrm>
            <a:off x="2411280" y="2276640"/>
            <a:ext cx="6481800" cy="43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dok\Desktop\выступление на брудновских чтениях\для презентации\013.jpg"/>
          <p:cNvPicPr/>
          <p:nvPr/>
        </p:nvPicPr>
        <p:blipFill>
          <a:blip r:embed="rId2"/>
          <a:stretch/>
        </p:blipFill>
        <p:spPr>
          <a:xfrm>
            <a:off x="0" y="0"/>
            <a:ext cx="2050920" cy="2409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000" y="-459000"/>
            <a:ext cx="6875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- «зеркало» души нашего общества, и обществу нужно присмотреться к детям, чтобы через них понять, какое будущее мы себе готови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dok\Desktop\выступление на брудновских чтениях\для презентации\013.jpg"/>
          <p:cNvPicPr/>
          <p:nvPr/>
        </p:nvPicPr>
        <p:blipFill>
          <a:blip r:embed="rId1"/>
          <a:stretch/>
        </p:blipFill>
        <p:spPr>
          <a:xfrm>
            <a:off x="0" y="0"/>
            <a:ext cx="2050920" cy="2409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979640" y="0"/>
            <a:ext cx="71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педаг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 ребенка общаться с другими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общить их к «этической азбу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9" descr="COLOURBOX2105255 sшsken.jpg"/>
          <p:cNvPicPr/>
          <p:nvPr/>
        </p:nvPicPr>
        <p:blipFill>
          <a:blip r:embed="rId2"/>
          <a:stretch/>
        </p:blipFill>
        <p:spPr>
          <a:xfrm>
            <a:off x="1947960" y="2060640"/>
            <a:ext cx="71960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, способствующие формированию  полноценного эстетического развития ребен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640" y="1916280"/>
            <a:ext cx="7129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убеж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ри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роблемных ситуац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обуждения к сопережив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а формирует этическое созн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5" descr="952899337.jpg"/>
          <p:cNvPicPr/>
          <p:nvPr/>
        </p:nvPicPr>
        <p:blipFill>
          <a:blip r:embed="rId1"/>
          <a:stretch/>
        </p:blipFill>
        <p:spPr>
          <a:xfrm>
            <a:off x="6418440" y="2492280"/>
            <a:ext cx="2725560" cy="360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4" name="Рисунок 4" descr="Сказки Братья Гримм.jpg"/>
          <p:cNvPicPr/>
          <p:nvPr/>
        </p:nvPicPr>
        <p:blipFill>
          <a:blip r:embed="rId2"/>
          <a:stretch/>
        </p:blipFill>
        <p:spPr>
          <a:xfrm>
            <a:off x="3355920" y="1916280"/>
            <a:ext cx="28386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5" name="Рисунок 3" descr="wpid-sbornik-sovetskih-mul-tfil-mov-po-skazkam-a.s.-pushkina.-1950_i_11.jpg"/>
          <p:cNvPicPr/>
          <p:nvPr/>
        </p:nvPicPr>
        <p:blipFill>
          <a:blip r:embed="rId3"/>
          <a:stretch/>
        </p:blipFill>
        <p:spPr>
          <a:xfrm>
            <a:off x="395280" y="1413000"/>
            <a:ext cx="2735280" cy="3598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5084640"/>
            <a:ext cx="7490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способствует становлению мировоззрения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" descr="shutterstock_53340589.jpg"/>
          <p:cNvPicPr/>
          <p:nvPr/>
        </p:nvPicPr>
        <p:blipFill>
          <a:blip r:embed="rId1"/>
          <a:stretch/>
        </p:blipFill>
        <p:spPr>
          <a:xfrm>
            <a:off x="684360" y="404640"/>
            <a:ext cx="5903640" cy="4429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-316080"/>
            <a:ext cx="88930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, услышанная в детстве, может стать основой жизненного плана человека и определить его судьб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al_oldotkr12_4441.jpg"/>
          <p:cNvPicPr/>
          <p:nvPr/>
        </p:nvPicPr>
        <p:blipFill>
          <a:blip r:embed="rId1"/>
          <a:stretch/>
        </p:blipFill>
        <p:spPr>
          <a:xfrm>
            <a:off x="1042920" y="1628640"/>
            <a:ext cx="3241800" cy="44830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0" name="Содержимое 5" descr="b247177.jpg"/>
          <p:cNvPicPr/>
          <p:nvPr/>
        </p:nvPicPr>
        <p:blipFill>
          <a:blip r:embed="rId2"/>
          <a:stretch/>
        </p:blipFill>
        <p:spPr>
          <a:xfrm>
            <a:off x="4716360" y="1628640"/>
            <a:ext cx="3449880" cy="45007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4" descr="kids_group2.jpg"/>
          <p:cNvPicPr/>
          <p:nvPr/>
        </p:nvPicPr>
        <p:blipFill>
          <a:blip r:embed="rId1"/>
          <a:stretch/>
        </p:blipFill>
        <p:spPr>
          <a:xfrm>
            <a:off x="826920" y="1341360"/>
            <a:ext cx="6313680" cy="4735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684360" y="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помогает ребенку занять свое ме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окружающе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ы влияния сказки на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280" y="764640"/>
            <a:ext cx="7931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ировосприят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Ребёнок принимает сказку «за чистую моне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N7FA191BE57B8.jpg"/>
          <p:cNvPicPr/>
          <p:nvPr/>
        </p:nvPicPr>
        <p:blipFill>
          <a:blip r:embed="rId1"/>
          <a:stretch/>
        </p:blipFill>
        <p:spPr>
          <a:xfrm>
            <a:off x="1908000" y="1812960"/>
            <a:ext cx="7236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dok</cp:lastModifiedBy>
  <dcterms:modified xsi:type="dcterms:W3CDTF">2017-05-27T07:16:10Z</dcterms:modified>
  <cp:revision>144</cp:revision>
  <dc:subject/>
  <dc:title>Слайд 1</dc:title>
</cp:coreProperties>
</file>