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1A7E-DC0C-42D5-8286-ECF80DCDCF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63AA-6BA8-4531-8ABC-BB0DFF7056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E5FD-C7DE-4161-8B65-6D605FD311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361B-58E1-421A-AAF6-0E6155E58B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D81A-A760-490F-8E65-A065F4F27A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2396-E50A-44BF-90FF-92E75BB488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D8B1-BB8A-4EFE-9C44-793736122D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8D5F-8D10-4CD4-AB33-886F357E73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E2F2-78EF-4D3C-A6DC-FB78A9393A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0AB9-0F86-4CA6-BC5E-AF94752772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C08D-30B4-4032-8892-0875ADD072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3958-F6EF-4050-A723-2FE94DE678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A2DF-AFDB-43E4-A2AB-C746DBC4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1E03-B00D-41E4-B366-C3CF0345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0912-46E9-4B90-B5EC-5B8814F5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2698-2B57-47AE-A5FF-DB46063B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47C4-2D7B-492C-B284-5D2EEA02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566-5758-44AE-A02E-63A44996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76F8-65AD-4924-BCF4-12491762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434C-4891-4FE7-81E4-3E893010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592-2265-4445-8D83-73917120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863-BBDB-4BF4-A2B5-FA4FF0F1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0D07-7688-4759-B2F9-3C7938E3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2EF3-E8B3-40E1-90BC-7F3454A3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25BE-3657-401C-9EC2-0455AD1F8B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15" descr="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родные                       Авторские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72360" y="907920"/>
            <a:ext cx="4041720" cy="6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8" descr="Skazki_Sharlya_Perro_Kot_V_Sapogah_Zolushka_Lyubimye_Skazki_Kniga_Rosman_1.jpg"/>
          <p:cNvPicPr/>
          <p:nvPr/>
        </p:nvPicPr>
        <p:blipFill>
          <a:blip r:embed="rId1"/>
          <a:stretch/>
        </p:blipFill>
        <p:spPr>
          <a:xfrm>
            <a:off x="5148360" y="1700280"/>
            <a:ext cx="3995640" cy="48020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52" name="Заголовок 1"/>
          <p:cNvSpPr/>
          <p:nvPr/>
        </p:nvSpPr>
        <p:spPr>
          <a:xfrm>
            <a:off x="0" y="83664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олшебные, обучающие, психокорекционны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10" descr="62505598bbac.jpg"/>
          <p:cNvPicPr/>
          <p:nvPr/>
        </p:nvPicPr>
        <p:blipFill>
          <a:blip r:embed="rId2"/>
          <a:stretch/>
        </p:blipFill>
        <p:spPr>
          <a:xfrm>
            <a:off x="1258920" y="1700280"/>
            <a:ext cx="3600360" cy="484164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0" y="1781280"/>
            <a:ext cx="9144000" cy="589572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395280" y="26028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оды и приемы использования сказоч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итературы при подготовке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1908000" y="4149720"/>
            <a:ext cx="26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ан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изве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39640" y="198900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ес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3276720" y="198900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г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4716360" y="4149720"/>
            <a:ext cx="296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атрал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ован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6227640" y="1989000"/>
            <a:ext cx="29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шение проблемных ситу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92720" y="549360"/>
            <a:ext cx="3672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олотой петуш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D:\DOC\проекты дети\фотографии для проектов\IMG_2286.JPG"/>
          <p:cNvPicPr/>
          <p:nvPr/>
        </p:nvPicPr>
        <p:blipFill>
          <a:blip r:embed="rId1"/>
          <a:stretch/>
        </p:blipFill>
        <p:spPr>
          <a:xfrm>
            <a:off x="0" y="476280"/>
            <a:ext cx="5292720" cy="3816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D:\DOC\Pictures\новые фото разобрать\P4150538.JPG"/>
          <p:cNvPicPr/>
          <p:nvPr/>
        </p:nvPicPr>
        <p:blipFill>
          <a:blip r:embed="rId2"/>
          <a:stretch/>
        </p:blipFill>
        <p:spPr>
          <a:xfrm>
            <a:off x="5435640" y="2060640"/>
            <a:ext cx="3708360" cy="4797360"/>
          </a:xfrm>
          <a:prstGeom prst="rect">
            <a:avLst/>
          </a:prstGeom>
          <a:ln w="9360">
            <a:solidFill>
              <a:srgbClr val="31859c"/>
            </a:solidFill>
            <a:miter/>
          </a:ln>
        </p:spPr>
      </p:pic>
      <p:sp>
        <p:nvSpPr>
          <p:cNvPr id="95" name="Заголовок 1"/>
          <p:cNvSpPr/>
          <p:nvPr/>
        </p:nvSpPr>
        <p:spPr>
          <a:xfrm>
            <a:off x="971640" y="4508640"/>
            <a:ext cx="3898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нек - Горбу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23640" y="27432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азки об оживших предметах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 умных животн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5" descr="1013197565.jpg"/>
          <p:cNvPicPr/>
          <p:nvPr/>
        </p:nvPicPr>
        <p:blipFill>
          <a:blip r:embed="rId1"/>
          <a:stretch/>
        </p:blipFill>
        <p:spPr>
          <a:xfrm>
            <a:off x="179280" y="134136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5940360" y="1628640"/>
            <a:ext cx="287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т ребенка быть отзывчивым, добрым и вниматель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азки об отношениях между людьми (бытовые сказ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_Eposyi_legendyi_i_skazaniya_Sestritsa_Alenushka_i_bratets_Ivanushka_ill._Chebotaryov__i_005.jpg"/>
          <p:cNvPicPr/>
          <p:nvPr/>
        </p:nvPicPr>
        <p:blipFill>
          <a:blip r:embed="rId1"/>
          <a:stretch/>
        </p:blipFill>
        <p:spPr>
          <a:xfrm>
            <a:off x="250920" y="1413000"/>
            <a:ext cx="3498840" cy="4525920"/>
          </a:xfrm>
          <a:prstGeom prst="rect">
            <a:avLst/>
          </a:prstGeom>
          <a:ln w="28440">
            <a:solidFill>
              <a:srgbClr val="953735"/>
            </a:solidFill>
            <a:miter/>
          </a:ln>
        </p:spPr>
      </p:pic>
      <p:pic>
        <p:nvPicPr>
          <p:cNvPr id="59" name="Рисунок 6" descr="skazke_zare_016.jpg"/>
          <p:cNvPicPr/>
          <p:nvPr/>
        </p:nvPicPr>
        <p:blipFill>
          <a:blip r:embed="rId2"/>
          <a:stretch/>
        </p:blipFill>
        <p:spPr>
          <a:xfrm>
            <a:off x="3863880" y="2997360"/>
            <a:ext cx="5280120" cy="386064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3995640" y="1413000"/>
            <a:ext cx="51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ывают целеустремлен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елание поступать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казки о добре и зл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b_055.jpg"/>
          <p:cNvPicPr/>
          <p:nvPr/>
        </p:nvPicPr>
        <p:blipFill>
          <a:blip r:embed="rId1"/>
          <a:stretch/>
        </p:blipFill>
        <p:spPr>
          <a:xfrm>
            <a:off x="395280" y="1125360"/>
            <a:ext cx="4537080" cy="5502600"/>
          </a:xfrm>
          <a:prstGeom prst="rect">
            <a:avLst/>
          </a:prstGeom>
          <a:ln w="9360">
            <a:solidFill>
              <a:srgbClr val="17375e"/>
            </a:solidFill>
            <a:miter/>
          </a:ln>
        </p:spPr>
      </p:pic>
      <p:sp>
        <p:nvSpPr>
          <p:cNvPr id="63" name="TextBox 4"/>
          <p:cNvSpPr/>
          <p:nvPr/>
        </p:nvSpPr>
        <p:spPr>
          <a:xfrm>
            <a:off x="5292720" y="1628640"/>
            <a:ext cx="30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бро верными способ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беждает з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казки - страшил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381280c113ffda71b1e09c1bf8f97ef2.jpg"/>
          <p:cNvPicPr/>
          <p:nvPr/>
        </p:nvPicPr>
        <p:blipFill>
          <a:blip r:embed="rId1"/>
          <a:stretch/>
        </p:blipFill>
        <p:spPr>
          <a:xfrm>
            <a:off x="395280" y="1341360"/>
            <a:ext cx="4197240" cy="48960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66" name="Содержимое 5" descr="1273843284_morevna21.jpg"/>
          <p:cNvPicPr/>
          <p:nvPr/>
        </p:nvPicPr>
        <p:blipFill>
          <a:blip r:embed="rId2"/>
          <a:stretch/>
        </p:blipFill>
        <p:spPr>
          <a:xfrm>
            <a:off x="4859280" y="1268280"/>
            <a:ext cx="37497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7040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сихокоррекционные сказ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Depositphotos_4761120_xl (1).jpg"/>
          <p:cNvPicPr/>
          <p:nvPr/>
        </p:nvPicPr>
        <p:blipFill>
          <a:blip r:embed="rId1"/>
          <a:stretch/>
        </p:blipFill>
        <p:spPr>
          <a:xfrm>
            <a:off x="1176480" y="1600200"/>
            <a:ext cx="6791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250920" y="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ы организации работы  с     использованием 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611280" y="184464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веден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учебных заняти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5364000" y="141300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ключение сказоч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атериала в практически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611280" y="5013360"/>
            <a:ext cx="32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спольз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ллюстративного матери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5292720" y="465300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спользование в люб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вместной с педагого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684360" y="3429000"/>
            <a:ext cx="31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спользование  в проект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5292720" y="299736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спользование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изкультминутках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сслабляющих паузах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3745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ычок – смоляной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очо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D:\DOC\Pictures\новые фото разобрать\P4150559.JPG"/>
          <p:cNvPicPr/>
          <p:nvPr/>
        </p:nvPicPr>
        <p:blipFill>
          <a:blip r:embed="rId1"/>
          <a:stretch/>
        </p:blipFill>
        <p:spPr>
          <a:xfrm>
            <a:off x="1042920" y="1700280"/>
            <a:ext cx="3394080" cy="4525920"/>
          </a:xfrm>
          <a:prstGeom prst="rect">
            <a:avLst/>
          </a:prstGeom>
          <a:ln w="9360">
            <a:solidFill>
              <a:srgbClr val="17375e"/>
            </a:solidFill>
            <a:miter/>
          </a:ln>
        </p:spPr>
      </p:pic>
      <p:pic>
        <p:nvPicPr>
          <p:cNvPr id="79" name="Picture 3" descr="D:\DOC\Pictures\работы для участия в интернет конк\работы на конкурс\IMG_0421_cr.jpg"/>
          <p:cNvPicPr/>
          <p:nvPr/>
        </p:nvPicPr>
        <p:blipFill>
          <a:blip r:embed="rId2"/>
          <a:stretch/>
        </p:blipFill>
        <p:spPr>
          <a:xfrm>
            <a:off x="4932360" y="1700280"/>
            <a:ext cx="3117960" cy="4525920"/>
          </a:xfrm>
          <a:prstGeom prst="rect">
            <a:avLst/>
          </a:prstGeom>
          <a:ln w="0">
            <a:noFill/>
          </a:ln>
        </p:spPr>
      </p:pic>
      <p:sp>
        <p:nvSpPr>
          <p:cNvPr id="80" name="Заголовок 1"/>
          <p:cNvSpPr/>
          <p:nvPr/>
        </p:nvSpPr>
        <p:spPr>
          <a:xfrm>
            <a:off x="4932360" y="907920"/>
            <a:ext cx="3456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ар - пт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:\DOC\Pictures\работы для участия в интернет конк\работы на конкурс\IMG_0418_cr.jpg"/>
          <p:cNvPicPr/>
          <p:nvPr/>
        </p:nvPicPr>
        <p:blipFill>
          <a:blip r:embed="rId1"/>
          <a:stretch/>
        </p:blipFill>
        <p:spPr>
          <a:xfrm>
            <a:off x="703440" y="1600200"/>
            <a:ext cx="354636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0" descr="IMG_0063.JPG"/>
          <p:cNvPicPr/>
          <p:nvPr/>
        </p:nvPicPr>
        <p:blipFill>
          <a:blip r:embed="rId2"/>
          <a:stretch/>
        </p:blipFill>
        <p:spPr>
          <a:xfrm>
            <a:off x="4413240" y="1628640"/>
            <a:ext cx="4730760" cy="446436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83" name="Заголовок 1"/>
          <p:cNvSpPr/>
          <p:nvPr/>
        </p:nvSpPr>
        <p:spPr>
          <a:xfrm>
            <a:off x="611280" y="404640"/>
            <a:ext cx="342108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азка о золотом петуш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5003640" y="692280"/>
            <a:ext cx="262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негур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5:51:40Z</dcterms:created>
  <dc:creator>Admin</dc:creator>
  <dc:description/>
  <dc:language>en-US</dc:language>
  <cp:lastModifiedBy>dok</cp:lastModifiedBy>
  <dcterms:modified xsi:type="dcterms:W3CDTF">2017-05-27T07:19:51Z</dcterms:modified>
  <cp:revision>143</cp:revision>
  <dc:subject/>
  <dc:title>Слайд 1</dc:title>
</cp:coreProperties>
</file>