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0AE-4DF1-475A-9F33-5227A51E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675-DD9B-4238-A99D-ED2BDB4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FD4-A0D1-4E2B-9BB3-CD9737C9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F88-C901-406C-AC85-3C73B968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F5D8-28D1-47A7-A0EF-84CDA9A5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5857-C63E-4955-A317-5738E761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FC7-C273-44C7-9DEC-95B9D02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B662-82E2-47AB-A6D0-A19DEED1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332-E5AF-40BF-A374-EDC1A2DA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A327-23B8-4424-BB4D-1DFD30F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6F45-4FF1-4C45-A989-C0346E2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806-06FD-4FB5-B408-35E8965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ED6-73A6-44EA-9FC6-E83568C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13C-F88C-4EEA-BDEF-BBEBE85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9876-E904-453B-890F-095663D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653-8988-46B0-B648-DA5D815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FA63-6C81-4480-AE0E-BA030A07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396-F804-47D7-960D-2662539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E46-4B03-47E6-83B7-EEB8AE1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99E-51C7-4787-A82B-89174FE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2B6-D637-4661-8D72-B6AD48F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005-DCEA-4B98-AD12-9639EFB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FA4-D930-43AA-8FC3-8E94D46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FC2-BB9C-480B-8539-3609AB8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F2A-CCFC-4D96-88CE-E973BBEAEE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4E4-E10D-42BA-8096-66F3BA2E025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9" descr="Рисунок3"/>
          <p:cNvPicPr/>
          <p:nvPr/>
        </p:nvPicPr>
        <p:blipFill>
          <a:blip r:embed="rId1"/>
          <a:stretch/>
        </p:blipFill>
        <p:spPr>
          <a:xfrm>
            <a:off x="7164360" y="189000"/>
            <a:ext cx="1801800" cy="22208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6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Picture 7" descr="Рисунок1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4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Рисунок2"/>
          <p:cNvPicPr/>
          <p:nvPr/>
        </p:nvPicPr>
        <p:blipFill>
          <a:blip r:embed="rId3"/>
          <a:stretch/>
        </p:blipFill>
        <p:spPr>
          <a:xfrm>
            <a:off x="395280" y="4292640"/>
            <a:ext cx="3403440" cy="22226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 Black"/>
              </a:rPr>
              <a:t>Traditions and holidays of Great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RIL FOOLS’ DA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2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a very old tradition from the Middle Ages. At that time the servants were masters for one day of the yea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w April Fool’s Day is different. It is a day for jokes and trick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5" descr="Рисунок12"/>
          <p:cNvPicPr/>
          <p:nvPr/>
        </p:nvPicPr>
        <p:blipFill>
          <a:blip r:embed="rId1"/>
          <a:stretch/>
        </p:blipFill>
        <p:spPr>
          <a:xfrm>
            <a:off x="6372360" y="3141720"/>
            <a:ext cx="2598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Y DAY IN GREAT BRITA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ay 1st is not a public holiday in Great Britain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On May Sunday workers march through the streets and hold meet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4" descr="pr_p_93bc9f6fcb0f7085c6477edd926d1c23"/>
          <p:cNvPicPr/>
          <p:nvPr/>
        </p:nvPicPr>
        <p:blipFill>
          <a:blip r:embed="rId1"/>
          <a:stretch/>
        </p:blipFill>
        <p:spPr>
          <a:xfrm>
            <a:off x="5435640" y="4807080"/>
            <a:ext cx="32050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OOPING OF ТНE COLOU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55640" y="1483920"/>
            <a:ext cx="504036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e Queen’s official birthday, there is a traditional ceremony called the Trooping of the Colour. It is a big parade with brass bands and hundreds of soldiers at Horse Guard’s Parade in Lond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4" descr="country__GB__4395"/>
          <p:cNvPicPr/>
          <p:nvPr/>
        </p:nvPicPr>
        <p:blipFill>
          <a:blip r:embed="rId1"/>
          <a:stretch/>
        </p:blipFill>
        <p:spPr>
          <a:xfrm>
            <a:off x="6772320" y="105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country__GB__4365"/>
          <p:cNvPicPr/>
          <p:nvPr/>
        </p:nvPicPr>
        <p:blipFill>
          <a:blip r:embed="rId2"/>
          <a:stretch/>
        </p:blipFill>
        <p:spPr>
          <a:xfrm>
            <a:off x="611280" y="4221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120600" y="1413000"/>
            <a:ext cx="27241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050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LLOWE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79640" y="1268280"/>
            <a:ext cx="5472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October 31st British people celebrate Halloween. It is the most colourful and exciting holiday of the year.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oween is a time for fun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4" descr="3helloween"/>
          <p:cNvPicPr/>
          <p:nvPr/>
        </p:nvPicPr>
        <p:blipFill>
          <a:blip r:embed="rId1"/>
          <a:stretch/>
        </p:blipFill>
        <p:spPr>
          <a:xfrm>
            <a:off x="6959520" y="3860640"/>
            <a:ext cx="1994040" cy="2737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halloween_g"/>
          <p:cNvPicPr/>
          <p:nvPr/>
        </p:nvPicPr>
        <p:blipFill>
          <a:blip r:embed="rId2"/>
          <a:stretch/>
        </p:blipFill>
        <p:spPr>
          <a:xfrm>
            <a:off x="324000" y="4535640"/>
            <a:ext cx="4319280" cy="2160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Рисунок13"/>
          <p:cNvPicPr/>
          <p:nvPr/>
        </p:nvPicPr>
        <p:blipFill>
          <a:blip r:embed="rId3"/>
          <a:stretch/>
        </p:blipFill>
        <p:spPr>
          <a:xfrm>
            <a:off x="250920" y="404640"/>
            <a:ext cx="1836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UY FAWKES NIGHT— NOVEMBER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02920" y="1699920"/>
            <a:ext cx="6193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uy Fawkes Night is one of the most popular festivals in Great Britain. It commemorates the discovery of the so-called Gunpowder Plot, and is celebrated throughout the count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4" descr="200px-Guy_Fawkes_portrait"/>
          <p:cNvPicPr/>
          <p:nvPr/>
        </p:nvPicPr>
        <p:blipFill>
          <a:blip r:embed="rId1"/>
          <a:stretch/>
        </p:blipFill>
        <p:spPr>
          <a:xfrm>
            <a:off x="7308720" y="4508640"/>
            <a:ext cx="1624320" cy="2160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гай фокс"/>
          <p:cNvPicPr/>
          <p:nvPr/>
        </p:nvPicPr>
        <p:blipFill>
          <a:blip r:embed="rId2"/>
          <a:stretch/>
        </p:blipFill>
        <p:spPr>
          <a:xfrm>
            <a:off x="162000" y="1268280"/>
            <a:ext cx="1706400" cy="2276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Рисунок14"/>
          <p:cNvPicPr/>
          <p:nvPr/>
        </p:nvPicPr>
        <p:blipFill>
          <a:blip r:embed="rId3"/>
          <a:stretch/>
        </p:blipFill>
        <p:spPr>
          <a:xfrm>
            <a:off x="179280" y="3789360"/>
            <a:ext cx="17668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Thank You for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Your Atten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aditions of G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tradi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ional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ligious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ublic holiday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erning private life (child's birth, wedding, marri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itional ceremon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image003"/>
          <p:cNvPicPr/>
          <p:nvPr/>
        </p:nvPicPr>
        <p:blipFill>
          <a:blip r:embed="rId1"/>
          <a:stretch/>
        </p:blipFill>
        <p:spPr>
          <a:xfrm>
            <a:off x="6732720" y="4869000"/>
            <a:ext cx="2158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w Y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most common type of celebration is a New Year par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4" descr="new year"/>
          <p:cNvPicPr/>
          <p:nvPr/>
        </p:nvPicPr>
        <p:blipFill>
          <a:blip r:embed="rId1"/>
          <a:stretch/>
        </p:blipFill>
        <p:spPr>
          <a:xfrm>
            <a:off x="324000" y="2997360"/>
            <a:ext cx="2435040" cy="365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new2"/>
          <p:cNvPicPr/>
          <p:nvPr/>
        </p:nvPicPr>
        <p:blipFill>
          <a:blip r:embed="rId2"/>
          <a:stretch/>
        </p:blipFill>
        <p:spPr>
          <a:xfrm>
            <a:off x="6372360" y="4086360"/>
            <a:ext cx="244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ew Yea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07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ery year the people of Norway give the city of London a present – a big Christmas 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people make New Year Resolutions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I'll get up early every morning next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60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I'll clean, my shoes every da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10" descr="i-uk_londoneyenewyear06"/>
          <p:cNvPicPr/>
          <p:nvPr/>
        </p:nvPicPr>
        <p:blipFill>
          <a:blip r:embed="rId1"/>
          <a:stretch/>
        </p:blipFill>
        <p:spPr>
          <a:xfrm>
            <a:off x="6300720" y="4686480"/>
            <a:ext cx="2592360" cy="197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new 1"/>
          <p:cNvPicPr/>
          <p:nvPr/>
        </p:nvPicPr>
        <p:blipFill>
          <a:blip r:embed="rId2"/>
          <a:stretch/>
        </p:blipFill>
        <p:spPr>
          <a:xfrm>
            <a:off x="179280" y="4572000"/>
            <a:ext cx="2106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RISTMAS CELEBRAT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92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most popular holiday in Britain is Christmas. People give each other presents and send Christmas cards. The traditional English dinner on Christmas is turkey and pudding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5" descr="add-img"/>
          <p:cNvPicPr/>
          <p:nvPr/>
        </p:nvPicPr>
        <p:blipFill>
          <a:blip r:embed="rId1"/>
          <a:stretch/>
        </p:blipFill>
        <p:spPr>
          <a:xfrm>
            <a:off x="250920" y="333360"/>
            <a:ext cx="609480" cy="2381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Englis4"/>
          <p:cNvPicPr/>
          <p:nvPr/>
        </p:nvPicPr>
        <p:blipFill>
          <a:blip r:embed="rId2"/>
          <a:stretch/>
        </p:blipFill>
        <p:spPr>
          <a:xfrm>
            <a:off x="179280" y="5013360"/>
            <a:ext cx="2314800" cy="14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chr"/>
          <p:cNvPicPr/>
          <p:nvPr/>
        </p:nvPicPr>
        <p:blipFill>
          <a:blip r:embed="rId3"/>
          <a:stretch/>
        </p:blipFill>
        <p:spPr>
          <a:xfrm>
            <a:off x="6372360" y="4724280"/>
            <a:ext cx="2514600" cy="1293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Рисунок15"/>
          <p:cNvPicPr/>
          <p:nvPr/>
        </p:nvPicPr>
        <p:blipFill>
          <a:blip r:embed="rId4"/>
          <a:stretch/>
        </p:blipFill>
        <p:spPr>
          <a:xfrm>
            <a:off x="3059280" y="44370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T. VALENTINE’S DAY – FEBRUARY 1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is day, people send Valentine cards to their husbands, wives, girlfriends and boyfriends. You can also send a card to a person you do not know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Рисунок8"/>
          <p:cNvPicPr/>
          <p:nvPr/>
        </p:nvPicPr>
        <p:blipFill>
          <a:blip r:embed="rId1"/>
          <a:stretch/>
        </p:blipFill>
        <p:spPr>
          <a:xfrm>
            <a:off x="3276720" y="4437000"/>
            <a:ext cx="32209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DAVID’S DA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6985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 the 1st of March each year one can see people walking around London with leeks pinned to their coats.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leek is the national emblem of Wal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7" name="AutoShape 5"/>
          <p:cNvCxnSpPr>
            <a:endCxn id="378" idx="0"/>
          </p:cNvCxnSpPr>
          <p:nvPr/>
        </p:nvCxnSpPr>
        <p:spPr>
          <a:xfrm flipH="1">
            <a:off x="6048000" y="5582880"/>
            <a:ext cx="1077120" cy="15156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8" name="Text Box 6"/>
          <p:cNvSpPr/>
          <p:nvPr/>
        </p:nvSpPr>
        <p:spPr>
          <a:xfrm>
            <a:off x="5435640" y="5734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A lee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8" descr="leek"/>
          <p:cNvPicPr/>
          <p:nvPr/>
        </p:nvPicPr>
        <p:blipFill>
          <a:blip r:embed="rId1"/>
          <a:stretch/>
        </p:blipFill>
        <p:spPr>
          <a:xfrm>
            <a:off x="2195640" y="4581360"/>
            <a:ext cx="2019240" cy="1962360"/>
          </a:xfrm>
          <a:prstGeom prst="rect">
            <a:avLst/>
          </a:prstGeom>
          <a:ln w="0">
            <a:noFill/>
          </a:ln>
        </p:spPr>
      </p:pic>
      <p:cxnSp>
        <p:nvCxnSpPr>
          <p:cNvPr id="380" name="AutoShape 9"/>
          <p:cNvCxnSpPr>
            <a:endCxn id="378" idx="0"/>
          </p:cNvCxnSpPr>
          <p:nvPr/>
        </p:nvCxnSpPr>
        <p:spPr>
          <a:xfrm>
            <a:off x="4427640" y="5229360"/>
            <a:ext cx="1621440" cy="505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pic>
        <p:nvPicPr>
          <p:cNvPr id="381" name="Picture 10" descr="Рисунок9"/>
          <p:cNvPicPr/>
          <p:nvPr/>
        </p:nvPicPr>
        <p:blipFill>
          <a:blip r:embed="rId2"/>
          <a:stretch/>
        </p:blipFill>
        <p:spPr>
          <a:xfrm>
            <a:off x="7164360" y="4076640"/>
            <a:ext cx="16495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. PARTRICK`S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national holi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’s an Irish religious holi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. Patrick is the patron of Irelan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rish and Irish Americans celebrate the da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5" descr="main_pic"/>
          <p:cNvPicPr/>
          <p:nvPr/>
        </p:nvPicPr>
        <p:blipFill>
          <a:blip r:embed="rId1"/>
          <a:stretch/>
        </p:blipFill>
        <p:spPr>
          <a:xfrm>
            <a:off x="250920" y="5013360"/>
            <a:ext cx="3809880" cy="1542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Рисунок10"/>
          <p:cNvPicPr/>
          <p:nvPr/>
        </p:nvPicPr>
        <p:blipFill>
          <a:blip r:embed="rId2"/>
          <a:stretch/>
        </p:blipFill>
        <p:spPr>
          <a:xfrm>
            <a:off x="5508720" y="4365720"/>
            <a:ext cx="34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AST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modern Easter symbols come from ancient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gg was a symbol long before the Christian er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aster bunny is also originated in pre-Christian tim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C38-29"/>
          <p:cNvPicPr/>
          <p:nvPr/>
        </p:nvPicPr>
        <p:blipFill>
          <a:blip r:embed="rId1"/>
          <a:stretch/>
        </p:blipFill>
        <p:spPr>
          <a:xfrm>
            <a:off x="684360" y="4508640"/>
            <a:ext cx="2103120" cy="2036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Рисунок11"/>
          <p:cNvPicPr/>
          <p:nvPr/>
        </p:nvPicPr>
        <p:blipFill>
          <a:blip r:embed="rId2"/>
          <a:stretch/>
        </p:blipFill>
        <p:spPr>
          <a:xfrm>
            <a:off x="5724360" y="4508640"/>
            <a:ext cx="28004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7:40:49Z</dcterms:created>
  <dc:creator>дом</dc:creator>
  <dc:description/>
  <dc:language>en-US</dc:language>
  <cp:lastModifiedBy>Александр012017</cp:lastModifiedBy>
  <dcterms:modified xsi:type="dcterms:W3CDTF">2017-03-22T12:07:03Z</dcterms:modified>
  <cp:revision>12</cp:revision>
  <dc:subject/>
  <dc:title>Traditions and holidays of Great Britain</dc:title>
</cp:coreProperties>
</file>