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6849-4AD4-4B91-8A6F-ADE2AC74E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BB3C-1D8D-447C-A5E9-D6A37132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F8EB-12BE-4165-AE38-A89C1F143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6504-050B-4BEE-BC02-4F0E2212F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1D56-EAE9-4C44-9470-46B0B847A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749B-AF3E-4EB6-9853-0369EB24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290C-B38C-4467-AC07-B8925DFE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1E0C-71E7-42DF-91F8-B530307B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0DF9-1753-4C55-B685-F88623AB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788A1-5811-49FD-AB7B-2DB6A327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25D0-8CC1-42CD-831C-BAE44507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C987-D459-4D50-9B77-33F613D0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3248-1FCC-46A8-81E4-CBA3D254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3219-F774-471F-9251-12013A97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721A-FC8B-4444-B7FB-2AB94AF3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C5AB-34C3-4196-8E19-BC4987402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2912-5247-47E8-8E4D-A09267835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76A6-E3D0-40A8-B58E-1F3376C8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110C-9C18-4C1C-B066-E1909448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A8ED-7BE3-4C5E-AB0A-A04096BD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DA2E-A008-4F21-A16A-872D50E1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5099-E93D-4DF1-813C-263F8B21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D3FE-4E12-432C-B1B8-9647380E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BC8E-D7CC-4553-B5DD-3125C48D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3762-9398-4EF7-8554-D7D0BDA6117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160"/>
            <a:ext cx="6895800" cy="5452200"/>
            <a:chOff x="2010960" y="245160"/>
            <a:chExt cx="689580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160"/>
              <a:ext cx="6895800" cy="5452200"/>
              <a:chOff x="2010960" y="245160"/>
              <a:chExt cx="689580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560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1440" y="2322360"/>
                    <a:ext cx="2558880" cy="2742480"/>
                    <a:chOff x="5761440" y="2322360"/>
                    <a:chExt cx="2558880" cy="274248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960" y="3020040"/>
                      <a:ext cx="21276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12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120"/>
                    <a:ext cx="3040560" cy="2529720"/>
                    <a:chOff x="5787720" y="2148120"/>
                    <a:chExt cx="3040560" cy="252972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480"/>
                      <a:ext cx="223632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720" y="3721680"/>
                      <a:ext cx="120132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680"/>
                    <a:ext cx="3096360" cy="1991880"/>
                    <a:chOff x="5776200" y="2065680"/>
                    <a:chExt cx="3096360" cy="199188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440"/>
                      <a:ext cx="213984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880" y="3246120"/>
                      <a:ext cx="114876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12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0200" cy="2530080"/>
                    <a:chOff x="2085120" y="2366640"/>
                    <a:chExt cx="3040200" cy="25300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70000"/>
                      <a:ext cx="223632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280" y="3940920"/>
                      <a:ext cx="1201320" cy="67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120" y="2283480"/>
                    <a:ext cx="3097080" cy="1992240"/>
                    <a:chOff x="2040120" y="2283480"/>
                    <a:chExt cx="309708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320" y="346392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8120"/>
                    <a:chOff x="2010960" y="2188440"/>
                    <a:chExt cx="3134160" cy="16081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088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840" y="2097720"/>
                    <a:ext cx="2940480" cy="1002600"/>
                    <a:chOff x="2166840" y="2097720"/>
                    <a:chExt cx="294048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920" y="2223720"/>
                      <a:ext cx="190512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42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70720"/>
                      <a:ext cx="173088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22440"/>
                    <a:ext cx="2363400" cy="787320"/>
                    <a:chOff x="2761200" y="1522440"/>
                    <a:chExt cx="236340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560" y="1236600"/>
                    <a:ext cx="2324880" cy="1083960"/>
                    <a:chOff x="2887560" y="1236600"/>
                    <a:chExt cx="2324880" cy="10839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10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5080" y="1370520"/>
                      <a:ext cx="81684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240"/>
                    <a:ext cx="2170080" cy="1508040"/>
                    <a:chOff x="3161160" y="831240"/>
                    <a:chExt cx="217008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2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5160"/>
                    <a:ext cx="1460520" cy="1886400"/>
                    <a:chOff x="4027320" y="335160"/>
                    <a:chExt cx="1460520" cy="18864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7640" y="1444320"/>
                      <a:ext cx="13557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720" y="545400"/>
                      <a:ext cx="72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160"/>
                    <a:ext cx="1122120" cy="1946520"/>
                    <a:chOff x="4448160" y="245160"/>
                    <a:chExt cx="112212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520" y="1402200"/>
                      <a:ext cx="130716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200" y="439920"/>
                      <a:ext cx="70236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200"/>
                    <a:ext cx="2316960" cy="1112400"/>
                    <a:chOff x="5661720" y="952200"/>
                    <a:chExt cx="2316960" cy="111240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5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2880" y="1090440"/>
                      <a:ext cx="81684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760"/>
                    <a:ext cx="2199600" cy="1450800"/>
                    <a:chOff x="5529600" y="626760"/>
                    <a:chExt cx="2199600" cy="14508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99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480" y="810720"/>
                      <a:ext cx="8157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360"/>
                    <a:ext cx="1196280" cy="1901160"/>
                    <a:chOff x="5355720" y="27036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7160" y="1418400"/>
                      <a:ext cx="1309680" cy="22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520" y="486000"/>
                      <a:ext cx="702360" cy="35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9160"/>
                    <a:ext cx="1892520" cy="1796400"/>
                    <a:chOff x="5347440" y="389160"/>
                    <a:chExt cx="1892520" cy="179640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320" y="585000"/>
                      <a:ext cx="766080" cy="52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7320" cy="1795680"/>
                    <a:chOff x="5458320" y="292680"/>
                    <a:chExt cx="427320" cy="179568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600" y="1445400"/>
                      <a:ext cx="117576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480" y="533520"/>
                      <a:ext cx="63108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520" y="2530800"/>
                    <a:ext cx="2196000" cy="3002400"/>
                    <a:chOff x="3062520" y="2530800"/>
                    <a:chExt cx="2196000" cy="30024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9640" y="3314880"/>
                      <a:ext cx="212652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1800"/>
                      <a:ext cx="11390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680"/>
                    <a:ext cx="1482120" cy="2999880"/>
                    <a:chOff x="3791520" y="2650680"/>
                    <a:chExt cx="148212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520" y="3441240"/>
                      <a:ext cx="196740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600"/>
                    <a:ext cx="874080" cy="2926800"/>
                    <a:chOff x="4509000" y="2703600"/>
                    <a:chExt cx="874080" cy="292680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080" y="3489480"/>
                      <a:ext cx="188676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800" y="4809600"/>
                      <a:ext cx="1012320" cy="54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3640"/>
                    <a:ext cx="2280600" cy="2952720"/>
                    <a:chOff x="5677920" y="2483640"/>
                    <a:chExt cx="2280600" cy="295272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1160"/>
                      <a:ext cx="21265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7680" y="2593440"/>
                    <a:ext cx="1758600" cy="3032640"/>
                    <a:chOff x="5647680" y="2593440"/>
                    <a:chExt cx="1758600" cy="303264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000" y="3395880"/>
                      <a:ext cx="2034720" cy="36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20320"/>
                      <a:ext cx="1090800" cy="57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5080" cy="2986560"/>
                    <a:chOff x="5576400" y="2710800"/>
                    <a:chExt cx="1225080" cy="298656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3120"/>
                      <a:ext cx="1973520" cy="30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400"/>
                    <a:ext cx="696960" cy="2778120"/>
                    <a:chOff x="5521320" y="2840400"/>
                    <a:chExt cx="696960" cy="277812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720" y="3607200"/>
                      <a:ext cx="1812960" cy="30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2040" y="3665160"/>
                      <a:ext cx="1771920" cy="23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560" y="4932360"/>
                      <a:ext cx="950760" cy="36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280" cy="4521240"/>
                <a:chOff x="2175480" y="682560"/>
                <a:chExt cx="673128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280" cy="4521240"/>
                  <a:chOff x="2175480" y="682560"/>
                  <a:chExt cx="673128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920" y="857880"/>
                    <a:ext cx="316584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652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68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7800"/>
                    <a:ext cx="313272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7120" y="682560"/>
                    <a:ext cx="228204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800" y="1875960"/>
                    <a:ext cx="94068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72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0240"/>
                <a:ext cx="293076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4852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4876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5800"/>
                <a:ext cx="133848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09320"/>
                <a:ext cx="1242000" cy="1974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55680"/>
                <a:ext cx="54396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736E-61D1-4474-9EEC-8A9CBCF9D308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9" descr="Рисунок3"/>
          <p:cNvPicPr/>
          <p:nvPr/>
        </p:nvPicPr>
        <p:blipFill>
          <a:blip r:embed="rId1"/>
          <a:stretch/>
        </p:blipFill>
        <p:spPr>
          <a:xfrm>
            <a:off x="7164360" y="189000"/>
            <a:ext cx="1801800" cy="222084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71680" y="69228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rojec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2" name="Picture 7" descr="Рисунок1"/>
          <p:cNvPicPr/>
          <p:nvPr/>
        </p:nvPicPr>
        <p:blipFill>
          <a:blip r:embed="rId2"/>
          <a:stretch/>
        </p:blipFill>
        <p:spPr>
          <a:xfrm>
            <a:off x="539640" y="404640"/>
            <a:ext cx="2095560" cy="1409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8" descr="Рисунок2"/>
          <p:cNvPicPr/>
          <p:nvPr/>
        </p:nvPicPr>
        <p:blipFill>
          <a:blip r:embed="rId3"/>
          <a:stretch/>
        </p:blipFill>
        <p:spPr>
          <a:xfrm>
            <a:off x="395280" y="4292640"/>
            <a:ext cx="3403440" cy="222264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25892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Arial Black"/>
              </a:rPr>
              <a:t>Traditions and holidays of Great Britai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PRIL FOOLS’ DAY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626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is a very old tradition from the Middle Ages. At that time the servants were masters for one day of the year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ow April Fool’s Day is different. It is a day for jokes and tricks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2" name="Picture 5" descr="Рисунок12"/>
          <p:cNvPicPr/>
          <p:nvPr/>
        </p:nvPicPr>
        <p:blipFill>
          <a:blip r:embed="rId1"/>
          <a:stretch/>
        </p:blipFill>
        <p:spPr>
          <a:xfrm>
            <a:off x="6372360" y="3141720"/>
            <a:ext cx="25984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3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AY DAY IN GREAT BRITAI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May 1st is not a public holiday in Great Britain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On May Sunday workers march through the streets and hold meetings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5" name="Picture 4" descr="pr_p_93bc9f6fcb0f7085c6477edd926d1c23"/>
          <p:cNvPicPr/>
          <p:nvPr/>
        </p:nvPicPr>
        <p:blipFill>
          <a:blip r:embed="rId1"/>
          <a:stretch/>
        </p:blipFill>
        <p:spPr>
          <a:xfrm>
            <a:off x="5435640" y="4807080"/>
            <a:ext cx="320508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6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9" dur="20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ROOPING OF ТНE COLOU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555640" y="1483920"/>
            <a:ext cx="5040360" cy="53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n the Queen’s official birthday, there is a traditional ceremony called the Trooping of the Colour. It is a big parade with brass bands and hundreds of soldiers at Horse Guard’s Parade in Londo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8" name="Picture 4" descr="country__GB__4395"/>
          <p:cNvPicPr/>
          <p:nvPr/>
        </p:nvPicPr>
        <p:blipFill>
          <a:blip r:embed="rId1"/>
          <a:stretch/>
        </p:blipFill>
        <p:spPr>
          <a:xfrm>
            <a:off x="6772320" y="1052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country__GB__4365"/>
          <p:cNvPicPr/>
          <p:nvPr/>
        </p:nvPicPr>
        <p:blipFill>
          <a:blip r:embed="rId2"/>
          <a:stretch/>
        </p:blipFill>
        <p:spPr>
          <a:xfrm>
            <a:off x="611280" y="4221000"/>
            <a:ext cx="2017800" cy="20178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6" descr=""/>
          <p:cNvPicPr/>
          <p:nvPr/>
        </p:nvPicPr>
        <p:blipFill>
          <a:blip r:embed="rId3"/>
          <a:stretch/>
        </p:blipFill>
        <p:spPr>
          <a:xfrm>
            <a:off x="120600" y="1413000"/>
            <a:ext cx="272412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7" dur="2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0508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ALLOWEE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79640" y="1268280"/>
            <a:ext cx="54720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n October 31st British people celebrate Halloween. It is the most colourful and exciting holiday of the year.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alloween is a time for fun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3" name="Picture 4" descr="3helloween"/>
          <p:cNvPicPr/>
          <p:nvPr/>
        </p:nvPicPr>
        <p:blipFill>
          <a:blip r:embed="rId1"/>
          <a:stretch/>
        </p:blipFill>
        <p:spPr>
          <a:xfrm>
            <a:off x="6959520" y="3860640"/>
            <a:ext cx="1994040" cy="2737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halloween_g"/>
          <p:cNvPicPr/>
          <p:nvPr/>
        </p:nvPicPr>
        <p:blipFill>
          <a:blip r:embed="rId2"/>
          <a:stretch/>
        </p:blipFill>
        <p:spPr>
          <a:xfrm>
            <a:off x="324000" y="4535640"/>
            <a:ext cx="4319280" cy="21603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Рисунок13"/>
          <p:cNvPicPr/>
          <p:nvPr/>
        </p:nvPicPr>
        <p:blipFill>
          <a:blip r:embed="rId3"/>
          <a:stretch/>
        </p:blipFill>
        <p:spPr>
          <a:xfrm>
            <a:off x="250920" y="404640"/>
            <a:ext cx="183672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GUY FAWKES NIGHT— NOVEMBER 5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402920" y="1699920"/>
            <a:ext cx="619308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Guy Fawkes Night is one of the most popular festivals in Great Britain. It commemorates the discovery of the so-called Gunpowder Plot, and is celebrated throughout the countr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8" name="Picture 4" descr="200px-Guy_Fawkes_portrait"/>
          <p:cNvPicPr/>
          <p:nvPr/>
        </p:nvPicPr>
        <p:blipFill>
          <a:blip r:embed="rId1"/>
          <a:stretch/>
        </p:blipFill>
        <p:spPr>
          <a:xfrm>
            <a:off x="7308720" y="4508640"/>
            <a:ext cx="1624320" cy="21603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5" descr="гай фокс"/>
          <p:cNvPicPr/>
          <p:nvPr/>
        </p:nvPicPr>
        <p:blipFill>
          <a:blip r:embed="rId2"/>
          <a:stretch/>
        </p:blipFill>
        <p:spPr>
          <a:xfrm>
            <a:off x="162000" y="1268280"/>
            <a:ext cx="1706400" cy="22766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7" descr="Рисунок14"/>
          <p:cNvPicPr/>
          <p:nvPr/>
        </p:nvPicPr>
        <p:blipFill>
          <a:blip r:embed="rId3"/>
          <a:stretch/>
        </p:blipFill>
        <p:spPr>
          <a:xfrm>
            <a:off x="179280" y="3789360"/>
            <a:ext cx="176688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Thank You for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Your Attention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raditions of GB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tate traditi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ational holiday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ligious holiday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ublic holiday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ncerning private life (child's birth, wedding, marriage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raditional ceremoni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Picture 4" descr="image003"/>
          <p:cNvPicPr/>
          <p:nvPr/>
        </p:nvPicPr>
        <p:blipFill>
          <a:blip r:embed="rId1"/>
          <a:stretch/>
        </p:blipFill>
        <p:spPr>
          <a:xfrm>
            <a:off x="6732720" y="4869000"/>
            <a:ext cx="21589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" dur="2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" dur="2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500"/>
                            </p:stCondLst>
                            <p:childTnLst>
                              <p:par>
                                <p:cTn id="3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" dur="2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500"/>
                            </p:stCondLst>
                            <p:childTnLst>
                              <p:par>
                                <p:cTn id="4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4" dur="2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8500"/>
                            </p:stCondLst>
                            <p:childTnLst>
                              <p:par>
                                <p:cTn id="4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8" dur="20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" dur="20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25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893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ew Yea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most common type of celebration is a New Year part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Picture 4" descr="new year"/>
          <p:cNvPicPr/>
          <p:nvPr/>
        </p:nvPicPr>
        <p:blipFill>
          <a:blip r:embed="rId1"/>
          <a:stretch/>
        </p:blipFill>
        <p:spPr>
          <a:xfrm>
            <a:off x="324000" y="2997360"/>
            <a:ext cx="2435040" cy="3651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6" descr="new2"/>
          <p:cNvPicPr/>
          <p:nvPr/>
        </p:nvPicPr>
        <p:blipFill>
          <a:blip r:embed="rId2"/>
          <a:stretch/>
        </p:blipFill>
        <p:spPr>
          <a:xfrm>
            <a:off x="6372360" y="4086360"/>
            <a:ext cx="244764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5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New Year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2072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very year the people of Norway give the city of London a present – a big Christmas tre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ome people make New Year Resolutions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spcBef>
                <a:spcPts val="601"/>
              </a:spcBef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 Black"/>
              </a:rPr>
              <a:t>I'll get up early every morning next year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spcBef>
                <a:spcPts val="601"/>
              </a:spcBef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 Black"/>
              </a:rPr>
              <a:t>I'll clean, my shoes every day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4" name="Picture 10" descr="i-uk_londoneyenewyear06"/>
          <p:cNvPicPr/>
          <p:nvPr/>
        </p:nvPicPr>
        <p:blipFill>
          <a:blip r:embed="rId1"/>
          <a:stretch/>
        </p:blipFill>
        <p:spPr>
          <a:xfrm>
            <a:off x="6300720" y="4686480"/>
            <a:ext cx="2592360" cy="19792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3" descr="new 1"/>
          <p:cNvPicPr/>
          <p:nvPr/>
        </p:nvPicPr>
        <p:blipFill>
          <a:blip r:embed="rId2"/>
          <a:stretch/>
        </p:blipFill>
        <p:spPr>
          <a:xfrm>
            <a:off x="179280" y="4572000"/>
            <a:ext cx="210672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HRISTMAS CELEBRATION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26560" y="1413000"/>
            <a:ext cx="79218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most popular holiday in Britain is Christmas. People give each other presents and send Christmas cards. The traditional English dinner on Christmas is turkey and pudding.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8" name="Picture 5" descr="add-img"/>
          <p:cNvPicPr/>
          <p:nvPr/>
        </p:nvPicPr>
        <p:blipFill>
          <a:blip r:embed="rId1"/>
          <a:stretch/>
        </p:blipFill>
        <p:spPr>
          <a:xfrm>
            <a:off x="250920" y="333360"/>
            <a:ext cx="609480" cy="23814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" descr="Englis4"/>
          <p:cNvPicPr/>
          <p:nvPr/>
        </p:nvPicPr>
        <p:blipFill>
          <a:blip r:embed="rId2"/>
          <a:stretch/>
        </p:blipFill>
        <p:spPr>
          <a:xfrm>
            <a:off x="179280" y="5013360"/>
            <a:ext cx="2314800" cy="14763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chr"/>
          <p:cNvPicPr/>
          <p:nvPr/>
        </p:nvPicPr>
        <p:blipFill>
          <a:blip r:embed="rId3"/>
          <a:stretch/>
        </p:blipFill>
        <p:spPr>
          <a:xfrm>
            <a:off x="6372360" y="4724280"/>
            <a:ext cx="2514600" cy="1293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Рисунок15"/>
          <p:cNvPicPr/>
          <p:nvPr/>
        </p:nvPicPr>
        <p:blipFill>
          <a:blip r:embed="rId4"/>
          <a:stretch/>
        </p:blipFill>
        <p:spPr>
          <a:xfrm>
            <a:off x="3059280" y="4437000"/>
            <a:ext cx="292572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ST. VALENTINE’S DAY – FEBRUARY 14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n this day, people send Valentine cards to their husbands, wives, girlfriends and boyfriends. You can also send a card to a person you do not know.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4" name="Picture 5" descr="Рисунок8"/>
          <p:cNvPicPr/>
          <p:nvPr/>
        </p:nvPicPr>
        <p:blipFill>
          <a:blip r:embed="rId1"/>
          <a:stretch/>
        </p:blipFill>
        <p:spPr>
          <a:xfrm>
            <a:off x="3276720" y="4437000"/>
            <a:ext cx="322092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ST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. </a:t>
            </a: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DAVID’S DAY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698508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n the 1st of March each year one can see people walking around London with leeks pinned to their coats. 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А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leek is the national emblem of Wales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cxnSp>
        <p:nvCxnSpPr>
          <p:cNvPr id="377" name="AutoShape 5"/>
          <p:cNvCxnSpPr>
            <a:endCxn id="378" idx="0"/>
          </p:cNvCxnSpPr>
          <p:nvPr/>
        </p:nvCxnSpPr>
        <p:spPr>
          <a:xfrm flipH="1">
            <a:off x="6048000" y="5582880"/>
            <a:ext cx="1077120" cy="151560"/>
          </a:xfrm>
          <a:prstGeom prst="straightConnector1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378" name="Text Box 6"/>
          <p:cNvSpPr/>
          <p:nvPr/>
        </p:nvSpPr>
        <p:spPr>
          <a:xfrm>
            <a:off x="5435640" y="57340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00"/>
                </a:solidFill>
                <a:latin typeface="Arial Black"/>
              </a:rPr>
              <a:t>A leek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9" name="Picture 8" descr="leek"/>
          <p:cNvPicPr/>
          <p:nvPr/>
        </p:nvPicPr>
        <p:blipFill>
          <a:blip r:embed="rId1"/>
          <a:stretch/>
        </p:blipFill>
        <p:spPr>
          <a:xfrm>
            <a:off x="2195640" y="4581360"/>
            <a:ext cx="2019240" cy="1962360"/>
          </a:xfrm>
          <a:prstGeom prst="rect">
            <a:avLst/>
          </a:prstGeom>
          <a:ln w="0">
            <a:noFill/>
          </a:ln>
        </p:spPr>
      </p:pic>
      <p:cxnSp>
        <p:nvCxnSpPr>
          <p:cNvPr id="380" name="AutoShape 9"/>
          <p:cNvCxnSpPr>
            <a:endCxn id="378" idx="0"/>
          </p:cNvCxnSpPr>
          <p:nvPr/>
        </p:nvCxnSpPr>
        <p:spPr>
          <a:xfrm>
            <a:off x="4427640" y="5229360"/>
            <a:ext cx="1621440" cy="505440"/>
          </a:xfrm>
          <a:prstGeom prst="straightConnector1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</p:cxnSp>
      <p:pic>
        <p:nvPicPr>
          <p:cNvPr id="381" name="Picture 10" descr="Рисунок9"/>
          <p:cNvPicPr/>
          <p:nvPr/>
        </p:nvPicPr>
        <p:blipFill>
          <a:blip r:embed="rId2"/>
          <a:stretch/>
        </p:blipFill>
        <p:spPr>
          <a:xfrm>
            <a:off x="7164360" y="4076640"/>
            <a:ext cx="164952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T. PARTRICK`S DA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t is not a national holiday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t’s an Irish religious holiday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t. Patrick is the patron of Ireland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rish and Irish Americans celebrate the day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4" name="Picture 5" descr="main_pic"/>
          <p:cNvPicPr/>
          <p:nvPr/>
        </p:nvPicPr>
        <p:blipFill>
          <a:blip r:embed="rId1"/>
          <a:stretch/>
        </p:blipFill>
        <p:spPr>
          <a:xfrm>
            <a:off x="250920" y="5013360"/>
            <a:ext cx="3809880" cy="15429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6" descr="Рисунок10"/>
          <p:cNvPicPr/>
          <p:nvPr/>
        </p:nvPicPr>
        <p:blipFill>
          <a:blip r:embed="rId2"/>
          <a:stretch/>
        </p:blipFill>
        <p:spPr>
          <a:xfrm>
            <a:off x="5508720" y="4365720"/>
            <a:ext cx="3414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2" dur="2000" fill="hold"/>
                                        <p:tgtEl>
                                          <p:spTgt spid="3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EASTER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77724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any modern Easter symbols come from ancient ti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egg was a symbol long before the Christian era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Easter bunny is also originated in pre-Christian time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8" name="Picture 5" descr="C38-29"/>
          <p:cNvPicPr/>
          <p:nvPr/>
        </p:nvPicPr>
        <p:blipFill>
          <a:blip r:embed="rId1"/>
          <a:stretch/>
        </p:blipFill>
        <p:spPr>
          <a:xfrm>
            <a:off x="684360" y="4508640"/>
            <a:ext cx="2103120" cy="20365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6" descr="Рисунок11"/>
          <p:cNvPicPr/>
          <p:nvPr/>
        </p:nvPicPr>
        <p:blipFill>
          <a:blip r:embed="rId2"/>
          <a:stretch/>
        </p:blipFill>
        <p:spPr>
          <a:xfrm>
            <a:off x="5724360" y="4508640"/>
            <a:ext cx="280044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8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1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4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8T07:40:49Z</dcterms:created>
  <dc:creator>дом</dc:creator>
  <dc:description/>
  <dc:language>en-US</dc:language>
  <cp:lastModifiedBy>Александр012017</cp:lastModifiedBy>
  <dcterms:modified xsi:type="dcterms:W3CDTF">2017-03-22T12:07:03Z</dcterms:modified>
  <cp:revision>12</cp:revision>
  <dc:subject/>
  <dc:title>Traditions and holidays of Great Britain</dc:title>
</cp:coreProperties>
</file>