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F73-E469-4769-80B0-5C2A1E90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62E-1261-4B86-ADB7-B50E7961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C03-0DCF-41BE-8834-05C21B67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BF1-D2F9-4C06-B38F-850CCBB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89F2-E576-44C0-BE78-EF18B49D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7DF0-1D4D-4020-9EC7-F2029D7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573C-C8D7-4BBB-AEFA-11E8487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6FF-4833-4956-AFA7-A879A97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6C84-B1FC-46B9-8ED2-C71CD0E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E120-34DA-440B-A743-8F0F6E2E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0C5E-B8F2-47C3-BD94-CC3C423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3F1-4148-4A62-A7E2-42DAB09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B53-6532-4C2A-B793-B12BF61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925-2CAC-4C78-8F15-B1A98BA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6576-C269-4194-A08C-8A1EF6A7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B3CE-941C-4003-BC64-3AEFDD4B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BCA3-FC8E-473F-A8B4-89BB9C8E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13A-65DC-4B75-873F-08A6612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3BF-99CA-44B9-B8F0-E851BCA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7A8-B75B-4F97-9D80-53DF0053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A0A-C9FA-47DF-AFB0-DE13178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EE1-FF68-4F4A-B9C6-ED3ED02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6AE-EA52-4BEC-BCCF-D0D66C5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DD9-9D1C-4664-A6C5-19CEF7A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BF8-AD31-4309-9587-04B86C1825A0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3961-CFB5-4C66-BDD1-14BBDC671871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788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2139e"/>
                </a:solidFill>
                <a:latin typeface="Arial Black"/>
              </a:rPr>
              <a:t>Технология речевого развития</a:t>
            </a:r>
            <a:endParaRPr b="0" lang="en-US" sz="7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508464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Подготовила: учитель-логопед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Салтовская Э.П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25040" cy="93672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2139e"/>
                </a:solidFill>
                <a:latin typeface="Arial Black"/>
              </a:rPr>
              <a:t>Актуальность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7924680" cy="460872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удивительно сильное средство, но нужно много иметь ума, чтобы пользоваться им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. Гегел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великая сила: она убеждает, обращает, принуждает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.Эмерсон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– способность говорить, говорение; разновидность или стиль языка; звучащий язык; разговор, беседа; публичное выступлени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олковый словарь русского язык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чь — это определенная последовательность языковых единиц (фонем, морфем, слов, предложений), регулируемая законами языка и работой сознания, формирующего ту или иную мысль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.Ф.Соботович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77080" y="403200"/>
            <a:ext cx="20876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341360"/>
            <a:ext cx="7924680" cy="5183280"/>
          </a:xfrm>
          <a:prstGeom prst="rect">
            <a:avLst/>
          </a:prstGeom>
          <a:solidFill>
            <a:srgbClr val="e3cd7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чь – самый простой и самый сложный способ самоутверждения, потому что пользоваться ею – серьёзная наука и немалое искусство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спринятые в дошкольном возрасте организованные образцы неверного речевого поведения становятся настолько прочными установками и стереотипами, что преодолеть их в школе зачастую не удаётся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личности ребёнка дошкольного возраста невозможно без оценки речевого развития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чевое развитие позволяет  ребёнку дошкольного возраста развивать познавательную, креативную и социально-эмоциональную сферы личност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305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574120" cy="5472000"/>
          </a:xfrm>
          <a:prstGeom prst="rect">
            <a:avLst/>
          </a:prstGeom>
          <a:solidFill>
            <a:srgbClr val="c7d9c7"/>
          </a:solidFill>
          <a:ln w="9360">
            <a:solidFill>
              <a:srgbClr val="62139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3141720"/>
            <a:ext cx="2590560" cy="1079280"/>
          </a:xfrm>
          <a:prstGeom prst="rect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Функции реч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5013360"/>
            <a:ext cx="2879640" cy="792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Речь как средство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общения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4032360" cy="1008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Познавательная функция реч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4508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508640"/>
            <a:ext cx="3456000" cy="72072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1.При совместной деятельности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ребёнка и взрослого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997360"/>
            <a:ext cx="2087640" cy="1800000"/>
          </a:xfrm>
          <a:prstGeom prst="rect">
            <a:avLst/>
          </a:prstGeom>
          <a:solidFill>
            <a:srgbClr val="bee2cd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Получает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информацию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2139e"/>
                </a:solidFill>
                <a:latin typeface="Arial"/>
              </a:rPr>
              <a:t>с помощью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природы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общества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я,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рукотворного мира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buClr>
                <a:srgbClr val="6213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5445000"/>
            <a:ext cx="3456000" cy="36036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2. Общение со сверстниками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950080"/>
            <a:ext cx="3382920" cy="576000"/>
          </a:xfrm>
          <a:prstGeom prst="rect">
            <a:avLst/>
          </a:prstGeom>
          <a:solidFill>
            <a:srgbClr val="c7d9c7"/>
          </a:solidFill>
          <a:ln w="28440">
            <a:solidFill>
              <a:srgbClr val="621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3.Преобладание инициативных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Высказываний над ответами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3"/>
            <a:endCxn id="97" idx="1"/>
          </p:cNvCxnSpPr>
          <p:nvPr/>
        </p:nvCxnSpPr>
        <p:spPr>
          <a:xfrm>
            <a:off x="4498560" y="5410080"/>
            <a:ext cx="780120" cy="82944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3"/>
            <a:endCxn id="96" idx="1"/>
          </p:cNvCxnSpPr>
          <p:nvPr/>
        </p:nvCxnSpPr>
        <p:spPr>
          <a:xfrm>
            <a:off x="4498920" y="5410080"/>
            <a:ext cx="707040" cy="21672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3"/>
            <a:endCxn id="94" idx="1"/>
          </p:cNvCxnSpPr>
          <p:nvPr/>
        </p:nvCxnSpPr>
        <p:spPr>
          <a:xfrm flipV="1">
            <a:off x="4498920" y="4868280"/>
            <a:ext cx="707040" cy="541800"/>
          </a:xfrm>
          <a:prstGeom prst="straightConnector1">
            <a:avLst/>
          </a:prstGeom>
          <a:ln w="38160">
            <a:solidFill>
              <a:srgbClr val="62139e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435640" y="1268280"/>
            <a:ext cx="3240000" cy="93672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Речь как регулятор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поведения и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249228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249228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6699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2" idx="2"/>
            <a:endCxn id="95" idx="0"/>
          </p:cNvCxnSpPr>
          <p:nvPr/>
        </p:nvCxnSpPr>
        <p:spPr>
          <a:xfrm flipH="1">
            <a:off x="1584000" y="2276640"/>
            <a:ext cx="900720" cy="707040"/>
          </a:xfrm>
          <a:prstGeom prst="straightConnector1">
            <a:avLst/>
          </a:prstGeom>
          <a:ln w="28440">
            <a:solidFill>
              <a:srgbClr val="62139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97000"/>
            <a:ext cx="3311280" cy="1511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2139e"/>
                </a:solidFill>
                <a:latin typeface="Times New Roman"/>
              </a:rPr>
              <a:t>Виды речи </a:t>
            </a:r>
            <a:endParaRPr b="0" lang="en-US" sz="4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716280"/>
            <a:ext cx="2736720" cy="8636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Внешняя (устная)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1628640"/>
            <a:ext cx="2160720" cy="8636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Письменная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41300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989000"/>
            <a:ext cx="1224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Чтение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139e"/>
                </a:solidFill>
                <a:latin typeface="Arial Black"/>
              </a:rPr>
              <a:t>Виды речи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869000"/>
            <a:ext cx="2089080" cy="934920"/>
          </a:xfrm>
          <a:prstGeom prst="roundRect">
            <a:avLst>
              <a:gd name="adj" fmla="val 16667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Импресс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(восприятие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и понимание речи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22100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Экспресс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(разговорная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2565360"/>
            <a:ext cx="5400720" cy="1225440"/>
          </a:xfrm>
          <a:prstGeom prst="ellipse">
            <a:avLst/>
          </a:prstGeom>
          <a:solidFill>
            <a:srgbClr val="eed41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Внутренняя речь (обеспечивающая и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опосредующа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устную и письменную реч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6" idx="4"/>
            <a:endCxn id="107" idx="0"/>
          </p:cNvCxnSpPr>
          <p:nvPr/>
        </p:nvCxnSpPr>
        <p:spPr>
          <a:xfrm flipH="1">
            <a:off x="1692000" y="2708280"/>
            <a:ext cx="288000" cy="100872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5"/>
            <a:endCxn id="114" idx="0"/>
          </p:cNvCxnSpPr>
          <p:nvPr/>
        </p:nvCxnSpPr>
        <p:spPr>
          <a:xfrm>
            <a:off x="3151080" y="2487600"/>
            <a:ext cx="1961280" cy="78480"/>
          </a:xfrm>
          <a:prstGeom prst="straightConnector1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6" idx="6"/>
            <a:endCxn id="108" idx="1"/>
          </p:cNvCxnSpPr>
          <p:nvPr/>
        </p:nvCxnSpPr>
        <p:spPr>
          <a:xfrm flipV="1">
            <a:off x="3634920" y="1755000"/>
            <a:ext cx="893160" cy="19764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8" idx="7"/>
            <a:endCxn id="109" idx="1"/>
          </p:cNvCxnSpPr>
          <p:nvPr/>
        </p:nvCxnSpPr>
        <p:spPr>
          <a:xfrm flipV="1">
            <a:off x="6056280" y="1627920"/>
            <a:ext cx="388080" cy="1278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6"/>
            <a:endCxn id="110" idx="1"/>
          </p:cNvCxnSpPr>
          <p:nvPr/>
        </p:nvCxnSpPr>
        <p:spPr>
          <a:xfrm>
            <a:off x="6372360" y="2060280"/>
            <a:ext cx="576360" cy="1818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7" idx="4"/>
            <a:endCxn id="112" idx="0"/>
          </p:cNvCxnSpPr>
          <p:nvPr/>
        </p:nvCxnSpPr>
        <p:spPr>
          <a:xfrm>
            <a:off x="1692360" y="4579560"/>
            <a:ext cx="396000" cy="28944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7" idx="6"/>
            <a:endCxn id="113" idx="1"/>
          </p:cNvCxnSpPr>
          <p:nvPr/>
        </p:nvCxnSpPr>
        <p:spPr>
          <a:xfrm>
            <a:off x="3060360" y="4147920"/>
            <a:ext cx="864360" cy="3625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4356000" y="4941720"/>
            <a:ext cx="2664000" cy="79236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Рядовая речь”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(первое слово рефлекторно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вызывает последующие в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ряду слова)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5013360"/>
            <a:ext cx="1728720" cy="50328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Спонтанная речь”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789360"/>
            <a:ext cx="3097080" cy="1008000"/>
          </a:xfrm>
          <a:prstGeom prst="roundRect">
            <a:avLst>
              <a:gd name="adj" fmla="val 16667"/>
            </a:avLst>
          </a:prstGeom>
          <a:solidFill>
            <a:srgbClr val="fff9c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Автоматизированная”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(упроченные в речевом опыте 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фразеологизмы – “ах”,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 “</a:t>
            </a:r>
            <a:r>
              <a:rPr b="1" lang="ru-RU" sz="1400" spc="-1" strike="noStrike">
                <a:solidFill>
                  <a:srgbClr val="62139e"/>
                </a:solidFill>
                <a:latin typeface="Arial"/>
              </a:rPr>
              <a:t>Да ну тебя”, “Боже мой!”)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3" idx="3"/>
            <a:endCxn id="122" idx="0"/>
          </p:cNvCxnSpPr>
          <p:nvPr/>
        </p:nvCxnSpPr>
        <p:spPr>
          <a:xfrm>
            <a:off x="5580000" y="4510080"/>
            <a:ext cx="108720" cy="4183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3" idx="3"/>
            <a:endCxn id="123" idx="1"/>
          </p:cNvCxnSpPr>
          <p:nvPr/>
        </p:nvCxnSpPr>
        <p:spPr>
          <a:xfrm>
            <a:off x="5579640" y="4509720"/>
            <a:ext cx="1570680" cy="75636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3" idx="3"/>
            <a:endCxn id="124" idx="1"/>
          </p:cNvCxnSpPr>
          <p:nvPr/>
        </p:nvCxnSpPr>
        <p:spPr>
          <a:xfrm flipV="1">
            <a:off x="5580000" y="4293720"/>
            <a:ext cx="202320" cy="2167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084720" y="2349360"/>
            <a:ext cx="216000" cy="287640"/>
          </a:xfrm>
          <a:prstGeom prst="upArrow">
            <a:avLst>
              <a:gd name="adj1" fmla="val 50000"/>
              <a:gd name="adj2" fmla="val 33292"/>
            </a:avLst>
          </a:prstGeom>
          <a:solidFill>
            <a:srgbClr val="66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350028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66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595008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Группова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5877000"/>
            <a:ext cx="2016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Монологическ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5877000"/>
            <a:ext cx="1584000" cy="503280"/>
          </a:xfrm>
          <a:prstGeom prst="roundRect">
            <a:avLst>
              <a:gd name="adj" fmla="val 16667"/>
            </a:avLst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139e"/>
                </a:solidFill>
                <a:latin typeface="Arial"/>
              </a:rPr>
              <a:t>Диалогическ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3" idx="2"/>
            <a:endCxn id="130" idx="0"/>
          </p:cNvCxnSpPr>
          <p:nvPr/>
        </p:nvCxnSpPr>
        <p:spPr>
          <a:xfrm flipH="1">
            <a:off x="7921080" y="5530320"/>
            <a:ext cx="108360" cy="42012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3" idx="2"/>
            <a:endCxn id="131" idx="3"/>
          </p:cNvCxnSpPr>
          <p:nvPr/>
        </p:nvCxnSpPr>
        <p:spPr>
          <a:xfrm flipH="1">
            <a:off x="6947640" y="5530320"/>
            <a:ext cx="1081800" cy="5994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3" idx="2"/>
            <a:endCxn id="132" idx="3"/>
          </p:cNvCxnSpPr>
          <p:nvPr/>
        </p:nvCxnSpPr>
        <p:spPr>
          <a:xfrm flipH="1">
            <a:off x="4642920" y="5530320"/>
            <a:ext cx="3386880" cy="599400"/>
          </a:xfrm>
          <a:prstGeom prst="straightConnector1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</p:cxnSp>
      <p:pic>
        <p:nvPicPr>
          <p:cNvPr id="136" name="" descr="Картинка 27 из 115444"/>
          <p:cNvPicPr/>
          <p:nvPr/>
        </p:nvPicPr>
        <p:blipFill>
          <a:blip r:embed="rId2"/>
          <a:stretch/>
        </p:blipFill>
        <p:spPr>
          <a:xfrm>
            <a:off x="7380360" y="115920"/>
            <a:ext cx="1511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1916280"/>
            <a:ext cx="7924680" cy="4752720"/>
          </a:xfrm>
          <a:prstGeom prst="rect">
            <a:avLst/>
          </a:prstGeom>
          <a:solidFill>
            <a:srgbClr val="bee2c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здание условий для развития речи детей в общении со взрослыми и сверстника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задают детям образец правильной литературной речи детям: речь чёткая, ясная, красочная, полная, грамматически правильная; в речь включаются разнообразные образцы речевого этикета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обеспечивают развитие звуковой культуры речи со стороны детей в соответствии с их возрастными особенностя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обеспечивают детям условия для обогащения их словаря с учётом возрастных особенностей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создают условия для овладения детьми грамматическим строем реч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развивают у детей связную речь с учётом их возрастных особенностей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Уделяют специальное внимание развитию у детей понимания речи, упражняя детей в выполнении словесной инструкци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создают условия для развития планирующей и регулирующей функции речи детей в соответствии с их возрастными особенностями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Приобщают детей к культуре чтения художественной литературы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трудники поощряют детское словотворчество;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213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2139e"/>
                </a:solidFill>
                <a:latin typeface="Arial"/>
              </a:rPr>
              <a:t>Создают в ДОУ условия для обучения иностранному языку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33160" y="476280"/>
            <a:ext cx="792468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9797"/>
                </a:solidFill>
                <a:latin typeface="Arial Black"/>
              </a:rPr>
              <a:t>Факторы успешного </a:t>
            </a:r>
            <a:br>
              <a:rPr sz="3600"/>
            </a:br>
            <a:r>
              <a:rPr b="0" lang="ru-RU" sz="3600" spc="-1" strike="noStrike">
                <a:solidFill>
                  <a:srgbClr val="219797"/>
                </a:solidFill>
                <a:latin typeface="Arial Black"/>
              </a:rPr>
              <a:t>речевого развития в ДОУ 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72224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17 из 119338"/>
          <p:cNvPicPr/>
          <p:nvPr/>
        </p:nvPicPr>
        <p:blipFill>
          <a:blip r:embed="rId3"/>
          <a:stretch/>
        </p:blipFill>
        <p:spPr>
          <a:xfrm>
            <a:off x="0" y="189000"/>
            <a:ext cx="17319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1:16:21Z</dcterms:created>
  <dc:creator>Эльвира</dc:creator>
  <dc:description/>
  <cp:keywords/>
  <dc:language>en-US</dc:language>
  <cp:lastModifiedBy>Эльвира</cp:lastModifiedBy>
  <dcterms:modified xsi:type="dcterms:W3CDTF">2011-11-08T04:44:13Z</dcterms:modified>
  <cp:revision>13</cp:revision>
  <dc:subject/>
  <dc:title>Технология речевого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