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D18-C83A-463A-A2C2-2A3B8717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2F35-1BAC-4D92-AD47-7FE55D38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9EE4-A169-44BF-9D9C-7C785CD1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193A-9FCD-44E8-AE5D-FEC180F2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6C98-4976-4B8E-871E-AD691F76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12FB-E30C-4C21-A89F-477A0D5C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4AF4-7BF7-4351-8263-E8AEA884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74F3-ED76-41C0-8284-0381F9E3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4479-89B1-4845-881A-874E19EF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1857-6736-486C-BF30-C18A3F61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6BA4-8A82-43A5-800D-F7EF6569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6AB-BD47-41C7-B987-1C6768BA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948A-7C24-48CF-B779-A3F63C6A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D3AC-D14D-475F-8D20-527A146E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DA78-766A-4489-9EC9-8DE93D88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273D-8039-4C28-BDC7-E1219171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150F-27BE-41D1-8F33-B3850B36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5498-1C45-4C86-A1F7-1DBB612C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941-2BD8-4B91-89F1-9A3261DB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1C04-8A11-4EF7-984B-8B269E8D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546-503E-4D5F-BE28-1A5A6C1C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BFC5-8FBB-479A-83CB-EAC75B05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AB3A-7941-4DC3-91BF-95241EC8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4BD-4545-4AD3-9375-E9D6764C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960D-70B3-4FCA-8D32-5B48931A9AFC}" type="slidenum">
              <a:rPr b="0" lang="ru-RU" sz="10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8B0D-B6DF-48C1-B8B9-FACAA149E9E3}" type="slidenum"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99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78800" cy="28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2139e"/>
                </a:solidFill>
                <a:latin typeface="Arial Black"/>
              </a:rPr>
              <a:t>Технология речевого развития</a:t>
            </a:r>
            <a:endParaRPr b="0" lang="en-US" sz="72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0920" y="5084640"/>
            <a:ext cx="6140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Arial"/>
              </a:rPr>
              <a:t>Подготовила: учитель-логопед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62139e"/>
                </a:solidFill>
                <a:latin typeface="Arial"/>
              </a:rPr>
              <a:t>Салтовская Э.П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925040" cy="936720"/>
          </a:xfrm>
          <a:prstGeom prst="rect">
            <a:avLst/>
          </a:prstGeom>
          <a:solidFill>
            <a:srgbClr val="e3cd7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2139e"/>
                </a:solidFill>
                <a:latin typeface="Arial Black"/>
              </a:rPr>
              <a:t>Актуальность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844640"/>
            <a:ext cx="7924680" cy="4608720"/>
          </a:xfrm>
          <a:prstGeom prst="rect">
            <a:avLst/>
          </a:prstGeom>
          <a:solidFill>
            <a:srgbClr val="e3cd7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cc99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ечь – удивительно сильное средство, но нужно много иметь ума, чтобы пользоваться им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. Гегель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ечь – великая сила: она убеждает, обращает, принуждает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.Эмерсон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ечь – способность говорить, говорение; разновидность или стиль языка; звучащий язык; разговор, беседа; публичное выступление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                                                   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олковый словарь русского языка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ечь — это определенная последовательность языковых единиц (фонем, морфем, слов, предложений), регулируемая законами языка и работой сознания, формирующего ту или иную мысль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Е.Ф.Соботович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77080" y="403200"/>
            <a:ext cx="208764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160" y="1341360"/>
            <a:ext cx="7924680" cy="5183280"/>
          </a:xfrm>
          <a:prstGeom prst="rect">
            <a:avLst/>
          </a:prstGeom>
          <a:solidFill>
            <a:srgbClr val="e3cd7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чь – самый простой и самый сложный способ самоутверждения, потому что пользоваться ею – серьёзная наука и немалое искусство.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оспринятые в дошкольном возрасте организованные образцы неверного речевого поведения становятся настолько прочными установками и стереотипами, что преодолеть их в школе зачастую не удаётся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витие личности ребёнка дошкольного возраста невозможно без оценки речевого развития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чевое развитие позволяет  ребёнку дошкольного возраста развивать познавательную, креативную и социально-эмоциональную сферы личности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13050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574120" cy="5472000"/>
          </a:xfrm>
          <a:prstGeom prst="rect">
            <a:avLst/>
          </a:prstGeom>
          <a:solidFill>
            <a:srgbClr val="c7d9c7"/>
          </a:solidFill>
          <a:ln w="9360">
            <a:solidFill>
              <a:srgbClr val="62139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3141720"/>
            <a:ext cx="2590560" cy="1079280"/>
          </a:xfrm>
          <a:prstGeom prst="rect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Arial"/>
              </a:rPr>
              <a:t>Функции речи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5013360"/>
            <a:ext cx="2879640" cy="792000"/>
          </a:xfrm>
          <a:prstGeom prst="rect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139e"/>
                </a:solidFill>
                <a:latin typeface="Arial"/>
              </a:rPr>
              <a:t>Речь как средство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139e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2139e"/>
                </a:solidFill>
                <a:latin typeface="Arial"/>
              </a:rPr>
              <a:t>общения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268280"/>
            <a:ext cx="4032360" cy="1008360"/>
          </a:xfrm>
          <a:prstGeom prst="rect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139e"/>
                </a:solidFill>
                <a:latin typeface="Arial"/>
              </a:rPr>
              <a:t>Познавательная функция речи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4508640"/>
            <a:ext cx="287640" cy="360360"/>
          </a:xfrm>
          <a:prstGeom prst="downArrow">
            <a:avLst>
              <a:gd name="adj1" fmla="val 50000"/>
              <a:gd name="adj2" fmla="val 31320"/>
            </a:avLst>
          </a:prstGeom>
          <a:solidFill>
            <a:srgbClr val="6699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19640" y="4508640"/>
            <a:ext cx="3456000" cy="720720"/>
          </a:xfrm>
          <a:prstGeom prst="rect">
            <a:avLst/>
          </a:prstGeom>
          <a:solidFill>
            <a:srgbClr val="c7d9c7"/>
          </a:solidFill>
          <a:ln w="28440">
            <a:solidFill>
              <a:srgbClr val="621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1.При совместной деятельности 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ребёнка и взрослого 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997360"/>
            <a:ext cx="2087640" cy="1800000"/>
          </a:xfrm>
          <a:prstGeom prst="rect">
            <a:avLst/>
          </a:prstGeom>
          <a:solidFill>
            <a:srgbClr val="bee2cd"/>
          </a:solidFill>
          <a:ln w="28440">
            <a:solidFill>
              <a:srgbClr val="621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2139e"/>
                </a:solidFill>
                <a:latin typeface="Arial"/>
              </a:rPr>
              <a:t>Получает 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2139e"/>
                </a:solidFill>
                <a:latin typeface="Arial"/>
              </a:rPr>
              <a:t>информацию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2139e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2139e"/>
                </a:solidFill>
                <a:latin typeface="Arial"/>
              </a:rPr>
              <a:t>с помощью</a:t>
            </a: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buClr>
                <a:srgbClr val="6213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природы,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buClr>
                <a:srgbClr val="6213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общества,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buClr>
                <a:srgbClr val="6213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я,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buClr>
                <a:srgbClr val="6213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рукотворного мира.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buClr>
                <a:srgbClr val="6213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buClr>
                <a:srgbClr val="6213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9640" y="5445000"/>
            <a:ext cx="3456000" cy="360360"/>
          </a:xfrm>
          <a:prstGeom prst="rect">
            <a:avLst/>
          </a:prstGeom>
          <a:solidFill>
            <a:srgbClr val="c7d9c7"/>
          </a:solidFill>
          <a:ln w="28440">
            <a:solidFill>
              <a:srgbClr val="621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2. Общение со сверстниками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5950080"/>
            <a:ext cx="3382920" cy="576000"/>
          </a:xfrm>
          <a:prstGeom prst="rect">
            <a:avLst/>
          </a:prstGeom>
          <a:solidFill>
            <a:srgbClr val="c7d9c7"/>
          </a:solidFill>
          <a:ln w="28440">
            <a:solidFill>
              <a:srgbClr val="621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3.Преобладание инициативных 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Высказываний над ответами.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1" idx="3"/>
            <a:endCxn id="97" idx="1"/>
          </p:cNvCxnSpPr>
          <p:nvPr/>
        </p:nvCxnSpPr>
        <p:spPr>
          <a:xfrm>
            <a:off x="4498560" y="5410080"/>
            <a:ext cx="780120" cy="829440"/>
          </a:xfrm>
          <a:prstGeom prst="straightConnector1">
            <a:avLst/>
          </a:prstGeom>
          <a:ln w="28440">
            <a:solidFill>
              <a:srgbClr val="62139e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3"/>
            <a:endCxn id="96" idx="1"/>
          </p:cNvCxnSpPr>
          <p:nvPr/>
        </p:nvCxnSpPr>
        <p:spPr>
          <a:xfrm>
            <a:off x="4498920" y="5410080"/>
            <a:ext cx="707040" cy="216720"/>
          </a:xfrm>
          <a:prstGeom prst="straightConnector1">
            <a:avLst/>
          </a:prstGeom>
          <a:ln w="28440">
            <a:solidFill>
              <a:srgbClr val="62139e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1" idx="3"/>
            <a:endCxn id="94" idx="1"/>
          </p:cNvCxnSpPr>
          <p:nvPr/>
        </p:nvCxnSpPr>
        <p:spPr>
          <a:xfrm flipV="1">
            <a:off x="4498920" y="4868280"/>
            <a:ext cx="707040" cy="541800"/>
          </a:xfrm>
          <a:prstGeom prst="straightConnector1">
            <a:avLst/>
          </a:prstGeom>
          <a:ln w="38160">
            <a:solidFill>
              <a:srgbClr val="62139e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5435640" y="1268280"/>
            <a:ext cx="3240000" cy="936720"/>
          </a:xfrm>
          <a:prstGeom prst="rect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139e"/>
                </a:solidFill>
                <a:latin typeface="Arial"/>
              </a:rPr>
              <a:t>Речь как регулятор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139e"/>
                </a:solidFill>
                <a:latin typeface="Arial"/>
              </a:rPr>
              <a:t>поведения и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139e"/>
                </a:solidFill>
                <a:latin typeface="Arial"/>
              </a:rPr>
              <a:t>деятельности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249228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6699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249228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6699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2" idx="2"/>
            <a:endCxn id="95" idx="0"/>
          </p:cNvCxnSpPr>
          <p:nvPr/>
        </p:nvCxnSpPr>
        <p:spPr>
          <a:xfrm flipH="1">
            <a:off x="1584000" y="2276640"/>
            <a:ext cx="900720" cy="707040"/>
          </a:xfrm>
          <a:prstGeom prst="straightConnector1">
            <a:avLst/>
          </a:prstGeom>
          <a:ln w="28440">
            <a:solidFill>
              <a:srgbClr val="62139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47236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97000"/>
            <a:ext cx="3311280" cy="1511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2139e"/>
                </a:solidFill>
                <a:latin typeface="Times New Roman"/>
              </a:rPr>
              <a:t>Виды речи </a:t>
            </a:r>
            <a:endParaRPr b="0" lang="en-US" sz="4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3716280"/>
            <a:ext cx="2736720" cy="863640"/>
          </a:xfrm>
          <a:prstGeom prst="ellipse">
            <a:avLst/>
          </a:prstGeom>
          <a:solidFill>
            <a:srgbClr val="eed41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Внешняя (устная) речь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1640" y="1628640"/>
            <a:ext cx="2160720" cy="863640"/>
          </a:xfrm>
          <a:prstGeom prst="ellipse">
            <a:avLst/>
          </a:prstGeom>
          <a:solidFill>
            <a:srgbClr val="eed41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Письменная речь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1413000"/>
            <a:ext cx="1224000" cy="431640"/>
          </a:xfrm>
          <a:prstGeom prst="roundRect">
            <a:avLst>
              <a:gd name="adj" fmla="val 16667"/>
            </a:avLst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Письмо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1989000"/>
            <a:ext cx="1224000" cy="503280"/>
          </a:xfrm>
          <a:prstGeom prst="roundRect">
            <a:avLst>
              <a:gd name="adj" fmla="val 16667"/>
            </a:avLst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Чтение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246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2139e"/>
                </a:solidFill>
                <a:latin typeface="Arial Black"/>
              </a:rPr>
              <a:t>Виды речи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4869000"/>
            <a:ext cx="2089080" cy="934920"/>
          </a:xfrm>
          <a:prstGeom prst="roundRect">
            <a:avLst>
              <a:gd name="adj" fmla="val 16667"/>
            </a:avLst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Импрессивная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(восприятие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и понимание речи)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4221000"/>
            <a:ext cx="1655640" cy="576360"/>
          </a:xfrm>
          <a:prstGeom prst="roundRect">
            <a:avLst>
              <a:gd name="adj" fmla="val 16667"/>
            </a:avLst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Экспрессивная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(разговорная)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2565360"/>
            <a:ext cx="5400720" cy="1225440"/>
          </a:xfrm>
          <a:prstGeom prst="ellipse">
            <a:avLst/>
          </a:prstGeom>
          <a:solidFill>
            <a:srgbClr val="eed41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Внутренняя речь (обеспечивающая и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опосредующая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устную и письменную речь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06" idx="4"/>
            <a:endCxn id="107" idx="0"/>
          </p:cNvCxnSpPr>
          <p:nvPr/>
        </p:nvCxnSpPr>
        <p:spPr>
          <a:xfrm flipH="1">
            <a:off x="1692000" y="2708280"/>
            <a:ext cx="288000" cy="1008720"/>
          </a:xfrm>
          <a:prstGeom prst="straightConnector1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6" idx="5"/>
            <a:endCxn id="114" idx="0"/>
          </p:cNvCxnSpPr>
          <p:nvPr/>
        </p:nvCxnSpPr>
        <p:spPr>
          <a:xfrm>
            <a:off x="3151080" y="2487600"/>
            <a:ext cx="1961280" cy="78480"/>
          </a:xfrm>
          <a:prstGeom prst="straightConnector1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6" idx="6"/>
            <a:endCxn id="108" idx="1"/>
          </p:cNvCxnSpPr>
          <p:nvPr/>
        </p:nvCxnSpPr>
        <p:spPr>
          <a:xfrm flipV="1">
            <a:off x="3634920" y="1755000"/>
            <a:ext cx="893160" cy="19764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8" idx="7"/>
            <a:endCxn id="109" idx="1"/>
          </p:cNvCxnSpPr>
          <p:nvPr/>
        </p:nvCxnSpPr>
        <p:spPr>
          <a:xfrm flipV="1">
            <a:off x="6056280" y="1627920"/>
            <a:ext cx="388080" cy="12780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8" idx="6"/>
            <a:endCxn id="110" idx="1"/>
          </p:cNvCxnSpPr>
          <p:nvPr/>
        </p:nvCxnSpPr>
        <p:spPr>
          <a:xfrm>
            <a:off x="6372360" y="2060280"/>
            <a:ext cx="576360" cy="18180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7" idx="4"/>
            <a:endCxn id="112" idx="0"/>
          </p:cNvCxnSpPr>
          <p:nvPr/>
        </p:nvCxnSpPr>
        <p:spPr>
          <a:xfrm>
            <a:off x="1692360" y="4579560"/>
            <a:ext cx="396000" cy="28944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7" idx="6"/>
            <a:endCxn id="113" idx="1"/>
          </p:cNvCxnSpPr>
          <p:nvPr/>
        </p:nvCxnSpPr>
        <p:spPr>
          <a:xfrm>
            <a:off x="3060360" y="4147920"/>
            <a:ext cx="864360" cy="36252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4356000" y="4941720"/>
            <a:ext cx="2664000" cy="792360"/>
          </a:xfrm>
          <a:prstGeom prst="roundRect">
            <a:avLst>
              <a:gd name="adj" fmla="val 16667"/>
            </a:avLst>
          </a:prstGeom>
          <a:solidFill>
            <a:srgbClr val="fff9cf"/>
          </a:solidFill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“</a:t>
            </a: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Рядовая речь” 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(первое слово рефлекторно 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вызывает последующие в 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ряду слова)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64360" y="5013360"/>
            <a:ext cx="1728720" cy="503280"/>
          </a:xfrm>
          <a:prstGeom prst="roundRect">
            <a:avLst>
              <a:gd name="adj" fmla="val 16667"/>
            </a:avLst>
          </a:prstGeom>
          <a:solidFill>
            <a:srgbClr val="fff9cf"/>
          </a:solidFill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“</a:t>
            </a: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Спонтанная речь”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3789360"/>
            <a:ext cx="3097080" cy="1008000"/>
          </a:xfrm>
          <a:prstGeom prst="roundRect">
            <a:avLst>
              <a:gd name="adj" fmla="val 16667"/>
            </a:avLst>
          </a:prstGeom>
          <a:solidFill>
            <a:srgbClr val="fff9cf"/>
          </a:solidFill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Arial"/>
              </a:rPr>
              <a:t>“</a:t>
            </a: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Автоматизированная” 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(упроченные в речевом опыте 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фразеологизмы – “ах”,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 “</a:t>
            </a: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Да ну тебя”, “Боже мой!”)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3" idx="3"/>
            <a:endCxn id="122" idx="0"/>
          </p:cNvCxnSpPr>
          <p:nvPr/>
        </p:nvCxnSpPr>
        <p:spPr>
          <a:xfrm>
            <a:off x="5580000" y="4510080"/>
            <a:ext cx="108720" cy="41832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3" idx="3"/>
            <a:endCxn id="123" idx="1"/>
          </p:cNvCxnSpPr>
          <p:nvPr/>
        </p:nvCxnSpPr>
        <p:spPr>
          <a:xfrm>
            <a:off x="5579640" y="4509720"/>
            <a:ext cx="1570680" cy="75636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3" idx="3"/>
            <a:endCxn id="124" idx="1"/>
          </p:cNvCxnSpPr>
          <p:nvPr/>
        </p:nvCxnSpPr>
        <p:spPr>
          <a:xfrm flipV="1">
            <a:off x="5580000" y="4293720"/>
            <a:ext cx="202320" cy="21672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6084720" y="2349360"/>
            <a:ext cx="216000" cy="287640"/>
          </a:xfrm>
          <a:prstGeom prst="upArrow">
            <a:avLst>
              <a:gd name="adj1" fmla="val 50000"/>
              <a:gd name="adj2" fmla="val 33292"/>
            </a:avLst>
          </a:prstGeom>
          <a:solidFill>
            <a:srgbClr val="66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7280" y="3500280"/>
            <a:ext cx="289080" cy="360360"/>
          </a:xfrm>
          <a:prstGeom prst="downArrow">
            <a:avLst>
              <a:gd name="adj1" fmla="val 50000"/>
              <a:gd name="adj2" fmla="val 31164"/>
            </a:avLst>
          </a:prstGeom>
          <a:solidFill>
            <a:srgbClr val="66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8720" y="5950080"/>
            <a:ext cx="1224000" cy="431640"/>
          </a:xfrm>
          <a:prstGeom prst="roundRect">
            <a:avLst>
              <a:gd name="adj" fmla="val 16667"/>
            </a:avLst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Групповая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5877000"/>
            <a:ext cx="2016000" cy="503280"/>
          </a:xfrm>
          <a:prstGeom prst="roundRect">
            <a:avLst>
              <a:gd name="adj" fmla="val 16667"/>
            </a:avLst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Монологическая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5877000"/>
            <a:ext cx="1584000" cy="503280"/>
          </a:xfrm>
          <a:prstGeom prst="roundRect">
            <a:avLst>
              <a:gd name="adj" fmla="val 16667"/>
            </a:avLst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Диалогическая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3" idx="2"/>
            <a:endCxn id="130" idx="0"/>
          </p:cNvCxnSpPr>
          <p:nvPr/>
        </p:nvCxnSpPr>
        <p:spPr>
          <a:xfrm flipH="1">
            <a:off x="7921080" y="5530320"/>
            <a:ext cx="108360" cy="42012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3" idx="2"/>
            <a:endCxn id="131" idx="3"/>
          </p:cNvCxnSpPr>
          <p:nvPr/>
        </p:nvCxnSpPr>
        <p:spPr>
          <a:xfrm flipH="1">
            <a:off x="6947640" y="5530320"/>
            <a:ext cx="1081800" cy="59940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3" idx="2"/>
            <a:endCxn id="132" idx="3"/>
          </p:cNvCxnSpPr>
          <p:nvPr/>
        </p:nvCxnSpPr>
        <p:spPr>
          <a:xfrm flipH="1">
            <a:off x="4642920" y="5530320"/>
            <a:ext cx="3386880" cy="59940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pic>
        <p:nvPicPr>
          <p:cNvPr id="136" name="" descr="Картинка 27 из 115444"/>
          <p:cNvPicPr/>
          <p:nvPr/>
        </p:nvPicPr>
        <p:blipFill>
          <a:blip r:embed="rId2"/>
          <a:stretch/>
        </p:blipFill>
        <p:spPr>
          <a:xfrm>
            <a:off x="7380360" y="115920"/>
            <a:ext cx="15112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3160" y="1916280"/>
            <a:ext cx="7924680" cy="4752720"/>
          </a:xfrm>
          <a:prstGeom prst="rect">
            <a:avLst/>
          </a:prstGeom>
          <a:solidFill>
            <a:srgbClr val="bee2c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Создание условий для развития речи детей в общении со взрослыми и сверстниками;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Сотрудники задают детям образец правильной литературной речи детям: речь чёткая, ясная, красочная, полная, грамматически правильная; в речь включаются разнообразные образцы речевого этикета;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Сотрудники обеспечивают развитие звуковой культуры речи со стороны детей в соответствии с их возрастными особенностями;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Сотрудники обеспечивают детям условия для обогащения их словаря с учётом возрастных особенностей;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Сотрудники создают условия для овладения детьми грамматическим строем речи;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Сотрудники развивают у детей связную речь с учётом их возрастных особенностей;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Уделяют специальное внимание развитию у детей понимания речи, упражняя детей в выполнении словесной инструкции;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Сотрудники создают условия для развития планирующей и регулирующей функции речи детей в соответствии с их возрастными особенностями;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Приобщают детей к культуре чтения художественной литературы;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Сотрудники поощряют детское словотворчество;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Создают в ДОУ условия для обучения иностранному языку.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533160" y="476280"/>
            <a:ext cx="7924680" cy="17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9797"/>
                </a:solidFill>
                <a:latin typeface="Arial Black"/>
              </a:rPr>
              <a:t>Факторы успешного </a:t>
            </a:r>
            <a:br>
              <a:rPr sz="3600"/>
            </a:br>
            <a:r>
              <a:rPr b="0" lang="ru-RU" sz="3600" spc="-1" strike="noStrike">
                <a:solidFill>
                  <a:srgbClr val="219797"/>
                </a:solidFill>
                <a:latin typeface="Arial Black"/>
              </a:rPr>
              <a:t>речевого развития в ДОУ 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236000" y="0"/>
            <a:ext cx="1722240" cy="1292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Картинка 17 из 119338"/>
          <p:cNvPicPr/>
          <p:nvPr/>
        </p:nvPicPr>
        <p:blipFill>
          <a:blip r:embed="rId3"/>
          <a:stretch/>
        </p:blipFill>
        <p:spPr>
          <a:xfrm>
            <a:off x="0" y="189000"/>
            <a:ext cx="173196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1:16:21Z</dcterms:created>
  <dc:creator>Эльвира</dc:creator>
  <dc:description/>
  <cp:keywords/>
  <dc:language>en-US</dc:language>
  <cp:lastModifiedBy>Эльвира</cp:lastModifiedBy>
  <dcterms:modified xsi:type="dcterms:W3CDTF">2011-11-08T04:44:13Z</dcterms:modified>
  <cp:revision>13</cp:revision>
  <dc:subject/>
  <dc:title>Технология речевого разви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