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D82-CC63-403F-AF1C-5072780E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A9F-E784-4AA4-8E3D-5E4B9AE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869-14BB-48C6-938D-03145F89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63B-0102-4A36-98EA-0CF63EEB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E52-FB0C-4197-AC85-989C1CF1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5DFC-859A-4E19-BDDC-71B8433C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2AD-DEA5-4F82-9635-90BA3D0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23B7-D2C1-48C2-AB4B-60805FE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E25-1B80-4993-8AB4-FB5F7C9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6A1D-B0C4-426C-BB10-6DF17F2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E28B-4FBB-4A80-B046-C2C62DE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33F-9EDC-437B-AB84-824F14D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7A5-05D3-4D9E-96E5-4C0CA93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4ACD-B57D-4016-8157-5A2D365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34EF-3B87-4583-8F57-7543CFD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1D8-B8A4-46D3-AA89-A0843DF3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019C-728B-4F6D-A63C-1E9C555D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2166-9267-487D-8B3C-AEC6E9BA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6757-D721-41F4-82BE-12C392B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B199-F51F-4DB9-BCDB-F8ED8BCA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B7EB-815C-4963-A4ED-D0162A6F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509D-1B00-49B6-BE21-2663E3D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498-2C4F-45C0-9603-201FBADA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FD26-6584-4A43-8030-B02F0B7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423C-3C4A-4766-966E-60AD12D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698C-04D8-42F4-91B2-0FDFFA6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10E7-1498-42B2-9FDD-1888222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54FD-6C86-426D-B50F-3B774712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C064-FCF0-47FA-96EA-15D2A3D1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0C50-B96D-487B-B9EE-5F574D51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6AC8-3BE2-4D81-92EF-AE302266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7A9D-DF27-49B8-97D1-AF62FEB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7A9C-7070-49C3-B164-F706882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EE0-A9AD-4DE9-BB58-D77FC88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67C8-D004-452B-B681-F659AAE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8981-61FB-4645-8128-F3690DB2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ED3E-5104-41A7-B049-384B42F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F19B-33A6-4B54-B02F-ECE7FBA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DBD4-9F68-4793-AEC4-DF84C81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CAE9-B3D9-474B-9143-D669BD7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BD4B-6961-40B4-A4F7-43AE75E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0D89-7DAC-4490-922F-17F8F022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A9EA-865B-4567-A7BE-804FF440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5E32-8879-4754-9D4F-D592EE07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5FC-9F21-4DE9-A8DA-320D650E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5693-5062-4CA3-96F4-BD13ADC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A434-9882-4B24-B942-C7EB34CF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B6A4-74AE-4D96-8151-D69F5A4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D467-7269-44B8-9108-8164BF8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EE00-A476-4815-9931-898F9E5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3512-E2EF-47DA-9486-122CCC0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005B6-0C01-4652-B725-8C135AA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917A-7D1E-4CC7-8578-CA22E69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3524-1FBF-49EA-9692-04B608C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95F4-D6E1-4D06-8EC1-C2FEAB99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27A-67F4-42EC-941D-2DB1AC5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1433-45F2-4E30-A875-DDDC5E6A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3E98-60BB-48EF-86FA-8BA60A22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4667-4108-4F5F-AE2D-9C70112A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37B5-7DA0-4BB7-9415-CDE55B0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D492-0954-427A-9DD3-BCF25A7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8E57-25DC-411F-953E-431C7EF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B8FAC-B392-4FE5-AA5F-30134305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89B8-B707-4773-942D-D75E22A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9D84-8779-49B0-82F0-7C94027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8C14-AAF2-49D2-B7D6-9310136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8F7-3368-45B6-9A99-EE7B881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6E3FC-CFD9-4C67-BFCC-F0587DE5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55F63-69EF-4415-B2B8-FBBD3010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FA0C6-05F6-49B1-A786-4060D5A8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233D7-9DF6-44CC-A146-1FC204CA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7FC2-C784-4586-8149-E9345645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AB90-2773-4AED-8832-3B71F1C0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EA57-92BD-48BB-9369-82060D8B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7F6E-BF9A-483C-9BC9-4B1AF02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62F61-60EF-43F5-BD64-7B1EF6B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5ADF-5AF2-464C-A8BE-FAABFAA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EF0-29F7-484A-ADF9-A4153F5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01D9-E3BA-448E-BB32-E8017F8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FFD5-862C-49FD-9C45-AE92AF5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945CD-95C5-4185-BB3A-A9CE6B65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9B9C-142B-4036-A45C-5801E0A2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3E2C-109A-49C7-A2CA-F529A224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9A65-CAC8-4964-AEA8-639D257B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ECD0-6934-4731-B0BB-6501320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80BDD-47DE-46B6-A99B-22E869B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81C3-25B8-4C23-AD01-250066BA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4FFE-6204-4DD7-A6B9-BCA5093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87E-A3CF-43D4-941B-80B8CA4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F646-62B2-4BA3-83A9-038B50CD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3B395-58F9-4C51-96BD-898EFBD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24D9-6BD7-42C5-875D-AC4587F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B1D0-4B64-4284-98B2-4241A9B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46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BF372-2A7D-4A95-BD90-259D4D9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4880" y="3964320"/>
            <a:ext cx="364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87A6-AA6A-4C36-B255-A845D81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31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81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31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81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A834-10C2-4D60-94E0-AB4881CA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EAB-B430-47F7-B60E-F94CC478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DBB-8549-4632-B8F0-4DC3E4A7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F9E8-232F-4062-ABC5-86959E5A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4D8E-46F0-45EA-BFDA-606062AD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13B2-9376-44B2-9555-CE7E89C0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AF6C-42E9-4937-B7D0-5CD85AC2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172B-8735-4865-BA50-976EA2C9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624-5708-4DF5-BD42-37584BEC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he_Friends#cite_note-0" TargetMode="External"/><Relationship Id="rId2" Type="http://schemas.openxmlformats.org/officeDocument/2006/relationships/hyperlink" Target="http://ru.wikipedia.org/wiki/&#1051;&#1102;&#1076;&#1080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Классный час "Дружба"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40360" y="4149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Учитель начальных классов МАОУ СОШ№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г.Бала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5e0dff"/>
                </a:solidFill>
                <a:latin typeface="Times New Roman"/>
                <a:ea typeface="Times New Roman"/>
              </a:rPr>
              <a:t>Влазненк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C:\Users\Denis\Downloads\world_hands.gif"/>
          <p:cNvPicPr/>
          <p:nvPr/>
        </p:nvPicPr>
        <p:blipFill>
          <a:blip r:embed="rId1"/>
          <a:stretch/>
        </p:blipFill>
        <p:spPr>
          <a:xfrm>
            <a:off x="971640" y="4724280"/>
            <a:ext cx="1933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1476360" y="40464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Что мне снег, что мне з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Что мне дождик пролив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Bookman Old Style"/>
                <a:ea typeface="Aharoni"/>
              </a:rPr>
              <a:t>Когда мои друзья со мн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kogda_moi_druzja_so_mnoj.mp3" descr=""/>
          <p:cNvPicPr/>
          <p:nvPr/>
        </p:nvPicPr>
        <p:blipFill>
          <a:blip r:embed="rId1"/>
          <a:stretch/>
        </p:blipFill>
        <p:spPr>
          <a:xfrm>
            <a:off x="8101080" y="5732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3" name="Pesnya-o-druzhbe-Kogda-moi-druz_ya-so-mnoy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http://wallpapers2.hellowallpaper.com/cartoon_childhood-dream--02_12-1600x1200.jpg"/>
          <p:cNvPicPr/>
          <p:nvPr/>
        </p:nvPicPr>
        <p:blipFill>
          <a:blip r:embed="rId3"/>
          <a:stretch/>
        </p:blipFill>
        <p:spPr>
          <a:xfrm>
            <a:off x="2268360" y="2492280"/>
            <a:ext cx="4535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896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4"/>
          <p:cNvSpPr/>
          <p:nvPr/>
        </p:nvSpPr>
        <p:spPr>
          <a:xfrm>
            <a:off x="2195640" y="476280"/>
            <a:ext cx="69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́жб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бескорыстные</a:t>
            </a:r>
            <a:r>
              <a:rPr b="0" lang="ru-RU" sz="2800" spc="-1" strike="noStrike" u="sng" baseline="30000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[1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чные взаимоотношения между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людь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анные на любви, доверии, искренности, взаимных симпатиях, общих интересах и увлечениях. Обязательными признаками дружбы являются доверие и терпение. Людей, связанных между собой дружбой,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5"/>
          <p:cNvSpPr/>
          <p:nvPr/>
        </p:nvSpPr>
        <p:spPr>
          <a:xfrm>
            <a:off x="2340000" y="450864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 / Словарь Ожег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отношения, основанные на взаимном доверии, привязанности, общности интересов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9" descr=""/>
          <p:cNvPicPr/>
          <p:nvPr/>
        </p:nvPicPr>
        <p:blipFill>
          <a:blip r:embed="rId3"/>
          <a:stretch/>
        </p:blipFill>
        <p:spPr>
          <a:xfrm>
            <a:off x="611280" y="639720"/>
            <a:ext cx="1630440" cy="1639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928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755640" y="141300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сор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яться просить прощения,                       если обидел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еж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л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дни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чест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5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нима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758320" y="765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 ДР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blogmail.com.br/fotos/2010/04/Moranguinho-e-amiguinha..jpg"/>
          <p:cNvPicPr/>
          <p:nvPr/>
        </p:nvPicPr>
        <p:blipFill>
          <a:blip r:embed="rId1"/>
          <a:stretch/>
        </p:blipFill>
        <p:spPr>
          <a:xfrm>
            <a:off x="5651640" y="3213000"/>
            <a:ext cx="2779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4"/>
          <p:cNvSpPr/>
          <p:nvPr/>
        </p:nvSpPr>
        <p:spPr>
          <a:xfrm>
            <a:off x="611280" y="765000"/>
            <a:ext cx="754524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за друга держатьс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руг поддаки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и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 лг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х друзей наж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сильны крыль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без друж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дружбу завед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4248000" y="836640"/>
            <a:ext cx="41468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бояться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3535200" y="1355760"/>
            <a:ext cx="3368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друг спор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3635280" y="1873080"/>
            <a:ext cx="4465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йдёшь - бере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419640" y="2421000"/>
            <a:ext cx="43210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нельзя в друзья брат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ь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4500720" y="3068640"/>
            <a:ext cx="4032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3859200" y="2997360"/>
            <a:ext cx="4673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тарых не забыв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211640" y="3573360"/>
            <a:ext cx="3932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юди друж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3600360" y="4076640"/>
            <a:ext cx="4788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рево без кор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3924360" y="4724280"/>
            <a:ext cx="4608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ую и жизнь проживё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4572000" y="5157720"/>
            <a:ext cx="4248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3" descr="motivator-11332.jpg"/>
          <p:cNvPicPr/>
          <p:nvPr/>
        </p:nvPicPr>
        <p:blipFill>
          <a:blip r:embed="rId1"/>
          <a:srcRect l="4061" t="4106" r="4061" b="20136"/>
          <a:stretch/>
        </p:blipFill>
        <p:spPr>
          <a:xfrm>
            <a:off x="6516720" y="5084640"/>
            <a:ext cx="230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pbs.twimg.com/tweet_video_thumb/CJZTToXWIAAc8Hu.png"/>
          <p:cNvPicPr/>
          <p:nvPr/>
        </p:nvPicPr>
        <p:blipFill>
          <a:blip r:embed="rId1"/>
          <a:srcRect l="1745" t="0" r="0" b="8002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если друг не смеётс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39130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84360" y="1341360"/>
            <a:ext cx="777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зазнавайся, если у тебя что-то очень хорошо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разговоре, в игре не будь грубым, не кри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250920" y="549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  ДРУЖНОГО 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28:19Z</dcterms:created>
  <dc:creator>Admin</dc:creator>
  <dc:description/>
  <dc:language>en-US</dc:language>
  <cp:lastModifiedBy>Denis</cp:lastModifiedBy>
  <dcterms:modified xsi:type="dcterms:W3CDTF">2016-02-04T18:41:47Z</dcterms:modified>
  <cp:revision>28</cp:revision>
  <dc:subject/>
  <dc:title>Слайд 1</dc:title>
</cp:coreProperties>
</file>