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4BCD-8CA7-4A0B-A1F2-89E294492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46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746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AFAE-C7E4-4082-A970-92EDDC04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880" y="396432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F0C1-35AA-45C9-8AA9-6A51C38CB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31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816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31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816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BCC0-5B79-485F-9EB4-2388BEC6B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19274-D7A1-4D84-A8A4-5D8AB26F2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ADED-3A36-49F4-AB05-0A521C29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C825-AFFA-4053-90BA-4591BA1F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CAB3-5C3E-43F1-8B42-08679882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91C2D-C5C8-400F-920F-DDE88C7A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F652-01AE-4E89-BB45-21AC44C9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2E02-2C1A-4350-B990-0D64C9FD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FA6D-B60A-4EDF-B022-A858715F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4880" y="396432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B114-075D-447A-956D-8792F473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746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8F92-AA7B-4BB1-94F7-68308BEB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46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746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1BA1-24D4-41A2-884B-44B680E4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4880" y="396432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92017-D71C-4664-BEC0-30426605B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31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8816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31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8816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53A1D-7D78-40AA-9BF8-4B187EA52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8291A-8AC0-4BA1-BA2B-5D6957DCF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94C98-08F5-4647-8362-A8343540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E7A91-665C-4853-B8E1-3B693D54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97EB3-BFF6-44DE-A1C5-5BB4A8EB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815A4-27ED-47FD-9107-C08D54A6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775B-DA7A-46BF-93B5-F3755E73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A7BCC-381A-4812-A44A-DFF25382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803B8-6D97-4957-B670-6CA4113E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4880" y="396432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757A1-9F84-4B57-9D3C-CEB1927D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746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42C3A-8313-43C9-A2EC-98F15D24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46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746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0F18D-1C89-4142-B053-C0A6B77B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4880" y="396432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A6F5F-5029-4695-A5B5-020509176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631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88816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631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88816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A82D7-0959-4A24-9139-6A9B6391C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5B441-6DD2-4A49-BE79-A9F0D3F4C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73728-031D-4B41-8EE1-F7668D41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B751D-1DA2-40DB-AA4F-780F101F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746D-E2FC-41E4-963D-9B99181C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6559A-865A-4F0A-8063-75BB8135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C013F-C378-4DEE-99E6-0086E105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D3F1E-7129-4E42-A2DC-79224A83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C96AC-52E8-465A-B21C-0DBD0972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4880" y="396432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C924B-6F3F-4B5E-BD9E-B8D6ACC2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746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49EE8-3291-49A8-8AA7-7854D1D6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46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746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8A84B-2125-4733-AB3C-48353291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4880" y="396432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D6802-E757-4EFF-87FD-567C19EB2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631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88816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631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88816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DDF0A-52D2-4E5C-AF45-BD2BF026B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2EAA5-1C1F-4F9F-AE8B-7B37A331B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3C04-92D0-406B-9F66-826D2552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6EE32-C780-4708-A27D-404199C8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8D011-BB2B-45F4-90C0-6F5F8C13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960E1-7B19-4D82-9ABD-463D1DD2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8F456-3563-4E67-864E-4D73BC45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77B1B-E8F1-4AFE-BE09-46F4A252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2E26A-8B94-4BD1-86F4-F270B358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4880" y="396432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12943-EBC5-4800-876E-0772AA07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746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78C78-5FD7-48EA-8AD6-561AAF52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46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746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4B14B-D844-4BED-9C6B-BB43CFE0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4880" y="396432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B112B-4994-4B11-8B82-10ACC171A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AFCF-0D72-4448-A23E-62B5AAE8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631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88816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631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88816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4D0DA-D424-4861-BD99-B853BACEA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B1B46-6E5E-4801-982C-CFFFE149E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C7A9A-52E8-48ED-8EFC-B11893B9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53E96-D655-43A4-8684-54132BEA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E54FB-9615-4EC1-B7C3-1CB1A64A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43DE9-0CF2-4B4F-8202-F8F6515F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6C8E7-7A37-48CE-BD55-0B2DAA04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6E830-C55C-4A4C-89C9-3F56E5D4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4880" y="396432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CE58F-171A-4DDF-858F-3566682A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746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89678-7EA7-49C1-B5FB-F4451A3B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C3AE-99AF-4B31-8332-6BDF930B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46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746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26264-9C6D-477A-A956-AD447090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4880" y="396432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D3367-862F-411A-9AB1-D622F7C45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631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88816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631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88816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BEDAE-B978-4035-9AB5-97B03BE59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EE823-FF3E-434A-A675-EF8919CFB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E15F5-8B11-4D2C-80CE-827633F7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22848-1297-423C-8F56-7D2E1139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26B18-C786-4A62-BFCB-04799F76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7D744-50F9-400E-BEFA-27E0CC0F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EF41B-C1EF-4ECA-AD90-64187639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124E0-8ADD-48FF-9771-35FF1B2F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880" y="396432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728A-5F02-48F8-8957-68FCF795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4880" y="396432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F7793-7901-492A-9CF8-74436ED3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746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00A09-309A-420A-82DB-38CF8DB8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46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746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CBA11-6D02-4F60-A0A6-50C68DE6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4880" y="396432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3BDBD-DA68-4DBC-B5F5-F59AB61D0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31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816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31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816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6C8F5-C736-4C27-87B3-25DA39A1D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3AC6A-351F-468F-B453-7A0D6E70B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5CC3F-2A62-4A2D-8934-17C25BF6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A342E-291C-4A89-8F78-3B120993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B4B8B-5D6F-407C-B4B7-8C45EAF9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4935E-242C-459D-8957-5B24A598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746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17A7-A123-4BF6-B0CE-F41B26EA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D01B5-0D99-4484-8EBE-052DBDA5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945C2-A32D-4C55-B5E2-7986189C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4880" y="396432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82628-2582-4326-ACC3-DF1E48A5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746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6917A-07F2-44D9-B8C4-4F549371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46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746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76A5F-C541-4F96-A4EB-077AABF9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4880" y="396432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D2171-8F43-4039-B9F5-61309081C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631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88816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631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88816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573B8-A977-46CB-86FE-D02752C29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724E-9D8B-405F-8226-D40004689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2280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5200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C4E5-7AA8-4804-94E0-8C2403CC1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6AAA-C023-46ED-B6E3-6B9EB5B35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D112-D18E-4391-9B04-69084EBF2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332280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5200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A179-DD4A-47B3-8D4A-0B067D811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9951-EB7A-49C7-8A97-13D490BD9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5F3D-4256-4B1B-8CF8-6A7CBC72B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332280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5200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826B-CB21-4E89-9283-AF850DB73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The_Friends#cite_note-0" TargetMode="External"/><Relationship Id="rId2" Type="http://schemas.openxmlformats.org/officeDocument/2006/relationships/hyperlink" Target="http://ru.wikipedia.org/wiki/&#1051;&#1102;&#1076;&#1080;" TargetMode="External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e0dff"/>
                </a:solidFill>
                <a:latin typeface="Times New Roman"/>
                <a:ea typeface="Times New Roman"/>
              </a:rPr>
              <a:t>Классный час "Дружба"</a:t>
            </a:r>
            <a:br>
              <a:rPr sz="4400"/>
            </a:b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140360" y="4149720"/>
            <a:ext cx="4248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e0dff"/>
                </a:solidFill>
                <a:latin typeface="Times New Roman"/>
                <a:ea typeface="Times New Roman"/>
              </a:rPr>
              <a:t>Выполн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e0dff"/>
                </a:solidFill>
                <a:latin typeface="Times New Roman"/>
                <a:ea typeface="Times New Roman"/>
              </a:rPr>
              <a:t>Учитель начальных классов МАОУ СОШ№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e0dff"/>
                </a:solidFill>
                <a:latin typeface="Times New Roman"/>
                <a:ea typeface="Times New Roman"/>
              </a:rPr>
              <a:t>г.Балако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e0d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5e0dff"/>
                </a:solidFill>
                <a:latin typeface="Times New Roman"/>
                <a:ea typeface="Times New Roman"/>
              </a:rPr>
              <a:t>Влазненкова Татьяна Владими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5" descr="C:\Users\Denis\Downloads\world_hands.gif"/>
          <p:cNvPicPr/>
          <p:nvPr/>
        </p:nvPicPr>
        <p:blipFill>
          <a:blip r:embed="rId1"/>
          <a:stretch/>
        </p:blipFill>
        <p:spPr>
          <a:xfrm>
            <a:off x="971640" y="4724280"/>
            <a:ext cx="19335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Прямоугольник 1"/>
          <p:cNvSpPr/>
          <p:nvPr/>
        </p:nvSpPr>
        <p:spPr>
          <a:xfrm>
            <a:off x="1476360" y="404640"/>
            <a:ext cx="51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Bookman Old Style"/>
                <a:ea typeface="Aharoni"/>
              </a:rPr>
              <a:t>Что мне снег, что мне зн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Bookman Old Style"/>
                <a:ea typeface="Aharoni"/>
              </a:rPr>
              <a:t>Что мне дождик проливн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Bookman Old Style"/>
                <a:ea typeface="Aharoni"/>
              </a:rPr>
              <a:t>Когда мои друзья со мно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kogda_moi_druzja_so_mnoj.mp3" descr=""/>
          <p:cNvPicPr/>
          <p:nvPr/>
        </p:nvPicPr>
        <p:blipFill>
          <a:blip r:embed="rId1"/>
          <a:stretch/>
        </p:blipFill>
        <p:spPr>
          <a:xfrm>
            <a:off x="8101080" y="57326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33" name="Pesnya-o-druzhbe-Kogda-moi-druz_ya-so-mnoy(muzofon.com)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http://wallpapers2.hellowallpaper.com/cartoon_childhood-dream--02_12-1600x1200.jpg"/>
          <p:cNvPicPr/>
          <p:nvPr/>
        </p:nvPicPr>
        <p:blipFill>
          <a:blip r:embed="rId3"/>
          <a:stretch/>
        </p:blipFill>
        <p:spPr>
          <a:xfrm>
            <a:off x="2268360" y="2492280"/>
            <a:ext cx="453564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2896" fill="hold"/>
                                        <p:tgtEl>
                                          <p:spTgt spid="3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3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Прямоугольник 24"/>
          <p:cNvSpPr/>
          <p:nvPr/>
        </p:nvSpPr>
        <p:spPr>
          <a:xfrm>
            <a:off x="2195640" y="476280"/>
            <a:ext cx="6948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́жб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бескорыстные</a:t>
            </a:r>
            <a:r>
              <a:rPr b="0" lang="ru-RU" sz="2800" spc="-1" strike="noStrike" u="sng" baseline="30000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1"/>
              </a:rPr>
              <a:t>[1]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ичные взаимоотношения между </a:t>
            </a:r>
            <a:r>
              <a:rPr b="0" lang="ru-RU" sz="28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2"/>
              </a:rPr>
              <a:t>людь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снованные на любви, доверии, искренности, взаимных симпатиях, общих интересах и увлечениях. Обязательными признаками дружбы являются доверие и терпение. Людей, связанных между собой дружбой, называют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зья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25"/>
          <p:cNvSpPr/>
          <p:nvPr/>
        </p:nvSpPr>
        <p:spPr>
          <a:xfrm>
            <a:off x="2340000" y="4508640"/>
            <a:ext cx="655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жба / Словарь Ожегов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изкие отношения, основанные на взаимном доверии, привязанности, общности интересов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19" descr=""/>
          <p:cNvPicPr/>
          <p:nvPr/>
        </p:nvPicPr>
        <p:blipFill>
          <a:blip r:embed="rId3"/>
          <a:stretch/>
        </p:blipFill>
        <p:spPr>
          <a:xfrm>
            <a:off x="611280" y="639720"/>
            <a:ext cx="1630440" cy="16398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0" descr=""/>
          <p:cNvPicPr/>
          <p:nvPr/>
        </p:nvPicPr>
        <p:blipFill>
          <a:blip r:embed="rId4"/>
          <a:stretch/>
        </p:blipFill>
        <p:spPr>
          <a:xfrm>
            <a:off x="395280" y="3716280"/>
            <a:ext cx="192888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Прямоугольник 1"/>
          <p:cNvSpPr/>
          <p:nvPr/>
        </p:nvSpPr>
        <p:spPr>
          <a:xfrm>
            <a:off x="755640" y="1413000"/>
            <a:ext cx="6696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35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сори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35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уп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35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ояться просить прощения,                       если обидел дру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35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ь вежлив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35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ли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35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жаднич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35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ть дру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35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ь чест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35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ь вниматель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2"/>
          <p:cNvSpPr/>
          <p:nvPr/>
        </p:nvSpPr>
        <p:spPr>
          <a:xfrm>
            <a:off x="2758320" y="765000"/>
            <a:ext cx="43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АВИЛА  ДРУЖ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6" descr="http://blogmail.com.br/fotos/2010/04/Moranguinho-e-amiguinha..jpg"/>
          <p:cNvPicPr/>
          <p:nvPr/>
        </p:nvPicPr>
        <p:blipFill>
          <a:blip r:embed="rId1"/>
          <a:stretch/>
        </p:blipFill>
        <p:spPr>
          <a:xfrm>
            <a:off x="5651640" y="3213000"/>
            <a:ext cx="27795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Box 4"/>
          <p:cNvSpPr/>
          <p:nvPr/>
        </p:nvSpPr>
        <p:spPr>
          <a:xfrm>
            <a:off x="611280" y="765000"/>
            <a:ext cx="7545240" cy="48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marL="309600" indent="-3096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 за друга держаться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руг поддакивае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 ищ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любит лга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х друзей нажива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цы сильны крылья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 без дружб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дружбу заведёш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5"/>
          <p:cNvSpPr/>
          <p:nvPr/>
        </p:nvSpPr>
        <p:spPr>
          <a:xfrm>
            <a:off x="4248000" y="836640"/>
            <a:ext cx="41468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чего не бояться</a:t>
            </a: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6"/>
          <p:cNvSpPr/>
          <p:nvPr/>
        </p:nvSpPr>
        <p:spPr>
          <a:xfrm>
            <a:off x="3535200" y="1355760"/>
            <a:ext cx="33688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 друг спори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7"/>
          <p:cNvSpPr/>
          <p:nvPr/>
        </p:nvSpPr>
        <p:spPr>
          <a:xfrm>
            <a:off x="3635280" y="1873080"/>
            <a:ext cx="44658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йдёшь - берег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8"/>
          <p:cNvSpPr/>
          <p:nvPr/>
        </p:nvSpPr>
        <p:spPr>
          <a:xfrm>
            <a:off x="3419640" y="2421000"/>
            <a:ext cx="432108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о нельзя в друзья брат</a:t>
            </a: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ь</a:t>
            </a: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9"/>
          <p:cNvSpPr/>
          <p:nvPr/>
        </p:nvSpPr>
        <p:spPr>
          <a:xfrm>
            <a:off x="4500720" y="3068640"/>
            <a:ext cx="40320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10"/>
          <p:cNvSpPr/>
          <p:nvPr/>
        </p:nvSpPr>
        <p:spPr>
          <a:xfrm>
            <a:off x="3859200" y="2997360"/>
            <a:ext cx="46735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тарых не забыва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1"/>
          <p:cNvSpPr/>
          <p:nvPr/>
        </p:nvSpPr>
        <p:spPr>
          <a:xfrm>
            <a:off x="4211640" y="3573360"/>
            <a:ext cx="39322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люди дружб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12"/>
          <p:cNvSpPr/>
          <p:nvPr/>
        </p:nvSpPr>
        <p:spPr>
          <a:xfrm>
            <a:off x="3600360" y="4076640"/>
            <a:ext cx="47880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ерево без корн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13"/>
          <p:cNvSpPr/>
          <p:nvPr/>
        </p:nvSpPr>
        <p:spPr>
          <a:xfrm>
            <a:off x="3924360" y="4724280"/>
            <a:ext cx="460836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ую и жизнь проживёш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14"/>
          <p:cNvSpPr/>
          <p:nvPr/>
        </p:nvSpPr>
        <p:spPr>
          <a:xfrm>
            <a:off x="4572000" y="5157720"/>
            <a:ext cx="42480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Рисунок 3" descr="motivator-11332.jpg"/>
          <p:cNvPicPr/>
          <p:nvPr/>
        </p:nvPicPr>
        <p:blipFill>
          <a:blip r:embed="rId1"/>
          <a:srcRect l="4061" t="4106" r="4061" b="20136"/>
          <a:stretch/>
        </p:blipFill>
        <p:spPr>
          <a:xfrm>
            <a:off x="6516720" y="5084640"/>
            <a:ext cx="230328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http://pbs.twimg.com/tweet_video_thumb/CJZTToXWIAAc8Hu.png"/>
          <p:cNvPicPr/>
          <p:nvPr/>
        </p:nvPicPr>
        <p:blipFill>
          <a:blip r:embed="rId1"/>
          <a:srcRect l="1745" t="0" r="0" b="8002"/>
          <a:stretch/>
        </p:blipFill>
        <p:spPr>
          <a:xfrm>
            <a:off x="539640" y="0"/>
            <a:ext cx="8136000" cy="6858000"/>
          </a:xfrm>
          <a:prstGeom prst="rect">
            <a:avLst/>
          </a:prstGeom>
          <a:ln w="0">
            <a:noFill/>
          </a:ln>
        </p:spPr>
      </p:pic>
      <p:pic>
        <p:nvPicPr>
          <p:cNvPr id="355" name="если друг не смеётся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239130" fill="hold"/>
                                        <p:tgtEl>
                                          <p:spTgt spid="3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1"/>
          <p:cNvSpPr/>
          <p:nvPr/>
        </p:nvSpPr>
        <p:spPr>
          <a:xfrm>
            <a:off x="684360" y="1341360"/>
            <a:ext cx="7775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за всех и все за од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 хорошим другом веселей при удаче, легче в бе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Не ссорься и не спорь с другом по пустяк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е ябедничай, лучше сам попра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Не зазнавайся, если у тебя что-то очень хорошо получило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В разговоре, в игре не будь грубым, не кри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"/>
          <p:cNvSpPr/>
          <p:nvPr/>
        </p:nvSpPr>
        <p:spPr>
          <a:xfrm>
            <a:off x="250920" y="54936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КОНЫ  ДРУЖНОГО  КОЛЛЕКТ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6T11:28:19Z</dcterms:created>
  <dc:creator>Admin</dc:creator>
  <dc:description/>
  <dc:language>en-US</dc:language>
  <cp:lastModifiedBy>Denis</cp:lastModifiedBy>
  <dcterms:modified xsi:type="dcterms:W3CDTF">2016-02-04T18:41:47Z</dcterms:modified>
  <cp:revision>28</cp:revision>
  <dc:subject/>
  <dc:title>Слайд 1</dc:title>
</cp:coreProperties>
</file>