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EEB0-3C53-4EF9-B564-198ED22A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25CA-926D-47F7-8D52-ADE26E3F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9374-BCBB-4933-8FA1-2DABC679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7A38-E2D2-4CD0-A7A3-16F0D18D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0EEE-EC57-4562-9A02-DF75FA30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A7C6-FAD1-43B4-8851-0C830114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0935-9AFE-430B-BF18-AB746ED8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E67A-804E-4E3D-B882-69396D76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27B0-94CF-44E6-A70F-1F2B001A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FCDE-591B-4B86-864C-BFAA6BD6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5AB1-E773-4779-9210-9F6D3714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6CD0-93DD-4663-90BA-1E6C1BE4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F69A-3D63-4A1E-8E9F-54053D61AE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71480"/>
            <a:ext cx="7772400" cy="10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 Black"/>
              </a:rPr>
              <a:t>Умный ёжик</a:t>
            </a:r>
            <a:br>
              <a:rPr sz="72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составление рассказа по сюжетным картинкам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Похожее изображение"/>
          <p:cNvPicPr/>
          <p:nvPr/>
        </p:nvPicPr>
        <p:blipFill>
          <a:blip r:embed="rId2"/>
          <a:stretch/>
        </p:blipFill>
        <p:spPr>
          <a:xfrm>
            <a:off x="768240" y="476280"/>
            <a:ext cx="7398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Users\Lend\Desktop\1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1"/>
          <a:srcRect l="0" t="0" r="50997" b="49677"/>
          <a:stretch/>
        </p:blipFill>
        <p:spPr>
          <a:xfrm>
            <a:off x="1692360" y="243000"/>
            <a:ext cx="4751280" cy="63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1"/>
          <a:srcRect l="50506" t="0" r="0" b="49677"/>
          <a:stretch/>
        </p:blipFill>
        <p:spPr>
          <a:xfrm>
            <a:off x="1835280" y="65160"/>
            <a:ext cx="496872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1"/>
          <a:srcRect l="0" t="50331" r="49504" b="0"/>
          <a:stretch/>
        </p:blipFill>
        <p:spPr>
          <a:xfrm>
            <a:off x="1619280" y="189000"/>
            <a:ext cx="5113440" cy="65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1"/>
          <a:srcRect l="50506" t="50331" r="0" b="0"/>
          <a:stretch/>
        </p:blipFill>
        <p:spPr>
          <a:xfrm>
            <a:off x="1908000" y="189000"/>
            <a:ext cx="4896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2"/>
          <p:cNvSpPr/>
          <p:nvPr/>
        </p:nvSpPr>
        <p:spPr>
          <a:xfrm>
            <a:off x="179280" y="189000"/>
            <a:ext cx="849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Arial Black"/>
              </a:rPr>
              <a:t>Восстанови последовательность событ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8141040" y="2602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8212320" y="11970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7204320" y="22050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8141040" y="22050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1"/>
          <a:srcRect l="50506" t="50331" r="0" b="0"/>
          <a:stretch/>
        </p:blipFill>
        <p:spPr>
          <a:xfrm>
            <a:off x="250920" y="3573360"/>
            <a:ext cx="2300040" cy="299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2"/>
          <a:srcRect l="0" t="50331" r="49504" b="0"/>
          <a:stretch/>
        </p:blipFill>
        <p:spPr>
          <a:xfrm>
            <a:off x="4500720" y="3645000"/>
            <a:ext cx="2303280" cy="29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3"/>
          <a:srcRect l="50506" t="0" r="0" b="49677"/>
          <a:stretch/>
        </p:blipFill>
        <p:spPr>
          <a:xfrm>
            <a:off x="2411280" y="2421000"/>
            <a:ext cx="2232000" cy="2946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4"/>
          <a:srcRect l="0" t="0" r="50997" b="49677"/>
          <a:stretch/>
        </p:blipFill>
        <p:spPr>
          <a:xfrm>
            <a:off x="6659640" y="3213000"/>
            <a:ext cx="21225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96296E-006 L -0.05382 0.31435 E">
                                      <p:cBhvr>
                                        <p:cTn id="12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44444E-006 L -0.51181 0.59861 E">
                                      <p:cBhvr>
                                        <p:cTn id="1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84 -0.01111 L -0.19549 0.0625 E">
                                      <p:cBhvr>
                                        <p:cTn id="20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-0.74809 0.05255 E">
                                      <p:cBhvr>
                                        <p:cTn id="2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1"/>
          <a:srcRect l="50506" t="0" r="0" b="49677"/>
          <a:stretch/>
        </p:blipFill>
        <p:spPr>
          <a:xfrm>
            <a:off x="2195640" y="3198960"/>
            <a:ext cx="2771640" cy="3659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2"/>
          <a:srcRect l="0" t="0" r="50997" b="49677"/>
          <a:stretch/>
        </p:blipFill>
        <p:spPr>
          <a:xfrm>
            <a:off x="0" y="0"/>
            <a:ext cx="2736720" cy="3648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3"/>
          <a:srcRect l="0" t="50331" r="49504" b="0"/>
          <a:stretch/>
        </p:blipFill>
        <p:spPr>
          <a:xfrm>
            <a:off x="4716360" y="0"/>
            <a:ext cx="2808360" cy="358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4"/>
          <a:srcRect l="50506" t="50331" r="0" b="0"/>
          <a:stretch/>
        </p:blipFill>
        <p:spPr>
          <a:xfrm>
            <a:off x="6346800" y="3213000"/>
            <a:ext cx="27972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7:45:11Z</dcterms:created>
  <dc:creator>user</dc:creator>
  <dc:description/>
  <dc:language>en-US</dc:language>
  <cp:lastModifiedBy>Lend</cp:lastModifiedBy>
  <dcterms:modified xsi:type="dcterms:W3CDTF">2017-05-21T19:52:53Z</dcterms:modified>
  <cp:revision>18</cp:revision>
  <dc:subject/>
  <dc:title>Составление рассказов по сюжетным картинкам</dc:title>
</cp:coreProperties>
</file>