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851-87AC-41C5-BF45-F2AE94A6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E3E-9349-48D3-B5F4-92F63D5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2A500-11B0-42E9-8D4C-0A9BF57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2B6F5-46AE-48D2-A6FC-769AA94B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A8EB-4CF5-4359-A467-900F0966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17D19-B0FD-4E61-A1F6-EAD82B4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E236F-DB2E-442F-A4CF-C4F9AB4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32D5A-22D6-4061-810D-402B5B41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15A0A-5D79-44A9-84EB-B135DB86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44586-FF6A-4B68-A498-6BB0AD55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B8217-EA27-4B5A-8DF2-A7381F8E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A8CB-508E-4BDF-B571-1097B47A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423-9C5A-40D4-9BB3-F2F460C1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C08F0-A4F6-46DF-B386-DE368CE6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B01F-F296-4560-86B5-471AFA5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DEB43-4449-44A2-80E4-A9EB582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6C8E4-97B6-4FF7-A83F-5513E98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9D2FB-E487-4F75-9201-17EA45D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4E60A-6043-4584-93EE-817A1B8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D1106-F04C-4F08-A965-5FB6930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BCC24-B40D-4A5B-B05E-6EC2284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4D656-5D98-4249-ACF0-FE50600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EE12C-9655-45AA-B6FC-4FD7AD90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F6F-CDEC-449F-930C-FDF36EF2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5757-810D-4455-AC44-F9FA8FDE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53F9-7A21-45EC-A2D1-4CC9531A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B02B-5147-4346-81BB-187809B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F96-58B2-4486-A397-6FFE4E66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085-3A25-4AE5-8371-6A8E3AD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ECB-CDF5-4B41-9CF7-83E9F16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17C1-BAC5-4BD2-8BC6-37F913A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40ED-7F6C-478F-8398-C3EBD04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1A5-54B4-44E7-BADE-56DA3D03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71EF-040A-4C94-8ACD-6B31835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4376-8692-40C1-A3DD-48015DD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D27-9368-4DA0-A91B-0C74595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C1C-02D3-4E89-BD08-D480CFB9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B63F-4105-4695-B790-BFF58408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1AF6-90EF-49C4-8CBE-86E3107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96F1-FBB8-41CE-93BF-574CBA2B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B350-462D-4261-B6C2-1C70916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2BBB-0796-4E6C-8F70-C46EE297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2412-C70D-4836-AA1C-4A52ECC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68F-4787-4FF2-8724-1BCDC84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3A93-1567-4734-B0B9-3F85082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F10F-1EA3-4C8E-9810-8012BB8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5F44-1952-4FB5-AFC4-40BEBC3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EC53-64E7-4509-8782-1E141D9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8876-4373-48EF-AD1F-37A82A5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8484-72D2-4976-8440-B0B03F42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57C3-033F-4205-93E6-AF66ECA7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4CBA-F878-4AF6-9119-2C7331B1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88C6-F3F1-45FB-BA58-79DD439C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C1E3-BC5B-4E68-87A5-2FFEF66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1D9-5DFD-458A-977B-78F080F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AD46C-58B3-4CAD-A4E9-6B7ACEB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0C25-0818-4705-9809-6A479E7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4684-EFC5-4C28-A557-3B46A9A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5731-3BBD-4347-9D78-11AA35B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70C0-9F2B-4CAB-A56E-31E82BA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0E51-DD7D-4208-8E07-71D8DC8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AC67-A11A-42C4-9B9E-FFBDD72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5084-0156-403F-92FB-ACF38D69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B29C-2832-413C-864B-4C4A183D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BFBD-B13E-423B-95D2-B2535844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7DC-0D21-4F4A-9644-1DDB139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20B0-C924-4357-B5F9-AB4D862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BE3BC-D6E1-402D-9994-21409B22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FB9F-550D-44F4-A52B-D08FCCD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A6EF-86FA-4F93-AC67-5E690D8F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3727-8CBF-4338-8F80-6ED13CF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0308C-1099-4B23-80AD-7D7BD7B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C6DF-172A-4651-AF77-EEDE7B2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D3EF-28E7-41BF-A3B9-B8A6346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1B12-CD6D-4F23-943D-57C36DC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55A6-53EE-40FA-98DB-A779F61B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4F1-471B-4625-B3B3-9CBA995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528B-1223-4FB0-A0D3-4CBBD2FD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F6BF-D22C-422A-BD26-F5213A3F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A911-65CC-4B90-BDAE-9022BAEC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3B75-EFAC-4087-AD27-45AB4F9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5028F-C7A5-40DB-BFB2-711EBAD3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A278-C7DE-465E-9CAC-F74F06D5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6F616-EACE-47A0-AF6A-FD57DF9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2EEA-6AC8-48BC-95D5-97BE967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292E-4756-412D-8466-A4DA7EB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4D31-2C50-4FDE-B4C7-28C43A0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F6C-2C20-4AA4-A822-28C1F08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3B42-89E4-465D-BE75-D041C9B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D56A-D452-4C37-8E6F-95232E44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15ED-8AA2-4EC3-A691-3B081C2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9B779-CFD6-4F18-8302-2C9B7FD4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1D78-4969-4960-BC96-6308833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040C-E63D-463C-8D49-EA7D02C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FDF7-82E1-4F23-A61C-AB066C10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D940-8988-40C9-907B-87139149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2A28-0A9D-427B-8561-A1B52D28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2778-DD64-425D-96C9-7036A20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89B-5AFD-4D1C-85F9-E5A71BF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4BE1-A803-41E2-81FF-4A6EAC6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4BF17-6926-41E3-BDEF-EA94D3D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A8781-7B2D-412E-82A1-54B3F835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05A3-CAB6-46E4-875A-70B6B981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1C305-20D4-4C45-B217-2F4DB3C3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9978-C771-4EF2-86FD-192C5AAD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FEAE-04A3-4DAF-967A-F186EBE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1377-EA4A-4BFC-8CF8-2F4B9EE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A0681-2930-48DA-9EAF-D8653861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D0A54-0229-468C-AD26-2CB65A5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684-D83A-43B6-854C-99F59E1F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8C7A-A9C5-4610-8C8C-246223D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39B4-C758-4D2B-9DFA-0AEA1C2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637F-343C-4BA9-8B5B-DFDA190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F35DD-2675-4831-B975-BF8FC34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146F-22C3-4EDD-A0D6-A39AA04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EFCD-1F72-46AB-AD27-F78C2FD2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4216-1B8D-46AE-96D3-DA414D56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EE95E-BBE3-4648-BD1F-E6FCF415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038E3-4D16-48AD-90CE-CC96B87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16D32-5D63-40D5-89A3-BAB1E809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71AC-7FBF-4E7C-92F8-B200B44E3C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B41-262C-4B01-A4A4-F271B9DD1F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E97-35FF-4FD0-8C42-F3AD1F1055C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7B26-8795-476D-9D8B-A5C88DBF1E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EE4-0275-47AB-8AA5-66D4385A576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67F-F3A3-42A3-B560-43B2BEAA97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BD8-1BA0-4D4F-A64A-825FF2B655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DC87-98B7-439E-961F-CBBFCA77EF11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082-8A92-4F13-9B69-79C0CBC611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B5E-6EC4-47F4-8847-C1322F8A75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C6FD-CE39-4BEF-9857-5C891D6046C1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00A-255B-49CB-BACC-75760EAAE5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6CC4-EFF1-4F98-B234-16D892A8EB3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B952-7FC6-48F4-AC81-6EB01BB30C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D925-1CD7-47F7-B999-CEF933593DF0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929-DF34-4E4D-B62E-BC98981A5B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Написание слов и предложений </a:t>
            </a:r>
            <a:br>
              <a:rPr sz="6000"/>
            </a:b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с изученными буквами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500200" y="1571760"/>
            <a:ext cx="414360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06" name="TextBox 2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507" name="TextBox 2" descr=""/>
            <p:cNvPicPr/>
            <p:nvPr/>
          </p:nvPicPr>
          <p:blipFill>
            <a:blip r:embed="rId2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4"/>
          <p:cNvSpPr/>
          <p:nvPr/>
        </p:nvSpPr>
        <p:spPr>
          <a:xfrm>
            <a:off x="6158880" y="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5"/>
          <p:cNvSpPr/>
          <p:nvPr/>
        </p:nvSpPr>
        <p:spPr>
          <a:xfrm>
            <a:off x="278640" y="56768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6"/>
          <p:cNvSpPr/>
          <p:nvPr/>
        </p:nvSpPr>
        <p:spPr>
          <a:xfrm>
            <a:off x="1075680" y="56721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2" descr="C:\Users\людмила\Desktop\2017-01-16\007.jpg"/>
          <p:cNvPicPr/>
          <p:nvPr/>
        </p:nvPicPr>
        <p:blipFill>
          <a:blip r:embed="rId1"/>
          <a:stretch/>
        </p:blipFill>
        <p:spPr>
          <a:xfrm>
            <a:off x="1073160" y="2254320"/>
            <a:ext cx="80708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TextBox 1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520" name="TextBox 1" descr=""/>
            <p:cNvPicPr/>
            <p:nvPr/>
          </p:nvPicPr>
          <p:blipFill>
            <a:blip r:embed="rId1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2357280" y="1500120"/>
            <a:ext cx="4357800" cy="33069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8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C:\Users\людмила\Desktop\2017-01-16\008.jpg"/>
          <p:cNvPicPr/>
          <p:nvPr/>
        </p:nvPicPr>
        <p:blipFill>
          <a:blip r:embed="rId1"/>
          <a:stretch/>
        </p:blipFill>
        <p:spPr>
          <a:xfrm>
            <a:off x="1116000" y="2254320"/>
            <a:ext cx="7704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1"/>
          <a:stretch/>
        </p:blipFill>
        <p:spPr>
          <a:xfrm>
            <a:off x="2176560" y="4357800"/>
            <a:ext cx="1252440" cy="2209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2"/>
          <a:stretch/>
        </p:blipFill>
        <p:spPr>
          <a:xfrm>
            <a:off x="4572000" y="3000240"/>
            <a:ext cx="1252440" cy="2210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3"/>
          <a:stretch/>
        </p:blipFill>
        <p:spPr>
          <a:xfrm>
            <a:off x="857160" y="1357200"/>
            <a:ext cx="1252800" cy="221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4"/>
          <a:stretch/>
        </p:blipFill>
        <p:spPr>
          <a:xfrm>
            <a:off x="6786720" y="571680"/>
            <a:ext cx="1252440" cy="2209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5"/>
          <a:stretch/>
        </p:blipFill>
        <p:spPr>
          <a:xfrm>
            <a:off x="6715080" y="4286160"/>
            <a:ext cx="1252440" cy="2210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" descr="C:\Documents and Settings\Admin\Рабочий стол\работа музей\48\чтение откр урок\письмо\banana_paint_01.jpg"/>
          <p:cNvPicPr/>
          <p:nvPr/>
        </p:nvPicPr>
        <p:blipFill>
          <a:blip r:embed="rId6"/>
          <a:stretch/>
        </p:blipFill>
        <p:spPr>
          <a:xfrm>
            <a:off x="2857680" y="500040"/>
            <a:ext cx="1252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C:\Documents and Settings\Admin\Рабочий стол\работа музей\48\чтение откр урок\письмо\686447182.png"/>
          <p:cNvPicPr/>
          <p:nvPr/>
        </p:nvPicPr>
        <p:blipFill>
          <a:blip r:embed="rId1"/>
          <a:stretch/>
        </p:blipFill>
        <p:spPr>
          <a:xfrm>
            <a:off x="3786120" y="357120"/>
            <a:ext cx="5207040" cy="63486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"/>
          <p:cNvSpPr/>
          <p:nvPr/>
        </p:nvSpPr>
        <p:spPr>
          <a:xfrm>
            <a:off x="214200" y="86652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Цели урока: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различать звуки и буквы: буква как знак звука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овладевать начертаниями письменных букв, слов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находить слово в группе слов по его лексическому значению;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rbel"/>
              </a:rPr>
              <a:t>формируем умение различать гласные и согласные звуки, гласные ударные и безударные, согласные твёрдые и мягкие, звонкие и глухие.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Documents and Settings\Admin\Рабочий стол\работа музей\48\чтение откр урок\письмо\c1c4827283d8c69df12691744a7c8600.png"/>
          <p:cNvPicPr/>
          <p:nvPr/>
        </p:nvPicPr>
        <p:blipFill>
          <a:blip r:embed="rId1"/>
          <a:stretch/>
        </p:blipFill>
        <p:spPr>
          <a:xfrm>
            <a:off x="0" y="128268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7" name="WordArt 3"/>
          <p:cNvSpPr txBox="1"/>
          <p:nvPr/>
        </p:nvSpPr>
        <p:spPr>
          <a:xfrm>
            <a:off x="2143080" y="571680"/>
            <a:ext cx="4362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оверили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68" name="Picture 4" descr="C:\Documents and Settings\Admin\Рабочий стол\работа музей\48\чтение откр урок\письмо\48590224.jpg"/>
          <p:cNvPicPr/>
          <p:nvPr/>
        </p:nvPicPr>
        <p:blipFill>
          <a:blip r:embed="rId2"/>
          <a:stretch/>
        </p:blipFill>
        <p:spPr>
          <a:xfrm>
            <a:off x="4751280" y="1700280"/>
            <a:ext cx="424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Documents and Settings\Admin\Рабочий стол\работа музей\48\чтение откр урок\письмо\686447182.png"/>
          <p:cNvPicPr/>
          <p:nvPr/>
        </p:nvPicPr>
        <p:blipFill>
          <a:blip r:embed="rId1"/>
          <a:stretch/>
        </p:blipFill>
        <p:spPr>
          <a:xfrm>
            <a:off x="3492360" y="0"/>
            <a:ext cx="5500800" cy="6705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0" y="720720"/>
            <a:ext cx="606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-скок, прыг-ск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ла Мартышка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ортфеля и без книж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ужны они Марты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 знать как есть бан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ираться на лиа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чить рожицы соседя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ам и Медве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об этом для Март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пишут в толстой кни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, поэтому,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должна узнать с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-скок, прыг-ско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ром не пройдёт ур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гласный.png"/>
          <p:cNvPicPr/>
          <p:nvPr/>
        </p:nvPicPr>
        <p:blipFill>
          <a:blip r:embed="rId1"/>
          <a:stretch/>
        </p:blipFill>
        <p:spPr>
          <a:xfrm>
            <a:off x="500040" y="192888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2" descr="гласный.png"/>
          <p:cNvPicPr/>
          <p:nvPr/>
        </p:nvPicPr>
        <p:blipFill>
          <a:blip r:embed="rId2"/>
          <a:stretch/>
        </p:blipFill>
        <p:spPr>
          <a:xfrm>
            <a:off x="4572000" y="4143240"/>
            <a:ext cx="2143080" cy="25718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3" descr="гласный.png"/>
          <p:cNvPicPr/>
          <p:nvPr/>
        </p:nvPicPr>
        <p:blipFill>
          <a:blip r:embed="rId3"/>
          <a:stretch/>
        </p:blipFill>
        <p:spPr>
          <a:xfrm>
            <a:off x="6215040" y="1643040"/>
            <a:ext cx="2357640" cy="28576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гласный.png"/>
          <p:cNvPicPr/>
          <p:nvPr/>
        </p:nvPicPr>
        <p:blipFill>
          <a:blip r:embed="rId4"/>
          <a:stretch/>
        </p:blipFill>
        <p:spPr>
          <a:xfrm>
            <a:off x="1928880" y="4071960"/>
            <a:ext cx="2143080" cy="264312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6" descr="зв мяг.png"/>
          <p:cNvPicPr/>
          <p:nvPr/>
        </p:nvPicPr>
        <p:blipFill>
          <a:blip r:embed="rId5"/>
          <a:stretch/>
        </p:blipFill>
        <p:spPr>
          <a:xfrm>
            <a:off x="3357720" y="1500120"/>
            <a:ext cx="2357280" cy="27399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"/>
          <p:cNvSpPr/>
          <p:nvPr/>
        </p:nvSpPr>
        <p:spPr>
          <a:xfrm>
            <a:off x="2571840" y="-147600"/>
            <a:ext cx="621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  <a:ea typeface="Calibri"/>
              </a:rPr>
              <a:t>Найди лишний звук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9"/>
          <p:cNvSpPr/>
          <p:nvPr/>
        </p:nvSpPr>
        <p:spPr>
          <a:xfrm>
            <a:off x="5286240" y="4357800"/>
            <a:ext cx="3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0"/>
          <p:cNvSpPr/>
          <p:nvPr/>
        </p:nvSpPr>
        <p:spPr>
          <a:xfrm>
            <a:off x="6964920" y="2000160"/>
            <a:ext cx="7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1"/>
          <p:cNvSpPr/>
          <p:nvPr/>
        </p:nvSpPr>
        <p:spPr>
          <a:xfrm>
            <a:off x="1182240" y="221472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2"/>
          <p:cNvSpPr/>
          <p:nvPr/>
        </p:nvSpPr>
        <p:spPr>
          <a:xfrm>
            <a:off x="2586960" y="4500720"/>
            <a:ext cx="87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3"/>
          <p:cNvSpPr/>
          <p:nvPr/>
        </p:nvSpPr>
        <p:spPr>
          <a:xfrm>
            <a:off x="4241520" y="250020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TextBox 1"/>
          <p:cNvGrpSpPr/>
          <p:nvPr/>
        </p:nvGrpSpPr>
        <p:grpSpPr>
          <a:xfrm>
            <a:off x="390600" y="23760"/>
            <a:ext cx="8650080" cy="1884240"/>
            <a:chOff x="390600" y="23760"/>
            <a:chExt cx="8650080" cy="1884240"/>
          </a:xfrm>
        </p:grpSpPr>
        <p:pic>
          <p:nvPicPr>
            <p:cNvPr id="483" name="TextBox 1" descr=""/>
            <p:cNvPicPr/>
            <p:nvPr/>
          </p:nvPicPr>
          <p:blipFill>
            <a:blip r:embed="rId1"/>
            <a:stretch/>
          </p:blipFill>
          <p:spPr>
            <a:xfrm>
              <a:off x="390600" y="23760"/>
              <a:ext cx="865008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63680" y="187200"/>
              <a:ext cx="8501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Какой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</a:t>
              </a: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звук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</a:t>
              </a:r>
              <a:r>
                <a:rPr b="1" lang="ru-RU" sz="4400" spc="-1" strike="noStrike">
                  <a:solidFill>
                    <a:srgbClr val="3891a7"/>
                  </a:solidFill>
                  <a:latin typeface="Corbel"/>
                </a:rPr>
                <a:t>произносит</a:t>
              </a:r>
              <a:r>
                <a:rPr b="1" lang="ru-RU" sz="4000" spc="-1" strike="noStrike">
                  <a:solidFill>
                    <a:srgbClr val="3891a7"/>
                  </a:solidFill>
                  <a:latin typeface="Corbel"/>
                </a:rPr>
                <a:t> мартышк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2500200" y="1571760"/>
            <a:ext cx="4143600" cy="3286080"/>
          </a:xfrm>
          <a:prstGeom prst="rect">
            <a:avLst/>
          </a:prstGeom>
          <a:ln w="0">
            <a:noFill/>
          </a:ln>
        </p:spPr>
      </p:pic>
      <p:sp>
        <p:nvSpPr>
          <p:cNvPr id="486" name="TextBox 3"/>
          <p:cNvSpPr/>
          <p:nvPr/>
        </p:nvSpPr>
        <p:spPr>
          <a:xfrm>
            <a:off x="357120" y="30002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2714760" y="478620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4714920" y="52862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6"/>
          <p:cNvSpPr/>
          <p:nvPr/>
        </p:nvSpPr>
        <p:spPr>
          <a:xfrm>
            <a:off x="6432120" y="50004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9" descr="C:\Users\людмила\Desktop\2017-01-16\005.jpg"/>
          <p:cNvPicPr/>
          <p:nvPr/>
        </p:nvPicPr>
        <p:blipFill>
          <a:blip r:embed="rId1"/>
          <a:stretch/>
        </p:blipFill>
        <p:spPr>
          <a:xfrm>
            <a:off x="1547640" y="1008000"/>
            <a:ext cx="741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TextBox 1"/>
          <p:cNvGrpSpPr/>
          <p:nvPr/>
        </p:nvGrpSpPr>
        <p:grpSpPr>
          <a:xfrm>
            <a:off x="212760" y="457200"/>
            <a:ext cx="8645400" cy="981000"/>
            <a:chOff x="212760" y="457200"/>
            <a:chExt cx="8645400" cy="981000"/>
          </a:xfrm>
        </p:grpSpPr>
        <p:pic>
          <p:nvPicPr>
            <p:cNvPr id="495" name="TextBox 1" descr=""/>
            <p:cNvPicPr/>
            <p:nvPr/>
          </p:nvPicPr>
          <p:blipFill>
            <a:blip r:embed="rId1"/>
            <a:stretch/>
          </p:blipFill>
          <p:spPr>
            <a:xfrm>
              <a:off x="212760" y="457200"/>
              <a:ext cx="86454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85840" y="57168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891a7"/>
                  </a:solidFill>
                  <a:latin typeface="Corbel"/>
                </a:rPr>
                <a:t>Какой звук произносит мартышк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Box 2"/>
          <p:cNvSpPr/>
          <p:nvPr/>
        </p:nvSpPr>
        <p:spPr>
          <a:xfrm>
            <a:off x="357120" y="3000240"/>
            <a:ext cx="20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2643120" y="1357200"/>
            <a:ext cx="4000680" cy="33130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100008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2714760" y="52149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5286240" y="52149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7072200" y="44290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6786720" y="30718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9" descr="C:\Users\людмила\Desktop\2017-01-16\006.jpg"/>
          <p:cNvPicPr/>
          <p:nvPr/>
        </p:nvPicPr>
        <p:blipFill>
          <a:blip r:embed="rId1"/>
          <a:stretch/>
        </p:blipFill>
        <p:spPr>
          <a:xfrm>
            <a:off x="971640" y="2481120"/>
            <a:ext cx="7993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34:06Z</dcterms:created>
  <dc:creator>Пашкова Л.Л.</dc:creator>
  <dc:description/>
  <dc:language>en-US</dc:language>
  <cp:lastModifiedBy>Пашкова</cp:lastModifiedBy>
  <dcterms:modified xsi:type="dcterms:W3CDTF">2017-01-16T14:31:58Z</dcterms:modified>
  <cp:revision>41</cp:revision>
  <dc:subject/>
  <dc:title>Слайд 1</dc:title>
</cp:coreProperties>
</file>