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EE1-1C15-4306-9B2F-8C8E92F8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709-F40C-4A50-A103-B0C9D2EF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68BFB-162F-43B3-A3CB-9E393085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2A965-E916-4259-84DD-07C06C93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35A35-826A-4E8C-9B88-9CE74B7E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F0D14-2CA6-4D2B-BD8E-246602D8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F661C-409D-416C-A06F-C18744B6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E6031-D00F-449F-A43F-18F0DED7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03025-AA3D-45EE-974A-EF1806A6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14421-EE75-4758-9891-0AE20AF2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9D33C-8AB3-4F12-B336-A2C62DF0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3545F-3363-4713-9E2C-E608915D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9BC-A310-4FAD-B700-C659FE32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B38FE-9634-4692-B0B1-62E33FC8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26B28-F9BF-4685-AE0B-8EB87887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E0711-7DB0-4FB7-9EB2-A7C32A40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76E82-F20A-4CF6-9435-1794635C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36117-2FDC-4CDE-A427-09CDA611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CD78A-34C3-417C-9082-2CC5AC91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201F0-CE10-48AB-930A-C9A3CF1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4D444-6D7F-46CC-9266-0544504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CBAC6-2FB9-4AEF-B29F-2551C2F1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08256-1BB1-45FC-81F9-96012C99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838-BEE5-468A-B5DE-3D53A3BA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D3F3C-923A-4F27-A9FE-56181DA7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0FF4-37DC-4D28-82A5-22645BA9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8E29-559A-4BE8-BBF3-09DDEEF7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3D5F-9638-4AFE-A0B6-EF74E543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15D1-D8CF-425A-9997-747A0588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9A4C-FA88-4BDE-B17C-4D43DCC0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C7A6-988D-4FDF-A15A-14D4E0A1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F646-C939-4D26-B7E7-FDB1B161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603-D1D4-4283-A61E-4BF5AA68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FB9D-6C56-418A-A4E3-AAC8ACC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C028-6991-4B31-9D6D-1E704086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1129-DA0C-4083-AEF6-B769CB37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60F2-8DFD-4E7D-A69D-807295C3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61C2-2098-4F44-B54D-C2EA4343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0D43-8590-4A6A-B9B5-0BD1B655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0EEB-4474-4CC3-AE2E-588F2410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7E79-8E0B-4557-A296-9A18BFC6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3F0C-BD8A-4EBD-8620-5A3B3868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773A-5DA5-4D72-8A93-F856E23B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4B2-F8D6-4708-A852-0B8D964C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F6D8-10B6-44C9-B996-CC9EA5F6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4179-A355-4879-954D-D40BA1E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8801-16FC-427F-BC0B-6AA6E7E5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D1F3B-628E-419E-AD35-3B4EF744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ED07-1EB1-4523-9A69-F514DBB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5FFC-0DB5-4276-9B4F-ABD1D4FD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7E30-0557-4894-9445-87F533F5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A3BF1-C87D-4A8C-91D3-E9D2E3E6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7745-CDA3-4FFA-973E-03E8BAE0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073D-5BDC-4E4A-B086-9561292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2CC-1B3D-4B55-B0B6-91AD2DC5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45360-7FF1-4C6A-9F56-AE6528E5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56F7-233D-4682-B5DB-CCD9EDC8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C7A1-7970-46FE-9767-4EF0BD51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AB90-1B6C-4315-A3E6-445048E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E20A-8C1E-4446-B969-CA0F7A93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C1C8-FDC0-4CDC-8068-6863B04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27BB7-0E7F-4FFB-8010-CA4F9AFA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41FE-2E37-462C-947B-2C5CF8F7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CB7D-0929-4084-9C4E-D43FB33B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6C2BE-BBB3-4077-9C94-659A1D75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285-F166-4F21-AACC-5FDE0452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24B8-8C09-4A11-8349-E9340220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9970-4884-404B-8354-55401CE3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86E5-3BCD-469D-B8D6-D99E329E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32792-CF58-41BD-900A-3AEF03CD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9B13-43C2-4B2E-9873-5F004A11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44413-983C-4953-83D2-5A270BE6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A2059-5BEB-471E-9AA0-1017340B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86BC-265C-4FB4-ABD1-9A333DFE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37774-30C4-4245-8B80-37E46EE0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BE9A5-2D70-4B11-9F9D-D149BC9F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B5A-BC35-4E6D-95FC-ED5C6EE5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082BD-4841-4294-8771-76FE4BF9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26AEC-197D-4A93-9294-EAB36C29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7E58A-20C2-4974-9F3C-682DBDBA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A264-3389-4CE6-BBBF-8F3C4FFE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E796E-FEC2-4F16-A448-210D38F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E2F4-14DD-412F-9C3E-0011F574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D23F5-BFA6-4774-8984-6B4D36E0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0B61-C67A-4CB7-9EF5-907FA23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9D52-9704-4B18-9267-22AA4335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A66CF-E2AA-4B8F-8822-C2EF5932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F3E-DB94-4D53-9AB7-E44EA73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A208D-8D11-47F6-BFD0-0DA4CB57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47070-359D-43B4-9F2D-505B7803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8AA17-FD05-435C-9D00-94CF9F91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4B95-39D9-401F-8263-D097A062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B3713-754D-4D1F-A2B7-8F7C241B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FC6EC-D2B6-428B-8F4C-AC4391B7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A932A-3AAB-47BB-AFEF-54F46D1F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A096F-49AF-4252-8301-F9643694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01123-BF1B-482A-803F-AEBB352E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A650-9A1C-4CC9-BB9E-CB5F826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4A6-3BB8-4F19-B410-6A1C1D86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8942-FB25-437C-80C4-DDBDF3F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1880E-7F21-482A-9F26-8E0F845C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74DA0-9E6A-4965-AF74-E0EDB914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B8C60-3A09-492B-A591-C414FE45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9408C-EB8E-4E24-8F15-F10D5CAD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9D3AB-96B3-4041-BE4B-AF33ECBB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FFB93-6DA8-4105-98C6-20B7D3C9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AAEC0-617E-40E4-9E25-E9DCAA02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A5931-327F-4963-B700-DD55C477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CA7A0-9C72-49F5-8E9D-A4F46BE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3CD-A80F-4F40-8AB8-3EE65E9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45C14-FF90-4D09-BFF5-97DA7291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AE406-615A-4742-B0B2-665D93C4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8768E-29CE-4DF5-8902-8A6117D6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B540C-19E5-4C35-BF4D-BD1E6E7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A9F0C-CDD4-446B-895F-BFCDD102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CD9CD-F122-4DB8-9A0F-4A589415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C1F56-435E-459A-8A04-F1220F06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E21E5-FA90-4180-9AD1-BBB5C07B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85E02-FEF9-4CF2-AFB3-DE0334A8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CFD6A-CD5A-4403-BB17-183A05C1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43A2-A21C-4AE4-8DDF-4B0C8483DF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DAEB-262D-4763-863B-D8D8B710B6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815A-0C12-47FB-9BF7-3DDED6F25E5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C0FA-7C61-44DF-9333-8AEC7919CCB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18A6-4010-4C91-AD8A-2A212BF8AE78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C80E-DBBF-49C4-A8EE-91DE29857B0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789A-063A-4CB9-83D7-389173A1A4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7B6C-43FF-4DD0-A592-324E787F4A0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7D12-FC1D-46B4-9D91-96010D5E32E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A178-0328-4123-A324-A6EEB698574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42F8-2268-4681-B31D-4AEFAF14C391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E8E6-6177-4459-AACA-C86A898BE2C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A687-A944-4BEA-BCC0-4FD1FF06241E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DEB5-78B0-4A8A-A811-06C8C07B89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ABB5-2830-47E3-8EA3-17ED76D0C7EB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88DD-6621-4AB1-9D6A-203A33A33A9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Написание слов и предложений </a:t>
            </a:r>
            <a:br>
              <a:rPr sz="6000"/>
            </a:b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с изученными буквами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500200" y="1571760"/>
            <a:ext cx="414360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06" name="TextBox 2"/>
          <p:cNvGrpSpPr/>
          <p:nvPr/>
        </p:nvGrpSpPr>
        <p:grpSpPr>
          <a:xfrm>
            <a:off x="212760" y="457200"/>
            <a:ext cx="8645400" cy="981000"/>
            <a:chOff x="212760" y="457200"/>
            <a:chExt cx="8645400" cy="981000"/>
          </a:xfrm>
        </p:grpSpPr>
        <p:pic>
          <p:nvPicPr>
            <p:cNvPr id="507" name="TextBox 2" descr=""/>
            <p:cNvPicPr/>
            <p:nvPr/>
          </p:nvPicPr>
          <p:blipFill>
            <a:blip r:embed="rId2"/>
            <a:stretch/>
          </p:blipFill>
          <p:spPr>
            <a:xfrm>
              <a:off x="212760" y="457200"/>
              <a:ext cx="86454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285840" y="57168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891a7"/>
                  </a:solidFill>
                  <a:latin typeface="Corbel"/>
                </a:rPr>
                <a:t>Какой звук произносит мартышка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Box 3"/>
          <p:cNvSpPr/>
          <p:nvPr/>
        </p:nvSpPr>
        <p:spPr>
          <a:xfrm>
            <a:off x="357120" y="30002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100008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"/>
          <p:cNvSpPr/>
          <p:nvPr/>
        </p:nvSpPr>
        <p:spPr>
          <a:xfrm>
            <a:off x="2714760" y="521496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5286240" y="52149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707220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8"/>
          <p:cNvSpPr/>
          <p:nvPr/>
        </p:nvSpPr>
        <p:spPr>
          <a:xfrm>
            <a:off x="6786720" y="30718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4"/>
          <p:cNvSpPr/>
          <p:nvPr/>
        </p:nvSpPr>
        <p:spPr>
          <a:xfrm>
            <a:off x="6158880" y="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5"/>
          <p:cNvSpPr/>
          <p:nvPr/>
        </p:nvSpPr>
        <p:spPr>
          <a:xfrm>
            <a:off x="278640" y="56768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6"/>
          <p:cNvSpPr/>
          <p:nvPr/>
        </p:nvSpPr>
        <p:spPr>
          <a:xfrm>
            <a:off x="1075680" y="56721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2" descr="C:\Users\людмила\Desktop\2017-01-16\007.jpg"/>
          <p:cNvPicPr/>
          <p:nvPr/>
        </p:nvPicPr>
        <p:blipFill>
          <a:blip r:embed="rId1"/>
          <a:stretch/>
        </p:blipFill>
        <p:spPr>
          <a:xfrm>
            <a:off x="1073160" y="2254320"/>
            <a:ext cx="80708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TextBox 1"/>
          <p:cNvGrpSpPr/>
          <p:nvPr/>
        </p:nvGrpSpPr>
        <p:grpSpPr>
          <a:xfrm>
            <a:off x="212760" y="457200"/>
            <a:ext cx="8645400" cy="981000"/>
            <a:chOff x="212760" y="457200"/>
            <a:chExt cx="8645400" cy="981000"/>
          </a:xfrm>
        </p:grpSpPr>
        <p:pic>
          <p:nvPicPr>
            <p:cNvPr id="520" name="TextBox 1" descr=""/>
            <p:cNvPicPr/>
            <p:nvPr/>
          </p:nvPicPr>
          <p:blipFill>
            <a:blip r:embed="rId1"/>
            <a:stretch/>
          </p:blipFill>
          <p:spPr>
            <a:xfrm>
              <a:off x="212760" y="457200"/>
              <a:ext cx="86454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85840" y="57168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891a7"/>
                  </a:solidFill>
                  <a:latin typeface="Corbel"/>
                </a:rPr>
                <a:t>Какой звук произносит мартышка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2357280" y="1500120"/>
            <a:ext cx="4357800" cy="330696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"/>
          <p:cNvSpPr/>
          <p:nvPr/>
        </p:nvSpPr>
        <p:spPr>
          <a:xfrm>
            <a:off x="357120" y="30002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100008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2714760" y="521496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5286240" y="52149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8"/>
          <p:cNvSpPr/>
          <p:nvPr/>
        </p:nvSpPr>
        <p:spPr>
          <a:xfrm>
            <a:off x="707220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9"/>
          <p:cNvSpPr/>
          <p:nvPr/>
        </p:nvSpPr>
        <p:spPr>
          <a:xfrm>
            <a:off x="6786720" y="30718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7" descr="C:\Users\людмила\Desktop\2017-01-16\008.jpg"/>
          <p:cNvPicPr/>
          <p:nvPr/>
        </p:nvPicPr>
        <p:blipFill>
          <a:blip r:embed="rId1"/>
          <a:stretch/>
        </p:blipFill>
        <p:spPr>
          <a:xfrm>
            <a:off x="1116000" y="2254320"/>
            <a:ext cx="7704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1"/>
          <a:stretch/>
        </p:blipFill>
        <p:spPr>
          <a:xfrm>
            <a:off x="2176560" y="4357800"/>
            <a:ext cx="1252440" cy="2209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2"/>
          <a:stretch/>
        </p:blipFill>
        <p:spPr>
          <a:xfrm>
            <a:off x="4572000" y="3000240"/>
            <a:ext cx="1252440" cy="22100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3"/>
          <a:stretch/>
        </p:blipFill>
        <p:spPr>
          <a:xfrm>
            <a:off x="857160" y="1357200"/>
            <a:ext cx="1252800" cy="22100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4"/>
          <a:stretch/>
        </p:blipFill>
        <p:spPr>
          <a:xfrm>
            <a:off x="6786720" y="571680"/>
            <a:ext cx="1252440" cy="2209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5"/>
          <a:stretch/>
        </p:blipFill>
        <p:spPr>
          <a:xfrm>
            <a:off x="6715080" y="4286160"/>
            <a:ext cx="1252440" cy="2210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6"/>
          <a:stretch/>
        </p:blipFill>
        <p:spPr>
          <a:xfrm>
            <a:off x="2857680" y="500040"/>
            <a:ext cx="1252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3" descr="C:\Documents and Settings\Admin\Рабочий стол\работа музей\48\чтение откр урок\письмо\686447182.png"/>
          <p:cNvPicPr/>
          <p:nvPr/>
        </p:nvPicPr>
        <p:blipFill>
          <a:blip r:embed="rId1"/>
          <a:stretch/>
        </p:blipFill>
        <p:spPr>
          <a:xfrm>
            <a:off x="3786120" y="357120"/>
            <a:ext cx="5207040" cy="63486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"/>
          <p:cNvSpPr/>
          <p:nvPr/>
        </p:nvSpPr>
        <p:spPr>
          <a:xfrm>
            <a:off x="214200" y="86652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rbel"/>
              </a:rPr>
              <a:t>Цели урока: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формируем умение различать звуки и буквы: буква как знак звука;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формируем умение овладевать начертаниями письменных букв, слов;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формируем умение находить слово в группе слов по его лексическому значению;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формируем умение различать гласные и согласные звуки, гласные ударные и безударные, согласные твёрдые и мягкие, звонкие и глухие.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Documents and Settings\Admin\Рабочий стол\работа музей\48\чтение откр урок\письмо\c1c4827283d8c69df12691744a7c8600.png"/>
          <p:cNvPicPr/>
          <p:nvPr/>
        </p:nvPicPr>
        <p:blipFill>
          <a:blip r:embed="rId1"/>
          <a:stretch/>
        </p:blipFill>
        <p:spPr>
          <a:xfrm>
            <a:off x="0" y="128268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467" name="WordArt 3"/>
          <p:cNvSpPr txBox="1"/>
          <p:nvPr/>
        </p:nvSpPr>
        <p:spPr>
          <a:xfrm>
            <a:off x="2143080" y="571680"/>
            <a:ext cx="43624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оверили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468" name="Picture 4" descr="C:\Documents and Settings\Admin\Рабочий стол\работа музей\48\чтение откр урок\письмо\48590224.jpg"/>
          <p:cNvPicPr/>
          <p:nvPr/>
        </p:nvPicPr>
        <p:blipFill>
          <a:blip r:embed="rId2"/>
          <a:stretch/>
        </p:blipFill>
        <p:spPr>
          <a:xfrm>
            <a:off x="4751280" y="1700280"/>
            <a:ext cx="424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C:\Documents and Settings\Admin\Рабочий стол\работа музей\48\чтение откр урок\письмо\686447182.png"/>
          <p:cNvPicPr/>
          <p:nvPr/>
        </p:nvPicPr>
        <p:blipFill>
          <a:blip r:embed="rId1"/>
          <a:stretch/>
        </p:blipFill>
        <p:spPr>
          <a:xfrm>
            <a:off x="3492360" y="0"/>
            <a:ext cx="5500800" cy="6705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0" y="720720"/>
            <a:ext cx="606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ыг-скок, прыг-ск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ла Мартышка на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портфеля и без книжк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ужны они Марты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о знать как есть бана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ираться на лиа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чить рожицы соседя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емотам и Медвед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об этом для Март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пишут в толстой книж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, поэтому,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ё должна узнать са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ыг-скок, прыг-скок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ром не пройдёт ур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Рисунок 1" descr="гласный.png"/>
          <p:cNvPicPr/>
          <p:nvPr/>
        </p:nvPicPr>
        <p:blipFill>
          <a:blip r:embed="rId1"/>
          <a:stretch/>
        </p:blipFill>
        <p:spPr>
          <a:xfrm>
            <a:off x="500040" y="192888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2" descr="гласный.png"/>
          <p:cNvPicPr/>
          <p:nvPr/>
        </p:nvPicPr>
        <p:blipFill>
          <a:blip r:embed="rId2"/>
          <a:stretch/>
        </p:blipFill>
        <p:spPr>
          <a:xfrm>
            <a:off x="4572000" y="4143240"/>
            <a:ext cx="2143080" cy="257184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3" descr="гласный.png"/>
          <p:cNvPicPr/>
          <p:nvPr/>
        </p:nvPicPr>
        <p:blipFill>
          <a:blip r:embed="rId3"/>
          <a:stretch/>
        </p:blipFill>
        <p:spPr>
          <a:xfrm>
            <a:off x="6215040" y="1643040"/>
            <a:ext cx="2357640" cy="285768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4" descr="гласный.png"/>
          <p:cNvPicPr/>
          <p:nvPr/>
        </p:nvPicPr>
        <p:blipFill>
          <a:blip r:embed="rId4"/>
          <a:stretch/>
        </p:blipFill>
        <p:spPr>
          <a:xfrm>
            <a:off x="1928880" y="4071960"/>
            <a:ext cx="2143080" cy="264312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6" descr="зв мяг.png"/>
          <p:cNvPicPr/>
          <p:nvPr/>
        </p:nvPicPr>
        <p:blipFill>
          <a:blip r:embed="rId5"/>
          <a:stretch/>
        </p:blipFill>
        <p:spPr>
          <a:xfrm>
            <a:off x="3357720" y="1500120"/>
            <a:ext cx="2357280" cy="27399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"/>
          <p:cNvSpPr/>
          <p:nvPr/>
        </p:nvSpPr>
        <p:spPr>
          <a:xfrm>
            <a:off x="2571840" y="-147600"/>
            <a:ext cx="621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  <a:ea typeface="Calibri"/>
              </a:rPr>
              <a:t>Найди лишний звук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9"/>
          <p:cNvSpPr/>
          <p:nvPr/>
        </p:nvSpPr>
        <p:spPr>
          <a:xfrm>
            <a:off x="5286240" y="4357800"/>
            <a:ext cx="3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0"/>
          <p:cNvSpPr/>
          <p:nvPr/>
        </p:nvSpPr>
        <p:spPr>
          <a:xfrm>
            <a:off x="6964920" y="2000160"/>
            <a:ext cx="7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1"/>
          <p:cNvSpPr/>
          <p:nvPr/>
        </p:nvSpPr>
        <p:spPr>
          <a:xfrm>
            <a:off x="1182240" y="2214720"/>
            <a:ext cx="65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2"/>
          <p:cNvSpPr/>
          <p:nvPr/>
        </p:nvSpPr>
        <p:spPr>
          <a:xfrm>
            <a:off x="2586960" y="4500720"/>
            <a:ext cx="87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3"/>
          <p:cNvSpPr/>
          <p:nvPr/>
        </p:nvSpPr>
        <p:spPr>
          <a:xfrm>
            <a:off x="4241520" y="250020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Verdana"/>
              </a:rPr>
              <a:t>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TextBox 1"/>
          <p:cNvGrpSpPr/>
          <p:nvPr/>
        </p:nvGrpSpPr>
        <p:grpSpPr>
          <a:xfrm>
            <a:off x="390600" y="23760"/>
            <a:ext cx="8650080" cy="1884240"/>
            <a:chOff x="390600" y="23760"/>
            <a:chExt cx="8650080" cy="1884240"/>
          </a:xfrm>
        </p:grpSpPr>
        <p:pic>
          <p:nvPicPr>
            <p:cNvPr id="483" name="TextBox 1" descr=""/>
            <p:cNvPicPr/>
            <p:nvPr/>
          </p:nvPicPr>
          <p:blipFill>
            <a:blip r:embed="rId1"/>
            <a:stretch/>
          </p:blipFill>
          <p:spPr>
            <a:xfrm>
              <a:off x="390600" y="23760"/>
              <a:ext cx="865008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63680" y="187200"/>
              <a:ext cx="8501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891a7"/>
                  </a:solidFill>
                  <a:latin typeface="Corbel"/>
                </a:rPr>
                <a:t>Какой</a:t>
              </a:r>
              <a:r>
                <a:rPr b="1" lang="ru-RU" sz="4000" spc="-1" strike="noStrike">
                  <a:solidFill>
                    <a:srgbClr val="3891a7"/>
                  </a:solidFill>
                  <a:latin typeface="Corbel"/>
                </a:rPr>
                <a:t> </a:t>
              </a:r>
              <a:r>
                <a:rPr b="1" lang="ru-RU" sz="4400" spc="-1" strike="noStrike">
                  <a:solidFill>
                    <a:srgbClr val="3891a7"/>
                  </a:solidFill>
                  <a:latin typeface="Corbel"/>
                </a:rPr>
                <a:t>звук</a:t>
              </a:r>
              <a:r>
                <a:rPr b="1" lang="ru-RU" sz="4000" spc="-1" strike="noStrike">
                  <a:solidFill>
                    <a:srgbClr val="3891a7"/>
                  </a:solidFill>
                  <a:latin typeface="Corbel"/>
                </a:rPr>
                <a:t> </a:t>
              </a:r>
              <a:r>
                <a:rPr b="1" lang="ru-RU" sz="4400" spc="-1" strike="noStrike">
                  <a:solidFill>
                    <a:srgbClr val="3891a7"/>
                  </a:solidFill>
                  <a:latin typeface="Corbel"/>
                </a:rPr>
                <a:t>произносит</a:t>
              </a:r>
              <a:r>
                <a:rPr b="1" lang="ru-RU" sz="4000" spc="-1" strike="noStrike">
                  <a:solidFill>
                    <a:srgbClr val="3891a7"/>
                  </a:solidFill>
                  <a:latin typeface="Corbel"/>
                </a:rPr>
                <a:t> мартышка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Picture 2" descr=""/>
          <p:cNvPicPr/>
          <p:nvPr/>
        </p:nvPicPr>
        <p:blipFill>
          <a:blip r:embed="rId2"/>
          <a:stretch/>
        </p:blipFill>
        <p:spPr>
          <a:xfrm>
            <a:off x="2500200" y="1571760"/>
            <a:ext cx="4143600" cy="3286080"/>
          </a:xfrm>
          <a:prstGeom prst="rect">
            <a:avLst/>
          </a:prstGeom>
          <a:ln w="0">
            <a:noFill/>
          </a:ln>
        </p:spPr>
      </p:pic>
      <p:sp>
        <p:nvSpPr>
          <p:cNvPr id="486" name="TextBox 3"/>
          <p:cNvSpPr/>
          <p:nvPr/>
        </p:nvSpPr>
        <p:spPr>
          <a:xfrm>
            <a:off x="357120" y="30002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00008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2714760" y="478620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4714920" y="5286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"/>
          <p:cNvSpPr/>
          <p:nvPr/>
        </p:nvSpPr>
        <p:spPr>
          <a:xfrm>
            <a:off x="707220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8"/>
          <p:cNvSpPr/>
          <p:nvPr/>
        </p:nvSpPr>
        <p:spPr>
          <a:xfrm>
            <a:off x="6786720" y="30718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оугольник 6"/>
          <p:cNvSpPr/>
          <p:nvPr/>
        </p:nvSpPr>
        <p:spPr>
          <a:xfrm>
            <a:off x="6432120" y="50004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9" descr="C:\Users\людмила\Desktop\2017-01-16\005.jpg"/>
          <p:cNvPicPr/>
          <p:nvPr/>
        </p:nvPicPr>
        <p:blipFill>
          <a:blip r:embed="rId1"/>
          <a:stretch/>
        </p:blipFill>
        <p:spPr>
          <a:xfrm>
            <a:off x="1547640" y="1008000"/>
            <a:ext cx="7417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TextBox 1"/>
          <p:cNvGrpSpPr/>
          <p:nvPr/>
        </p:nvGrpSpPr>
        <p:grpSpPr>
          <a:xfrm>
            <a:off x="212760" y="457200"/>
            <a:ext cx="8645400" cy="981000"/>
            <a:chOff x="212760" y="457200"/>
            <a:chExt cx="8645400" cy="981000"/>
          </a:xfrm>
        </p:grpSpPr>
        <p:pic>
          <p:nvPicPr>
            <p:cNvPr id="495" name="TextBox 1" descr=""/>
            <p:cNvPicPr/>
            <p:nvPr/>
          </p:nvPicPr>
          <p:blipFill>
            <a:blip r:embed="rId1"/>
            <a:stretch/>
          </p:blipFill>
          <p:spPr>
            <a:xfrm>
              <a:off x="212760" y="457200"/>
              <a:ext cx="86454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85840" y="57168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891a7"/>
                  </a:solidFill>
                  <a:latin typeface="Corbel"/>
                </a:rPr>
                <a:t>Какой звук произносит мартышка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Box 2"/>
          <p:cNvSpPr/>
          <p:nvPr/>
        </p:nvSpPr>
        <p:spPr>
          <a:xfrm>
            <a:off x="357120" y="3000240"/>
            <a:ext cx="20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2"/>
          <a:stretch/>
        </p:blipFill>
        <p:spPr>
          <a:xfrm>
            <a:off x="2643120" y="1357200"/>
            <a:ext cx="4000680" cy="33130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4"/>
          <p:cNvSpPr/>
          <p:nvPr/>
        </p:nvSpPr>
        <p:spPr>
          <a:xfrm>
            <a:off x="100008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5"/>
          <p:cNvSpPr/>
          <p:nvPr/>
        </p:nvSpPr>
        <p:spPr>
          <a:xfrm>
            <a:off x="2714760" y="521496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5286240" y="52149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707220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6786720" y="30718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4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9" descr="C:\Users\людмила\Desktop\2017-01-16\006.jpg"/>
          <p:cNvPicPr/>
          <p:nvPr/>
        </p:nvPicPr>
        <p:blipFill>
          <a:blip r:embed="rId1"/>
          <a:stretch/>
        </p:blipFill>
        <p:spPr>
          <a:xfrm>
            <a:off x="971640" y="2481120"/>
            <a:ext cx="79930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34:06Z</dcterms:created>
  <dc:creator>Пашкова Л.Л.</dc:creator>
  <dc:description/>
  <dc:language>en-US</dc:language>
  <cp:lastModifiedBy>Пашкова</cp:lastModifiedBy>
  <dcterms:modified xsi:type="dcterms:W3CDTF">2017-01-16T14:31:58Z</dcterms:modified>
  <cp:revision>41</cp:revision>
  <dc:subject/>
  <dc:title>Слайд 1</dc:title>
</cp:coreProperties>
</file>