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24E8-58AD-4428-B845-5FAC40C8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CE4C-AA16-4028-BAE8-0D03B394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A728-AE9C-4F80-AD12-93A10D51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FF01-656F-4764-B854-01E4EA9C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5F7D-9EF0-4BCE-8493-76006C50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1E6F-6CB8-4F0A-8D6E-AFDFB71D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3046-CE77-4AD6-84D0-0885522C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E3A7-8761-46D5-B06A-F408D569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73C7-5F17-4273-854E-5B2E37E1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DEF8-856B-4031-ACF7-0A99928D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28D2-72E4-4489-B1FA-542E546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C300-44F2-475F-906F-D703F05D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4683-1223-4D3A-8097-8EF3987E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FCE9-6C55-460C-8E8E-FC7B4718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D7A5-F6CD-4D2F-9990-9CA33C36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ACA6-46E5-4EFC-8810-B84F9FE9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C1E5-DDE2-4425-84A3-2F5CE2AA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D8F5-ECE6-4550-8BE9-FB18EC07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0C8F-51A1-4A26-9169-4D9DE918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0009-24B7-438A-9EDB-599E4040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6B62-6C72-4691-A8B1-65A054D6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2C1C-4AF1-45AE-851B-A9B564CF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06D1-B217-439B-88BC-74E7DD17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CA30-51F6-4896-A507-24C695F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C158-95B7-4D2E-938D-6AD5D90E6B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FF40-ABC4-4E48-B945-EAED2FB32C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1309678470_85f0dc0ef75048f097595ed0ecdc28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cc"/>
                </a:solidFill>
                <a:latin typeface="Tahoma"/>
              </a:rPr>
              <a:t>ГОРОДА-ГЕРО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7" descr="o1a"/>
          <p:cNvPicPr/>
          <p:nvPr/>
        </p:nvPicPr>
        <p:blipFill>
          <a:blip r:embed="rId2"/>
          <a:stretch/>
        </p:blipFill>
        <p:spPr>
          <a:xfrm>
            <a:off x="6705720" y="3962520"/>
            <a:ext cx="2438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мурманск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урманс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2880" y="12189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6 мая 198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началом войны в городе сразу начали формироваться истребительные батальоны и народное ополчение. На подступах к Мурманску жители города в считанные дни построили четыре линии оборон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киев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ие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191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орона Киева длилась в период с 7 июля 1941 по 26 сентября 1941По некоторым данным потери СССР при обороне Киева составили: убитых и пропавших без вести, взятых в плен — 616304, раненых — 84240, всего — 700544 человек (8543 в сутки), 1764,9 тыс. ед. стрелкового оружия, 411 танков и САУ, 28419 орудий и минометов, 343 боевых самоле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новороссийск2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овороссийс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8862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14 сентября 1973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ероическая оборона Новороссийска длилась в период с 19 августа 1942г по 26 сентября 1942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molensk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моленс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6 мая 198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орона Смоленска длилась с 10 июля 1941 по 5 августа 194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minsk-he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инс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26 июня 1974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июля 1944 года столицу БССР освободили войска 1-го, 2-го и 3-го Белорусского фронтов при содействии партизан, которые за годы войны уничтожили и взяли в плен около полумиллиона оккупантов и их пособников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волгоград"/>
          <p:cNvPicPr/>
          <p:nvPr/>
        </p:nvPicPr>
        <p:blipFill>
          <a:blip r:embed="rId1"/>
          <a:stretch/>
        </p:blipFill>
        <p:spPr>
          <a:xfrm>
            <a:off x="0" y="0"/>
            <a:ext cx="9144000" cy="69771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гоград (бывший Сталинград)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инградская битва (17 июля 1942 — 2 февраля 1943) — боевые действия советских войск по обороне города Сталинграда и разгрому крупной стратегической немецкой группировки в ходе Великой Отечественной войны. Является крупнейшей сухопутной битвой в ходе Второй мировой войны, которая стала переломным моментом в ходе военных действий, после которых немецкие войска окончательно потеряли стратегическую инициативу.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тула"/>
          <p:cNvPicPr/>
          <p:nvPr/>
        </p:nvPicPr>
        <p:blipFill>
          <a:blip r:embed="rId1"/>
          <a:stretch/>
        </p:blipFill>
        <p:spPr>
          <a:xfrm>
            <a:off x="0" y="0"/>
            <a:ext cx="9144000" cy="7369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ула</a:t>
            </a:r>
            <a:r>
              <a:rPr b="0" lang="ru-RU" sz="4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7 декабря 1976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льская оборонительная операция — была проведена с 24 октября 1941 года по 5 декабря 1941 года. Операция сыграла важную роль в стабилизации линии фронта на южных подступах к Моск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города-герои карта"/>
          <p:cNvPicPr/>
          <p:nvPr/>
        </p:nvPicPr>
        <p:blipFill>
          <a:blip r:embed="rId1"/>
          <a:stretch/>
        </p:blipFill>
        <p:spPr>
          <a:xfrm>
            <a:off x="2438280" y="1447920"/>
            <a:ext cx="4267440" cy="4805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540000" y="380880"/>
            <a:ext cx="83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рода-Герои на карте европейской части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История присвоения звания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ожение о почетном звании «Город-Герой» было утверждено 8 мая 1965 года Указом № 3566-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езидиума Верховного Совета СС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18 июля 1980 года формулировка Положения была изменена: в нём стало говориться не о почётном звании, а о высшей степени отличия — звании «Город-Герой»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 Положении о звании говоритс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1. Высшая степень отличия — звание «Город-Герой» присваивается городам Советского Союза, трудящиеся которых проявили массовый героизм и мужество в защите Родины в Великой Отечественной войне 1941—1945 гг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&lt;…&gt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3. Городу, удостоенному высшей степени отличия — звания «Город-Герой»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а) вручаются высшая награда СССР — орден Ленина и медаль «Золотая Звезда»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б) выдаётся Грамота Президиума Верховного Совета СССР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&lt;…&gt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6. На знамени города, удостоенного высшей степени отличия — звания «Город-Герой», изображаются орден Ленина и медаль «Золотая Звезд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7. В городе, удостоенном высшей степени отличия — звания «Город-Герой», устанавливается обелиск с изображением ордена Ленина, медали «Золотая Звезда» и текстом Указа Президиума Верховного Совета СС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moskva-2"/>
          <p:cNvPicPr/>
          <p:nvPr/>
        </p:nvPicPr>
        <p:blipFill>
          <a:blip r:embed="rId1"/>
          <a:stretch/>
        </p:blipFill>
        <p:spPr>
          <a:xfrm>
            <a:off x="0" y="4680"/>
            <a:ext cx="10287000" cy="6853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4800" y="99072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тва за Москву длилась с 30 сентября 1941 по 20 апреля 1942. Ее можно разделить на два периода: оборонительный (30 сентября — 4 декабря 1941) и наступательный (5-6 декабря 1941 — 20 апреля 1942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ленингра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енингра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вание присвоено 8 мая 1965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локада Ленинграда — длилась с 8 сентября 1941 года по 27 января 1944 года (блокадное кольцо было прорвано 18 января 1943 года) — 872 дн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Kerch_ObeliskOfGlory"/>
          <p:cNvPicPr/>
          <p:nvPr/>
        </p:nvPicPr>
        <p:blipFill>
          <a:blip r:embed="rId1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6600" y="277560"/>
            <a:ext cx="7930800" cy="834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ерчь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14 сентября 1973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годы Великой Отечественной войны Керчь стала ареной жестоких сражений между советскими и германскими войсками. Линия фронта четырежды проходила через Керчь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одесса2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десс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0440" y="1911240"/>
            <a:ext cx="403848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ероическая оборона Одессы длилась с  5 августа по 16 октября 1941 года войсками Отдельной Приморской армии.  Сравнительно небольшим силам обороняющихся удалось отражать удары значительно превосходящих сил 4-й румынской арм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брестская крепость"/>
          <p:cNvPicPr/>
          <p:nvPr/>
        </p:nvPicPr>
        <p:blipFill>
          <a:blip r:embed="rId1"/>
          <a:stretch/>
        </p:blipFill>
        <p:spPr>
          <a:xfrm>
            <a:off x="0" y="0"/>
            <a:ext cx="112014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рестская крепост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3429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орона Брестской крепости - одно из первых сражений Великой Отечественной войны - началась 22 июня 1941 года и закончилась 30 июля 194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1316934233-2"/>
          <p:cNvPicPr/>
          <p:nvPr/>
        </p:nvPicPr>
        <p:blipFill>
          <a:blip r:embed="rId1"/>
          <a:stretch/>
        </p:blipFill>
        <p:spPr>
          <a:xfrm>
            <a:off x="-15228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евастопо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28800" y="685440"/>
            <a:ext cx="4495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вание присвоено 8 мая 1965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вастополь - это город, для которого война началась на 40 минут раньше, чем для всего Советского Союза. Севастопольский оборонительный район к началу Великой Отечественной войны был одним из самых укреплённых мест в мир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сус</dc:creator>
  <dc:description/>
  <dc:language>en-US</dc:language>
  <cp:lastModifiedBy>асус</cp:lastModifiedBy>
  <dcterms:modified xsi:type="dcterms:W3CDTF">2017-04-30T19:25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