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4978-A343-4059-B924-444B269E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4A36-3FAC-4AAB-A1CF-69BF399A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4D69-2368-44FC-A624-C842553C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0BAD-7114-4E87-89A2-E81E0767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9BA-3884-4DB6-8BA1-DE69400A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F51B-0AC3-4F24-85FB-34E587A0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32E1-5CF5-4212-A5E2-D7E5A179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575-43E6-43AB-BEEE-9142859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2C1A-4583-462E-8EB5-BF6786F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35B2-5372-4841-86DC-BAD5D0A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0C2-4D73-4FB1-BB35-AF0E187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28F5-95F6-4E0D-ADEE-FD4A11F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8AE8-06B1-4179-9537-5580705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4A8-5C50-4989-8F51-5675EFE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264-DD97-42F7-8D00-9520B924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718-2C21-4C6A-B3D3-718AF1E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853E-C13D-4891-B427-FEEC0874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0BE8-8270-44D0-B4A0-E70611A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8F6E-2313-4FF8-BEEB-35FECD7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EFB5-60F0-4C09-A62A-A68092D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0AE7-5860-421C-84F7-172EF098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3FF1-021B-492E-8955-8F7206E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F65E-64B4-4BF0-9B32-ED7D728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EC9F-5E19-4B48-8952-7D2BAE2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CD9-3DBA-47C5-98CC-2C7DB5AB9A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B46-06E1-4955-ACB6-2B7CDF4AB1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1309678470_85f0dc0ef75048f097595ed0ecdc28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cc"/>
                </a:solidFill>
                <a:latin typeface="Tahoma"/>
              </a:rPr>
              <a:t>ГОРОДА-ГЕРО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7" descr="o1a"/>
          <p:cNvPicPr/>
          <p:nvPr/>
        </p:nvPicPr>
        <p:blipFill>
          <a:blip r:embed="rId2"/>
          <a:stretch/>
        </p:blipFill>
        <p:spPr>
          <a:xfrm>
            <a:off x="6705720" y="396252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мурманск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урма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6 мая 198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началом войны в городе сразу начали формироваться истребительные батальоны и народное ополчение. На подступах к Мурманску жители города в считанные дни построили четыре линии оборон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киев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и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Киева длилась в период с 7 июля 1941 по 26 сентября 1941По некоторым данным потери СССР при обороне Киева составили: убитых и пропавших без вести, взятых в плен — 616304, раненых — 84240, всего — 700544 человек (8543 в сутки), 1764,9 тыс. ед. стрелкового оружия, 411 танков и САУ, 28419 орудий и минометов, 343 боевых самол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новороссийск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вороссий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14 сентября 197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роическая оборона Новороссийска длилась в период с 19 августа 1942г по 26 сентября 1942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molensk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моле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6 мая 198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Смоленска длилась с 10 июля 1941 по 5 августа 194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minsk-h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и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26 июня 1974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июля 1944 года столицу БССР освободили войска 1-го, 2-го и 3-го Белорусского фронтов при содействии партизан, которые за годы войны уничтожили и взяли в плен около полумиллиона оккупантов и их пособников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волгоград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гоград (бывший Сталинград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инградская битва (17 июля 1942 — 2 февраля 1943) — боевые действия советских войск по обороне города Сталинграда и разгрому крупной стратегической немецкой группировки в ходе Великой Отечественной войны. Является крупнейшей сухопутной битвой в ходе Второй мировой войны, которая стала переломным моментом в ходе военных действий, после которых немецкие войска окончательно потеряли стратегическую инициативу.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тула"/>
          <p:cNvPicPr/>
          <p:nvPr/>
        </p:nvPicPr>
        <p:blipFill>
          <a:blip r:embed="rId1"/>
          <a:stretch/>
        </p:blipFill>
        <p:spPr>
          <a:xfrm>
            <a:off x="0" y="0"/>
            <a:ext cx="9144000" cy="7369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ула</a:t>
            </a:r>
            <a:r>
              <a:rPr b="0" lang="ru-RU" sz="4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7 декабря 1976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льская оборонительная операция — была проведена с 24 октября 1941 года по 5 декабря 1941 года. Операция сыграла важную роль в стабилизации линии фронта на южных подступах к Моск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города-герои карта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4805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40000" y="380880"/>
            <a:ext cx="83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рода-Герои на карте европейской части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История присвоения зв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ожение о почетном звании «Город-Герой» было утверждено 8 мая 1965 года Указом № 3566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зидиума Верховного Совета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18 июля 1980 года формулировка Положения была изменена: в нём стало говориться не о почётном звании, а о высшей степени отличия — звании «Город-Герой»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Положении о звании говоритс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1. Высшая степень отличия — звание «Город-Герой» присваивается городам Советского Союза, трудящиеся которых проявили массовый героизм и мужество в защите Родины в Великой Отечественной войне 1941—1945 г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&lt;…&gt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. Городу, удостоенному высшей степени отличия — звания «Город-Герой»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а) вручаются высшая награда СССР — орден Ленина и медаль «Золотая Звезда»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) выдаётся Грамота Президиума Верховного Совета СССР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&lt;…&gt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6. На знамени города, удостоенного высшей степени отличия — звания «Город-Герой», изображаются орден Ленина и медаль «Золотая Звезд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7. В городе, удостоенном высшей степени отличия — звания «Город-Герой», устанавливается обелиск с изображением ордена Ленина, медали «Золотая Звезда» и текстом Указа Президиума Верховного Совета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moskva-2"/>
          <p:cNvPicPr/>
          <p:nvPr/>
        </p:nvPicPr>
        <p:blipFill>
          <a:blip r:embed="rId1"/>
          <a:stretch/>
        </p:blipFill>
        <p:spPr>
          <a:xfrm>
            <a:off x="0" y="4680"/>
            <a:ext cx="10287000" cy="6853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4800" y="9907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тва за Москву длилась с 30 сентября 1941 по 20 апреля 1942. Ее можно разделить на два периода: оборонительный (30 сентября — 4 декабря 1941) и наступательный (5-6 декабря 1941 — 20 апреля 1942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ленингра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енингра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ание присвоено 8 мая 1965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окада Ленинграда — длилась с 8 сентября 1941 года по 27 января 1944 года (блокадное кольцо было прорвано 18 января 1943 года) — 872 дн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Kerch_ObeliskOfGlory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6600" y="277560"/>
            <a:ext cx="7930800" cy="83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ерчь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14 сентября 197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годы Великой Отечественной войны Керчь стала ареной жестоких сражений между советскими и германскими войсками. Линия фронта четырежды проходила через Керч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одесса2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десс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0440" y="1911240"/>
            <a:ext cx="403848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роическая оборона Одессы длилась с  5 августа по 16 октября 1941 года войсками Отдельной Приморской армии.  Сравнительно небольшим силам обороняющихся удалось отражать удары значительно превосходящих сил 4-й румынской арм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брестская крепость"/>
          <p:cNvPicPr/>
          <p:nvPr/>
        </p:nvPicPr>
        <p:blipFill>
          <a:blip r:embed="rId1"/>
          <a:stretch/>
        </p:blipFill>
        <p:spPr>
          <a:xfrm>
            <a:off x="0" y="0"/>
            <a:ext cx="112014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рестская крепост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Брестской крепости - одно из первых сражений Великой Отечественной войны - началась 22 июня 1941 года и закончилась 30 июля 194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1316934233-2"/>
          <p:cNvPicPr/>
          <p:nvPr/>
        </p:nvPicPr>
        <p:blipFill>
          <a:blip r:embed="rId1"/>
          <a:stretch/>
        </p:blipFill>
        <p:spPr>
          <a:xfrm>
            <a:off x="-1522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евастопо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8800" y="685440"/>
            <a:ext cx="4495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вастополь - это город, для которого война началась на 40 минут раньше, чем для всего Советского Союза. Севастопольский оборонительный район к началу Великой Отечественной войны был одним из самых укреплённых мест в мир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ус</dc:creator>
  <dc:description/>
  <dc:language>en-US</dc:language>
  <cp:lastModifiedBy>асус</cp:lastModifiedBy>
  <dcterms:modified xsi:type="dcterms:W3CDTF">2017-04-30T19:2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