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DF6-EFB9-455B-9AEF-C5FC34A5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4AB-AB2D-424D-96AB-12D5E2F2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BA5-FA4C-47C1-8FEA-8B930AB2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EF4-5D87-4A91-9A0F-8FC6A073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1E08-C8D0-4F6A-B662-7F850D3E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08F3-8E6B-44E7-869D-EEE52FF3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006A-8D46-4342-A13C-42E65720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4107-8AF9-4EEF-AB74-7407760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28F6-6CB0-45C1-819B-9FBB4F84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4210-1591-4CD0-9A08-3F734E32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CD7-1A1D-4A55-84D6-501BE89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2F8-BC7F-4A77-87FD-74B397A7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15A5-45B6-4CCA-978C-FBC2631E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51A0-B057-4F24-8855-9A9242A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DE1-A8CD-4E47-999A-4C44174D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C918-781C-4704-8E70-7C77C8F0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1D2F-AED9-4ED6-9F20-8BD2139D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E413-77B3-4DCE-BEFF-2A7CD713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C78A-0220-4B31-9AB8-7AA899A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F7C5-C0A4-42D4-801A-E557BB6B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A009-657D-483F-8D10-E5ABF65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05E4-850C-4F73-AF0A-F530473E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F25-E3BC-4401-B1F3-773C026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AF7A-191E-45ED-A8CB-EE804C07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3C1D-054F-4540-A087-884D4FDB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D2C0-5173-470B-99A5-5BD475A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9E8B-46EA-49D9-B9B7-10599B5C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7D79-11C2-488C-8A36-B7A153D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C922-30F7-47A3-B865-87E30840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54B3-E52F-4B5F-8422-6CC8E67E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9E0C-EF55-41C5-9062-5C975C4A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4615-D1C6-4998-9874-8BB2EA4B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CEDC-9B0F-49CF-9D46-9EE39A0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DEA-6C81-42E3-AC71-2B13B57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C5B7-A9D4-4A46-88E1-B758FBD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3F26-DEAC-4849-B8BB-A8F5B479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ADC0-D43D-4A46-8600-A49BC80D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5C41-7CED-49E0-BBE3-1EDB291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E8D8-23FA-4BA0-B8F5-07240B2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F3D5-F078-4A11-8889-D16E98D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A64C-E44C-48A6-8978-3F4EECE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8773-C773-4495-9B28-353414E2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BB05-B0D6-476B-8FC2-4484D34D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977-A95E-4786-A9FF-C578676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ED4-C2DE-455C-A3ED-292847D4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01D-8F44-4374-BDC6-B846FD4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23B-25E2-4F60-A490-2D80EDF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7EA-9FCF-499C-B638-CBCC828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FA67-19C3-4C6C-B675-D11135D6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FE15-B01C-4A62-B9AA-E33F2A837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0DFE-74D8-4418-A176-0A2EA0724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A67D-97D3-4710-BDC3-077CEC7FD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rldskills.org/" TargetMode="External"/><Relationship Id="rId2" Type="http://schemas.openxmlformats.org/officeDocument/2006/relationships/hyperlink" Target="http://www.worldskills.org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3360" y="447840"/>
            <a:ext cx="2652480" cy="73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31880" y="1855440"/>
            <a:ext cx="615312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14671"/>
                </a:solidFill>
                <a:latin typeface="Times New Roman"/>
                <a:ea typeface="Times New Roman"/>
              </a:rPr>
              <a:t>Как подготовить студента к чемпионату</a:t>
            </a:r>
            <a:r>
              <a:rPr b="1" lang="en-US" sz="6000" spc="-1" strike="noStrike">
                <a:solidFill>
                  <a:srgbClr val="214671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https://scontent.xx.fbcdn.net/v/t1.0-1/c13.0.200.200/p200x200/10295667_454206274779874_8073852227209942088_n.png?oh=a8fddcd3bba35ba9ea88b16cc8654eaf&amp;oe=595804AE"/>
          <p:cNvPicPr/>
          <p:nvPr/>
        </p:nvPicPr>
        <p:blipFill>
          <a:blip r:embed="rId1"/>
          <a:stretch/>
        </p:blipFill>
        <p:spPr>
          <a:xfrm>
            <a:off x="6446880" y="182520"/>
            <a:ext cx="22064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чемпион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5760" y="1060200"/>
            <a:ext cx="83865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и практическая подготовка к выполнению конкурсного задания проводится  по чётко прописанным модулям – разрабатывается концепция блюда, технология и дизайн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проводится сначала по элементам, а затем полностью по модул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дулям с «Чёрным ящиком» - проводился анализ по возможным вариантам содержимого «Чёрного ящика», разрабатывается несколько универсальных концепций блюд, несколько вариантов дизайна по каждому модулю, далее тренинги,   направленные на изучение рецептур и технологий различных составляющих для реализации разработанных концепци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и тактика набора баллов. Работа в этом направлении ведется параллельно с технической подготовкой и состоит в доскональном знании оценочной схемы и умением расставлять критерии по степени важности, в том числе в стрессовых ситуациях. Например: при окончании времени для подачи и не полной готовности блюда, чтобы заработать большее количество баллов необходимо подавать то, что выполнено. В противном случае, потери составят большее количество б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подготовка. Во время технической подготовки, специально моделируются ситуации для проверки стрессоустойчив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хема проведения чемпионатов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5400" y="1179000"/>
            <a:ext cx="82263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ональный чем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спользуя такую схему подготовки, студентка нашего техникума, Улицкая Ольга, заняла 1-ое место и получила золотую медаль на региональном чемпионате «Молодые профессионалы»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rldskil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ussia) в Республике Коми 2017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орочный чем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л национального чемпио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ый чем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2" descr=""/>
          <p:cNvPicPr/>
          <p:nvPr/>
        </p:nvPicPr>
        <p:blipFill>
          <a:blip r:embed="rId1"/>
          <a:stretch/>
        </p:blipFill>
        <p:spPr>
          <a:xfrm>
            <a:off x="274680" y="1066680"/>
            <a:ext cx="869796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ить полученный опыт и разработать методику подготовки участника к чемпион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ритерии  отбора участника для участия в чемпио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стандар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мпетенции Повар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технической документацией при подготовке к чемпионат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847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вый этап – первичный отб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116000"/>
            <a:ext cx="84787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Желание (мотивац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Цели участника по реализации себя в профессии,    кем он себя видит в    перспектив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особности к профессии и обучае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увство вкуса и баланс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доровые амбиции и умение правильно расставлять приорит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пособность к критической самооцен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Адекватное отношение к конструктивной критики и умение слуш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Психологическая устойчив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37600"/>
            <a:ext cx="7313400" cy="11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торой этап – изучение стандарто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SR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технической документ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5760" y="1619280"/>
            <a:ext cx="82864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андар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SR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по компетенции Поварское де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рганизация работы и управление процес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бслуживание клиентов и 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Здоровье, гигиена и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нание ингредиентов и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етоды обработки кулинарн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Методы производства кулинарн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ление и презентация 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Закупка, хранение, калькуляция,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320" y="264960"/>
            <a:ext cx="8226360" cy="5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хническая документ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079640"/>
            <a:ext cx="822636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описание (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ное задание (К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и оценки (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ный лист (И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e6e"/>
                </a:solidFill>
                <a:uFillTx/>
                <a:latin typeface="Arial"/>
                <a:hlinkClick r:id="rId1"/>
              </a:rPr>
              <a:t>www.worldskills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e6e"/>
                </a:solidFill>
                <a:uFillTx/>
                <a:latin typeface="Arial"/>
                <a:hlinkClick r:id="rId2"/>
              </a:rPr>
              <a:t>www. worldskills.</a:t>
            </a:r>
            <a:r>
              <a:rPr b="0" lang="en-US" sz="2000" spc="-1" strike="noStrike" u="sng">
                <a:solidFill>
                  <a:srgbClr val="007878"/>
                </a:solidFill>
                <a:uFillTx/>
                <a:latin typeface="Arial"/>
              </a:rPr>
              <a:t>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878"/>
                </a:solidFill>
                <a:latin typeface="Arial"/>
              </a:rPr>
              <a:t>WorldSkills Russia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етий этап – тренировоч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ы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способностей кандид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о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профиля умений и навы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тий уровен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индивидуального плана подготовки кандида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твёрты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ровочные меро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ятый уровень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результато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естой уровен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бор основного кандидата для участия в предстоящем чемпиона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ное зад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 примере задания для регионального чемпионата 2016-20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5760" y="1463760"/>
          <a:ext cx="8226360" cy="4932360"/>
        </p:xfrm>
        <a:graphic>
          <a:graphicData uri="http://schemas.openxmlformats.org/drawingml/2006/table">
            <a:tbl>
              <a:tblPr/>
              <a:tblGrid>
                <a:gridCol w="2577960"/>
                <a:gridCol w="2903400"/>
                <a:gridCol w="2571840"/>
                <a:gridCol w="17352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6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одная закуска - П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6aff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я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6a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ить 3 порции холодной закуски из птицы - ру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 продукты – Филе куриное или мякоть бедра, продукт определится за два дня до начала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оус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1 гарнир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блюда - минимум 80 г – максимум 13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рции блюда подаются на тарелках - круглая белая плоская тарелка 32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и подаче дополнительных аксессуаров и вспомогательного инвентаря на тарелках НЕ ДОПУСКАЕТСЯ!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нгреди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едиенты с общего сто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едиенты из списка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ле куриное или мякоть бедра, продукт определится за д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начала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использовать дополнительное оборудование и инвентарь, которое необходимо согласовать с экспертом по технике безопасности непосредственно перед началом соревнований, за исключением, аналогичного, имеющемуся на площад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91960" y="284040"/>
          <a:ext cx="8650440" cy="5403960"/>
        </p:xfrm>
        <a:graphic>
          <a:graphicData uri="http://schemas.openxmlformats.org/drawingml/2006/table">
            <a:tbl>
              <a:tblPr/>
              <a:tblGrid>
                <a:gridCol w="2743200"/>
                <a:gridCol w="2808360"/>
                <a:gridCol w="3098880"/>
              </a:tblGrid>
              <a:tr h="42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59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59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я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59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ить 3 порции основного горячего блюда из ры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арни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ый из овощей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ой из овощей – пюре!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1 соус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блюда - минимум 22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 основного продукта и гарнира 60: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рции блюда подаются на тарелках - круглая белая плоская тарелка 32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о подается одна порция50 мл основного соуса в соуснике для слепой деу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и подаче дополнительных аксессуаров и вспомогательного инвентаря на тарелках НЕ ДОПУСКАЕТСЯ!!!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нгреди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идиенты с общего ст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зуйте ингридиенты из списка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продукты из «черного ящика» - рыба (туш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1 гарнир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использовать дополнительное оборудование и инвентарь, которое необходимо согласовать с экспертом по технике безопасности непосредственно перед началом соревнований, за исключением, аналогичного, имеющемуся на площад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20760" y="237960"/>
          <a:ext cx="8575560" cy="5554800"/>
        </p:xfrm>
        <a:graphic>
          <a:graphicData uri="http://schemas.openxmlformats.org/drawingml/2006/table">
            <a:tbl>
              <a:tblPr/>
              <a:tblGrid>
                <a:gridCol w="2697120"/>
                <a:gridCol w="2935080"/>
                <a:gridCol w="800280"/>
                <a:gridCol w="2143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5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ерт – Песочное т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59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я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5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ить 3 порции десерта с использованием песочного теста (или его производных) как одного из основных компон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один соус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один обязательный декоративный элемент на выбор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e8eee8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десерта - минимум 100 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рции десерта подаются на тарелках - круглая белая плоская тарелка 32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и подаче дополнительных аксессуаров и вспомогательного инвентаря на тарелках НЕ ДОПУСКАЕТСЯ!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нгредиен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едиенты с общего сто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ингридиенты из списка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003030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очное тесто и его производ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003030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solidFill>
                      <a:srgbClr val="e8eee8"/>
                    </a:solidFill>
                  </a:tcPr>
                </a:tc>
              </a:tr>
              <a:tr h="122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003030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использовать дополнительное оборудование и инвентарь, которое необходимо согласовать с экспертом по технике безопасности непосредственно перед началом соревнований, за исключением, аналогичного, имеющемуся на площад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303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d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869320" y="219240"/>
          <a:ext cx="20808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93453"/>
                      </a:solidFill>
                    </a:lnL>
                    <a:lnR w="5760">
                      <a:solidFill>
                        <a:srgbClr val="193453"/>
                      </a:solidFill>
                    </a:lnR>
                    <a:lnT w="5760">
                      <a:solidFill>
                        <a:srgbClr val="193453"/>
                      </a:solidFill>
                    </a:lnT>
                    <a:lnB w="5760">
                      <a:solidFill>
                        <a:srgbClr val="19345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4:48Z</dcterms:created>
  <dc:creator>qwerty</dc:creator>
  <dc:description/>
  <cp:keywords>скачать тему для презентации</cp:keywords>
  <dc:language>en-US</dc:language>
  <cp:lastModifiedBy>Comp</cp:lastModifiedBy>
  <dcterms:modified xsi:type="dcterms:W3CDTF">2017-03-27T16:58:34Z</dcterms:modified>
  <cp:revision>48</cp:revision>
  <dc:subject/>
  <dc:title>Слайд 1</dc:title>
</cp:coreProperties>
</file>