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73D-DB68-4FA3-B2A9-B7F857CC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A23-DC0F-48D8-8C42-3E98B230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591-E28A-4832-8587-BD80F90B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B5C-9F4F-4CCC-91F5-3C14BA87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ECC-4540-4E9A-8B97-AB765863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FE77-9DDD-431F-A5E3-07D773C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324-6B67-4E66-973B-0E354DF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D9EA-C25F-4498-9110-A2D4243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BB44-E823-46D6-B1ED-04A4F5F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8CD9-03A9-4785-8BA7-C6186188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EE01-7056-4E49-A550-2A2772A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F58-5DF0-4633-890C-D482568B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6D4-2878-4CB0-B48B-BFBA4A0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4CE-907F-4A71-911D-19625C2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4716-315C-41C3-AA78-0DC775FD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551E-F84A-4CE9-BD53-C6A011C8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F10-0D51-4E7F-97C8-EC309159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FAEB-3E38-4372-A5BF-42E7894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7589-C53A-4BF4-B997-B9C0782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97C7-EACF-4A91-8412-5D46C7F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903A-3A9A-43CE-A69D-2A177D0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C245-CF01-429E-8C83-B7E3A7A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4DC-401B-4495-9B56-4239DB49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550B-43AC-4D80-9538-D1A97C3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B1E1-FAD4-49A6-947B-DFF18F7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49F2-247D-4C40-96BF-17A859E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C481-2767-474B-9689-82DF386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3027-48C2-4280-B618-469320B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C2FF-CB61-4E63-A9FF-CDF8388B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4863-B723-4291-A5BA-00282B58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B864-B94A-4A23-87E8-5B1F5FA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93ED-7F75-4E07-8C9B-530D1F2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92C0-A181-4B31-9D31-9004DDF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B1A-53A0-4B0E-9924-8E903C63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B96C-BA7A-48F2-9A9B-EC95B4E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36E1-AB75-4A6C-BFD5-9CBE3F9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0BF9-472C-465C-B8D6-DFD2A43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4872-95F1-45E6-A724-13E9A0C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D0C9-90D2-44D6-9F28-6B18E10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2245-88E6-401A-896E-96411C5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40D7-F1F5-4AFC-80C2-1265351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D6B2-0E58-400A-BAB7-81220BA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FDC1-4F0A-4EFE-9A66-87D786E4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E18-0948-4017-9DB6-B9C0D6C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7EF-32FB-4A20-B5A8-53F3DC3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1FC-5474-4FED-B665-5E3D38E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BDC-5A34-462F-9462-516C0FEA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85F-4898-4E29-ACDD-03A11F1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EB7E-C032-4AFB-B7F5-CC53426C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85F0-4D2C-40EB-9B93-BFD8C1DA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F0E-43EB-4F42-B28F-8022DADE0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1E6-D329-4117-A61C-2411A948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skills.org/" TargetMode="External"/><Relationship Id="rId2" Type="http://schemas.openxmlformats.org/officeDocument/2006/relationships/hyperlink" Target="http://www.worldskills.org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3360" y="447840"/>
            <a:ext cx="2652480" cy="73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31880" y="1855440"/>
            <a:ext cx="615312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4671"/>
                </a:solidFill>
                <a:latin typeface="Times New Roman"/>
                <a:ea typeface="Times New Roman"/>
              </a:rPr>
              <a:t>Как подготовить студента к чемпионату</a:t>
            </a:r>
            <a:r>
              <a:rPr b="1" lang="en-US" sz="6000" spc="-1" strike="noStrike">
                <a:solidFill>
                  <a:srgbClr val="214671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https://scontent.xx.fbcdn.net/v/t1.0-1/c13.0.200.200/p200x200/10295667_454206274779874_8073852227209942088_n.png?oh=a8fddcd3bba35ba9ea88b16cc8654eaf&amp;oe=595804AE"/>
          <p:cNvPicPr/>
          <p:nvPr/>
        </p:nvPicPr>
        <p:blipFill>
          <a:blip r:embed="rId1"/>
          <a:stretch/>
        </p:blipFill>
        <p:spPr>
          <a:xfrm>
            <a:off x="6446880" y="182520"/>
            <a:ext cx="2206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чемпион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760" y="1060200"/>
            <a:ext cx="83865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и практическая подготовка к выполнению конкурсного задания проводится  по чётко прописанным модулям – разрабатывается концепция блюда, технология и дизайн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проводится сначала по элементам, а затем полностью по модул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дулям с «Чёрным ящиком» - проводился анализ по возможным вариантам содержимого «Чёрного ящика», разрабатывается несколько универсальных концепций блюд, несколько вариантов дизайна по каждому модулю, далее тренинги,   направленные на изучение рецептур и технологий различных составляющих для реализации разработанных концепци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и тактика набора баллов. Работа в этом направлении ведется параллельно с технической подготовкой и состоит в доскональном знании оценочной схемы и умением расставлять критерии по степени важности, в том числе в стрессовых ситуациях. Например: при окончании времени для подачи и не полной готовности блюда, чтобы заработать большее количество баллов необходимо подавать то, что выполнено. В противном случае, потери составят большее количество б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подготовка. Во время технической подготовки, специально моделируются ситуации для проверки стрессоустойчив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а проведения чемпионатов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5400" y="1179000"/>
            <a:ext cx="82263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спользуя такую схему подготовки, студентка нашего техникума, Улицкая Ольга, заняла 1-ое место и получила золотую медаль на региональном чемпионате «Молодые профессионалы»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rldskil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ssia) в Республике Коми 2017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оч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л национального чемпио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2" descr=""/>
          <p:cNvPicPr/>
          <p:nvPr/>
        </p:nvPicPr>
        <p:blipFill>
          <a:blip r:embed="rId1"/>
          <a:stretch/>
        </p:blipFill>
        <p:spPr>
          <a:xfrm>
            <a:off x="274680" y="1066680"/>
            <a:ext cx="86979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полученный опыт и разработать методику подготовки участника к чемпио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итерии  отбора участника для участия в чемпио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тандар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мпетенции Повар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технической документацией при подготовке к чемпионат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847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ый этап – первичный отб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116000"/>
            <a:ext cx="84787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Желание (мотивац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Цели участника по реализации себя в профессии,    кем он себя видит в    перспектив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особности к профессии и обуча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увство вкуса и баланс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доровые амбиции и умение правильно расставлять приорит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пособность к критической самооцен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Адекватное отношение к конструктивной критики и умение 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Психологическая устойчив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37600"/>
            <a:ext cx="7313400" cy="11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торой этап – изучение стандарто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SR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технической документ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5760" y="1619280"/>
            <a:ext cx="82864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андар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SR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по компетенции Поварское де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рганизация работы и управление процес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служивание клиентов и 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доровье, гигиена и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нание ингредиентов и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етоды обработки кулинар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Методы производства кулинар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ление и презентация 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Закупка, хранение, калькуляция,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320" y="264960"/>
            <a:ext cx="822636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ическая докумен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079640"/>
            <a:ext cx="822636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писание 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ное задание (К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и оценки (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ный лист (И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e"/>
                </a:solidFill>
                <a:uFillTx/>
                <a:latin typeface="Arial"/>
                <a:hlinkClick r:id="rId1"/>
              </a:rPr>
              <a:t>www.worldskill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e"/>
                </a:solidFill>
                <a:uFillTx/>
                <a:latin typeface="Arial"/>
                <a:hlinkClick r:id="rId2"/>
              </a:rPr>
              <a:t>www. worldskills.</a:t>
            </a:r>
            <a:r>
              <a:rPr b="0" lang="en-US" sz="2000" spc="-1" strike="noStrike" u="sng">
                <a:solidFill>
                  <a:srgbClr val="007878"/>
                </a:solidFill>
                <a:uFillTx/>
                <a:latin typeface="Arial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78"/>
                </a:solidFill>
                <a:latin typeface="Arial"/>
              </a:rPr>
              <a:t>WorldSkills Russia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етий этап – тренировоч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способностей кандид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о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рофиля умений и навы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тий уровен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индивидуального плана подготовки кандида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твёрт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очные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ят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результат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естой уровен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бор основного кандидата для участия в предстоящем чемпион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ное зад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примере задания для регионального чемпионата 2016-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5760" y="1463760"/>
          <a:ext cx="8226360" cy="4932360"/>
        </p:xfrm>
        <a:graphic>
          <a:graphicData uri="http://schemas.openxmlformats.org/drawingml/2006/table">
            <a:tbl>
              <a:tblPr/>
              <a:tblGrid>
                <a:gridCol w="2577960"/>
                <a:gridCol w="2903400"/>
                <a:gridCol w="2571840"/>
                <a:gridCol w="1735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одная закуска - П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холодной закуски из птицы - ру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 продукты – Филе куриное или мякоть бедра, продукт определится за два дня до начала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гарнир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блюда - минимум 80 г – максимум 13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блюд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с общего сто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ле куриное или мякоть бедра, продукт определится за д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начала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91960" y="284040"/>
          <a:ext cx="8650440" cy="5403960"/>
        </p:xfrm>
        <a:graphic>
          <a:graphicData uri="http://schemas.openxmlformats.org/drawingml/2006/table">
            <a:tbl>
              <a:tblPr/>
              <a:tblGrid>
                <a:gridCol w="2743200"/>
                <a:gridCol w="2808360"/>
                <a:gridCol w="3098880"/>
              </a:tblGrid>
              <a:tr h="42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основного горячего блюда из ры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арни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ый из овощей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ой из овощей – пюре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блюда - минимум 2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 основного продукта и гарнира 60: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блюд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о подается одна порция50 мл основного соуса в соуснике для слепой деу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идиенты с общего ст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зуйте ингри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продукты из «черного ящика» - рыба (туш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гарнир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20760" y="237960"/>
          <a:ext cx="8575560" cy="5554800"/>
        </p:xfrm>
        <a:graphic>
          <a:graphicData uri="http://schemas.openxmlformats.org/drawingml/2006/table">
            <a:tbl>
              <a:tblPr/>
              <a:tblGrid>
                <a:gridCol w="2697120"/>
                <a:gridCol w="2935080"/>
                <a:gridCol w="80028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ерт – Песочное т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десерта с использованием песочного теста (или его производных) как одного из основных компон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один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один обязательный декоративный элемент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e8eee8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десерта - минимум 100 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десерт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с общего сто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и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очное тесто и его произво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869320" y="219240"/>
          <a:ext cx="20808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4:48Z</dcterms:created>
  <dc:creator>qwerty</dc:creator>
  <dc:description/>
  <cp:keywords>скачать тему для презентации</cp:keywords>
  <dc:language>en-US</dc:language>
  <cp:lastModifiedBy>Comp</cp:lastModifiedBy>
  <dcterms:modified xsi:type="dcterms:W3CDTF">2017-03-27T16:58:34Z</dcterms:modified>
  <cp:revision>48</cp:revision>
  <dc:subject/>
  <dc:title>Слайд 1</dc:title>
</cp:coreProperties>
</file>