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1E7-62DA-4A6D-A345-BE8DA649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A1D-C1B7-4959-A1A9-15011C9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628-CFEF-4802-9211-F0B7FFEF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948-7642-4114-BF1F-237034EC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4A7DA-A4E2-4636-A316-D8EBAF7B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134FC-B9C3-46EF-B2DE-EEFBFA73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C14C3-10E5-49B8-AC0D-37ECBAD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5DF3D-AF4E-4503-B723-3DE6F036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F3B04-C365-436E-B2FC-3F671160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6A9BE-8F4F-4524-A9F0-C14845AB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29922-FEA4-4E6E-95AF-160F4BD5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C28-72DF-40A0-9EDF-FD8C4B29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5453F-B2BD-4882-9604-1BAD64D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B5499-B2FC-49E5-A66A-46DA6CE7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0BE1E-FF2E-4978-8E87-F2E3DD59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1DD2D-36AC-40DE-974D-2C4802E6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84947-CB25-4601-8D0B-6EBD5FF1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BC7-0574-44A6-AF57-C807D719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750-DF8E-4C5C-8A0B-8EB08388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FBC-BD89-48C8-A479-FBA9F25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373-B3D3-4D4C-9924-CD886719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63D-519E-4EC1-A794-190D223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E79-5B45-4922-A8BB-7386A1F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8C5-5011-4961-9B00-1BC938B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A6EA-6921-4AA4-84E3-5F639AE4F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D552-1B9C-4AA6-A409-7FB9363A98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2&amp;ed=1&amp;text=&#1096;&#1091;&#1082;&#1096;&#1080;&#1085;%20&#1088;&#1072;&#1089;&#1089;&#1082;&#1072;&#1079;&#1099;&amp;spsite=fake-009-1035856.ru&amp;img_url=literator.ucoz.ru%2F_ph%2F48%2F2%2F923105633.jpg&amp;rpt=simage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yandex.ru/search?p=76&amp;ed=1&amp;text=&#1096;&#1091;&#1082;&#1096;&#1080;&#1085;%20&#1092;&#1086;&#1090;&#1086;&amp;spsite=fake-019-1917829.ru&amp;img_url=img11.nnm.ru%2Fa%2Ff%2Fa%2Fd%2Fb%2Fa6df9667f3922b4da309b40e11f.jpg&amp;rpt=simage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yandex.ru/search?p=0&amp;ed=1&amp;text=&#1096;&#1091;&#1082;&#1096;&#1080;&#1085;%20&#1082;&#1072;&#1083;&#1080;&#1085;&#1072;%20&#1082;&#1088;&#1072;&#1089;&#1085;&#1072;&#1103;&amp;spsite=fake-013-1221590.ru&amp;img_url=bms.24open.ru%2Fimages%2Fe68b131b1a92a0e9bc2d590abbba4c37&amp;rpt=simage&amp;nl=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yandex.ru/search?p=33&amp;ed=1&amp;text=&#1096;&#1091;&#1082;&#1096;&#1080;&#1085;%20&#1092;&#1086;&#1090;&#1086;&amp;spsite=fake-006-9029305.ru&amp;img_url=www.lenta.tv%2Fuploads%2Fpics%2Fshukshin20050929.jpg&amp;rpt=simage" TargetMode="External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teactors.ru/img.php?photoid=1331&amp;newwidth=800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61.radikal.ru/i171/0909/17/ad1cc3c7c5cb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skor.ru/posts_images_200907/392_300_8777_shuk2big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ukshin.net/utro.shtml" TargetMode="External"/><Relationship Id="rId3" Type="http://schemas.openxmlformats.org/officeDocument/2006/relationships/hyperlink" Target="http://www.shukshin.net/utro.shtml" TargetMode="External"/><Relationship Id="rId4" Type="http://schemas.openxmlformats.org/officeDocument/2006/relationships/hyperlink" Target="http://www.shukshin.net/alesha.shtml" TargetMode="External"/><Relationship Id="rId5" Type="http://schemas.openxmlformats.org/officeDocument/2006/relationships/hyperlink" Target="http://www.shukshin.net/alesha.shtml" TargetMode="External"/><Relationship Id="rId6" Type="http://schemas.openxmlformats.org/officeDocument/2006/relationships/hyperlink" Target="http://www.shukshin.net/artist.shtml" TargetMode="External"/><Relationship Id="rId7" Type="http://schemas.openxmlformats.org/officeDocument/2006/relationships/hyperlink" Target="http://www.shukshin.net/moon.shtml" TargetMode="External"/><Relationship Id="rId8" Type="http://schemas.openxmlformats.org/officeDocument/2006/relationships/hyperlink" Target="http://www.shukshin.net/free.shtml" TargetMode="External"/><Relationship Id="rId9" Type="http://schemas.openxmlformats.org/officeDocument/2006/relationships/hyperlink" Target="http://www.shukshin.net/bes.shtml" TargetMode="External"/><Relationship Id="rId10" Type="http://schemas.openxmlformats.org/officeDocument/2006/relationships/hyperlink" Target="http://www.shukshin.net/ticket.shtml" TargetMode="External"/><Relationship Id="rId11" Type="http://schemas.openxmlformats.org/officeDocument/2006/relationships/hyperlink" Target="http://www.shukshin.net/bory.shtml" TargetMode="External"/><Relationship Id="rId12" Type="http://schemas.openxmlformats.org/officeDocument/2006/relationships/hyperlink" Target="http://www.shukshin.net/brat.shtml" TargetMode="External"/><Relationship Id="rId13" Type="http://schemas.openxmlformats.org/officeDocument/2006/relationships/hyperlink" Target="http://www.shukshin.net/ma.shtml" TargetMode="External"/><Relationship Id="rId14" Type="http://schemas.openxmlformats.org/officeDocument/2006/relationships/hyperlink" Target="http://www.shukshin.net/prof.shtml" TargetMode="External"/><Relationship Id="rId15" Type="http://schemas.openxmlformats.org/officeDocument/2006/relationships/hyperlink" Target="http://www.shukshin.net/ivan.shtml" TargetMode="External"/><Relationship Id="rId16" Type="http://schemas.openxmlformats.org/officeDocument/2006/relationships/hyperlink" Target="http://www.shukshin.net/ivan.shtml" TargetMode="External"/><Relationship Id="rId17" Type="http://schemas.openxmlformats.org/officeDocument/2006/relationships/hyperlink" Target="http://www.shukshin.net/here.shtml" TargetMode="External"/><Relationship Id="rId18" Type="http://schemas.openxmlformats.org/officeDocument/2006/relationships/hyperlink" Target="http://www.shukshin.net/ys.shtml" TargetMode="External"/><Relationship Id="rId19" Type="http://schemas.openxmlformats.org/officeDocument/2006/relationships/hyperlink" Target="http://www.shukshin.net/vers.shtml" TargetMode="External"/><Relationship Id="rId20" Type="http://schemas.openxmlformats.org/officeDocument/2006/relationships/hyperlink" Target="http://www.shukshin.net/vera.shtml" TargetMode="External"/><Relationship Id="rId21" Type="http://schemas.openxmlformats.org/officeDocument/2006/relationships/hyperlink" Target="http://www.shukshin.net/yakov.shtml" TargetMode="External"/><Relationship Id="rId22" Type="http://schemas.openxmlformats.org/officeDocument/2006/relationships/hyperlink" Target="http://www.shukshin.net/toska.shtml" TargetMode="External"/><Relationship Id="rId23" Type="http://schemas.openxmlformats.org/officeDocument/2006/relationships/hyperlink" Target="http://www.shukshin.net/vibg.shtml" TargetMode="External"/><Relationship Id="rId24" Type="http://schemas.openxmlformats.org/officeDocument/2006/relationships/hyperlink" Target="http://www.shukshin.net/props.shtml" TargetMode="External"/><Relationship Id="rId25" Type="http://schemas.openxmlformats.org/officeDocument/2006/relationships/hyperlink" Target="http://www.shukshin.net/gena.shtml" TargetMode="External"/><Relationship Id="rId26" Type="http://schemas.openxmlformats.org/officeDocument/2006/relationships/hyperlink" Target="http://www.shukshin.net/gena.shtml" TargetMode="External"/><Relationship Id="rId27" Type="http://schemas.openxmlformats.org/officeDocument/2006/relationships/hyperlink" Target="http://www.shukshin.net/general.shtml" TargetMode="External"/><Relationship Id="rId28" Type="http://schemas.openxmlformats.org/officeDocument/2006/relationships/hyperlink" Target="http://www.shukshin.net/general.shtml" TargetMode="External"/><Relationship Id="rId29" Type="http://schemas.openxmlformats.org/officeDocument/2006/relationships/hyperlink" Target="http://www.shukshin.net/gore.shtml" TargetMode="External"/><Relationship Id="rId30" Type="http://schemas.openxmlformats.org/officeDocument/2006/relationships/hyperlink" Target="http://www.shukshin.net/grinka.shtml" TargetMode="External"/><Relationship Id="rId31" Type="http://schemas.openxmlformats.org/officeDocument/2006/relationships/hyperlink" Target="http://www.shukshin.net/dat.shtml" TargetMode="External"/><Relationship Id="rId32" Type="http://schemas.openxmlformats.org/officeDocument/2006/relationships/hyperlink" Target="http://www.shukshin.net/dalek.shtml" TargetMode="External"/><Relationship Id="rId33" Type="http://schemas.openxmlformats.org/officeDocument/2006/relationships/hyperlink" Target="http://www.shukshin.net/dval.shtml" TargetMode="External"/><Relationship Id="rId34" Type="http://schemas.openxmlformats.org/officeDocument/2006/relationships/hyperlink" Target="http://www.shukshin.net/dvat.shtml" TargetMode="External"/><Relationship Id="rId35" Type="http://schemas.openxmlformats.org/officeDocument/2006/relationships/hyperlink" Target="http://www.shukshin.net/debil.shtml" TargetMode="External"/><Relationship Id="rId36" Type="http://schemas.openxmlformats.org/officeDocument/2006/relationships/hyperlink" Target="http://www.shukshin.net/dema.shtml" TargetMode="External"/><Relationship Id="rId37" Type="http://schemas.openxmlformats.org/officeDocument/2006/relationships/hyperlink" Target="http://www.shukshin.net/zabav.shtml" TargetMode="External"/><Relationship Id="rId38" Type="http://schemas.openxmlformats.org/officeDocument/2006/relationships/hyperlink" Target="http://www.shukshin.net/zabav.shtml" TargetMode="External"/><Relationship Id="rId39" Type="http://schemas.openxmlformats.org/officeDocument/2006/relationships/hyperlink" Target="http://www.shukshin.net/pari.shtml" TargetMode="External"/><Relationship Id="rId40" Type="http://schemas.openxmlformats.org/officeDocument/2006/relationships/hyperlink" Target="http://www.shukshin.net/paren.shtml" TargetMode="External"/><Relationship Id="rId41" Type="http://schemas.openxmlformats.org/officeDocument/2006/relationships/hyperlink" Target="http://www.shukshin.net/pip.shtml" TargetMode="External"/><Relationship Id="rId42" Type="http://schemas.openxmlformats.org/officeDocument/2006/relationships/hyperlink" Target="http://www.shukshin.net/zabuks.shtml" TargetMode="External"/><Relationship Id="rId43" Type="http://schemas.openxmlformats.org/officeDocument/2006/relationships/hyperlink" Target="http://www.shukshin.net/zalet.shtml" TargetMode="External"/><Relationship Id="rId44" Type="http://schemas.openxmlformats.org/officeDocument/2006/relationships/hyperlink" Target="http://www.shukshin.net/zmey.shtml" TargetMode="External"/><Relationship Id="rId45" Type="http://schemas.openxmlformats.org/officeDocument/2006/relationships/hyperlink" Target="http://www.shukshin.net/koni.shtml" TargetMode="External"/><Relationship Id="rId46" Type="http://schemas.openxmlformats.org/officeDocument/2006/relationships/hyperlink" Target="http://www.shukshin.net/ign.shtml" TargetMode="External"/><Relationship Id="rId47" Type="http://schemas.openxmlformats.org/officeDocument/2006/relationships/hyperlink" Target="http://www.shukshin.net/ign.shtml" TargetMode="External"/><Relationship Id="rId48" Type="http://schemas.openxmlformats.org/officeDocument/2006/relationships/hyperlink" Target="http://www.shukshin.net/ivpo.shtml" TargetMode="External"/><Relationship Id="rId49" Type="http://schemas.openxmlformats.org/officeDocument/2006/relationships/hyperlink" Target="http://www.shukshin.net/kalina.shtml" TargetMode="External"/><Relationship Id="rId50" Type="http://schemas.openxmlformats.org/officeDocument/2006/relationships/hyperlink" Target="http://www.shukshin.net/el.shtml" TargetMode="External"/><Relationship Id="rId51" Type="http://schemas.openxmlformats.org/officeDocument/2006/relationships/hyperlink" Target="http://www.shukshin.net/class.shtml" TargetMode="External"/><Relationship Id="rId52" Type="http://schemas.openxmlformats.org/officeDocument/2006/relationships/hyperlink" Target="http://www.shukshin.net/strong.shtml" TargetMode="External"/><Relationship Id="rId53" Type="http://schemas.openxmlformats.org/officeDocument/2006/relationships/hyperlink" Target="http://www.shukshin.net/kritik.shtml" TargetMode="External"/><Relationship Id="rId54" Type="http://schemas.openxmlformats.org/officeDocument/2006/relationships/hyperlink" Target="http://www.shukshin.net/kri.shtml" TargetMode="External"/><Relationship Id="rId55" Type="http://schemas.openxmlformats.org/officeDocument/2006/relationships/hyperlink" Target="http://www.shukshin.net/kuk.shtml" TargetMode="External"/><Relationship Id="rId56" Type="http://schemas.openxmlformats.org/officeDocument/2006/relationships/hyperlink" Target="http://www.shukshin.net/lely.shtml" TargetMode="External"/><Relationship Id="rId57" Type="http://schemas.openxmlformats.org/officeDocument/2006/relationships/hyperlink" Target="http://www.shukshin.net/lenka.shtml" TargetMode="External"/><Relationship Id="rId58" Type="http://schemas.openxmlformats.org/officeDocument/2006/relationships/hyperlink" Target="http://www.shukshin.net/lesy.shtml" TargetMode="External"/><Relationship Id="rId59" Type="http://schemas.openxmlformats.org/officeDocument/2006/relationships/hyperlink" Target="http://www.shukshin.net/lida.shtml" TargetMode="External"/><Relationship Id="rId60" Type="http://schemas.openxmlformats.org/officeDocument/2006/relationships/hyperlink" Target="http://www.shukshin.net/mast.shtml" TargetMode="External"/><Relationship Id="rId61" Type="http://schemas.openxmlformats.org/officeDocument/2006/relationships/hyperlink" Target="http://www.shukshin.net/mh.shtml" TargetMode="External"/><Relationship Id="rId62" Type="http://schemas.openxmlformats.org/officeDocument/2006/relationships/hyperlink" Target="http://www.shukshin.net/mv.shtml" TargetMode="External"/><Relationship Id="rId63" Type="http://schemas.openxmlformats.org/officeDocument/2006/relationships/hyperlink" Target="http://www.shukshin.net/dream.shtml" TargetMode="External"/><Relationship Id="rId64" Type="http://schemas.openxmlformats.org/officeDocument/2006/relationships/hyperlink" Target="http://www.shukshin.net/drova.shtml" TargetMode="External"/><Relationship Id="rId65" Type="http://schemas.openxmlformats.org/officeDocument/2006/relationships/hyperlink" Target="http://www.shukshin.net/one.shtml" TargetMode="External"/><Relationship Id="rId66" Type="http://schemas.openxmlformats.org/officeDocument/2006/relationships/hyperlink" Target="http://www.shukshin.net/opt.shtml" TargetMode="External"/><Relationship Id="rId67" Type="http://schemas.openxmlformats.org/officeDocument/2006/relationships/hyperlink" Target="http://www.shukshin.net/osen.shtml" TargetMode="External"/><Relationship Id="rId68" Type="http://schemas.openxmlformats.org/officeDocument/2006/relationships/hyperlink" Target="http://www.shukshin.net/priedy.shtml" TargetMode="External"/><Relationship Id="rId69" Type="http://schemas.openxmlformats.org/officeDocument/2006/relationships/hyperlink" Target="http://www.shukshin.net/ssd.shtml" TargetMode="External"/><Relationship Id="rId7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&amp;text=&#1074;%20&#1084;%20&#1096;&#1091;&#1082;&#1096;&#1080;&#1085;%20%20&#1086;&#1073;&#1083;&#1086;&#1078;&#1082;&#1080;%20&#1082;&#1085;&#1080;&#1075;%20&#1092;&#1086;&#1090;&#1086;&amp;spsite=fake-031-858926.ru&amp;img_url=www.zebrae.ru%2Fimages%2Fitems%2F235.jpg&amp;rpt=simage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yandex.ru/search?p=14&amp;text=&#1074;%20&#1084;%20&#1096;&#1091;&#1082;&#1096;&#1080;&#1085;%20%20&#1086;&#1073;&#1083;&#1086;&#1078;&#1082;&#1080;%20&#1082;&#1085;&#1080;&#1075;%20&#1092;&#1086;&#1090;&#1086;&amp;spsite=fake-009-2528551.ru&amp;img_url=www.cwer.ru%2Ffiles%2Fu909881%2FLubaviny_kn1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search?p=17&amp;text=&#1074;%20&#1084;%20&#1096;&#1091;&#1082;&#1096;&#1080;&#1085;%20%20&#1086;&#1073;&#1083;&#1086;&#1078;&#1082;&#1080;%20&#1082;&#1085;&#1080;&#1075;%20&#1092;&#1086;&#1090;&#1086;&amp;spsite=fake-020-149517.ru&amp;img_url=shop.top-kniga.ru%2Fdata%2Fm_ishc%2F757%2F757660.jpg&amp;rpt=simage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yandex.ru/search?p=19&amp;text=&#1074;%20&#1084;%20&#1096;&#1091;&#1082;&#1096;&#1080;&#1085;%20%20&#1086;&#1073;&#1083;&#1086;&#1078;&#1082;&#1080;%20&#1082;&#1085;&#1080;&#1075;%20&#1092;&#1086;&#1090;&#1086;&amp;spsite=fake-024-618284.ru&amp;img_url=www.ozon.ru%2Fmultimedia%2Fbooks_covers%2F1000348214.jpg&amp;rpt=simage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yandex.ru/search?p=13&amp;ed=1&amp;text=&#1096;&#1091;&#1082;&#1096;&#1080;&#1085;%20&#1082;&#1072;&#1083;&#1080;&#1085;&#1072;%20&#1082;&#1088;&#1072;&#1089;&#1085;&#1072;&#1103;&amp;spsite=afisha.yuga.ru&amp;img_url=afisha.yuga.ru%2Fmedia%2Fkalina_p.jpg&amp;rpt=simage&amp;nl=1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yandex.ru/search?p=20&amp;text=&#1074;%20&#1084;%20&#1096;&#1091;&#1082;&#1096;&#1080;&#1085;%20%20&#1086;&#1073;&#1083;&#1086;&#1078;&#1082;&#1080;%20&#1082;&#1085;&#1080;&#1075;%20&#1092;&#1086;&#1090;&#1086;&amp;spsite=fake-002-578178.ru&amp;img_url=www.booksiti.net.ru%2Fbooks%2Fimage%2F930515007.jpg&amp;rpt=simage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yandex.ru/search?p=21&amp;text=&#1074;%20&#1084;%20&#1096;&#1091;&#1082;&#1096;&#1080;&#1085;%20%20&#1086;&#1073;&#1083;&#1086;&#1078;&#1082;&#1080;%20&#1082;&#1085;&#1080;&#1075;%20&#1092;&#1086;&#1090;&#1086;&amp;spsite=fake-011-7653204.ru&amp;img_url=www.bookin.org.ru%2Fbook%2F629476.jpg&amp;rpt=simage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yandex.ru/search?p=31&amp;text=&#1074;%20&#1084;%20&#1096;&#1091;&#1082;&#1096;&#1080;&#1085;%20%20&#1086;&#1073;&#1083;&#1086;&#1078;&#1082;&#1080;%20&#1082;&#1085;&#1080;&#1075;%20&#1092;&#1086;&#1090;&#1086;&amp;spsite=fake-001-3340524.ru&amp;img_url=covers.allshops.ru%2Fc%2Fcb%2Fcb_%2Fcb_104970big.jpg&amp;rpt=simage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yandex.ru/search?p=36&amp;text=&#1074;%20&#1084;%20&#1096;&#1091;&#1082;&#1096;&#1080;&#1085;%20%20&#1086;&#1073;&#1083;&#1086;&#1078;&#1082;&#1080;%20&#1082;&#1085;&#1080;&#1075;%20&#1092;&#1086;&#1090;&#1086;&amp;spsite=fake-023-1269864.ru&amp;img_url=www.dom-knigi.ru%2Fimages%2Fimage.asp%3FArt%3D295456&amp;rpt=simage" TargetMode="External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8207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Нам бы про душу не забыть… Нам бы немножко добрее быть… Мы один раз, так уж случилось, живем на земле… Но так и будьте повнимательнее друг к другу, подобрее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В.М. Шукш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3933720"/>
            <a:ext cx="2119320" cy="175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1844640"/>
            <a:ext cx="208944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5640" y="1844640"/>
            <a:ext cx="20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39337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3276720" y="1844640"/>
            <a:ext cx="21603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74,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 октября - умер на съемках фильма «Они сражались за Родину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3600360" cy="35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78 из 9302"/>
          <p:cNvPicPr/>
          <p:nvPr/>
        </p:nvPicPr>
        <p:blipFill>
          <a:blip r:embed="rId3"/>
          <a:stretch/>
        </p:blipFill>
        <p:spPr>
          <a:xfrm>
            <a:off x="4500720" y="476280"/>
            <a:ext cx="32558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2301840" cy="1800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452480" y="31078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-8190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-7477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598040"/>
            <a:ext cx="792000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Заслуги в развитии культуры и искус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67 г., ноябрь – Указом Президента Верховного Совета СССР награждён орденом Трудового красного Зна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67 г., декабрь – Удостоен Государственной премии им. братьев Васильевых  за фильм «Ваш сын и брат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69 г., сентябрь – За заслуги в области советской кинематографии удостоен звания заслуженного деятеля искусств РСФС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1г. – За исполнение роли инженера Черных в фильме С. Герасимова «У озера» удостоен Государственной премии СССР. За выдающиеся заслуги в области киноискусства удостоен правительственной награды –ордена Трудового Красного зна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4г. – За исполнение роли Егора Прокудина в фильме «Калина красная» признан лучшим актёром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5 г. – За исполнение роли Петра Лопахина в фильме  «Они сражались за Родину» признан лучшим актёром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6 г., апрель – За творческие достижения последних лет в киноискусстве В.М. Шукшину присуждена Ленинская премия (посмертно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сновные даты   писательского твор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58, август – в журнале «Смена» (№15) напечатан рассказ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Двое на телеге»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первая публикация В. Шукшина в центральном изда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63 – в издательстве «Молодая гвардия» вышел первый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Сельский житель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65 – в издательстве «Советский писатель» вышел роман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Любавины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0 – в издательстве «Советская Россия» вышел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Земля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3 – в издательстве «Современник» вышел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Характер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4 – в издательстве «Советская Россия» вышел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Беседы при ясной лун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4 июнь – в издательстве «Советский писатель» сдан в набор роман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Я пришел дать вам  волю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ема : Нам бы про душу не забыть…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Урок внеклассного чтения по    рассказу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В.М. Шукшина «Чудик»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Картинка 2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628640"/>
            <a:ext cx="4176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ена называла его - "Чудик"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Картинка 16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404640"/>
            <a:ext cx="6092640" cy="42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ловар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Чуди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то же, что чудак (по словарю Ожегов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Чудак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ный, со странностями, чудной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ик- чудо, не знающее корысти, злобы, обмана. Чудо, которое всегда подставляет вторую щёку не от страха – от любви. Любви к труду, природе, к людям… Необыкновенной любви к людям, которой, мы, наверное, не заслужили, но без которой жизнь наша невозмож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н купил конфет, пряников, три плитки шоколада. И отошел в сторонку, чтобы уложить все в чемодан. Раскрыл чемодан на полу, стал укладывать... Что-то глянул на полу-то, а у прилавка, где очередь, лежит в ногах у людей пятидесятирублевая бумажка. Этакая зеленая дурочка, лежит себе, никто ее не видит. Чудик даже задрожал от радости, глаза загорелись. Второпях, чтоб его не опередил кто-нибудь, стал быстро соображать, как бы повеселее, поостроумнее сказать этим, в очереди, про бумаж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–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Хорошо живете, граждане! – сказал он громко и весело. На него оглянули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–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У нас, например, такими бумажками не швыряю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Тут все немного поволновались. Это ведь не тройка, не пятерка – пятьдесят рублей, полмесяца работать надо. А хозяина бумажки – нет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удик вышел из магазина в приятнейшем расположении духа. Все думал, как это у него легко, весело получилось: «У нас, например, такими бумажками, не швыряются!» Вдруг его точно жаром всего обдало: он вспомнил, что точно такую бумажку и еще двадцатипятирублевую ему дали в сберкассе дома. Двадцатипятирублевую он сейчас разменял, пятидесятирублевая должна быть в кармане... Сунулся в карман – нету. Туда-сюда – не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оя была бумажка-то! – громко сказал Чудик. – Мать твою так-то!.. Моя бумажка-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од сердцем даже как-то зазвенело от горя. Первый порыв был пойти и сказать: «Граждане, моя бумажка-то. Я их две получил в сберкассе – одну двадцатипятирублевую, другую полусотельную. Одну, двадцатипятирублевую, сейчас разменял, а другой – нету». Но только он представил, как он огорошит всех этим своим заявлением, как подумают многие: «Конечно, раз хозяина не нашлось, он и решил прикарманить». Нет, не пересилить себя – не протянуть руку за проклятой бумажкой. Могут еще и не отда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а почему же я такой есть-то? – вслух горько рассуждал Чудик. – Что теперь делать?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В.М. Шукшин (1929- 1974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616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огда утром Чудик проснулся, никого в квартире не был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удик прибрал постель, умылся и стал думать, что бы такое приятное сделать снохе. Тут на глаза ему попалась детская коляска. «Эге! – подумал Чудик, – разрисую-ка  я ее». Он дома так разрисовал печь, что все дивились. Нашел ребячьи краски, кисточку и принялся за дело. Через час все было кончено, коляску не узнать. По верху колясочки Чудик пустил журавликов – стайку уголком, по низу – цветочки разные, травку-муравку, пару петушков, цыпляток… Осмотрел коляску со всех сторон – заглядень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…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удик, убитый своим ничтожеством, которое ему опять разъясняла жена (она даже пару раз стукнула его шумовкой по голове), ехал в поезде… Входили и выходили разные люди, рассказывались разные истории. Чудик тоже одну рассказал какому-то интеллигентному товарищу, когда стояли в тамбуре, кур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У нас в соседней деревне один дурак тоже... Схватил головешку – и за матерью. Пьяный. Она бежит от него и кричит. «Руки, кричит, руки-то не обожги, сынок!» О нем же и заботится... А он прет, пьяная харя. На мать. Представляете, каким надо быть грубым, бестактным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ами придумали? – строго спросил интеллигентный товарищ, глядя на Чудика поверх оч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Зачем? – не понял тот. – У нас за рекой, деревня Раменское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нтеллигентный товарищ отвернулся к окну и больше не говори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Женщину, религию, дорогу.           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ьяволу служить или пророку      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.          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лово для любви и для молитвы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Шпагу для дуэли, меч для битвы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Щит и латы, посох и заплаты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еру окончательной расплаты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ыбираю тоже - как умею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и к кому претензий не имею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 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Ю. Левитанск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3" marL="1216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асилий Макарович Шукшин вспыхнул на горизонте культуры ослепительно чистой, яркой звездой, прямо-таки сказочной рос-сыпью дарований. Писатель, романист и драматург, режиссер больших народных полотен, удивительный, неповторимый артист, умеющий в самой обыденной интонации сказать такую необходимую правду о простом человеке, что миллионы сердец… замирали в едином порыве. Василию Шукшину было дано такое счасть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В. Проскурин)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металос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металось село в предгорьях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де Катунь расплескалась светл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ло вдоволь и лиха, и го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одавнее это сё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й сибирск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йзаж неброск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ьет в берег Катуни вол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ет каждый в России, что Сростк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родина Шукш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Мария Сергеевна Шукшин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асил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Шукши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 семьей, 1974 год.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Картинка 330 из 93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60280"/>
            <a:ext cx="44802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Популярные рассказ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оутру они проснулись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Алеш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Бесконвойны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Артист Федор Гра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Беседы при ясной лун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Беспалы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Бессовестны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Билетик на второй сеанс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Бор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Брат мой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В воскресенье мать-старушка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В профиль и анфас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аньк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Тепляшин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Ваня, ты как здесь?!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Ваш сын и брат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Верси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Верую!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Вечно недовольный Яковлев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Воскресная тоск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Выбираю деревню на жительство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янет, пропадает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Ген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Пройдисвет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Генерал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Малафейкин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Гор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Гринька Малюгин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Даешь сердце!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Далекие зимние вечер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Два письм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Двое на телег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Дебил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Демагог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Други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 игрищ и забав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9"/>
              </a:rPr>
              <a:t>Жена мужа в Париж провожал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0"/>
              </a:rPr>
              <a:t>Живет такой парень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1"/>
              </a:rPr>
              <a:t>Жил человек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2"/>
              </a:rPr>
              <a:t>Забуксовал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3"/>
              </a:rPr>
              <a:t>Залетны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4"/>
              </a:rPr>
              <a:t>Змеиный яд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5"/>
              </a:rPr>
              <a:t>И разыгрались же кони в пол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6"/>
              </a:rPr>
              <a:t>Игнаха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7"/>
              </a:rPr>
              <a:t> приехал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8"/>
              </a:rPr>
              <a:t>Из детских лет Ивана Попов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9"/>
              </a:rPr>
              <a:t>Калина красна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0"/>
              </a:rPr>
              <a:t>Капроновая елочк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1"/>
              </a:rPr>
              <a:t>Классный водитель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2"/>
              </a:rPr>
              <a:t>Крепкий мужик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3"/>
              </a:rPr>
              <a:t>Критик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4"/>
              </a:rPr>
              <a:t>Крыша над голово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5"/>
              </a:rPr>
              <a:t>Кукушкины слезк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6"/>
              </a:rPr>
              <a:t>Леля Селезнева с факультета журналистик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7"/>
              </a:rPr>
              <a:t>Леньк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8"/>
              </a:rPr>
              <a:t>Лес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9"/>
              </a:rPr>
              <a:t>Лида приехал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0"/>
              </a:rPr>
              <a:t>Мастер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1"/>
              </a:rPr>
              <a:t>Материнское сердц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2"/>
              </a:rPr>
              <a:t>Медик Волод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3"/>
              </a:rPr>
              <a:t>Мечты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4"/>
              </a:rPr>
              <a:t>Мой зять украл машину дров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5"/>
              </a:rPr>
              <a:t>Одн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6"/>
              </a:rPr>
              <a:t>Опыт документального рассказ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7"/>
              </a:rPr>
              <a:t>Осенью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8"/>
              </a:rPr>
              <a:t>Приезжи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9"/>
              </a:rPr>
              <a:t>Солнце, старик и девушк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ниги В.М.Шукш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1640" y="3860640"/>
            <a:ext cx="924120" cy="1390680"/>
          </a:xfrm>
          <a:prstGeom prst="rect">
            <a:avLst/>
          </a:prstGeom>
          <a:ln w="0">
            <a:noFill/>
          </a:ln>
        </p:spPr>
      </p:pic>
      <p:pic>
        <p:nvPicPr>
          <p:cNvPr id="98" name="i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3573360"/>
            <a:ext cx="857160" cy="1333440"/>
          </a:xfrm>
          <a:prstGeom prst="rect">
            <a:avLst/>
          </a:prstGeom>
          <a:ln w="0">
            <a:noFill/>
          </a:ln>
        </p:spPr>
      </p:pic>
      <p:pic>
        <p:nvPicPr>
          <p:cNvPr id="99" name="i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1844640"/>
            <a:ext cx="80964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i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19280" y="2205000"/>
            <a:ext cx="799920" cy="1247760"/>
          </a:xfrm>
          <a:prstGeom prst="rect">
            <a:avLst/>
          </a:prstGeom>
          <a:ln w="0">
            <a:noFill/>
          </a:ln>
        </p:spPr>
      </p:pic>
      <p:pic>
        <p:nvPicPr>
          <p:cNvPr id="101" name="i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27280" y="242100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102" name="i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635280" y="2492280"/>
            <a:ext cx="819360" cy="1352520"/>
          </a:xfrm>
          <a:prstGeom prst="rect">
            <a:avLst/>
          </a:prstGeom>
          <a:ln w="0">
            <a:noFill/>
          </a:ln>
        </p:spPr>
      </p:pic>
      <p:pic>
        <p:nvPicPr>
          <p:cNvPr id="103" name="i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0360" y="4581360"/>
            <a:ext cx="838080" cy="1333800"/>
          </a:xfrm>
          <a:prstGeom prst="rect">
            <a:avLst/>
          </a:prstGeom>
          <a:ln w="0">
            <a:noFill/>
          </a:ln>
        </p:spPr>
      </p:pic>
      <p:pic>
        <p:nvPicPr>
          <p:cNvPr id="104" name="i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908000" y="3860640"/>
            <a:ext cx="771840" cy="1257480"/>
          </a:xfrm>
          <a:prstGeom prst="rect">
            <a:avLst/>
          </a:prstGeom>
          <a:ln w="0">
            <a:noFill/>
          </a:ln>
        </p:spPr>
      </p:pic>
      <p:pic>
        <p:nvPicPr>
          <p:cNvPr id="105" name="i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987640" y="4365720"/>
            <a:ext cx="790560" cy="1257120"/>
          </a:xfrm>
          <a:prstGeom prst="rect">
            <a:avLst/>
          </a:prstGeom>
          <a:ln w="0">
            <a:noFill/>
          </a:ln>
        </p:spPr>
      </p:pic>
      <p:pic>
        <p:nvPicPr>
          <p:cNvPr id="106" name="i" descr=""/>
          <p:cNvPicPr/>
          <p:nvPr/>
        </p:nvPicPr>
        <p:blipFill>
          <a:blip r:embed="rId20"/>
          <a:stretch/>
        </p:blipFill>
        <p:spPr>
          <a:xfrm>
            <a:off x="5508720" y="3141720"/>
            <a:ext cx="799920" cy="1247760"/>
          </a:xfrm>
          <a:prstGeom prst="rect">
            <a:avLst/>
          </a:prstGeom>
          <a:ln w="0">
            <a:noFill/>
          </a:ln>
        </p:spPr>
      </p:pic>
      <p:pic>
        <p:nvPicPr>
          <p:cNvPr id="107" name="i" descr=""/>
          <p:cNvPicPr/>
          <p:nvPr/>
        </p:nvPicPr>
        <p:blipFill>
          <a:blip r:embed="rId21"/>
          <a:stretch/>
        </p:blipFill>
        <p:spPr>
          <a:xfrm>
            <a:off x="4643280" y="2708280"/>
            <a:ext cx="762120" cy="1266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45840" y="13899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74000" y="29980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8040" y="452052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6320" y="60429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2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31160" y="137469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836640"/>
            <a:ext cx="83534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сновные даты работы в кино</a:t>
            </a:r>
            <a:br>
              <a:rPr sz="16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58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снялся в первой своей главной роли в фильме М. Хуциева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Два Федора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59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снялся в роли Андрея Низовцев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Золотой эшелон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Ивана Лыков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Прост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стория»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Из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Лебяжьего сообщают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0, декабрь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кончил ВГИК, получил диплом кинорежиссер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1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Степана Ревун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Аленка»,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роль председателя колхоз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Когда деревья был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ьшие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роль Геннадия Николаевича в 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Мишка, Серега и я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4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Живет такой парень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Сценарий и режиссура В. Шукшин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5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Ваш сын и брат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Роль Жорки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Какое оно море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Евгения Корпачева в 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Журналист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8-1969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снимает по своему сценарию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Странные люди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1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инженера Черных в фильме С. Герасимова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У озера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2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– вышел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Печки-лавочки»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Сценарий и режиссура В. Шукшин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3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Калина красная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сценарий и режиссура, главная роль – В. Шукшин)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4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начались съемки фильма С. Бондарчука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Он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ражались за Родину»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Шукшин приглашен на роль Петра Лопахин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4, май – на Дону начались съемки фильма С. Бондарчука «Они сражались за Родин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.Шукшин приглашен на роль Петра Лопахин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1:43:03Z</dcterms:created>
  <dc:creator>Gamil</dc:creator>
  <dc:description/>
  <dc:language>en-US</dc:language>
  <cp:lastModifiedBy>Gamil</cp:lastModifiedBy>
  <dcterms:modified xsi:type="dcterms:W3CDTF">2010-03-25T17:15:38Z</dcterms:modified>
  <cp:revision>41</cp:revision>
  <dc:subject/>
  <dc:title>Слайд 1</dc:title>
</cp:coreProperties>
</file>