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4992-591C-4F90-9840-91EDCBC2E0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F22F-EF66-4184-B598-638DD6EA7E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7DE-A280-4F4F-8FF3-007E9F58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21E-D887-4AB8-A2F3-EF683D88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4AD-40A8-46FB-A206-6FDDA7F9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739-B15D-413E-A033-C6B6D878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7B1-B143-4AD3-B6A8-68A2D9FF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AF2C-3394-4667-9DCC-747372D5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4FC0-717D-4FE1-9F71-231D8BCC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69A2-7E19-49E9-8179-B180E0A5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E97A-B7B5-4A5E-A40B-91FCED3B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9817-5F02-4894-8DFA-EB955196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9033-3FD8-4211-88B0-F29F254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016-247C-40FA-B200-8C06D33B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9040-D455-4F0B-9D13-674FAE0D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DEA-FDF8-4E8B-B31C-3CEA69E7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0443-4525-4CE3-9424-F9DCD5E6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94AA-2041-427D-A44B-10402ED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37FC-C0CA-4E68-BADB-A3AB51C4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C81B-BC77-4988-A99B-2D1AF730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E203-6A93-4951-8F54-9F93AC84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8568-D7DF-4DE2-9A95-566709D0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17FC-7ADF-4759-AC43-B1E69F6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01A2-1456-4EB4-9186-6E75C585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C3A-E679-46F3-83C2-02C45981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79A9-EE3E-46FD-A26B-DD0125F8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2533D-FCCF-4EFB-914F-9CAE4D06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04B9-65E2-4D51-BE82-14C6E43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E73E-DCEE-4306-8911-20D1AA0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EC3C-EDFA-4566-880A-E64219E6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A145-486B-4952-889D-0B5E5584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8325-77E2-485B-B888-9FDFE82E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F3BF7-BD32-4E5C-B32B-85E1AF7D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3DCC-DDB4-462D-BA53-8E6FD428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66AD-807C-4AAC-B19E-4A1649D4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9D2-A388-43C8-A6B7-8C3AB7C4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62C8-9B03-4746-9711-2FF30E64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4F44-583D-43B7-9597-39BAC9AE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7119-7F82-49F0-86A2-2616912F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10AA-9779-4361-A3A2-4A4956FE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9828-B078-4DE2-BBC1-6668170A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DDF7E-1D8B-4E10-BCCD-D7263260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2226-5E1A-4086-BD8C-9F12ABD1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D951-6D9D-4C06-AE28-502CBDD8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4CE92-E3D9-4E93-98C7-670B1886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99A-4B28-4394-B46A-F29C5001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FBF-E7F0-4AA3-A21A-A5FE1FAA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0C2-3C75-4B42-8B2F-17A1D701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C56-E163-4C40-A36E-0115D6B3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F53-B9C4-433A-BBC9-F5FE3653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E614-C778-4BA7-A04F-3EE96CCB277F}" type="slidenum"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C795-68C6-45DD-A272-15E98D5749F3}" type="slidenum"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1DC7-6A01-43BA-8F52-20E76C826E32}" type="slidenum"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926E-B6C3-436C-8716-D064EB7E752A}" type="slidenum"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1599120" y="223920"/>
            <a:ext cx="556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Эрзин кожу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Мөрен ниити билиг школ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5-ки класска тыва дылга ажык кичээ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ма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500040" y="257724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Орус дылдан үлегерлеп алган сөстерни шын бижиири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5000760" y="4149720"/>
            <a:ext cx="45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Мөрен школазының дээди категорияның тыва дыл башкызы Карти Л.Н. белеткээ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402360" y="614412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Морен-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214200" y="29520"/>
            <a:ext cx="87156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Өөредиглиг сорулга: Орус дылдан үлегерлеп алган сөстериң шын бижиирин билиндир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жизидиглиг сорулга: Төрээн дылыга сонуургалдыг, ынак, шинчилекчи хамаарылгалыг болурунга, башкы – хүндүткелдиг мергежил, ону хүндүлеп чоруурунга кижизид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айзырадыр сорулга: Аас чугаазын, угаап бодаар, билип алыр сонуургалдарын сайзырады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Дерилге: Чуруктуг викторина, анаграммалар, сөзүглел карточкалар, чаңгыс сөс биле харыылаар викторин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чээлдиң чоруду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I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рганизастыг кезэ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чээлге белеткелди хынап, кичээнгейин хаара ту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чээлдиң темазын, сорулгазын дыңнаддыр. Чүге өөренир ужурлуг бис? (башкы тайылбырл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Чаа тема тайылбы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214200" y="474840"/>
            <a:ext cx="8715600" cy="54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ловарьлыг дикта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Школа, альбом, трактор, класс, гараж, за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Бижээн сөстеривисти кандыг дылдан үлегерлеп алган-дыр би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Орус дылд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Ам боттарыңарның билириңер үлегерлеп алган сөстериңерден адап көрүңе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Уругларның харыы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Тайылбы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рус дылдан үлегерлеп алган сөстерниң дөзүн орус дылда канчаар бижиир болдур, ол хевээр бижи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Ном биле аж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ергежилге 190 (өөреникчилерниң бижип алган сөстерин хын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рус дылдан үлегерлеп алган сөстерге кожумактар немежирге шын бижиириниң дүрүмнерин тайылбырлаа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14200" y="178560"/>
            <a:ext cx="87156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өөлү Ь (чымчак демдек)-биле төнген сөстерге ажык эвес үннерден эгелээн кожумактар немежирге, ол Ь (чымчак демдек) хевээр ар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ижээ: фонарь – фонарьларга, циркуль – циркуль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өөлү Ь (чымчак демдек)-биле төнген сөстерге ажык үннерден эгелээн кожумак немежирге, Ь (чымчак демдекти) бижив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ижээ: Циркуль – циркулюм, лагерь – лаг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Үлегерлеп алган сөстерниң сөөлүнге ыыткыр үннер дүлей адаттынар болганда, ук сөстерге дүлей үннүң үжүү-биле эгелээн кожумактар бижи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ижээ: клуб – клубка, завод – заводка, гараж – гаражт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Дөзү дүлей ажык эвес үннер-биле төнген үлегерлеп алган сөстерге ажык үн-биле эгелээн кожумак немежирге, ол дүлей ажык эвес үннер ыыткыр ажык эвес үннер-биле солч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ижээ: адрес – адрези, шкаф – шкавы, огурец – огуре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357120" y="-217800"/>
            <a:ext cx="878688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Быжыглаашк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Өөренген темага хамаарыштыр уругларның аас чугаазын, угаап-бодаар, билип алыр сонуургалдарын, сагынгыр, тывынгыр чоруун сайзырады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өзүглел-биле аж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рска чедер час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огуур шагы чеде бээрге, ракетодром начальнигинге чеде берд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абинеттиң ханаларында телевизор ышкаш экраннар-ла хөй: «Марс», «Венера», «Ай», «Юпитер» болгаш оон-даа өске бижиктерлиг. Төгерик арынныг, шириин шырайлыг, бежен хире харлыг кижи ол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(Б.Х.  «Төрээн чогаал», 6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Сөзүглелде сөстерни бөлүктээ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) Орус дылдан үлегерлеп алган сөстер – 1-ги оду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б) Хуу аттар – 2-ги оду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в) Эртем-техниканың чедиишкиннерин көргүскен сөстер – 3-кү оду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Фантастиктиг чечен чугаадан үзүндүге даянып алгаш «2011 чыл – космонавтика чылы» - деп кыска 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285840" y="53578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Физмину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осмонавтика чылы, космос, бирги летчик-космонавт дугайында чугаалашкан болганывыста бис база космосче ужудуг кылыр бис, уруг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357120" y="1357200"/>
            <a:ext cx="878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1-2, 3-4; 1-2, 3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уруктуг шилилге дикт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(чурукту азып бээрге чүгле орус дылдан үлегерлеп алган сөстер-биле адаар чүве аттарын шилип бижии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Хынаарда, херек сөстерни башкы азып бээр, уруглар частырыгларын боттары эткеш, ажылын боттары үнелээр, демдектерни салы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Викторина (үлегердеп алган чаңгыс сөс-биле харыыл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Өөреникчилерни чайын дыштаныр чери – лаг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Төгерик шыяр өөредилге херексели – цирку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шина тургузар чылыг бажың – гар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ер бөмбүрзээн бичеледир көргүскен өөредилге херексели – глоб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оң-биле өңнутешкен кижи кадык, шыырак болур – 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шиналар  кылып үндүрер бүдүрүлге чери – за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ктаргайже ужудар техника – рак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Ракета ужуп үнер шөл – космод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Ракета корабльди башкарар кижи – космона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285840" y="2142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Космоска кижи кандыг байдалче кире бээр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Деңзи 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Ам буттарывыс баштаррынга холдарывыс-биле деңзи чок байдалдың сула шимчээшкиннерин кылыылың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85840" y="177120"/>
            <a:ext cx="87152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Үнүп келген сөстерни кожумак чокка, кожумак немежирге шын бижилгезин өөренип турар дүрүмнер-биле тайылбырлаар, быжыгла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Лагерь – лагери – лагерьни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Гараж – гараж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Глобус – глобу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уруктуг викторина «Кым-дыр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еди аңгы мергежилдиң кижилериниң чуруктарын азып бергеш, оларның херекселдерин көргүскен чуруктарны уругларга үлеп бээр (башкының –глобус, эмчиниң – фонендоскоп, ГАИ ажылдакчызының – светофор, парикмехерниң – фен, журналисттиң – микрофон, чурукчунуң - гуашь). Кымның херексели-дир, ону адааш, ол мергежилдиң кижизинге аппарып чыпшырып ка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Херекселдерниң аттары кандыг сөстер-ди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Орус дылдан үлегерлеп ал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Фонендоскоп, глобус деп сөстерге ажык үн-биле эгелээн кожумактардан немеп көрүңе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Фонендоскову, глобузувус (дүрүмүн тайылбырл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Бо мергежилдиң кижилери чүге херег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лар чок болза кандыгыл? Кыска 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42920" y="16560"/>
            <a:ext cx="8858160" cy="66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награммаларны болгаш тоол маадырларын тыптыр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(уругларга үлеп бээр, боттары номчааш, харыыла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Улуг, биче маадырлар дөгерези шууштур тургулапкаш, эмеглежип тырткаш тура соп чадаан. Күзүн быжар чүү боор о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ончуг чаагай сметана холуп тургаш быжыргаш, сооп чытсын дээш, соңга караанга салып каарга, черже дүшкеш, улаштыр чуглуп чорупкан. Чүү ий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ксы-боксу, дижи, бажы аараан, кемдээн амтытан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ң-меңни эмнеп турар авыралдыг эмчи кым ий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рокодил Генаның кончуг ынак эжи кым ий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uv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Дүнекиниң 12 шак чедер деп баарга, далажыр дээш хорагай идиктериниң бирээзин чидирип алыр кым ий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Ан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шинаның чырыыр кара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Маргыш-даа чок билир с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оң үжүүн солуп тургаш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рус хөгжүм адаар с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л чокта – амдан 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Ол дедир – албан ч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Уругларның угаан ажылын түңнээ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285840" y="460080"/>
            <a:ext cx="864396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Чаа темага хамаарыштыр тургускан викторина, тывызык-айтырыглар, анаграммалар тыварынга сагынгыр, тывынгыр, угаангыр болурунга кымнар шылгараанын, кичээнгейлиг болганын түңнэ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Бистиң дылывыста орус дылдан үлегерлеп алган сөстер хөй дээрзин бо теманы өөренип тура көрдүвү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Ынчалза-даа бис тыва чугаа культуразын сагып, очулдуртуна бээр орус сөстерни чугаага ажыглавас болзувусса эки. Тыва дылывысты камныг хумагалыг эдилеп чорууруңар (башкының баштак шүлү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 Бажыңга онаалга орус дылдан үлегерлеп алган сөстер ажыглап тургаш «Бистиң клазывыс»деп кыска чогаадыг бижи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uva New"/>
                <a:ea typeface="Calibri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Кичээлдиң түңн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Бо кичээлде чуну билип алдыв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- Орус дылдан үлегерлеп алаган сөстерниң шын бижилгезин билип алдывыс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uva New"/>
                <a:ea typeface="Calibri"/>
              </a:rPr>
              <a:t>Уругларның ажылын үнелеп, демдектерни салы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0:11:45Z</dcterms:created>
  <dc:creator>Admin</dc:creator>
  <dc:description/>
  <dc:language>en-US</dc:language>
  <cp:lastModifiedBy>123</cp:lastModifiedBy>
  <dcterms:modified xsi:type="dcterms:W3CDTF">2017-05-23T07:55:54Z</dcterms:modified>
  <cp:revision>10</cp:revision>
  <dc:subject/>
  <dc:title>Слайд 1</dc:title>
</cp:coreProperties>
</file>