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5CDF-BCB2-4665-8A82-43C3D1582A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4C86-4C14-461C-A1FF-3510FB3394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122-B583-4E27-A4D0-DC71BFDE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893B-D05F-4041-B2A5-A9D48D5C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05C-978E-4044-A2CB-2CE537DC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8711-77AF-4E5A-AD91-9BE2F21A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96A4-EAEF-49CC-8823-35CCF40E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6ACC-99E1-48BA-AF94-B95A4AE5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F43A-FBA3-472B-88F7-51BEF633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1D85-23BD-4E3C-A417-EC77FCC8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FBA5-4DD0-4DD6-95E9-1DD91474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1ABD-2508-4684-B6B2-4D94D01F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A33B-BE11-4BDE-8520-2B14AF53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1DA8-82C0-447E-A2DF-F176439E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77DF-602E-4B2A-9424-C07CBBF8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FB5A-2434-4732-954E-ADB9D079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8B20-B454-4917-8D11-54B853DC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FEBA-B6D1-47DE-B957-E9AF5D21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93E0-B47F-4BD7-B74F-418FB72B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FE365-88C3-49B8-8E61-984016C3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87387-FB70-4C50-8788-9BD9CAF3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CBC17-55F8-42B2-AFD4-4C8592BE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8835D-6E28-49FB-8E84-1E4B24EB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4A5C5-603B-46EC-B3A7-F5A1E139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A41-5612-4611-90AD-CB4C2CD9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39F95-A0CE-41FD-9ACC-B0C56F60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F258B-2381-4379-99D4-8DC1D27A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513E8-8F04-4382-BC83-49346E3A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D280C-EE1F-440C-A0D8-96B69FEE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31712-FBD4-4705-A0E3-3313EA2B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521B9-88F1-41B4-B627-50441CD2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B8E67-D98B-469B-A71F-A4BD8BC2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41C64-F56F-49F0-803E-C45C70DE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BB3E2-CD70-4513-A5AD-AB53679B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8D475-42D5-41CD-8306-17DD3055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B10B-E782-4269-B805-3A3F6A30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28983-856B-48D8-BF57-7CE61F9F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D02A9-DF87-42A3-BEA9-BA2F0F28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577D6-09CD-4AE2-A0CE-7073E6FF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934D1-9035-45A3-97E9-354B3C90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26919-D8E2-40AA-91C3-B318CF9F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21C10-95B7-4AD4-9ED5-2DD05F31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25944-7D85-47A9-B687-529F9D85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225DB-4738-40E4-B15D-82650450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AAB93-7C9C-4798-8A6E-EA502665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906-666F-4E48-A756-5D839DAB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9436-E358-46FD-9966-553C6802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359-1FF0-4474-A7E8-CA942358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0836-CDC7-4947-BC3E-7C34721F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286-C73D-4FC3-8F83-788533AB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E831-91F2-45C5-B811-AD87517DD152}" type="slidenum">
              <a:rPr b="0" lang="en-US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AF8F-51D2-4842-8CFC-9E8680A4C555}" type="slidenum">
              <a:rPr b="0" lang="en-US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4E68-1F38-46C3-AD28-0F89043C2E27}" type="slidenum">
              <a:rPr b="0" lang="en-US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4199-8E39-473C-B74E-59136FD14AB4}" type="slidenum">
              <a:rPr b="0" lang="en-US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1599120" y="223920"/>
            <a:ext cx="556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Эрзин кожу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Мөрен ниити билиг школ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5-ки класска тыва дылга ажык кичээ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Тема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500040" y="2577240"/>
            <a:ext cx="82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Орус дылдан үлегерлеп алган сөстерни шын бижиири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5000760" y="4149720"/>
            <a:ext cx="45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Мөрен школазының дээди категорияның тыва дыл башкызы Карти Л.Н. белеткээ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3402360" y="614412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Морен-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214200" y="29520"/>
            <a:ext cx="8715600" cy="62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Өөредиглиг сорулга: Орус дылдан үлегерлеп алган сөстериң шын бижиирин билиндир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Кижизидиглиг сорулга: Төрээн дылыга сонуургалдыг, ынак, шинчилекчи хамаарылгалыг болурунга, башкы – хүндүткелдиг мергежил, ону хүндүлеп чоруурунга кижизид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Сайзырадыр сорулга: Аас чугаазын, угаап бодаар, билип алыр сонуургалдарын сайзырады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Дерилге: Чуруктуг викторина, анаграммалар, сөзүглел карточкалар, чаңгыс сөс биле харыылаар викторина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Кичээлдиң чоруду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uva New"/>
                <a:ea typeface="Calibri"/>
              </a:rPr>
              <a:t>I 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Организастыг кезэ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Кичээлге белеткелди хынап, кичээнгейин хаара ту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Кичээлдиң темазын, сорулгазын дыңнаддыр. Чүге өөренир ужурлуг бис? (башкы тайылбырла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uva New"/>
                <a:ea typeface="Calibri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 Чаа тема тайылбы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214200" y="474840"/>
            <a:ext cx="8715600" cy="54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Словарьлыг дикта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Школа, альбом, трактор, класс, гараж, за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Бижээн сөстеривисти кандыг дылдан үлегерлеп алган-дыр би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Орус дылд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Ам боттарыңарның билириңер үлегерлеп алган сөстериңерден адап көрүңер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Уругларның харыы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Тайылбы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Орус дылдан үлегерлеп алган сөстерниң дөзүн орус дылда канчаар бижиир болдур, ол хевээр бижи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Ном биле ажы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Мергежилге 190 (өөреникчилерниң бижип алган сөстерин хына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Орус дылдан үлегерлеп алган сөстерге кожумактар немежирге шын бижиириниң дүрүмнерин тайылбырлаа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214200" y="178560"/>
            <a:ext cx="87156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Сөөлү Ь (чымчак демдек)-биле төнген сөстерге ажык эвес үннерден эгелээн кожумактар немежирге, ол Ь (чымчак демдек) хевээр ар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Чижээ: фонарь – фонарьларга, циркуль – циркуль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Сөөлү Ь (чымчак демдек)-биле төнген сөстерге ажык үннерден эгелээн кожумак немежирге, Ь (чымчак демдекти) бижив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Чижээ: Циркуль – циркулюм, лагерь – лаге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Үлегерлеп алган сөстерниң сөөлүнге ыыткыр үннер дүлей адаттынар болганда, ук сөстерге дүлей үннүң үжүү-биле эгелээн кожумактар бижи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Чижээ: клуб – клубка, завод – заводка, гараж – гаражт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Дөзү дүлей ажык эвес үннер-биле төнген үлегерлеп алган сөстерге ажык үн-биле эгелээн кожумак немежирге, ол дүлей ажык эвес үннер ыыткыр ажык эвес үннер-биле солч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Чижээ: адрес – адрези, шкаф – шкавы, огурец – огуре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357120" y="-217800"/>
            <a:ext cx="878688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uva New"/>
                <a:ea typeface="Calibri"/>
              </a:rPr>
              <a:t>III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Быжыглаашк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Өөренген темага хамаарыштыр уругларның аас чугаазын, угаап-бодаар, билип алыр сонуургалдарын, сагынгыр, тывынгыр чоруун сайзырады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Сөзүглел-биле ажы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Марска чедер част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…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Чогуур шагы чеде бээрге, ракетодром начальнигинге чеде берд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Кабинеттиң ханаларында телевизор ышкаш экраннар-ла хөй: «Марс», «Венера», «Ай», «Юпитер» болгаш оон-даа өске бижиктерлиг. Төгерик арынныг, шириин шырайлыг, бежен хире харлыг кижи олу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(Б.Х.  «Төрээн чогаал», 6 кла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Сөзүглелде сөстерни бөлүктээ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а) Орус дылдан үлегерлеп алган сөстер – 1-ги оду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б) Хуу аттар – 2-ги оду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в) Эртем-техниканың чедиишкиннерин көргүскен сөстер – 3-кү оду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Фантастиктиг чечен чугаадан үзүндүге даянып алгаш «2011 чыл – космонавтика чылы» - деп кыска бес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285840" y="53578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Физмину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Космонавтика чылы, космос, бирги летчик-космонавт дугайында чугаалашкан болганывыста бис база космосче ужудуг кылыр бис, уруг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357120" y="1357200"/>
            <a:ext cx="8786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1-2, 3-4; 1-2, 3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Чуруктуг шилилге дикта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(чурукту азып бээрге чүгле орус дылдан үлегерлеп алган сөстер-биле адаар чүве аттарын шилип бижии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Хынаарда, херек сөстерни башкы азып бээр, уруглар частырыгларын боттары эткеш, ажылын боттары үнелээр, демдектерни салы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Викторина (үлегердеп алган чаңгыс сөс-биле харыыла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Өөреникчилерни чайын дыштаныр чери – лаге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Төгерик шыяр өөредилге херексели – цирку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Машина тургузар чылыг бажың – гара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Чер бөмбүрзээн бичеледир көргүскен өөредилге херексели – глобу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Ооң-биле өңнутешкен кижи кадык, шыырак болур – сп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Машиналар  кылып үндүрер бүдүрүлге чери – за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Октаргайже ужудар техника – рак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Ракета ужуп үнер шөл – космод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Ракета корабльди башкарар кижи – космонав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285840" y="21420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Космоска кижи кандыг байдалче кире бээри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Деңзи 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Ам буттарывыс баштаррынга холдарывыс-биле деңзи чок байдалдың сула шимчээшкиннерин кылыылың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285840" y="177120"/>
            <a:ext cx="871524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Үнүп келген сөстерни кожумак чокка, кожумак немежирге шын бижилгезин өөренип турар дүрүмнер-биле тайылбырлаар, быжыгла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Лагерь – лагери – лагерьни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Гараж – гараж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Глобус – глобу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Чуруктуг викторина «Кым-дыр?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Чеди аңгы мергежилдиң кижилериниң чуруктарын азып бергеш, оларның херекселдерин көргүскен чуруктарны уругларга үлеп бээр (башкының –глобус, эмчиниң – фонендоскоп, ГАИ ажылдакчызының – светофор, парикмехерниң – фен, журналисттиң – микрофон, чурукчунуң - гуашь). Кымның херексели-дир, ону адааш, ол мергежилдиң кижизинге аппарып чыпшырып ка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Херекселдерниң аттары кандыг сөстер-ди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Орус дылдан үлегерлеп алг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Фонендоскоп, глобус деп сөстерге ажык үн-биле эгелээн кожумактардан немеп көрүңер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Фонендоскову, глобузувус (дүрүмүн тайылбырла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Бо мергежилдиң кижилери чүге хереги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Олар чок болза кандыгыл? Кыска бес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142920" y="16560"/>
            <a:ext cx="8858160" cy="66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Анаграммаларны болгаш тоол маадырларын тыптыр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(уругларга үлеп бээр, боттары номчааш, харыыла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Улуг, биче маадырлар дөгерези шууштур тургулапкаш, эмеглежип тырткаш тура соп чадаан. Күзүн быжар чүү боор о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Кончуг чаагай сметана холуп тургаш быжыргаш, сооп чытсын дээш, соңга караанга салып каарга, черже дүшкеш, улаштыр чуглуп чорупкан. Чүү ийи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Аксы-боксу, дижи, бажы аараан, кемдээн амтытан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Аң-меңни эмнеп турар авыралдыг эмчи кым ийи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Крокодил Генаның кончуг ынак эжи кым ийи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Дүнекиниң 12 шак чедер деп баарга, далажыр дээш хорагай идиктериниң бирээзин чидирип алыр кым ийи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Ана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Машинаның чырыыр кара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Маргыш-даа чок билир с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Ооң үжүүн солуп тургаш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Орус хөгжүм адаар с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Ол чокта – амдан 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Ол дедир – албан ч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Уругларның угаан ажылын түңнээ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"/>
          <p:cNvSpPr/>
          <p:nvPr/>
        </p:nvSpPr>
        <p:spPr>
          <a:xfrm>
            <a:off x="285840" y="460080"/>
            <a:ext cx="864396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Чаа темага хамаарыштыр тургускан викторина, тывызык-айтырыглар, анаграммалар тыварынга сагынгыр, тывынгыр, угаангыр болурунга кымнар шылгараанын, кичээнгейлиг болганын түңнээ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Бистиң дылывыста орус дылдан үлегерлеп алган сөстер хөй дээрзин бо теманы өөренип тура көрдүвү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Ынчалза-даа бис тыва чугаа культуразын сагып, очулдуртуна бээр орус сөстерни чугаага ажыглавас болзувусса эки. Тыва дылывысты камныг хумагалыг эдилеп чорууруңар (башкының баштак шүлү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uva New"/>
                <a:ea typeface="Calibri"/>
              </a:rPr>
              <a:t>IV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Бажыңга онаалга орус дылдан үлегерлеп алган сөстер ажыглап тургаш «Бистиң клазывыс»деп кыска чогаадыг бижи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uva New"/>
                <a:ea typeface="Calibri"/>
              </a:rPr>
              <a:t>V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Кичээлдиң түңн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Бо кичээлде чуну билип алдывы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Орус дылдан үлегерлеп алаган сөстерниң шын бижилгезин билип алдывыс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Уругларның ажылын үнелеп, демдектерни салы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0:11:45Z</dcterms:created>
  <dc:creator>Admin</dc:creator>
  <dc:description/>
  <dc:language>en-US</dc:language>
  <cp:lastModifiedBy>123</cp:lastModifiedBy>
  <dcterms:modified xsi:type="dcterms:W3CDTF">2017-05-23T07:55:54Z</dcterms:modified>
  <cp:revision>10</cp:revision>
  <dc:subject/>
  <dc:title>Слайд 1</dc:title>
</cp:coreProperties>
</file>