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B7C-31AB-4CA6-8398-E1678C65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E79-4304-4C44-BC64-97897362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32F-48F9-4A51-9856-9CCC6912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AD2-9BF6-4286-B486-C4BA337E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59D-90B4-4CB6-9960-CFA8D9C0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B2B-9023-44EA-A050-125C40F4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0E6-8BA1-41BD-8A45-D2EC79BA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FA8-0D72-420D-B9A4-6F2892D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631-E37F-41A4-862B-28E24CF3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FAD-1996-4846-8A7E-7DF4BD9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F99-0E2F-436F-BD19-88112E92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81D-A8A7-47F5-AB0F-BDDA281D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390-3A54-4985-9CFF-B5ACFDC11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Анатолий Лядов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«КИКИМОРА»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народному сказанию о кикимо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72880"/>
            <a:ext cx="3888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двард Гри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ор из Норвегии, автор пье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пещере горного корол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:\Открытый урок 1 класс\Эдвард Григ.jpg"/>
          <p:cNvPicPr/>
          <p:nvPr/>
        </p:nvPicPr>
        <p:blipFill>
          <a:blip r:embed="rId1"/>
          <a:stretch/>
        </p:blipFill>
        <p:spPr>
          <a:xfrm>
            <a:off x="4427640" y="189000"/>
            <a:ext cx="4321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пещеру горного корол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:\Открытый урок 1 класс\Гном.png"/>
          <p:cNvPicPr/>
          <p:nvPr/>
        </p:nvPicPr>
        <p:blipFill>
          <a:blip r:embed="rId1"/>
          <a:stretch/>
        </p:blipFill>
        <p:spPr>
          <a:xfrm>
            <a:off x="2502000" y="1600200"/>
            <a:ext cx="414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«Пёстрый колпачок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узыка Георгия Стру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тихи Н.Соловьёв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 сидел весёлый гн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пеньке под ёл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латал свой колпач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войною игол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и-ла-ла, да ти-ла-л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пеньке под ёл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латал свой колпач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войною игол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ному было много л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не удивлял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колпак за столько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порва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-ла-ла, да ти-ла-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ном не удивлял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колпак за столько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порва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 заплаток колпач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ёстрым был у гн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е-красно-голуб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ово-зелё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-ла-ла, да ти-ла-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ёстрым был у гн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е-красно-голуб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ово-зелё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у а гномик песню п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еньке под ёл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латал свой колпач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войною игол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-ла-ла, да ти-ла-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еньке под ёл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латал свой колпач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войною игол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ГНОМ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падноевропейской мифологии: фантастическое существо, уродливый бородатый карлик, охраняющий подземные сокровища, олицетворение сил земл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ТРОЛ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кандинавской мифологии: сверхъестественное существо (карлик великан, ведьма), обычно враждебное люд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к Ибсен</a:t>
            </a:r>
            <a:br>
              <a:rPr sz="60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ель из Норве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 Гюнт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0T13:37:08Z</dcterms:created>
  <dc:creator>Семья</dc:creator>
  <dc:description/>
  <dc:language>en-US</dc:language>
  <cp:lastModifiedBy>Школа</cp:lastModifiedBy>
  <dcterms:modified xsi:type="dcterms:W3CDTF">2015-12-21T09:48:14Z</dcterms:modified>
  <cp:revision>7</cp:revision>
  <dc:subject/>
  <dc:title>Анатолий Лядов «КИКИМОРА»</dc:title>
</cp:coreProperties>
</file>