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F0F-D076-4C94-AD16-31CF88A2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3AD-AD01-465D-B63B-66F0178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549-5C53-4EA5-AC08-B415EDAE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21C-BD15-4FCA-B6F0-CA53393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762-1E8F-4F0E-8943-BA04DDE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185-0FC6-498C-8F8B-20AC495B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8C7-A9A6-48CF-BABA-0784629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90F-6F46-45CC-9174-5ABB600E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61F-7B37-4FC3-BFEB-BAC931AD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DC1-940E-49AB-BB9D-5E00A8B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706-6F51-4F22-8387-59764B7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227-35C3-4952-9FF9-647E317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F435-EB5D-4112-BF25-95CC15B90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Анатолий Лядов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«КИКИМОРА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народному сказанию о кикимо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2880"/>
            <a:ext cx="3888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вард Гри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 из Норвегии, автор пье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ещере горного корол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:\Открытый урок 1 класс\Эдвард Григ.jpg"/>
          <p:cNvPicPr/>
          <p:nvPr/>
        </p:nvPicPr>
        <p:blipFill>
          <a:blip r:embed="rId1"/>
          <a:stretch/>
        </p:blipFill>
        <p:spPr>
          <a:xfrm>
            <a:off x="4427640" y="189000"/>
            <a:ext cx="4321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пещеру горного корол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Открытый урок 1 класс\Гном.png"/>
          <p:cNvPicPr/>
          <p:nvPr/>
        </p:nvPicPr>
        <p:blipFill>
          <a:blip r:embed="rId1"/>
          <a:stretch/>
        </p:blipFill>
        <p:spPr>
          <a:xfrm>
            <a:off x="2502000" y="1600200"/>
            <a:ext cx="414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«Пёстрый колпачок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узыка Георгия Стру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тихи Н.Соловьёв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 сидел весёлый г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войною иго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и-ла-ла, да ти-ла-л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войною игол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ному было много л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не удивлял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олпак за столько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порв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ом не удивлял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олпак за столько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порв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 заплаток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стрым был у гн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е-красно-гол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ово-зел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стрым был у гн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е-красно-гол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ово-зел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у а гномик песню 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йною игол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-ла-ла, да ти-ла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ньке под ёл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атал свой колп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йною игол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ГНО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падноевропейской мифологии: фантастическое существо, уродливый бородатый карлик, охраняющий подземные сокровища, олицетворение сил земл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ТРОЛ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кандинавской мифологии: сверхъестественное существо (карлик великан, ведьма), обычно враждебное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к Ибсен</a:t>
            </a:r>
            <a:br>
              <a:rPr sz="60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ель из Норве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 Гюнт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0T13:37:08Z</dcterms:created>
  <dc:creator>Семья</dc:creator>
  <dc:description/>
  <dc:language>en-US</dc:language>
  <cp:lastModifiedBy>Школа</cp:lastModifiedBy>
  <dcterms:modified xsi:type="dcterms:W3CDTF">2015-12-21T09:48:14Z</dcterms:modified>
  <cp:revision>7</cp:revision>
  <dc:subject/>
  <dc:title>Анатолий Лядов «КИКИМОРА»</dc:title>
</cp:coreProperties>
</file>