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D7C-4876-4C8F-A6E1-CED4F268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3A1-7CCB-426F-AD85-652700C8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E6DE6-0A2C-446E-93F2-1BAF2E76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B2040-E3F5-4A73-85AA-4DB1D122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7FAFB-3B74-4FA2-B4BE-E35F0DE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6BF8-5E49-4D9B-936B-774ACD2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C42C7-E5E1-419B-891B-AA1324A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62CE0-9BD1-48C0-9980-72CB8E3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D65D-8190-4D98-A059-F1293445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5A87D-D4DC-4B35-97A8-BB217C6A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449D7-DFF0-44EC-9DB4-ACC69479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6EDF3-F4CF-4503-8D7E-A1957B67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C4C-10BA-4A7B-8332-1A81480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6CD21-E6F7-4323-A872-F6B3F928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A864D-3868-4B1A-832D-D2AB91A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7F4DD-F44D-48BF-B219-DDBE611B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5413-3508-4217-830F-8A00951B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14CEF-98F8-400D-9B35-0FE65D3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30027-7EE8-47A0-B184-6DC5547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C2C5-CE93-4F7D-A6A4-1A8C1B8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3611F-6EF7-4242-B246-24E4CF9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84E3E-2FFC-464C-8C62-2DAB150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10DE6-EDC9-49DD-B53F-BEC22AE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677-0E9F-4F82-BA7E-8F475A01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8FA3A-D7D6-458B-BD57-98B2697C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E98F-AE9C-49E9-AB29-1427D139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B96A-2473-4C20-8145-74185AA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701D7-81F2-43FE-A9DB-099A4BA4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82135-B508-4153-A524-2C88514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30ADB-6895-4E0B-81C8-D092406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3389-3197-4C8E-98CF-8B136D0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C7C9C-245D-4077-9E8E-87087FE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9C1C4-F3E4-4A5C-B957-1D1E947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332C7-ACD8-45A5-BB88-F19616D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6BD8-A7A3-436D-864C-2DFC8C3A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72AA-871F-4A8E-A6D1-3A845488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6A37-ECF8-4FC7-BB9C-4AB13282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16CE-913A-4A64-8D5B-B2EDC53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C4EA5-A6FE-4E76-BFF9-1BB6A593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AFF51-9B35-4DF3-B446-DCC6A288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22B16-DFBD-44E2-937D-F7D88E3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E1918-329E-44BE-B151-33EC36BD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26E69-EC75-4543-BEDB-D754B131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E5ADE-C900-4F2A-AC88-E31D1CD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74C0D-6A16-48F9-8BCB-20176E4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FF80-BB9D-4B7A-93E3-DEF9D19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275D4-8122-4087-AA39-E486163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FD593-588E-42EA-8094-4BDA082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2A690-3E9A-40D1-9C17-5927525B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4EED5-B8A5-4093-8653-D9C5A17E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1176-26ED-4A37-9F4C-EA922CD3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7FC-E118-4E1D-ABC8-D3D787A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82B-E213-4EB1-8E9D-160F334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741F-FF4C-4F3D-A255-169258C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76ED-214E-4B52-B5A4-BF4D8BB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91F6-848E-4C36-BA62-E2AD56A2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798-F0D7-422E-8C97-53CDD41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FA90-3572-4C9B-B120-957260F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0B61-CBA6-4D2E-AA3B-AA3526E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FB7B-C3D9-4834-84EB-B1ED565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2CF-596C-43A6-8AE2-EAF8E29F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DDE9-356A-493D-AE17-CF6D487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58FC-04F2-47B6-B157-735C6A7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5211-C71C-464B-8EC5-41BB30E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FA2D-0C05-4339-84BA-876E7007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E7D8-F1F7-4172-8900-D285F96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9CEC-B05C-499C-835D-B988B57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EE6-EA28-48C3-9108-13E4CABC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09F0-F1D1-42C8-BEDB-ABDE7CAE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1F97-5ACD-468D-8DB1-17AB8E2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D2A5-055E-44BA-B951-188AA67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9303-BAD3-4DD2-A2C8-C5B1E91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61DF-5D02-4577-BE9A-9715573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4327-CF14-45E7-8443-01DBFBF9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C985-EE29-4DF5-B800-AA6B0C0E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A468-38F8-422B-B040-E52315D6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5E01-0DE2-4C0C-8AB2-38F9B43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16B7-09CB-443A-A018-DDEC846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C60-8B2F-4C84-9CC0-E3DCE2D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1D00-AC75-4A09-A0B7-C765264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48E79-CEB8-472E-984C-1AB252D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696F-ECFE-4A8E-950A-44CB374D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97B0-7941-4A10-AAD4-6576466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E537-7EC2-49FE-AD0A-A904FAA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8C9A-1334-467B-8BF8-DAC8865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2245-62A7-42B2-AEA7-F3DED87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B1A1-F990-4FC5-9301-66482817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7EFE-9AA3-4607-B9F5-6327F869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1C6D-37A0-4163-A920-DF024A79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BC3-12DA-4F1B-8357-74B13E32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3614-0B51-4B76-B83A-DFE49C7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9E1A-6484-4601-818D-FC9542B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4309-43FB-4064-BD3A-04B1FBC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2D62-21E9-40A3-BCDE-3E9EBA4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9B8B-6E7F-4F98-81A8-68318327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2ECB-3614-43EC-81BC-21418A0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07FF-F4C5-450D-B4CF-051B652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3420-D53F-4B52-B342-718C548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1B59-D67A-4778-8FB9-9B7C614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76B5-8B93-4E7F-9CCC-4255C75A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FFE-B53F-4973-84E7-2151196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61E8-E379-49D9-BC92-AFEB77E2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F0744-AFA0-4B4A-9F73-5177ED4C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5F94-E2DE-4079-8615-93E3687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DD3B-A552-4224-B21C-E2F7A23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A3D4-15C5-4958-8823-BBB6EF0B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E173-8A88-4377-B108-800384B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F9AF-3D6F-4E1D-9EBC-2D6F776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6D53-AA35-49E4-8817-12A2DB7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336C-AB9B-4806-8807-1B4662C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2FE9-DAC9-4B49-AF40-98337F7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C60-2AE2-483F-AF6C-069B605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4665-C016-48E1-B46D-4D9F84F3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569CA-CEC1-41C0-A7B1-2FBC9DDE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FAC1-EC35-4225-A87E-C101575D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1F222-083C-4B36-9B40-F8768F0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38725-1CBA-488A-888D-60DA83C6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EA31D-4A7B-4064-9336-4476ACB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9662-F638-41E5-8DC4-CE4656CF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81882-F8B6-4E20-89EC-E785967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E68FB-76D5-47AA-9DDB-CF4C51EA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0A135-B9C2-4B3C-B5D9-43B0F37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5E8-032F-4D9C-B871-35122B0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9E9B5-6952-45BC-8246-4D00874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EA04C-3A8B-4407-9CDB-169DF30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062BB-9975-4B26-8964-A0A565A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12F52-08D4-427A-AD67-89D69B76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F23EA-9B82-4C81-BC92-442E3948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0C14-6082-43B7-AA93-68BF78BE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BF6C-61F0-47D9-8D8B-FCEEFA1D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A0123-570B-4D39-A11A-3D1ABA1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42016-7D84-4971-A9A4-6B91C849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DCFB-1D46-4429-A51D-19CBB10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A65-979B-4347-8F99-81ED8B5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89C6-FBA5-4C64-8AFD-6BBA79A3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8049-0B6A-4219-A19F-78833B2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F71E4-9BF0-4666-9A30-A9C187F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BDAA-A48E-4BC4-A984-F70A6BC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6898-1C31-45EC-A267-E2C05D13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F11E-F809-493B-82F3-CC0450E8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EE363-84D9-4D85-8223-EB14E8F5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6A36-7D10-4B0E-B9CA-05FBAB9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6877B-FAD1-481D-9D68-4CEC533C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6E9FB-FD65-41B6-B4FB-C3DCA09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EC1E-45D3-4403-BE23-2D476F168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7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2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2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E93-6A49-4D02-AFBB-D8468CD514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7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8656-F30D-4483-A6D2-E6CE01661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8D2-8C0D-4951-8F0C-441171D553E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43F-B15A-4F72-A8A3-B33E3EB8A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08A-CD84-4892-BE28-BBED2564D17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830F-7464-4AF7-B3A4-70DEBD92A5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C8E-7275-42FA-BA1E-62274ACEA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1648-9A20-408D-9D42-CE1518E192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3031-9FD3-4E6B-AACC-FB5088CC653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B23-ED02-4D63-A8A9-FDEB7E315E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413-2A92-4551-8AB8-B738D4114BC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60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Perpetuum mobile</a:t>
            </a:r>
            <a:br>
              <a:rPr sz="4800"/>
            </a:b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(вечный двигатель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5439240" y="5589720"/>
            <a:ext cx="33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учащиеся 8к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Кучкова Е.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4" descr="Без имени-12"/>
          <p:cNvPicPr/>
          <p:nvPr/>
        </p:nvPicPr>
        <p:blipFill>
          <a:blip r:embed="rId1"/>
          <a:stretch/>
        </p:blipFill>
        <p:spPr>
          <a:xfrm>
            <a:off x="0" y="1700280"/>
            <a:ext cx="8496360" cy="4751280"/>
          </a:xfrm>
          <a:prstGeom prst="rect">
            <a:avLst/>
          </a:prstGeom>
          <a:ln w="0">
            <a:noFill/>
          </a:ln>
        </p:spPr>
      </p:pic>
      <p:sp>
        <p:nvSpPr>
          <p:cNvPr id="816" name="WordArt 6"/>
          <p:cNvSpPr txBox="1"/>
          <p:nvPr/>
        </p:nvSpPr>
        <p:spPr>
          <a:xfrm>
            <a:off x="1332000" y="260280"/>
            <a:ext cx="594972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гнитный perpetuum mobile</a:t>
            </a:r>
            <a:endParaRPr b="1" lang="en-US" sz="3200" spc="1" strike="noStrike">
              <a:ln w="9360">
                <a:solidFill>
                  <a:srgbClr val="cc0099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коны сохранения необходимо учитывать ВСЕ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здание  дарового двигателя не противоречит законам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ство явлений природы – сохранение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WordArt 4"/>
          <p:cNvSpPr txBox="1"/>
          <p:nvPr/>
        </p:nvSpPr>
        <p:spPr>
          <a:xfrm>
            <a:off x="2771640" y="40464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Вывод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WordArt 6"/>
          <p:cNvSpPr txBox="1"/>
          <p:nvPr/>
        </p:nvSpPr>
        <p:spPr>
          <a:xfrm>
            <a:off x="2340000" y="321300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0" name="WordArt 7"/>
          <p:cNvSpPr txBox="1"/>
          <p:nvPr/>
        </p:nvSpPr>
        <p:spPr>
          <a:xfrm>
            <a:off x="1258920" y="62064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дём новых проектов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нимое вечно движущееся колесо, придуманное в средние 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00" name="Picture 4" descr="74"/>
          <p:cNvPicPr/>
          <p:nvPr/>
        </p:nvPicPr>
        <p:blipFill>
          <a:blip r:embed="rId1"/>
          <a:stretch/>
        </p:blipFill>
        <p:spPr>
          <a:xfrm>
            <a:off x="2268360" y="1989000"/>
            <a:ext cx="4896000" cy="410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5" descr="75"/>
          <p:cNvPicPr/>
          <p:nvPr/>
        </p:nvPicPr>
        <p:blipFill>
          <a:blip r:embed="rId1"/>
          <a:stretch/>
        </p:blipFill>
        <p:spPr>
          <a:xfrm>
            <a:off x="2268360" y="213372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802" name="WordArt 7"/>
          <p:cNvSpPr txBox="1"/>
          <p:nvPr/>
        </p:nvSpPr>
        <p:spPr>
          <a:xfrm>
            <a:off x="826920" y="333360"/>
            <a:ext cx="747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Модель двигателя с перекатывающимися шарикам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Без имени-1"/>
          <p:cNvPicPr/>
          <p:nvPr/>
        </p:nvPicPr>
        <p:blipFill>
          <a:blip r:embed="rId1"/>
          <a:stretch/>
        </p:blipFill>
        <p:spPr>
          <a:xfrm>
            <a:off x="2124000" y="0"/>
            <a:ext cx="5041800" cy="5013360"/>
          </a:xfrm>
          <a:prstGeom prst="rect">
            <a:avLst/>
          </a:prstGeom>
          <a:ln w="0">
            <a:noFill/>
          </a:ln>
        </p:spPr>
      </p:pic>
      <p:sp>
        <p:nvSpPr>
          <p:cNvPr id="804" name="WordArt 5"/>
          <p:cNvSpPr txBox="1"/>
          <p:nvPr/>
        </p:nvSpPr>
        <p:spPr>
          <a:xfrm>
            <a:off x="295200" y="5373720"/>
            <a:ext cx="8597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Вечный двигатель, устроенный ради реклам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72"/>
          <p:cNvPicPr/>
          <p:nvPr/>
        </p:nvPicPr>
        <p:blipFill>
          <a:blip r:embed="rId1"/>
          <a:stretch/>
        </p:blipFill>
        <p:spPr>
          <a:xfrm>
            <a:off x="1268280" y="1932120"/>
            <a:ext cx="6935760" cy="4133880"/>
          </a:xfrm>
          <a:prstGeom prst="rect">
            <a:avLst/>
          </a:prstGeom>
          <a:ln w="0">
            <a:noFill/>
          </a:ln>
        </p:spPr>
      </p:pic>
      <p:sp>
        <p:nvSpPr>
          <p:cNvPr id="806" name="WordArt 7"/>
          <p:cNvSpPr txBox="1"/>
          <p:nvPr/>
        </p:nvSpPr>
        <p:spPr>
          <a:xfrm>
            <a:off x="878040" y="260280"/>
            <a:ext cx="72230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амодвижущееся колесо Орфиреус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73"/>
          <p:cNvPicPr/>
          <p:nvPr/>
        </p:nvPicPr>
        <p:blipFill>
          <a:blip r:embed="rId1"/>
          <a:stretch/>
        </p:blipFill>
        <p:spPr>
          <a:xfrm>
            <a:off x="1116000" y="1773360"/>
            <a:ext cx="6624720" cy="4537080"/>
          </a:xfrm>
          <a:prstGeom prst="rect">
            <a:avLst/>
          </a:prstGeom>
          <a:ln w="0">
            <a:noFill/>
          </a:ln>
        </p:spPr>
      </p:pic>
      <p:sp>
        <p:nvSpPr>
          <p:cNvPr id="808" name="WordArt 5"/>
          <p:cNvSpPr txBox="1"/>
          <p:nvPr/>
        </p:nvSpPr>
        <p:spPr>
          <a:xfrm>
            <a:off x="971640" y="549360"/>
            <a:ext cx="6905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"/>
              </a:rPr>
              <a:t>Разоблачение секрета колеса Орфиреус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Чудо, которое не является чуд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4" descr="70"/>
          <p:cNvPicPr/>
          <p:nvPr/>
        </p:nvPicPr>
        <p:blipFill>
          <a:blip r:embed="rId1"/>
          <a:stretch/>
        </p:blipFill>
        <p:spPr>
          <a:xfrm>
            <a:off x="395280" y="1700280"/>
            <a:ext cx="4032360" cy="4249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716360" y="765000"/>
            <a:ext cx="4176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игателя 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щ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4" descr="Без имени-1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60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Вечный ли это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двигате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4" descr="71"/>
          <p:cNvPicPr/>
          <p:nvPr/>
        </p:nvPicPr>
        <p:blipFill>
          <a:blip r:embed="rId1"/>
          <a:stretch/>
        </p:blipFill>
        <p:spPr>
          <a:xfrm>
            <a:off x="1042920" y="620640"/>
            <a:ext cx="2665440" cy="53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5:15:23Z</dcterms:created>
  <dc:creator>Сергей</dc:creator>
  <dc:description/>
  <dc:language>en-US</dc:language>
  <cp:lastModifiedBy>User</cp:lastModifiedBy>
  <dcterms:modified xsi:type="dcterms:W3CDTF">2017-05-28T04:31:06Z</dcterms:modified>
  <cp:revision>12</cp:revision>
  <dc:subject/>
  <dc:title>Вечные двигатели</dc:title>
</cp:coreProperties>
</file>