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6373-CBA8-4EAB-94D2-54776169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3B6E-C9AE-499B-AA04-EB4F931D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C6C18-4179-4C5C-935C-E28B2BEF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3F5C0-BEFE-4FF0-96E5-0ACD6D70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8DF20-5A16-4DB3-A3AA-AE9470C7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C75A5-19B7-43DE-B6CF-A8958B07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4C2FA-AB5C-4C91-8613-DCEABE55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4F1AE-D227-46B5-9CCE-79A7D7CA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FD34F-B613-47E6-897C-4A669417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6E6A3-9277-4304-9E34-70511FE8E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B2212-F2E6-4712-9CAA-258E5D0E4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69F04B-EE75-4A47-B003-A53C86AA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E313-ECBB-48E6-90A7-5D2A5CBD2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18F22-4F80-4D9B-81AA-91E170F9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49CC7-650C-4AFE-B9BD-4E02CC87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CC802-708B-415B-BCD8-07813968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C37A0-4366-46C7-BD29-616EBA26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BC039-C421-4F47-A804-8EC03209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E3746-4771-4603-B057-B48FFC6F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3E8D20-42DA-4551-A2DB-81A3DC78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CF18C-A6AD-46EC-950B-0EC81BB0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22646-88E0-455A-A3EA-1EC5BEC9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5C809-3AE1-45A7-A1B8-C5EA7528D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64A3-B0D6-4ED5-AB04-0FFB4E30B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5F1D0-F746-4EB5-9717-BF2F59922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51F93-A351-4E77-B09D-E29C2C15B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86206-41DA-47A5-892A-C7229B46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7658E-7D30-4A1C-A9DB-F9535705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E2944-629B-4C55-925F-4842E54C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9C860-077A-4448-8A71-D43A7AE0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AE1FE-2625-4421-B878-3E6639ED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AACBA-F855-4CDB-8BA2-DEBE20DF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BB564-2CD4-4AF5-9806-57830ECB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B922F-5442-466D-8F6C-57EEFBAB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1D94-572F-4729-AD8E-0BB50D698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A1DEF-44AD-482D-82FE-FC71B689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F4CE8-6E1B-4418-9FE7-F0B1046C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12FD9-6805-4D3F-ACE8-320076FD9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B25FDA-F68B-4AEE-9537-C0673076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47B53-AB95-47B2-911A-F3F9FDD5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747381-4A9F-4298-8A22-1888DA5C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5AE7E-DB90-451E-841C-BB1A6CAE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1838D2-38CF-4E2F-B461-E9E057D8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BC70E-FB4E-4020-88CF-0B76E77E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23EAD-1555-4005-B771-A0548FB2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A60A-D897-4A7E-B4AA-B1CF866B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ED18F0-B2F5-4691-8488-DDEE0D59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F9AEF-6089-4F85-94C4-276B874F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B08AB4-D414-47EB-B981-9297D443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F84B7F-2F11-4883-BB6C-9B1CF7FE8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4DA92E-8E25-4FD0-9C79-45930F856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9635-870D-4E66-9AEF-1FCA8753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9A07-F857-48D9-8601-4C4EF7BE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B90C-CB94-47DC-954A-15C93C69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0BFD-255B-4798-9F95-138C6823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1066-6DE3-4146-A78C-0ACF0C8A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1FD7-344F-477E-B727-16585C2C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124A-5158-4F7B-A414-C2076668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C28E-3C68-49FE-A743-1284556C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0575-034E-452A-9485-0202A806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2E9D-AE2B-4C56-A7C1-A5D7262C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8A4E-A4CF-41CD-96A3-4606FB030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49572-7700-4C62-BCE8-858F4DD2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5B901-3B95-4E80-B2FF-88481580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9FD04-2DE7-49F6-861E-7BF310B2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65C36-1228-40D0-BE2F-DA001E4D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A47F3-0C56-4D6A-A70C-B4CC82D0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FFD2-FE26-4A6E-8FAB-B336F66C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9AC9A-2C36-42A6-B25E-6CD78762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8027C-92AF-40DF-A617-F34F328B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449DC-2C33-44A5-8E90-9EF38220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90D91-49D5-4643-B450-EF514790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E81C2-5F24-4D90-8A72-3335416A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F88B9-65BF-408F-9916-B7B256323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62D78-4CC3-4A74-8DF5-43761F35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AF795-F149-44F9-8DDA-DFF7E17A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17C7E-58DE-4DE2-8AE1-9AD9BF8E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8CE9A-CDC8-43A8-9746-152557EA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983C-A4AE-4172-9393-774E7685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7214A-2078-4E85-8310-7B8EE479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2D624-5A53-4C4F-85FA-1BA35546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90E9E-B509-4FE3-B871-187C09D8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D1D80-AD76-4F96-B86C-D7B40D6E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A4DFE-1E5B-40C6-BF47-10C566CA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6F1FB-6ADD-4E22-8511-098D208E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29EF2-F624-4ED4-A552-F18EC51A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59FC0-EE17-4FB1-8BC3-772F0FCAD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7E52F-2A10-4D55-A916-5984D887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11323-C5DA-426F-AAA4-6D13E111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DA18-066E-4FF0-87E7-E4364010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A9EB9-0ED6-48D1-BE4C-76E9EFDF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D10FC-2266-46E9-9CD0-005401B5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D6F7C-893E-49A5-846C-94221560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A38ED-D1A3-415F-96CE-0C517BC6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740AA-6B22-4051-A1A9-A7670F78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2F4D5-6712-4A98-A70C-BE468CE8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1E9D4-F93D-4EEA-914D-35EB8915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0EF13-D2BF-482D-BDD9-93890228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E2619-5719-424D-ABDC-C175B3E3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C2A4F-D1AD-4A62-ADD4-F63AD9388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47D6-AC52-4DF0-B4A5-13BD8306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E1CD1-2A17-451B-9D73-1F2A5E2C1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95E46-63DE-4581-9740-D55962277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3463D-0B82-4EB4-96E6-4AEAC8A6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9F8B2-C53B-4165-97D1-770C1B15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620E7-AEBC-4FD0-833B-3CED1A12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7B7ED-391D-4FE1-9C27-7D8063A2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B3A78-D439-4ACE-A584-F3B83BF3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C46E4-A32B-42A1-A116-9FB10652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A8CCD-35C3-49C6-A93E-51565C3B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F8B49-28B3-4698-BA18-DE10C02A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03EB-1E15-45F6-B04F-81E44D64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CCEFC-E9F1-415B-9FC3-6C156682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52ED7-D783-457A-9054-B061CFB99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4D375-A04C-44F6-A09D-806D35E66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12C986-C64F-4DDD-89A9-1B5D8F245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E403F7-378F-49EB-A361-CBFA65A1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3C780C-0CD1-4607-8EE0-CB9DA791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3BAAE5-B1AD-4D89-8B41-0755DE97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B699E6-E38A-48D8-97B3-38E2AAFF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D54EDC-3E32-442A-B7F8-3CDE5A30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6E7A16-2871-44DB-A265-212E7459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6CED-39E4-4E57-BF06-A4E3E252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B7695B-7120-4A25-ABF4-86EE2799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33173D-3DF4-42C3-A41D-BA7E9305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6B34E8-60FB-4E56-A43B-E26AF97F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36063D-1411-403F-BFB5-7DD84CAC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096346-0325-4FDB-BFE4-01DD5BF01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D2C05-7DBE-4478-A7B5-A8E31F5F7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AC425-EE7E-4BA5-9458-BAF4EBFD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52150-860A-496D-9732-77F3920B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7FBCA-AB42-4D72-9003-66213773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58BE6-9838-4F68-8B42-1802F549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749A-18F4-4412-B2C2-6E72E9B0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CDA96-E25B-4835-8426-13108279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E0D30-751E-4D80-A68D-F4171372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B9D2D-6E96-46D2-8700-862545CA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69839-6927-44F0-8DDD-865B02D3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53649-608B-42BB-8412-D817057A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64F0D-1055-419C-BC5D-AE2C31233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A60BD-2A72-4A3B-91F0-63A008BA1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AC145-10C2-4E45-ADB7-E614D882A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1AB23-5DF6-4C69-883E-075A202F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EE75F-7617-4C1F-B234-2B2D34E4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3D83-3B14-402B-8975-65D1451074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70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72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84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03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21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8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29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D099-8E23-405B-BC27-F598B4CB92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75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7C5F-9D56-4561-ADAC-1C487803C4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3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363A-19D9-4465-B60E-0CEA48EE503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A0D2-5174-45A7-A7C4-0D4003077D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92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05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1238-23CF-4EE2-90CE-807706EAB7A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7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7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8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0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2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3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0D8A-E430-46CE-995F-6430E2083F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78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D63D-5924-45C9-BB27-9C6FC1EF29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3E77-1763-4950-97BC-F95C721FAA3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7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5833-54DB-4405-887E-3448B39D677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42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E679-1775-440A-8401-5F081A93F2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90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03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B420-5706-4290-B89A-86ACC388173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1600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ccecff"/>
                </a:solidFill>
                <a:uFillTx/>
                <a:latin typeface="Arial"/>
              </a:rPr>
              <a:t>Perpetuum mobile</a:t>
            </a:r>
            <a:br>
              <a:rPr sz="4800"/>
            </a:br>
            <a:r>
              <a:rPr b="1" i="1" lang="ru-RU" sz="4800" spc="-1" strike="noStrike">
                <a:solidFill>
                  <a:srgbClr val="ccecff"/>
                </a:solidFill>
                <a:latin typeface="Arial"/>
              </a:rPr>
              <a:t>(вечный двигатель)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8" name="Text Box 5"/>
          <p:cNvSpPr/>
          <p:nvPr/>
        </p:nvSpPr>
        <p:spPr>
          <a:xfrm>
            <a:off x="5439240" y="5589720"/>
            <a:ext cx="337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ы: учащиеся 8к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оводитель: Кучкова Е.Н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5" name="Picture 4" descr="Без имени-12"/>
          <p:cNvPicPr/>
          <p:nvPr/>
        </p:nvPicPr>
        <p:blipFill>
          <a:blip r:embed="rId1"/>
          <a:stretch/>
        </p:blipFill>
        <p:spPr>
          <a:xfrm>
            <a:off x="0" y="1700280"/>
            <a:ext cx="8496360" cy="4751280"/>
          </a:xfrm>
          <a:prstGeom prst="rect">
            <a:avLst/>
          </a:prstGeom>
          <a:ln w="0">
            <a:noFill/>
          </a:ln>
        </p:spPr>
      </p:pic>
      <p:sp>
        <p:nvSpPr>
          <p:cNvPr id="816" name="WordArt 6"/>
          <p:cNvSpPr txBox="1"/>
          <p:nvPr/>
        </p:nvSpPr>
        <p:spPr>
          <a:xfrm>
            <a:off x="1332000" y="260280"/>
            <a:ext cx="5949720" cy="7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гнитный perpetuum mobile</a:t>
            </a:r>
            <a:endParaRPr b="1" lang="en-US" sz="3200" spc="1" strike="noStrike">
              <a:ln w="9360">
                <a:solidFill>
                  <a:srgbClr val="cc0099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Законы сохранения необходимо учитывать ВСЕГ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оздание  дарового двигателя не противоречит законам прир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Единство явлений природы – сохранение энерг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WordArt 4"/>
          <p:cNvSpPr txBox="1"/>
          <p:nvPr/>
        </p:nvSpPr>
        <p:spPr>
          <a:xfrm>
            <a:off x="2771640" y="404640"/>
            <a:ext cx="4343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Выводы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WordArt 6"/>
          <p:cNvSpPr txBox="1"/>
          <p:nvPr/>
        </p:nvSpPr>
        <p:spPr>
          <a:xfrm>
            <a:off x="2340000" y="3213000"/>
            <a:ext cx="4608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елаем успеха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20" name="WordArt 7"/>
          <p:cNvSpPr txBox="1"/>
          <p:nvPr/>
        </p:nvSpPr>
        <p:spPr>
          <a:xfrm>
            <a:off x="1258920" y="620640"/>
            <a:ext cx="60498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Ждём новых проектов!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Мнимое вечно движущееся колесо, придуманное в средние века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800" name="Picture 4" descr="74"/>
          <p:cNvPicPr/>
          <p:nvPr/>
        </p:nvPicPr>
        <p:blipFill>
          <a:blip r:embed="rId1"/>
          <a:stretch/>
        </p:blipFill>
        <p:spPr>
          <a:xfrm>
            <a:off x="2268360" y="1989000"/>
            <a:ext cx="4896000" cy="4108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5" descr="75"/>
          <p:cNvPicPr/>
          <p:nvPr/>
        </p:nvPicPr>
        <p:blipFill>
          <a:blip r:embed="rId1"/>
          <a:stretch/>
        </p:blipFill>
        <p:spPr>
          <a:xfrm>
            <a:off x="2268360" y="2133720"/>
            <a:ext cx="4032360" cy="3527280"/>
          </a:xfrm>
          <a:prstGeom prst="rect">
            <a:avLst/>
          </a:prstGeom>
          <a:ln w="0">
            <a:noFill/>
          </a:ln>
        </p:spPr>
      </p:pic>
      <p:sp>
        <p:nvSpPr>
          <p:cNvPr id="802" name="WordArt 7"/>
          <p:cNvSpPr txBox="1"/>
          <p:nvPr/>
        </p:nvSpPr>
        <p:spPr>
          <a:xfrm>
            <a:off x="826920" y="333360"/>
            <a:ext cx="7471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66"/>
                </a:solidFill>
                <a:latin typeface="Arial"/>
              </a:rPr>
              <a:t>Модель двигателя с перекатывающимися шарикам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66"/>
              </a:solidFill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Picture 4" descr="Без имени-1"/>
          <p:cNvPicPr/>
          <p:nvPr/>
        </p:nvPicPr>
        <p:blipFill>
          <a:blip r:embed="rId1"/>
          <a:stretch/>
        </p:blipFill>
        <p:spPr>
          <a:xfrm>
            <a:off x="2124000" y="0"/>
            <a:ext cx="5041800" cy="5013360"/>
          </a:xfrm>
          <a:prstGeom prst="rect">
            <a:avLst/>
          </a:prstGeom>
          <a:ln w="0">
            <a:noFill/>
          </a:ln>
        </p:spPr>
      </p:pic>
      <p:sp>
        <p:nvSpPr>
          <p:cNvPr id="804" name="WordArt 5"/>
          <p:cNvSpPr txBox="1"/>
          <p:nvPr/>
        </p:nvSpPr>
        <p:spPr>
          <a:xfrm>
            <a:off x="295200" y="5373720"/>
            <a:ext cx="85978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Arial"/>
              </a:rPr>
              <a:t>Вечный двигатель, устроенный ради рекламы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cc00"/>
              </a:solidFill>
              <a:latin typeface="Arial"/>
              <a:ea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Picture 4" descr="72"/>
          <p:cNvPicPr/>
          <p:nvPr/>
        </p:nvPicPr>
        <p:blipFill>
          <a:blip r:embed="rId1"/>
          <a:stretch/>
        </p:blipFill>
        <p:spPr>
          <a:xfrm>
            <a:off x="1268280" y="1932120"/>
            <a:ext cx="6935760" cy="4133880"/>
          </a:xfrm>
          <a:prstGeom prst="rect">
            <a:avLst/>
          </a:prstGeom>
          <a:ln w="0">
            <a:noFill/>
          </a:ln>
        </p:spPr>
      </p:pic>
      <p:sp>
        <p:nvSpPr>
          <p:cNvPr id="806" name="WordArt 7"/>
          <p:cNvSpPr txBox="1"/>
          <p:nvPr/>
        </p:nvSpPr>
        <p:spPr>
          <a:xfrm>
            <a:off x="878040" y="260280"/>
            <a:ext cx="72230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Самодвижущееся колесо Орфиреуса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4" descr="73"/>
          <p:cNvPicPr/>
          <p:nvPr/>
        </p:nvPicPr>
        <p:blipFill>
          <a:blip r:embed="rId1"/>
          <a:stretch/>
        </p:blipFill>
        <p:spPr>
          <a:xfrm>
            <a:off x="1116000" y="1773360"/>
            <a:ext cx="6624720" cy="4537080"/>
          </a:xfrm>
          <a:prstGeom prst="rect">
            <a:avLst/>
          </a:prstGeom>
          <a:ln w="0">
            <a:noFill/>
          </a:ln>
        </p:spPr>
      </p:pic>
      <p:sp>
        <p:nvSpPr>
          <p:cNvPr id="808" name="WordArt 5"/>
          <p:cNvSpPr txBox="1"/>
          <p:nvPr/>
        </p:nvSpPr>
        <p:spPr>
          <a:xfrm>
            <a:off x="971640" y="549360"/>
            <a:ext cx="69055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99"/>
                </a:solidFill>
                <a:latin typeface="Arial"/>
              </a:rPr>
              <a:t>Разоблачение секрета колеса Орфиреуса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99"/>
              </a:solidFill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716000" y="259920"/>
            <a:ext cx="418644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«Чудо, которое не является чудом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Picture 4" descr="70"/>
          <p:cNvPicPr/>
          <p:nvPr/>
        </p:nvPicPr>
        <p:blipFill>
          <a:blip r:embed="rId1"/>
          <a:stretch/>
        </p:blipFill>
        <p:spPr>
          <a:xfrm>
            <a:off x="395280" y="1700280"/>
            <a:ext cx="4032360" cy="4249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716360" y="765000"/>
            <a:ext cx="4176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ект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вигателя с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щи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Picture 4" descr="Без имени-1"/>
          <p:cNvPicPr/>
          <p:nvPr/>
        </p:nvPicPr>
        <p:blipFill>
          <a:blip r:embed="rId1"/>
          <a:stretch/>
        </p:blipFill>
        <p:spPr>
          <a:xfrm>
            <a:off x="324000" y="260280"/>
            <a:ext cx="4392360" cy="6048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34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Вечный ли это</a:t>
            </a:r>
            <a:br>
              <a:rPr sz="4400"/>
            </a:b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двигател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4" descr="71"/>
          <p:cNvPicPr/>
          <p:nvPr/>
        </p:nvPicPr>
        <p:blipFill>
          <a:blip r:embed="rId1"/>
          <a:stretch/>
        </p:blipFill>
        <p:spPr>
          <a:xfrm>
            <a:off x="1042920" y="620640"/>
            <a:ext cx="2665440" cy="5329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4T05:15:23Z</dcterms:created>
  <dc:creator>Сергей</dc:creator>
  <dc:description/>
  <dc:language>en-US</dc:language>
  <cp:lastModifiedBy>User</cp:lastModifiedBy>
  <dcterms:modified xsi:type="dcterms:W3CDTF">2017-05-28T04:31:06Z</dcterms:modified>
  <cp:revision>12</cp:revision>
  <dc:subject/>
  <dc:title>Вечные двигатели</dc:title>
</cp:coreProperties>
</file>