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2.png" ContentType="image/png"/>
  <Override PartName="/ppt/media/image7.wmf" ContentType="image/x-wmf"/>
  <Override PartName="/ppt/media/image20.jpeg" ContentType="image/jpeg"/>
  <Override PartName="/ppt/media/image11.png" ContentType="image/png"/>
  <Override PartName="/ppt/media/image6.gif" ContentType="image/gif"/>
  <Override PartName="/ppt/media/image21.jpeg" ContentType="image/jpeg"/>
  <Override PartName="/ppt/media/image19.gif" ContentType="image/gif"/>
  <Override PartName="/ppt/media/image10.png" ContentType="image/png"/>
  <Override PartName="/ppt/media/image17.png" ContentType="image/png"/>
  <Override PartName="/ppt/media/image16.gif" ContentType="image/gif"/>
  <Override PartName="/ppt/media/image1.wmf" ContentType="image/x-wmf"/>
  <Override PartName="/ppt/media/image2.png" ContentType="image/png"/>
  <Override PartName="/ppt/media/image9.jpeg" ContentType="image/jpeg"/>
  <Override PartName="/ppt/media/image18.png" ContentType="image/png"/>
  <Override PartName="/ppt/media/image15.gif" ContentType="image/gif"/>
  <Override PartName="/ppt/media/image14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51B4-F4E2-455E-B095-F506158B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9BE-4887-4512-9530-916CE4AD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657-7BFF-419C-ACEF-E71C234B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74A-5AFB-4060-A80A-FA484A05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9782-3DDB-4520-AEF6-634FA0D2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1857-E5D1-43EC-88D9-91244E58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A8E2-D378-4C38-A91E-39ECD9DB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3785-3A9E-4393-AB97-74287D29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D1D4-06AD-4996-AB91-A5C09BC8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20BE-44F3-4FEA-BFC4-5C15FE41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60D1-521E-4DDF-99BE-DF8FC237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128-54AD-4108-898F-E04B42B4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DC7D-0344-4A52-950A-71AA6230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7A48-BE1D-44A4-9DDC-979677CE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34A5-F115-400B-8DFF-5A630947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03F4-02FF-4D98-9AEE-4B75904D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A7BE-F6C2-433D-8ABF-71C4B256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4DA8-09F6-4BEA-9FF4-C6711F61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0F9-263C-4F0B-B4F5-E5E19D23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4A5-DA77-45EF-900E-9A578B4A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5DA1-AFDD-4E3F-AD8B-3783E92A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DFE0-E6E6-44A5-94AD-856C5A99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6DB-8AEE-46E0-A99A-DC05650F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E27-4873-47AA-A443-EAD189D1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42F5-E0B7-494C-9821-F5DE072DF16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7F9A-B619-472F-B85A-BD08554DCEE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981000"/>
            <a:ext cx="7775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рганические веще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26920" y="3500280"/>
            <a:ext cx="6019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едмет органической хим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588000" y="4716360"/>
            <a:ext cx="1944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50040"/>
            <a:ext cx="747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404280"/>
            <a:ext cx="738648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Строение вещества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– порядок соединения атомов, их взаимное расположение в молекулах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Изомеры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вещества, которые имеют один и тот же качественный и количественный составы, но отличаются по своему строению и свойства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Изомерия –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явление существования изомер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7d47d"/>
                </a:solidFill>
                <a:uFillTx/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С. 151-155; задания 1,6 с. 155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5651640" y="0"/>
            <a:ext cx="1882800" cy="17240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250920" y="3645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3086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Открытия в  органической химии 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( 19 век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1807 г. Й.Я. Берцелиус – термин «органические вещества»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1828 г. Ф. Вёлер – синтез мочевины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1845 г. А.В. Кольбе – синтез уксусной кислоты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1854 г. – П.Э. Бертло – синтез жиро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1861 г. – А.М. Бутлеров – синтез сахаристого веществ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6443640" y="465300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ксусная кислота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цетон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этиловый спирт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ухое горючее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скорбиновая кислота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8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ахар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12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22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умага, состоящая из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целлюлозы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(С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арафиновая свеча и нефть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х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835280" y="333360"/>
            <a:ext cx="561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ические вещест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Содержат углерод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Горят и (или) разлагаются с образованием углеродсодержащих продукт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Связи в молекулах органических веществ ковалентны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79280" y="260280"/>
            <a:ext cx="756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знаки органических вещест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395280" y="4869000"/>
            <a:ext cx="2160720" cy="1726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788000" y="4869000"/>
            <a:ext cx="217152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99"/>
                </a:solidFill>
                <a:uFillTx/>
                <a:latin typeface="Arial"/>
              </a:rPr>
              <a:t>Органическая химия-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наука об органических веществах, их составе, строении, свойствах и способах получения.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411280" y="4581360"/>
            <a:ext cx="2746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Периодическая система химических элементов  Д.И. Менделеева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1316160"/>
            <a:ext cx="734544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Arial"/>
              </a:rPr>
              <a:t>Химические соединения: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Неорганических веществ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–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600 000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Органических веществ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27 000 000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219640" y="4941720"/>
            <a:ext cx="1814400" cy="1528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84360" y="4797360"/>
            <a:ext cx="13935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единение атомов углерода в цепи разной длины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бразование атомами углерода простых, двойных и тройных связей с другими атомами и между собой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Разный характер углеродных цепочек: линейные, разветвлённые, циклически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Множество элементов, входящих в состав органических вещест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4000" y="404640"/>
            <a:ext cx="69134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50000">
                      <a:srgbClr val="004646"/>
                    </a:gs>
                    <a:gs pos="100000">
                      <a:srgbClr val="0099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 многообраз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50000">
                    <a:srgbClr val="004646"/>
                  </a:gs>
                  <a:gs pos="100000">
                    <a:srgbClr val="0099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50000">
                      <a:srgbClr val="004646"/>
                    </a:gs>
                    <a:gs pos="100000">
                      <a:srgbClr val="0099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50000">
                      <a:srgbClr val="004646"/>
                    </a:gs>
                    <a:gs pos="100000">
                      <a:srgbClr val="0099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ганических соединени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50000">
                    <a:srgbClr val="004646"/>
                  </a:gs>
                  <a:gs pos="100000">
                    <a:srgbClr val="0099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7d47d"/>
                </a:solidFill>
                <a:latin typeface="Arial"/>
              </a:rPr>
              <a:t>с</a:t>
            </a:r>
            <a:r>
              <a:rPr b="1" lang="en-US" sz="6000" spc="-1" strike="noStrike" baseline="-25000">
                <a:solidFill>
                  <a:srgbClr val="f7d47d"/>
                </a:solidFill>
                <a:latin typeface="Arial"/>
              </a:rPr>
              <a:t>4</a:t>
            </a:r>
            <a:r>
              <a:rPr b="1" lang="en-US" sz="6000" spc="-1" strike="noStrike">
                <a:solidFill>
                  <a:srgbClr val="f7d47d"/>
                </a:solidFill>
                <a:latin typeface="Arial"/>
              </a:rPr>
              <a:t>н</a:t>
            </a:r>
            <a:r>
              <a:rPr b="1" lang="en-US" sz="6000" spc="-1" strike="noStrike" baseline="-25000">
                <a:solidFill>
                  <a:srgbClr val="f7d47d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Н    Н   Н   Н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  Н         Н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   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С   С   С   Н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Н   С   С   С   Н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     С   С   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Н         Н   Н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   Н   С   Н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     С   С   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                      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Н      Н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   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Н              Н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Н   С   Н   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Н   С   С   С   С   Н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Н   С    С   С   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Н   Н   Н   Н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Н     Н     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242100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68360" y="1915920"/>
            <a:ext cx="0" cy="215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2276640"/>
            <a:ext cx="215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2205000"/>
            <a:ext cx="215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1916280"/>
            <a:ext cx="0" cy="217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916280"/>
            <a:ext cx="0" cy="217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79640" y="1916280"/>
            <a:ext cx="0" cy="217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50920" y="2276640"/>
            <a:ext cx="2174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16000" y="227664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47640" y="227664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76360" y="242100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8000" y="242100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19640" y="2276640"/>
            <a:ext cx="215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24360" y="227664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227664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2276640"/>
            <a:ext cx="2174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80000" y="1916280"/>
            <a:ext cx="0" cy="217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1916280"/>
            <a:ext cx="0" cy="217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51280" y="242100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242100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11640" y="2421000"/>
            <a:ext cx="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2421000"/>
            <a:ext cx="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924360" y="2781360"/>
            <a:ext cx="21600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27640" y="2781360"/>
            <a:ext cx="21564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4005360"/>
            <a:ext cx="215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2920" y="400536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47640" y="400536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79640" y="400536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84360" y="400536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407664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71640" y="3645000"/>
            <a:ext cx="0" cy="215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414972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03280" y="414972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414972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1280" y="414972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11280" y="3645000"/>
            <a:ext cx="0" cy="215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80000" y="4005360"/>
            <a:ext cx="215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84720" y="400536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88000" y="4005360"/>
            <a:ext cx="215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92720" y="400536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140000" y="3716280"/>
            <a:ext cx="21564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00720" y="3716280"/>
            <a:ext cx="14256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67280" y="3573360"/>
            <a:ext cx="2174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357336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48360" y="4149720"/>
            <a:ext cx="144360" cy="142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148360" y="3715920"/>
            <a:ext cx="14436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40360" y="414972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16360" y="414972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43640" y="1916280"/>
            <a:ext cx="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48360" y="1916280"/>
            <a:ext cx="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12000" y="2205000"/>
            <a:ext cx="215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12000" y="2637000"/>
            <a:ext cx="215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43640" y="278136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48360" y="278136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93080" y="2205000"/>
            <a:ext cx="14292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093080" y="2637000"/>
            <a:ext cx="14292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43640" y="2349360"/>
            <a:ext cx="0" cy="142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88000" y="220500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88000" y="263700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48360" y="2349360"/>
            <a:ext cx="0" cy="142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292720" y="4724280"/>
            <a:ext cx="1944720" cy="1555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1888920" cy="15112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58428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220647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3:30:00Z</dcterms:created>
  <dc:creator>Сергей</dc:creator>
  <dc:description/>
  <dc:language>en-US</dc:language>
  <cp:lastModifiedBy>User</cp:lastModifiedBy>
  <dcterms:modified xsi:type="dcterms:W3CDTF">2013-10-20T15:43:41Z</dcterms:modified>
  <cp:revision>48</cp:revision>
  <dc:subject/>
  <dc:title>Слайд 1</dc:title>
</cp:coreProperties>
</file>