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6.gif" ContentType="image/gif"/>
  <Override PartName="/ppt/media/image21.jpeg" ContentType="image/jpeg"/>
  <Override PartName="/ppt/media/image19.gif" ContentType="image/gif"/>
  <Override PartName="/ppt/media/image1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9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517-5C82-4910-A42C-8EB46EA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DFE-DE04-425E-B05F-93072C8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94D-5FDB-402F-8257-63FB598E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67F-072C-45E3-B7C8-A0F272B7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8B2A-D01E-4921-AA67-155281A4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DAD-A234-49A3-81B6-E967CD4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6231-325A-45E4-99AC-623124C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906B-A06A-4ACA-B1F5-29BF0C8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7F6-1ED3-4F2E-BD8B-70DB6CE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B46B-CE4E-437E-8E0B-EC3B9190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0B0E-F0A4-4A66-A5E9-4057563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030-AF39-4A20-B24D-2D958681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B594-60B1-40AA-A5D2-4021030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3847-0F27-448F-BA7C-0A503D54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498A-5998-4871-A0F8-26AB86D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0D3-8D3D-4F21-90F1-93A6678A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46F6-C080-4235-AAC2-56111017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0BF-04B1-4E74-8920-F124F97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41B-C886-4D48-AEDC-B4EF6B1D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F3E-938D-45FF-ABC7-3C52B179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CBD-C36D-4718-A7C2-23FAFCA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C3D-87AF-4F74-BE32-889F6707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027-3485-49D6-9842-1BEA38D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3D1-700E-4474-943A-D022340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6A12-CDBB-44EA-9CB2-559D1615594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574-9DC0-4317-AF5C-54CCBD47208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81000"/>
            <a:ext cx="7775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рганические 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6920" y="3500280"/>
            <a:ext cx="6019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дмет органической хим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88000" y="4716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50040"/>
            <a:ext cx="747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Строение вещества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– порядок соединения атомов, их взаимное расположение в молекулах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Изомеры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ещества, которые имеют один и тот же качественный и количественный составы, но отличаются по своему строению и свойств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Изомерия –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явление существования изомер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С. 151-155; задания 1,6 с. 155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882800" cy="1724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ткрытия в  органической химии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19 век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07 г. Й.Я. Берцелиус – термин «органические вещества»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28 г. Ф. Вёлер – синтез мочевин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45 г. А.В. Кольбе – синтез уксусной кислот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54 г. – П.Э. Бертло – синтез жир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61 г. – А.М. Бутлеров – синтез сахарист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443640" y="4653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ксусная кислота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цетон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тиловый спирт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ухое горючее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скорбиновая кислот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ахар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мага, состоящая из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еллюлозы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(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арафиновая свеча и нефт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835280" y="333360"/>
            <a:ext cx="56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ческие вещ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одержат углерод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Горят и (или) разлагаются с образованием углеродсодержащих продук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вязи в молекулах органических веществ ковалентны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26028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 органических веще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95280" y="4869000"/>
            <a:ext cx="2160720" cy="172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788000" y="4869000"/>
            <a:ext cx="21715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Органическая химия-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наука об органических веществах, их составе, строении, свойствах и способах получения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11280" y="4581360"/>
            <a:ext cx="2746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ериодическая система химических элементов  Д.И. Менделеев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16160"/>
            <a:ext cx="73454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Химические соединения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Неорганических вещест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00 000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Органических вещест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7 000 000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19640" y="494172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1393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единение атомов углерода в цепи разной длин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разование атомами углерода простых, двойных и тройных связей с другими атомами и между собо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ный характер углеродных цепочек: линейные, разветвлённые, циклическ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Множество элементов, входящих в состав органических вещест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4000" y="404640"/>
            <a:ext cx="6913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многообраз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ческих соедине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Arial"/>
              </a:rPr>
              <a:t>с</a:t>
            </a:r>
            <a:r>
              <a:rPr b="1" lang="en-US" sz="6000" spc="-1" strike="noStrike" baseline="-25000">
                <a:solidFill>
                  <a:srgbClr val="f7d47d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f7d47d"/>
                </a:solidFill>
                <a:latin typeface="Arial"/>
              </a:rPr>
              <a:t>н</a:t>
            </a:r>
            <a:r>
              <a:rPr b="1" lang="en-US" sz="6000" spc="-1" strike="noStrike" baseline="-25000">
                <a:solidFill>
                  <a:srgbClr val="f7d47d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    Н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Н         Н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С   С   С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Н   С   С   С   Н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      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Н   С   Н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      Н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        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С   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С   С   С   С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С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Н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  Н  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68360" y="191592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27664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205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227664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227664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227664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8000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242100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242100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360" y="2781360"/>
            <a:ext cx="21600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7640" y="2781360"/>
            <a:ext cx="21564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8436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0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3645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3645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140000" y="3716280"/>
            <a:ext cx="215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00720" y="3716280"/>
            <a:ext cx="1425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357336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573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4149720"/>
            <a:ext cx="14436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48360" y="3715920"/>
            <a:ext cx="1443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191628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8360" y="191628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2000" y="2205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2637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2781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2205000"/>
            <a:ext cx="142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93080" y="2637000"/>
            <a:ext cx="142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2349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8000" y="220500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2349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888920" cy="151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5842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20647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3:30:00Z</dcterms:created>
  <dc:creator>Сергей</dc:creator>
  <dc:description/>
  <dc:language>en-US</dc:language>
  <cp:lastModifiedBy>User</cp:lastModifiedBy>
  <dcterms:modified xsi:type="dcterms:W3CDTF">2013-10-20T15:43:41Z</dcterms:modified>
  <cp:revision>48</cp:revision>
  <dc:subject/>
  <dc:title>Слайд 1</dc:title>
</cp:coreProperties>
</file>