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8BA-7496-4ED2-93C9-1D1C49BA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061-5DE2-4A8F-8C8B-038636E7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4743B-AF89-4D0E-955A-C29CF877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826713-1230-4491-9315-8E58DAEA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DA66BC-EEAB-401C-9A9B-ABCE8B23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115C8C-24A2-43C6-AFEC-4E4D3E8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05F602-4116-4E31-B488-186C2FCA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81384-EA19-4F02-A023-B1B606C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4EA2F9-B604-42A4-BA8F-B5D526C6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533AB-17F5-4449-A6C8-128D980B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30C967-F2D2-4733-AB8B-8355A069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008-5467-40CD-B584-305CC8FE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8E9-D9C2-434F-AC6F-7B8AF2E6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CB368-2A90-46C5-917C-602964A8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4B995-0AE7-4C37-9FEA-50ED48AC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D4803-FC92-468B-8C30-987869B3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2E8B1-8CA0-4055-8780-8AF1D3AF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4CEF2-DB04-4921-89C3-A535B2D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E1928-2DC0-4780-BAFA-E118A1C0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729E0-1A71-4E21-8876-74437671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D7E-B85C-4EB7-BF4A-267EF364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A4638-5EC8-493D-8C78-9C374CE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28B33-E3C6-495A-BAA3-F2047F7A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D1FEA-781D-4879-A9A1-B9BEEC4A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C8B25-C89F-4B99-AA11-7E9A92F1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7CB44-78C5-4CA6-B95F-968477E9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6810-CD74-48FB-A5C4-830623D8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A7FB-480D-440E-82C5-4BEC3D50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CB2B-29A8-4C9C-9A74-225FDE5E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F630-16CD-44DC-A90D-259366B0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1EC9-C6CD-4C81-8612-6153BBF7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70B-DC01-48A4-AE08-14ED7541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2663-56C3-430F-8F1C-C2E98D9B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30E3-A373-4852-8E21-E08E2054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FB81-2C5B-45ED-A5F6-223955AE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4480-CA35-4E2C-865F-30C705C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2310-E46A-496B-9C86-9B887E9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96D6-5E12-4B03-BBF3-ABF52F36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32F4-66D1-4413-88E9-62D4284B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51BAA7-BF9F-40F4-80F5-8340DF9E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64CC2-4058-4F88-A8A9-317FE95B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69E92-98BC-45C9-B789-AFE7BD16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5F8-94BE-4DF8-94AA-3CACCD0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2BC94-DC76-47D4-BE7E-03C26ED4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573A7-C74B-48B1-94A7-46803416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EC521-9872-4500-BF13-F066A0F4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B99385-E76A-49BD-B100-B5EA1C0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3DDA9-9650-433C-9652-3295D8FA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A580E-0156-4609-9F7E-4797D0FC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E142C-C6E9-4473-AC45-D2F68410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27388-979E-4CB0-9C02-D02CA006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B7F57-8ECF-445C-9CBF-AF4BBDEF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0DA3A-8560-40D9-9438-133E3A23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C19-1DC0-482B-9562-C3EE5B33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D7A84-7FF5-4DE1-B718-9E334D0E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ADAAC-F79E-47C5-BF01-8DF26C7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EE42E-CE50-4FDB-B3F2-8AB894A7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1EF08-05EF-4E5C-AC4E-FB730D7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1E04E-A011-4506-ACDD-4312090C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5AB5B-2B8C-409D-BCAD-E7A818F4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221A-4E8C-4A2D-A6F8-B092BE3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68AED-E0F4-46D7-A2BF-9BE1B746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A610-5F48-40CE-BC08-C5D22467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3806-9941-44B9-9F6B-D73B443A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9D0-3184-4CBC-BA03-737A4664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F07F7-88A6-401B-B0DB-011AAED3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9F0E8-4E80-4F54-80D0-A70FE586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2DDFB-0D01-4AE1-B98D-EFEC9F7C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A2867-EE18-4667-8A4C-3F2CDF1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0993-6F3A-484F-9E5C-94E0958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E9456-A91F-49C5-B0E1-8B8E8498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BAF40-7BD2-4A64-8D55-CF4D7EAF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B66F4-571E-408D-B5A2-181138E0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72529-3196-45DA-B2DC-5BE6164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1354E-FA76-41FA-A278-2BE80BE5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F83-E96C-4D2F-ABB3-4A2BED7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E13E8-D9A5-4CDD-A922-9247446B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36C14-4AB5-4D08-87C7-1FE64BDB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CE902-0C43-4E78-B7E9-6F8D46F6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14FD5-CD5C-4A49-8AFE-6459B8BB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B954E-FB15-4042-9C87-0E755C6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22EEC-365D-4696-A463-B8C8C5B6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BBBB9-FEB8-48C3-8101-7E442F21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61E0E-28BC-48E5-8C32-B178AAFC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CEC8-6A54-4FA7-A739-922CEC08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3B309-70EE-4041-9344-65394C4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8A5-F5BB-4DE5-8086-0E75AC9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2410D-1C99-4EB6-8640-E121172E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36247-CD4A-45F4-A4A8-A4C2A79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B64AD-DE54-4E22-BAC1-F70D299C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C80C-127B-470F-85B7-E3485E74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F7F03-1F9A-4525-81AE-BEB0E65A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CAEB7-9C37-4175-91D3-64FD77B5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FFB45E-AC82-4DDF-AE9B-5510A42C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F09F51-4615-4426-85CF-C0BFE0D7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AB3CB-B44A-4D81-BD68-1F45CE0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6C2A71-7B10-4A3A-8C10-09C72404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D99-5C67-4FC1-90C0-0202F196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B96F53-03CB-40D4-B885-62569B4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E0612C-8EAB-4E20-85F9-3EE3DAB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8D575-7F63-4B00-B8A4-B3D44D24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4B2DF-CA13-4D39-ABCD-812EED86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30F9C4-E930-4C5F-82AD-F91027AF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EA6DC-6B5A-46F8-A916-BBEAF883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369A8-FB3F-4A9B-8217-6942D86C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0B707-3EF1-46DF-B53F-093A128F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EC1883-7227-4AFB-A9C7-A8F4DF44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261C6-9EC9-4806-AE79-92A1B18F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B4D5-D3C9-41D2-80B3-EBC17660EDF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755B-6A82-4B34-8FE6-8DD43A3C0A2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9C7E-6F89-44A2-B0BD-A2F5448DC3F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345E-D064-47E3-B2F2-9D3AF6390E3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E772-82C5-4FD1-8816-635575226D0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69DF-C532-48AC-99C5-7DA0C385540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A22A-5AA4-4B36-A06F-7F10E037EAE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F8C6-C172-4027-A35A-7D0BF5D97CD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7CD-80CB-497A-A033-075E136561C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53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взорова Виктория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16 Н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Рисунок 3" descr="img93.jpg"/>
          <p:cNvPicPr/>
          <p:nvPr/>
        </p:nvPicPr>
        <p:blipFill>
          <a:blip r:embed="rId2"/>
          <a:stretch/>
        </p:blipFill>
        <p:spPr>
          <a:xfrm>
            <a:off x="1785960" y="3571920"/>
            <a:ext cx="3857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5692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6840" y="164628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весть «Митина любовь» была написана И. А. Буниным в 1924 году и стала ознаменованием нового периода в творчестве писател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9" name="Рисунок 3" descr="57bdf77bd717e440c161dfa018a7f12a.jpg"/>
          <p:cNvPicPr/>
          <p:nvPr/>
        </p:nvPicPr>
        <p:blipFill>
          <a:blip r:embed="rId2"/>
          <a:stretch/>
        </p:blipFill>
        <p:spPr>
          <a:xfrm>
            <a:off x="5857920" y="1928880"/>
            <a:ext cx="28224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164628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"Митина любовь" - повесть о развитии любви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человеческой жизни, о странностях переживания любви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 искушениях, связанных с тем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что душа не готова к любви и не способна к ней,  внутренние борения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ревоги, томления увлекают человека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уводят его от простой, привычной ему жизни 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 также это повесть о бездонной глубине любви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 ее природности, о ее скрытых великих силах и том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ак важно правильно распорядиться этими силами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какими они должны выйти на поверхность -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мир людей, в обыденную действительность. 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Рисунок 3" descr="513922.jpg"/>
          <p:cNvPicPr/>
          <p:nvPr/>
        </p:nvPicPr>
        <p:blipFill>
          <a:blip r:embed="rId2"/>
          <a:stretch/>
        </p:blipFill>
        <p:spPr>
          <a:xfrm>
            <a:off x="6216480" y="1285920"/>
            <a:ext cx="2633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6840" y="164628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ронзительный лиризм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не сентиментальность и сенситивность только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а именно лиризм, трепетный лиризм и трагическая сила -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это первые впечатления от прочтения повести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а далее - осмысление, длительное и глубокое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онимание замысла автора душой читателя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остепенное вживание, прочувствование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огружение в эту поэтику.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Рисунок 3" descr="i.jpg"/>
          <p:cNvPicPr/>
          <p:nvPr/>
        </p:nvPicPr>
        <p:blipFill>
          <a:blip r:embed="rId2"/>
          <a:stretch/>
        </p:blipFill>
        <p:spPr>
          <a:xfrm>
            <a:off x="6500880" y="2857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основе всего произведения лежит внутренний конфликт главного геро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8" name="Рисунок 3" descr="73867772_3829067_ho.jpg"/>
          <p:cNvPicPr/>
          <p:nvPr/>
        </p:nvPicPr>
        <p:blipFill>
          <a:blip r:embed="rId2"/>
          <a:stretch/>
        </p:blipFill>
        <p:spPr>
          <a:xfrm>
            <a:off x="5357880" y="1857240"/>
            <a:ext cx="3309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Главные герои – Митя, Кат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торостепенные герои – Аленка, староста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Рисунок 3" descr="stepunL5.jpg"/>
          <p:cNvPicPr/>
          <p:nvPr/>
        </p:nvPicPr>
        <p:blipFill>
          <a:blip r:embed="rId2"/>
          <a:stretch/>
        </p:blipFill>
        <p:spPr>
          <a:xfrm>
            <a:off x="5715000" y="164304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16:25:15Z</dcterms:created>
  <dc:creator>admin</dc:creator>
  <dc:description/>
  <dc:language>en-US</dc:language>
  <cp:lastModifiedBy>admin</cp:lastModifiedBy>
  <dcterms:modified xsi:type="dcterms:W3CDTF">2017-01-18T17:44:39Z</dcterms:modified>
  <cp:revision>8</cp:revision>
  <dc:subject/>
  <dc:title>Бунин Иван Алексеевич «Митина любовь»</dc:title>
</cp:coreProperties>
</file>