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F77-C849-4ABB-80C8-E6B9D573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0EF-79C2-4826-B188-6D95C3CA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EDACE5-63FF-4C8C-AFD4-6940413F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B3C56-C387-45C2-8392-93A9AF23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CE3F5-6796-4661-9D3A-13A3E2E3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DCE2D-6BFA-47C0-B7A6-508367A9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42BA00-CDC0-41A0-8DC0-07A714C7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E1BA51-179E-4494-A631-22BCB5B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9CDF04-047A-40BC-9C68-8E6EAD2C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A1C9D5-BA05-464F-B66D-5FBF2163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5E0851-3FA1-419B-8085-E50C9505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B45-28B4-448B-94B8-4FBC19EE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17D-54E4-4CBC-9A02-255F262E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47147-AAD4-407F-B04A-CD01F760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0E321-32B4-43EF-B858-DC189B1D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3EDF3-B18A-4F7D-B358-A03D043D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D7250-28B9-483B-9F20-5CD8ED29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DCC88-3691-49D5-A089-F9B64277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741C4-7121-4E73-9E4D-08238E9A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66BD3-A73D-474B-BC33-FCA301B1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C95-0EF9-4863-AA4E-B323F179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B7249-E97F-4DF6-92CD-7756D2D5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2B819-D79C-42C4-9952-5D4B0843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464E3-D934-44F3-9F08-50E6E81A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C0BE5-0726-44D3-90AD-E054BB08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E7EA0-C3DE-4E16-B5CF-729167D5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0947-CF16-448B-BB44-6631A94F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2A1D-A7B8-4D3D-97B4-8BEF4B47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3B52-3029-4D18-95F2-E4DA5BA7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B0DA-1927-4C8B-B01B-73DF5C79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2A2F-B8BD-4B83-A97E-4946D176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806-5CCE-4F92-9302-C7AF24F4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35C1-7E34-469A-AAC7-BEAB6EFC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786B-8D2D-4D9F-89CA-463F89C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8267-EE2F-4ED8-AB52-BFBB591D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14C1-0A0A-4938-BE1F-EF1C11B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00C6-A5D2-44B7-BE48-C3FA2FD1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3FFF-BE74-4BAD-A1DF-FF1303DC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C45D-C115-46DD-A4F0-008FC4A1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C6DC4-A484-4ADE-B125-054E3181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7C213E-E4D1-4DAB-80E5-EAFA4B69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9A327-E578-408A-9EE1-6D0640EA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B12-9140-4F82-B155-79B1B555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2DFB5-3771-46F2-B0FB-CC09800B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0AE6D-AA90-449E-A4C7-58A6DEAA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78762-7107-4A91-849F-10F6F281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3B093-71B1-4225-8D1B-5AAE48E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B3C6E-1BE6-407C-88FF-6AED7919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49AC6-C260-4A77-B3B1-F69DF26B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E1D24-46C2-4CB1-B2CD-8F088FB8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1DBFC-3C79-4FAD-9B0F-A215AE39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A1CAD-902D-4756-9D31-63BE1F3A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B2DE4-4386-4AB3-B4E2-D9ED64E8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61D-60F2-4CBE-A079-D93D9727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C9B1-AAE1-4CE9-98FC-7138A7FB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D3AF5-7214-4007-A953-5A50C360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3DD84-E581-4535-A241-EE3DA94B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31E91-B3FC-4707-B900-74486696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E72CF-A54A-45EF-8963-53AEBABA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FAD39-958B-4895-9894-D58B40F1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0BB7-CAC3-483A-9DBA-6ECD8D10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10B3-F274-4A58-BEDC-E0746554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5FC6B-AA3E-487B-BD90-A23B3E61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B4E0-AE40-4FAF-A420-BF659607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B6D-3DB1-4D7F-9D6C-9E9BA978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75B5C-9BF4-43C2-A05C-1D41F66A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4BE25-49A3-4994-B6A4-03298674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97C43-C9F5-4A8B-AFCF-0606BE8E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7603A-DFE2-4DAD-B925-61D622FB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2D761-1417-4CBB-A884-F9B0311D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69BA9-ADF5-42BD-B6A1-B8E1836F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44DD6-7E5C-4E6C-BC84-1ED1EA80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064F5-3DD6-4B59-95D1-B919111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89A22-C684-41E5-91DE-996E7B36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1A0EA-42B0-4BCE-A51D-8CBABBE2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A80-5A00-48AF-94D9-FEDF4FA9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1CE26-4F20-48FC-B3C1-169C0CDF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16EF8-05E8-4477-BDFF-ABDA738A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FB7A-9C9F-4863-B77D-9C5ADD45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9538A-EC9C-4AF9-A974-C762F29B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E0D51-26CC-4E47-B8A8-324C6821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2AD91-773F-4DD9-BE7A-17359970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35F07-C300-4326-82A4-05CEBF3C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000EE-B493-4BD1-984C-2BDF5DE1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2EA87-44A4-4940-B88D-65AC9FF0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0130F-2B06-4D9A-B0EC-E2E24A2C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B58-7B43-4638-B46C-27E93EE7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11979-8F91-4A99-977C-7946CD38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4BB2E-634C-4E2E-AAF6-C78E1E57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C57D2-9D1C-4634-A12F-7C097A92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EEEE2-6C61-4C2C-B22D-3E8D681C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0CDEB-091A-4816-8478-8158D27A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9F7F5-0223-4892-8418-4799DBE3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A8D60D-1990-45F9-8E71-C26FCDC8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B3802E-CDEC-4EA0-BF28-68B36B67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DED11-4FE6-4BBC-9E5E-87F0EC97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6085E3-EE67-4FBA-8CE2-03E7BD05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FA1-DCE2-435F-AB60-F8BC6ADC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5BFD57-DB3C-495A-ACCD-E34752F7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48BC4E-2234-40B1-BB85-CD05F92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208AD0-DAD2-4C77-88EC-A382B50E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B3B2D4-0F5A-4E86-AB6F-C81CA887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7D973A-23CE-43DA-8B70-3A7A937A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06A46C-6213-4727-9881-DE26D36F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6501E6-DA0F-43DD-BCEC-D6B212FA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85F5F9-C723-44B2-8440-2D314C6D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85A60F-A029-4113-91E2-138E43FD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36D38D-5E83-4A50-B82C-CF969C1C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BB94-304C-4356-9780-37F2DEF0956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774D-79E0-49D2-BE5F-4A99EA85F46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B277-D7F6-424A-8CA2-AD55C819078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6266-D322-474D-AF8A-E5BC748169B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6C9F-234F-4002-98B0-4ADF14D0DE1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A8EE-1783-48CB-BE0F-DF561D86B96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C17A-092E-41DB-941E-F10627AB3ED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A7F6-E069-49D5-8CC4-64BCD392648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EF72-F58A-4F68-A2EF-17F7E37A397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53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взорова Виктория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16 Н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Рисунок 3" descr="img93.jpg"/>
          <p:cNvPicPr/>
          <p:nvPr/>
        </p:nvPicPr>
        <p:blipFill>
          <a:blip r:embed="rId2"/>
          <a:stretch/>
        </p:blipFill>
        <p:spPr>
          <a:xfrm>
            <a:off x="1785960" y="3571920"/>
            <a:ext cx="3857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56920" cy="116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6840" y="164628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весть «Митина любовь» была написана И. А. Буниным в 1924 году и стала ознаменованием нового периода в творчестве писател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9" name="Рисунок 3" descr="57bdf77bd717e440c161dfa018a7f12a.jpg"/>
          <p:cNvPicPr/>
          <p:nvPr/>
        </p:nvPicPr>
        <p:blipFill>
          <a:blip r:embed="rId2"/>
          <a:stretch/>
        </p:blipFill>
        <p:spPr>
          <a:xfrm>
            <a:off x="5857920" y="1928880"/>
            <a:ext cx="28224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6840" y="1646280"/>
            <a:ext cx="59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"Митина любовь" - повесть о развитии любви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человеческой жизни, о странностях переживания любви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 искушениях, связанных с тем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что душа не готова к любви и не способна к ней,  внутренние борения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тревоги, томления увлекают человека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 уводят его от простой, привычной ему жизни 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 также это повесть о бездонной глубине любви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 ее природности, о ее скрытых великих силах и том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ак важно правильно распорядиться этими силами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 какими они должны выйти на поверхность -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мир людей, в обыденную действительность. 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2" name="Рисунок 3" descr="513922.jpg"/>
          <p:cNvPicPr/>
          <p:nvPr/>
        </p:nvPicPr>
        <p:blipFill>
          <a:blip r:embed="rId2"/>
          <a:stretch/>
        </p:blipFill>
        <p:spPr>
          <a:xfrm>
            <a:off x="6216480" y="1285920"/>
            <a:ext cx="2633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6840" y="1646280"/>
            <a:ext cx="690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Пронзительный лиризм,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не сентиментальность и сенситивность только,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а именно лиризм, трепетный лиризм и трагическая сила -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это первые впечатления от прочтения повести,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а далее - осмысление, длительное и глубокое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понимание замысла автора душой читателя,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постепенное вживание, прочувствование,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погружение в эту поэтику. 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Рисунок 3" descr="i.jpg"/>
          <p:cNvPicPr/>
          <p:nvPr/>
        </p:nvPicPr>
        <p:blipFill>
          <a:blip r:embed="rId2"/>
          <a:stretch/>
        </p:blipFill>
        <p:spPr>
          <a:xfrm>
            <a:off x="6500880" y="2857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основе всего произведения лежит внутренний конфликт главного геро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8" name="Рисунок 3" descr="73867772_3829067_ho.jpg"/>
          <p:cNvPicPr/>
          <p:nvPr/>
        </p:nvPicPr>
        <p:blipFill>
          <a:blip r:embed="rId2"/>
          <a:stretch/>
        </p:blipFill>
        <p:spPr>
          <a:xfrm>
            <a:off x="5357880" y="1857240"/>
            <a:ext cx="33098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Главные герои – Митя, Кат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торостепенные герои – Аленка, староста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Рисунок 3" descr="stepunL5.jpg"/>
          <p:cNvPicPr/>
          <p:nvPr/>
        </p:nvPicPr>
        <p:blipFill>
          <a:blip r:embed="rId2"/>
          <a:stretch/>
        </p:blipFill>
        <p:spPr>
          <a:xfrm>
            <a:off x="5715000" y="164304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8T16:25:15Z</dcterms:created>
  <dc:creator>admin</dc:creator>
  <dc:description/>
  <dc:language>en-US</dc:language>
  <cp:lastModifiedBy>admin</cp:lastModifiedBy>
  <dcterms:modified xsi:type="dcterms:W3CDTF">2017-01-18T17:44:39Z</dcterms:modified>
  <cp:revision>8</cp:revision>
  <dc:subject/>
  <dc:title>Бунин Иван Алексеевич «Митина любовь»</dc:title>
</cp:coreProperties>
</file>