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D6F5-E6DC-4211-8FE9-480C92AE78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F379-F071-4B78-9B94-EE995005C4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E3B-D170-4175-B6A9-8585FFD7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3A5-B4AF-4A5A-811B-C3980E05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B0C-0035-4F55-A054-0892566D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EF1-56B5-464A-8A19-C57E1538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D9A6-5427-49B1-89EE-933BAE19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FD81-A8B4-4E6A-B2F1-95591ADC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F436-307C-40E6-8F88-88A05292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A358-9692-4F42-BC6F-0048040B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3F5B-EF0B-49F9-AEE2-D271571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9A80-792C-44CA-A11A-A3015B61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0D1E-817D-4025-997F-0EE22A1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D1F-40F3-40A5-898F-61191FC1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E7AC-D5F1-4D9D-8072-E248592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1707-A670-4353-904F-FA1306D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06A7-197D-4EDD-A1B4-6B6DBB38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8777-C617-4771-ACF2-224BC728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C16A-1D3E-4052-9D3C-AB3B28C9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254C-EDF2-454C-8E2A-7244BE3A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84DF-D0D3-4E06-8267-031310BD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F96E-9914-4E28-A42E-C28D778D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7675-0FBB-474E-85B6-3B40C8EF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04D9-C469-4B3D-A33C-14E30E4B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D85-5FFC-43A0-A665-E68B5058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89A9-20E6-48B3-B437-CE68E4A6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D481E-9C0A-4063-AFDE-25F59E02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2799-A43D-48B8-975D-19E11A8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4FFB-DF2F-4F86-828D-043402A6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E3ED-D12A-4BB5-8B0F-4E2E88EF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0D33-95BE-4097-8B23-1D355C89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07D7-596E-43E6-8B35-759ADC50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D323-8AF3-4189-8DCA-53E62503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4F0D-110A-40F4-BAF0-9A29EF2B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246F-DCB7-482C-BA90-F5B0D0C8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141-F779-4ADD-BAF8-C2A092AF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91AE7-26D9-44FB-A04E-03BAE4B6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191C-A517-4372-B168-87C5F219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BA20-EAE2-451E-8EEF-13FF9445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E8368-0661-4757-BACE-65EE735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8D57-91B5-47FE-A706-546A923C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0FAA-2D73-4CB0-B15C-D5E0B1E0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B2CF-2DFE-44C7-9162-3FC5DCB3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6483A-3C32-4BB4-A2DB-6A0686BE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1A50D-A5D4-4E87-9686-404396E7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30A-4E31-4C26-9D73-8CCAA831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178-C2A1-41DD-A717-1C77F27E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A3F-EDB6-4AF2-9056-394DFEC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4A0-D2BC-4AD6-BE67-C3D5975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2F7-46E1-4EE6-881A-FFDC754F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1BCB-A669-4076-8AF0-3C0E51005B4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A4AE-7D96-42BF-934A-0AFD1542B82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D592-2BDA-4E38-B1BF-C29EFB464E1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5D76-C905-4C10-BE73-C87F168C10A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нет у нас иного достоянья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йте же беречь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ть в меру си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 дар бессмертный — реч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ша слова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5720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2286000" y="2413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ставьте знаки препин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усты зашевелились и на поляну вышел огромный лос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ень выдался жаркий и звери потянулись к рек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гда мы проснулись солнце уже поднялось высок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тя не пойдёт в поход потому что заболе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11" descr="nature_230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4676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199056"/>
          <p:cNvPicPr/>
          <p:nvPr/>
        </p:nvPicPr>
        <p:blipFill>
          <a:blip r:embed="rId2"/>
          <a:stretch/>
        </p:blipFill>
        <p:spPr>
          <a:xfrm>
            <a:off x="395280" y="333360"/>
            <a:ext cx="4502160" cy="2565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479019"/>
          <p:cNvPicPr/>
          <p:nvPr/>
        </p:nvPicPr>
        <p:blipFill>
          <a:blip r:embed="rId3"/>
          <a:stretch/>
        </p:blipFill>
        <p:spPr>
          <a:xfrm>
            <a:off x="755640" y="3068640"/>
            <a:ext cx="4032360" cy="20541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0"/>
          <p:cNvSpPr/>
          <p:nvPr/>
        </p:nvSpPr>
        <p:spPr>
          <a:xfrm>
            <a:off x="250920" y="551664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ень, берёза, клён, багрянец, листопад, летят, редко, свинцовые, золото, солнышко, лес, тучи, прекрасный, дарит, ли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826920" y="765000"/>
            <a:ext cx="7921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лся 23 октября 1930 г. в Сталинграде, в семье врача. В 1942 г. ему довелось пережить страшные дни бомбардировок Сталинграда, откуда семья едва выбралась. Первое время жили в Горьком, в 1944 г., после освобождения Украины, поселились в Днепропетровске. Здесь мальчик окончил школу и в 1947 г. поступил в университет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н рано обратил на себя внимание преподавателей и сокурсников способностями к языкам и редким среди студентов интересом к славянской этимолог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окончанию университета молодой человек представил две дипломных работы: основную – «Общеславянская лексика в основном словарном фонде русского языка» и дополнительную – о болгарском возрождении (Христо Ботев, Иван Вазов). Выпускником университета он знал уже более десятка языков…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лег Николаевич Трубачёв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5" descr="20021.jpg"/>
          <p:cNvPicPr/>
          <p:nvPr/>
        </p:nvPicPr>
        <p:blipFill>
          <a:blip r:embed="rId1"/>
          <a:stretch/>
        </p:blipFill>
        <p:spPr>
          <a:xfrm>
            <a:off x="3143160" y="1947960"/>
            <a:ext cx="2857680" cy="4362480"/>
          </a:xfrm>
          <a:prstGeom prst="rect">
            <a:avLst/>
          </a:prstGeom>
          <a:ln cap="sq" w="38160">
            <a:solidFill>
              <a:srgbClr val="7e9632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2" descr=""/>
          <p:cNvPicPr/>
          <p:nvPr/>
        </p:nvPicPr>
        <p:blipFill>
          <a:blip r:embed="rId1"/>
          <a:stretch/>
        </p:blipFill>
        <p:spPr>
          <a:xfrm>
            <a:off x="341280" y="1139760"/>
            <a:ext cx="8352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-808920"/>
            <a:ext cx="785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964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ардероб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8 в) из фран.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gard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хранение»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rob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одежд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елосипед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9 в) из лат 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velox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«быстрый» и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е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«н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Компьютер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20 в) из лат</a:t>
            </a: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.   </a:t>
            </a: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computere</a:t>
            </a: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«считать, вычислять»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итар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8 в) из греч.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kithara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ифар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ива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18 в) из перс. «служебный кабинет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бин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18 в)  из итал.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cabinett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нал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20 в) из лат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analis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«труб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267560"/>
            <a:ext cx="7499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ая птица  прилетела из Канарских остров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ая собака прибежала из болонь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чём ошибочное название слова громоотвод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знайте названия цве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ухлянка, летучка, молочник, молочай – это диалектные варианты знакомого вам цве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Учитель\Desktop\Словари.jpg"/>
          <p:cNvPicPr/>
          <p:nvPr/>
        </p:nvPicPr>
        <p:blipFill>
          <a:blip r:embed="rId1"/>
          <a:stretch/>
        </p:blipFill>
        <p:spPr>
          <a:xfrm>
            <a:off x="250920" y="571680"/>
            <a:ext cx="856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Рисунок 3" descr="к слайду.jpg"/>
          <p:cNvPicPr/>
          <p:nvPr/>
        </p:nvPicPr>
        <p:blipFill>
          <a:blip r:embed="rId1"/>
          <a:stretch/>
        </p:blipFill>
        <p:spPr>
          <a:xfrm>
            <a:off x="826920" y="404640"/>
            <a:ext cx="7705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1:10:47Z</dcterms:created>
  <dc:creator>Учитель</dc:creator>
  <dc:description/>
  <dc:language>en-US</dc:language>
  <cp:lastModifiedBy>Учитель</cp:lastModifiedBy>
  <dcterms:modified xsi:type="dcterms:W3CDTF">2011-10-21T03:32:52Z</dcterms:modified>
  <cp:revision>56</cp:revision>
  <dc:subject/>
  <dc:title>Душа слова…</dc:title>
</cp:coreProperties>
</file>