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3E53-1FAC-4D98-850C-1A01D4D267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3D13-9A5C-4875-AEF9-A55A89335C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DCD-4594-4C92-AB53-6E813389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91F-8464-48AC-A309-DC0892F1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E0A-DE30-4C42-8668-E66173E0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BE7-7DB2-4922-963B-5675A751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A5E4-138C-4EAF-9711-BEB7674B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1CC-2EFE-4054-BE90-9DC6CAB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C09C-B124-4776-BB8B-403DADF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DDF2-3960-4577-9311-00C19460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29B8-7638-42AF-BA06-D5D9CE0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3D84-E704-4CC1-AF98-B4AE3469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2F2-7507-4B36-A5C1-B3CF1CF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C8C-1350-4FD4-AB4B-BDF98F1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4A81-7F26-4055-91C9-4D81C07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543-B07B-4AC8-BD21-EB9AF11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DFDF-4607-4E68-B0E6-E4EE9B0B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5AD-EA01-4951-A885-CEEB0788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C5D-9524-4F35-9E73-C2481C8A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148F-2D8F-41F3-BC53-C6B8A6DC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7520-41D3-4A15-86BD-AFEA3D3E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C08C-E781-44D0-AAE4-F08996AA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7060-8ACC-4CFB-AD20-7785B95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FD18-F760-4380-B37D-39180451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79B-4E8A-49AE-9BC0-2B8C9E06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A473-4755-42B4-9ADA-91C2F97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D4FA-3C85-4F67-9B43-A1BEB077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1B79-3501-4101-8923-3D31F95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193F-6156-42C5-A998-50D6E3D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FC92-3D35-47AE-AECE-D2C95B68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55E1-CCAC-42B7-8939-61BD8463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410D-2190-442E-92CF-52979336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1201-6922-4EE8-82D2-FA103D78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7AA4-1A87-4338-A29D-48F6329A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13AE-11F3-4B10-AF93-DF59786E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E91-F76F-41B0-A4EF-568C3B18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2E40-FB3B-4490-A556-1179615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0DCD-271F-41B7-B0B0-3A11B5A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F468-36C0-46A3-B152-DD70ECF4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6FB3-BC70-4239-B283-255C50B0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F1A8-7E8A-4B72-B276-FDC1FA5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55F2-3C24-408B-B3D9-9FC3EFE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81D4-1AB7-4998-86FA-76E27878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402D-083F-4842-BD44-C1BA6871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6C7E-D7F6-4D84-B47F-4766B859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1E6-07E3-4F8E-8084-EB70D56C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F4E-EC1B-40F2-BAF2-3DABCD6D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FE0-6EA7-4BAF-AF6B-78C1A92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44A-4218-42C0-9148-51CCEDD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E59-8917-4E35-BFBE-36B9A5B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9B97-7CBE-4DAE-B194-0482AF88BD9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EE6-D272-4274-ADAC-69AE21858D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BE7B-9D3F-4BC6-B8D6-62DF984F08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1A6-7CE8-46CB-BC28-3A800CD962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ет у нас иного достоянья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йте же беречь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ть в меру си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 дар бессмертный — ре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ша слова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5720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тавьте знаки препин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усты зашевелились и на поляну вышел огромный 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нь выдался жаркий и звери потянулись к р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гда мы проснулись солнце уже поднялось высок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тя не пойдёт в поход потому что заболе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1" descr="nature_230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4676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99056"/>
          <p:cNvPicPr/>
          <p:nvPr/>
        </p:nvPicPr>
        <p:blipFill>
          <a:blip r:embed="rId2"/>
          <a:stretch/>
        </p:blipFill>
        <p:spPr>
          <a:xfrm>
            <a:off x="395280" y="333360"/>
            <a:ext cx="4502160" cy="2565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479019"/>
          <p:cNvPicPr/>
          <p:nvPr/>
        </p:nvPicPr>
        <p:blipFill>
          <a:blip r:embed="rId3"/>
          <a:stretch/>
        </p:blipFill>
        <p:spPr>
          <a:xfrm>
            <a:off x="755640" y="3068640"/>
            <a:ext cx="4032360" cy="2054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250920" y="551664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ень, берёза, клён, багрянец, листопад, летят, редко, свинцовые, золото, солнышко, лес, тучи, прекрасный, дарит,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826920" y="765000"/>
            <a:ext cx="7921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лся 23 октября 1930 г. в Сталинграде, в семье врача. В 1942 г. ему довелось пережить страшные дни бомбардировок Сталинграда, откуда семья едва выбралась. Первое время жили в Горьком, в 1944 г., после освобождения Украины, поселились в Днепропетровске. Здесь мальчик окончил школу и в 1947 г. поступил в университет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рано обратил на себя внимание преподавателей и сокурсников способностями к языкам и редким среди студентов интересом к славянской этимолог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окончанию университета молодой человек представил две дипломных работы: основную – «Общеславянская лексика в основном словарном фонде русского языка» и дополнительную – о болгарском возрождении (Христо Ботев, Иван Вазов). Выпускником университета он знал уже более десятка языков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лег Николаевич Трубачё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5" descr="20021.jpg"/>
          <p:cNvPicPr/>
          <p:nvPr/>
        </p:nvPicPr>
        <p:blipFill>
          <a:blip r:embed="rId1"/>
          <a:stretch/>
        </p:blipFill>
        <p:spPr>
          <a:xfrm>
            <a:off x="3143160" y="1947960"/>
            <a:ext cx="2857680" cy="4362480"/>
          </a:xfrm>
          <a:prstGeom prst="rect">
            <a:avLst/>
          </a:prstGeom>
          <a:ln cap="sq" w="38160">
            <a:solidFill>
              <a:srgbClr val="7e9632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41280" y="1139760"/>
            <a:ext cx="8352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-808920"/>
            <a:ext cx="785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964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ардероб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фран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gard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хранение»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rob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дежд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елосипе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9 в) из лат 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velo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«быстрый» и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е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н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Компьютер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20 в) из лат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.   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computere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«считать, вычислять»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ита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греч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kithara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ифар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ива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из перс. «служебный кабин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бин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 из итал.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cabinet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на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20 в) из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analis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труб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267560"/>
            <a:ext cx="7499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птица  прилетела из Канарских остров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собака прибежала из болонь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чём ошибочное название слова громоотвод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знайте названия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хлянка, летучка, молочник, молочай – это диалектные варианты знакомого вам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Учитель\Desktop\Словари.jpg"/>
          <p:cNvPicPr/>
          <p:nvPr/>
        </p:nvPicPr>
        <p:blipFill>
          <a:blip r:embed="rId1"/>
          <a:stretch/>
        </p:blipFill>
        <p:spPr>
          <a:xfrm>
            <a:off x="250920" y="571680"/>
            <a:ext cx="856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Рисунок 3" descr="к слайду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1:10:47Z</dcterms:created>
  <dc:creator>Учитель</dc:creator>
  <dc:description/>
  <dc:language>en-US</dc:language>
  <cp:lastModifiedBy>Учитель</cp:lastModifiedBy>
  <dcterms:modified xsi:type="dcterms:W3CDTF">2011-10-21T03:32:52Z</dcterms:modified>
  <cp:revision>56</cp:revision>
  <dc:subject/>
  <dc:title>Душа слова…</dc:title>
</cp:coreProperties>
</file>