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03FAC-342E-40C3-B78F-6D9F10366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7CA32-48F5-4E0B-9BF4-D3B40D27D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0C115-1429-4C3C-93F6-3B2DCA52B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302B7-6894-41B6-B9C2-39ECF9D00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C4A58-9765-413D-9560-7B8AF0253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CE35C-84F0-4AE1-A6AF-3B6AC1BFB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250F1-DC0D-4021-9BC1-7C2443DCC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74C6D-0058-4EA4-982F-924FA4EA6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C4E40-D97C-43D2-8835-52C8DF25E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54274-0C83-461C-AA87-6E0C51722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3D58E-66DE-413F-891F-BDDE21BF2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28201-7A33-4141-91A9-D44B8CA4A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28E4E-17F7-4C24-9F31-A85B2991D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18ABD-094F-4410-9B40-6F732C78B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A59FE-D933-405D-AD7E-28C0E9022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27164-1721-4198-9245-CE19C3A02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85A86-8A83-4F09-A298-C638CC3F2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3232E33-A7B4-4763-A37A-D0F8EB239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312F1F5-D40A-469D-8052-1C416E2EB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2BD4E82-60A4-475E-A793-D989384C0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F978670-E103-4893-8D7C-72ECFA9E5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285DBDB-8C00-4225-81D9-E6572BE70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C8F7F-6D15-4F7D-8B04-9BA333E63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62E26E7-0508-41C5-8167-88B460C67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B71F9AD-FE12-4B1F-8E22-CAE6C80E0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3D135E8-49E1-4F43-B8A7-2AF08CA67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B462258-4134-430B-A65B-1C3DF8177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CDAEBA-B60D-4243-90F1-C601EE33F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95637C-CCDC-4832-8536-A2D1EB3DE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D83EF7-6BF3-4CC5-B968-907D1C125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8C890F-16CB-46A1-B94C-59C7F93ED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6D08B2-9C9D-495F-9968-3B8FBFFF8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497E14-BD9F-480B-89F7-88D90CE04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B8E1B-A0EE-4384-B405-886947AE7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BF39D3-956C-49AD-ACA3-1008EDE93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2DB35B-A70C-4591-840C-4758BF62A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0C3A4A-54B6-456D-A5A3-532522D1C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BFB809-96B5-4B92-84D5-3AADAF50B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FF7FF6-1B11-46AB-B49D-FFCA01E8E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A0695E-BB27-49E2-BF98-7EDF8C564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753AF7-C25A-455E-BE60-4D871F9F1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4A6E8E-C2D0-40D8-9DEF-34F81555F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A2CFCD-7AF3-414C-8344-240FE3F63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4BD6545-19BE-4236-B6F0-438CCF5D3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A5DBF-1CD7-48C0-94B9-D20DFC9FC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C5C9A40-AD10-4F15-9753-806D67A24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50EE5A6-62B0-4D21-A148-A33D8DDD7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9C12691-87E0-4D5E-9E54-97771DF69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915EB1B-73EB-481D-BF97-217FC0838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CFD3CD0-18C5-427A-AF15-9FFF079B3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A7A9A69-441C-4939-A4A0-0EA754116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10F81E9-EE5D-4400-A5F3-13D5E20A0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533DC57-6CA0-45B5-9D4E-88505E5FE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19E99C2-0E49-4700-9CDA-AA2F656C1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D40F9C0-8F0F-4385-BB81-8870458BA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BCF72-481D-4420-91E2-29CC286AF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8A95286-CD63-4748-83ED-1AE312275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DDB2A53-7C12-48A8-A8EC-73159C719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C8F3330-542D-4F4E-B3D8-2B951E3A6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DB6A8BD-3868-4679-A106-497B36F18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79E37C8-1859-4257-B78B-2A0926BC5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C42C4F0-DE02-4B40-AFDD-10B4CE817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9A76933-D0F3-400A-B9E4-B06F094AC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8065007-74E1-4898-B2A7-ADD689993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8D3F56C-A280-4EB2-9D92-BC72808D8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D5F0053-98C7-4C7C-B657-F8F688AED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ACFA2-DF4B-4C8F-8123-84C5CD782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5351FF3-29A5-4B4E-BD1F-41069E834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5AE7A31-307C-4541-BECC-8972EE36F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D5DCDA5-1A0B-452B-A5F6-16677BE80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E324AB9-BBD2-4087-9BAD-EF298B6CF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B43500C-937E-4442-BC33-ABB4D7E08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A62C1DA-1CB1-480B-94DC-001D32AD7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A011C09-D183-417E-B5D2-EDDE9D912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7DA5DD3-CD5F-4671-A434-4CEC3F605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8740F3B-4303-4917-839F-A6BE4D6B6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7F34A31-8D6B-4102-8436-CA9E163DA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AA592-D0C7-4BEB-A2F4-2C8006EC2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1253BA6-0903-4DEB-9D4C-EC8459BD9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B123C4B-9F78-463B-BDE4-FE3C8368D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4599754-FDBD-4BAF-B7EA-2634E3FA9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30F2FBE-C3FB-46E5-A445-B1FC18F39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72D364B-C5D5-4227-9123-73459ADCB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5DEEE-8836-47A8-BEC2-140284D2A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B9A70-D36C-45C0-8E0E-2AD6629028E1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9F4C0-FB0C-44FE-913A-A8825056EB2A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F6372-3FF6-4591-8A07-10A580116543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0FE5A-5969-46F9-BECE-116F090C5D52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60203-8A47-4418-BA7E-3551115C775E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33A7C-01B4-4C93-B9A4-1135BEBB255F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BC2D9-83DA-4898-85FE-134BBE3F22F0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575f6d"/>
                </a:solidFill>
                <a:latin typeface="Century Schoolbook"/>
              </a:rPr>
              <a:t>БИОТЕХНОЛОГИИ.</a:t>
            </a:r>
            <a:br>
              <a:rPr sz="5000"/>
            </a:br>
            <a:r>
              <a:rPr b="1" lang="ru-RU" sz="5000" spc="-1" strike="noStrike">
                <a:solidFill>
                  <a:srgbClr val="575f6d"/>
                </a:solidFill>
                <a:latin typeface="Century Schoolbook"/>
              </a:rPr>
              <a:t>ГЕННАЯ ИНЖЕНЕРИЯ:</a:t>
            </a:r>
            <a:endParaRPr b="0" lang="en-US" sz="5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75f6d"/>
                </a:solidFill>
                <a:latin typeface="Century Schoolbook"/>
              </a:rPr>
              <a:t>новые возможности и проблемы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Прямоугольник 1"/>
          <p:cNvSpPr/>
          <p:nvPr/>
        </p:nvSpPr>
        <p:spPr>
          <a:xfrm>
            <a:off x="3564000" y="836640"/>
            <a:ext cx="489564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иотехнологии в сельском хозяйств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рганическое сельское хозяйство использует биотехнологические методы, но, как правило, не принимает два биотехнологических метода генетической модификации: трансгенез и использование ионизирующего излучения для мутагенных целей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О!!!! - нельзя считать ошибкой определение биотехнологии как экологически чистого мето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3" name="Picture 2" descr="http://traditio-ru.org/images/thumb/6/69/Ford_tractor%2C_Sweden.jpg/200px-Ford_tractor%2C_Sweden.jpg"/>
          <p:cNvPicPr/>
          <p:nvPr/>
        </p:nvPicPr>
        <p:blipFill>
          <a:blip r:embed="rId1"/>
          <a:stretch/>
        </p:blipFill>
        <p:spPr>
          <a:xfrm>
            <a:off x="468360" y="836640"/>
            <a:ext cx="295128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AutoShape 2"/>
          <p:cNvSpPr/>
          <p:nvPr/>
        </p:nvSpPr>
        <p:spPr>
          <a:xfrm>
            <a:off x="171360" y="-838080"/>
            <a:ext cx="26100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AutoShape 4"/>
          <p:cNvSpPr/>
          <p:nvPr/>
        </p:nvSpPr>
        <p:spPr>
          <a:xfrm>
            <a:off x="171360" y="-838080"/>
            <a:ext cx="26100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AutoShape 6"/>
          <p:cNvSpPr/>
          <p:nvPr/>
        </p:nvSpPr>
        <p:spPr>
          <a:xfrm>
            <a:off x="171360" y="-830160"/>
            <a:ext cx="261936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AutoShape 8"/>
          <p:cNvSpPr/>
          <p:nvPr/>
        </p:nvSpPr>
        <p:spPr>
          <a:xfrm>
            <a:off x="171360" y="-830160"/>
            <a:ext cx="261936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AutoShape 10"/>
          <p:cNvSpPr/>
          <p:nvPr/>
        </p:nvSpPr>
        <p:spPr>
          <a:xfrm>
            <a:off x="171360" y="-846000"/>
            <a:ext cx="2600280" cy="17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Прямоугольник 7"/>
          <p:cNvSpPr/>
          <p:nvPr/>
        </p:nvSpPr>
        <p:spPr>
          <a:xfrm>
            <a:off x="3276720" y="620640"/>
            <a:ext cx="5472000" cy="61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иотехнологии в медицин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последнее время появились эффективные средства борьбы с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атеросклерозо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Это, прежде всего статины (и появляются все новые и более эффективные средства). Считается, что широкое применение этих лекарств должно привести к существенному продлению жиз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 мнению ряда специалистов, решение проблемы онкологических заболеваний будет достигнуто с помощью иммунологических методов, позволяющих избирательно уничтожать опухолевые клетки. Решение проблемы рака должно повысить среднюю продолжительность жиз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0" name="Picture 14" descr="http://region-alliance.com/images/p021_1_01.png"/>
          <p:cNvPicPr/>
          <p:nvPr/>
        </p:nvPicPr>
        <p:blipFill>
          <a:blip r:embed="rId1"/>
          <a:stretch/>
        </p:blipFill>
        <p:spPr>
          <a:xfrm>
            <a:off x="179280" y="692280"/>
            <a:ext cx="3097440" cy="32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ПОНЯТИЕ ГЕННОЙ ИНЖЕНЕРИИ</a:t>
            </a: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Генная инженерия - это метод биотехнологии, который занимается исследованиями по перестройке генотипов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Генотип является не просто механической суммой генов, а сложной, сложившейся в процессе эволюции организмов системой.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Прямоугольник 1"/>
          <p:cNvSpPr/>
          <p:nvPr/>
        </p:nvSpPr>
        <p:spPr>
          <a:xfrm>
            <a:off x="1116000" y="750960"/>
            <a:ext cx="67690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новные методы генной инженери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стрикция - разрезание ДНК человека на множество различных фрагментов, но с одинаковыми липкими концами. Такие же концы получают при разрезании плазмидной ДНК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Лигирование - включение фрагментов ДНК человека в плазмиды благодаря сшиванию липких концов ферментом лигаз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 Трансформация - введение рекомбинантных плазмид в бактериальные клетки, обработанные специальным образом - так, чтобы они на короткое время стали проницаемыми для макромолеку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Прямоугольник 2"/>
          <p:cNvSpPr/>
          <p:nvPr/>
        </p:nvSpPr>
        <p:spPr>
          <a:xfrm>
            <a:off x="1116000" y="4797360"/>
            <a:ext cx="648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 Скрининг - отбор среди клонов трансформированных бактерий тех, которые содержат плазмиды, несущие нужный ген челове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Picture 5" descr="Биотехнологии"/>
          <p:cNvPicPr/>
          <p:nvPr/>
        </p:nvPicPr>
        <p:blipFill>
          <a:blip r:embed="rId1"/>
          <a:stretch/>
        </p:blipFill>
        <p:spPr>
          <a:xfrm>
            <a:off x="395280" y="907920"/>
            <a:ext cx="3384720" cy="4537080"/>
          </a:xfrm>
          <a:prstGeom prst="rect">
            <a:avLst/>
          </a:prstGeom>
          <a:ln w="0">
            <a:noFill/>
          </a:ln>
        </p:spPr>
      </p:pic>
      <p:sp>
        <p:nvSpPr>
          <p:cNvPr id="386" name="Прямоугольник 2"/>
          <p:cNvSpPr/>
          <p:nvPr/>
        </p:nvSpPr>
        <p:spPr>
          <a:xfrm>
            <a:off x="4284720" y="2011320"/>
            <a:ext cx="39592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елекция - отрасль сельскохозяйственного производства, которая занимается выведением новых сортов растений, пород животных и штаммов микроорганизм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нована на научных методах, разработанных в течение длительной работы по содержанию домашних животных, возделыванию культурных растений и культивированию микроорганизм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1"/>
          <p:cNvSpPr/>
          <p:nvPr/>
        </p:nvSpPr>
        <p:spPr>
          <a:xfrm>
            <a:off x="1476360" y="788400"/>
            <a:ext cx="6335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Сформулировать  понятие о биотехнологии как науке, о её происхождении, методах и технология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Ознакомить с различными разновидностями  производства  в биотехнологи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Изучить  методы клеточной инженер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1"/>
          <p:cNvSpPr/>
          <p:nvPr/>
        </p:nvSpPr>
        <p:spPr>
          <a:xfrm>
            <a:off x="755640" y="589320"/>
            <a:ext cx="7561440" cy="417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Расширить знания представление о различных методах биотехнологий; о способах взаимодействия на здоровье человека и окружающую сред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Познакомить с научно- исследовательскими работами учёных-  микробиологов, Л.Пастера и Р.Кох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Picture 2" descr="   Microscope"/>
          <p:cNvPicPr/>
          <p:nvPr/>
        </p:nvPicPr>
        <p:blipFill>
          <a:blip r:embed="rId1"/>
          <a:stretch/>
        </p:blipFill>
        <p:spPr>
          <a:xfrm>
            <a:off x="539640" y="1844640"/>
            <a:ext cx="2737080" cy="3745080"/>
          </a:xfrm>
          <a:prstGeom prst="rect">
            <a:avLst/>
          </a:prstGeom>
          <a:ln w="0">
            <a:noFill/>
          </a:ln>
        </p:spPr>
      </p:pic>
      <p:sp>
        <p:nvSpPr>
          <p:cNvPr id="356" name="Прямоугольник 2"/>
          <p:cNvSpPr/>
          <p:nvPr/>
        </p:nvSpPr>
        <p:spPr>
          <a:xfrm>
            <a:off x="3419640" y="1844640"/>
            <a:ext cx="53290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иотехнология- это наука о методах и технологиях производства различных ценных веществ и продуктов с использованием природных биологических объектов (микроорганизмов, растительных и животных клеток), частей клеток (клеточных мембран, рибосом, митохондрий, хлоропластов) и процесс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Picture 2" descr="http://www.bochenok.ru/_img/his/his_03.jpg"/>
          <p:cNvPicPr/>
          <p:nvPr/>
        </p:nvPicPr>
        <p:blipFill>
          <a:blip r:embed="rId1"/>
          <a:stretch/>
        </p:blipFill>
        <p:spPr>
          <a:xfrm>
            <a:off x="539640" y="765000"/>
            <a:ext cx="3024360" cy="5040360"/>
          </a:xfrm>
          <a:prstGeom prst="rect">
            <a:avLst/>
          </a:prstGeom>
          <a:ln w="0">
            <a:noFill/>
          </a:ln>
        </p:spPr>
      </p:pic>
      <p:sp>
        <p:nvSpPr>
          <p:cNvPr id="358" name="Rectangle 3"/>
          <p:cNvSpPr/>
          <p:nvPr/>
        </p:nvSpPr>
        <p:spPr>
          <a:xfrm>
            <a:off x="3924360" y="1829160"/>
            <a:ext cx="4751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ни биотехнологии уходят в далёкое прошлое и связаны с хлебопечением, пивоварением, виноделием и другими способами приготовления пищи, известными человеку ещё в древност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Picture 4" descr="http://www.bochenok.ru/_img/his/his_05.jpg"/>
          <p:cNvPicPr/>
          <p:nvPr/>
        </p:nvPicPr>
        <p:blipFill>
          <a:blip r:embed="rId1"/>
          <a:stretch/>
        </p:blipFill>
        <p:spPr>
          <a:xfrm>
            <a:off x="395280" y="692280"/>
            <a:ext cx="4105440" cy="4465440"/>
          </a:xfrm>
          <a:prstGeom prst="rect">
            <a:avLst/>
          </a:prstGeom>
          <a:ln w="0">
            <a:noFill/>
          </a:ln>
        </p:spPr>
      </p:pic>
      <p:sp>
        <p:nvSpPr>
          <p:cNvPr id="360" name="Прямоугольник 4"/>
          <p:cNvSpPr/>
          <p:nvPr/>
        </p:nvSpPr>
        <p:spPr>
          <a:xfrm>
            <a:off x="4643280" y="692280"/>
            <a:ext cx="3816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ой биотехнологический  процесс, как брожение, с участием микроорганизмов, был известен и хорошо применялся ещё в древнем Вавилоне, о чём свидетельствует описание приготовления пива в виде записи на дощечке, обнаруженное в 1981г. при раскопках Вавило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Picture 4" descr="Louis Pasteur.jpg"/>
          <p:cNvPicPr/>
          <p:nvPr/>
        </p:nvPicPr>
        <p:blipFill>
          <a:blip r:embed="rId1"/>
          <a:stretch/>
        </p:blipFill>
        <p:spPr>
          <a:xfrm>
            <a:off x="684360" y="404640"/>
            <a:ext cx="2381040" cy="2880000"/>
          </a:xfrm>
          <a:prstGeom prst="rect">
            <a:avLst/>
          </a:prstGeom>
          <a:ln w="0">
            <a:noFill/>
          </a:ln>
        </p:spPr>
      </p:pic>
      <p:sp>
        <p:nvSpPr>
          <p:cNvPr id="362" name="Прямоугольник 3"/>
          <p:cNvSpPr/>
          <p:nvPr/>
        </p:nvSpPr>
        <p:spPr>
          <a:xfrm>
            <a:off x="3851280" y="549360"/>
            <a:ext cx="41054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укой биотехнология стала благодаря научным исследованиям и работам французского основоположника микробиологии и иммунологии Л.Пастера (1822-189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Прямоугольник 5"/>
          <p:cNvSpPr/>
          <p:nvPr/>
        </p:nvSpPr>
        <p:spPr>
          <a:xfrm>
            <a:off x="826920" y="3429000"/>
            <a:ext cx="7417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В экспериментальных работах надо сомневаться до тех пор, пока факты не заставят отказаться от всяких сомнений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Прямоугольник 6"/>
          <p:cNvSpPr/>
          <p:nvPr/>
        </p:nvSpPr>
        <p:spPr>
          <a:xfrm>
            <a:off x="826920" y="4437000"/>
            <a:ext cx="6913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Какое это великое человеческое счастье – получить новый результат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Прямоугольник 1"/>
          <p:cNvSpPr/>
          <p:nvPr/>
        </p:nvSpPr>
        <p:spPr>
          <a:xfrm>
            <a:off x="3132000" y="549360"/>
            <a:ext cx="55436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ХХ в. происходило бурное развитие молекулярной биологии и генетики, опирающихся на достижения химии и физик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этой основе разрабатывались новые биотехнологические методы, позволяющие манипулировать непосредственно генами, создавать новые продукты, организмы и изменять свойства уже существующи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вная цель применения этих методов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–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более полное использование потенциала живых организмов в интересах челове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6" name="Picture 5" descr="Genes_PREIMA20100513_0213_5"/>
          <p:cNvPicPr/>
          <p:nvPr/>
        </p:nvPicPr>
        <p:blipFill>
          <a:blip r:embed="rId1"/>
          <a:stretch/>
        </p:blipFill>
        <p:spPr>
          <a:xfrm>
            <a:off x="395280" y="620640"/>
            <a:ext cx="2521080" cy="54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Прямоугольник 1"/>
          <p:cNvSpPr/>
          <p:nvPr/>
        </p:nvSpPr>
        <p:spPr>
          <a:xfrm>
            <a:off x="1042920" y="474840"/>
            <a:ext cx="7274160" cy="18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иотехнологии в пищевой промышлен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Прямоугольник 2"/>
          <p:cNvSpPr/>
          <p:nvPr/>
        </p:nvSpPr>
        <p:spPr>
          <a:xfrm>
            <a:off x="755640" y="2997360"/>
            <a:ext cx="74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9" name="Picture 4" descr="http://agroday.ru/uploads/content/govyadina11-300x204.jpg"/>
          <p:cNvPicPr/>
          <p:nvPr/>
        </p:nvPicPr>
        <p:blipFill>
          <a:blip r:embed="rId1"/>
          <a:stretch/>
        </p:blipFill>
        <p:spPr>
          <a:xfrm>
            <a:off x="1258920" y="836640"/>
            <a:ext cx="5616720" cy="2592360"/>
          </a:xfrm>
          <a:prstGeom prst="rect">
            <a:avLst/>
          </a:prstGeom>
          <a:ln w="0">
            <a:noFill/>
          </a:ln>
        </p:spPr>
      </p:pic>
      <p:sp>
        <p:nvSpPr>
          <p:cNvPr id="370" name="Прямоугольник 5"/>
          <p:cNvSpPr/>
          <p:nvPr/>
        </p:nvSpPr>
        <p:spPr>
          <a:xfrm>
            <a:off x="1258920" y="3500280"/>
            <a:ext cx="619272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600"/>
            </a:br>
            <a:br>
              <a:rPr sz="16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Прямоугольник 6"/>
          <p:cNvSpPr/>
          <p:nvPr/>
        </p:nvSpPr>
        <p:spPr>
          <a:xfrm>
            <a:off x="1187280" y="3500280"/>
            <a:ext cx="57610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к питательную добавку в пищу чаще всего вносят лизин и метионин. Глутамат натрия и глицин употребляют как ароматические вещества для усиления и улучшения вкуса пищи. У глицина освежающий, сладкий вкус. Его вводят в сладкие напитки, и кроме того, он проявляет там бактериостатическое действи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Цистеин предотвращает подгорание пищи, улучшает пекарские процессы и качество хлеба.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9T19:55:19Z</dcterms:created>
  <dc:creator>Юрий</dc:creator>
  <dc:description/>
  <dc:language>en-US</dc:language>
  <cp:lastModifiedBy>Преподаватель</cp:lastModifiedBy>
  <dcterms:modified xsi:type="dcterms:W3CDTF">2015-12-10T05:53:04Z</dcterms:modified>
  <cp:revision>32</cp:revision>
  <dc:subject/>
  <dc:title>Генная инженерия: новые возможности и проблемы.</dc:title>
</cp:coreProperties>
</file>