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F50-331C-42C9-9A2D-64ED40EE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A0C-AD5C-442E-B118-67ACA1E3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038-9A83-4B99-9FF3-A7F875BA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E63-B624-49A4-A450-64977B76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E6AE-0EA0-487E-8B6F-B06EC522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AA43-3CFD-4355-9AC0-29E39D40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5E9E-A20C-49EB-9ABC-CAE5A328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4E3-C5D0-4D45-A41A-BA9B5F52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1079-5D1F-4BCD-A844-8074260D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AC97-5022-475D-B108-A5DAB864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8E1E-0A76-4631-9A90-B22513EF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2A2-21B7-4720-8F1C-038516E0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21BE-C244-4B61-B448-28E458AE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4D44-53C3-482A-A4E1-F7E99F5E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6553-2CBC-4FC6-9492-9FAC0839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2380-F558-4AC7-8C1B-59C67B25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E04C-A384-4AB6-A4F2-921A17A4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F45D8-785F-4E7C-99CD-484EA46C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1BBF6-7055-45FA-BAC7-2CCBD083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4ECC8-33D8-47F9-8E74-4E73BE44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7DA37-8219-4165-BCF9-157422E5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43D0B-C83E-4981-BBCB-DA262E82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13C-0A9B-4FDF-A47D-E4736153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5EAC0-086C-45DB-B27E-F8AA3A0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7B8F8-BEBB-4576-9E1F-4F936A3A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22351-1D94-471E-8AFF-2E22172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C3599-4EBC-461B-A192-C966BCF1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94258-32B5-4CBA-82BC-ED6FCED7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3EB82-370F-4239-BFA7-1CE2E724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C3D43-6C0C-42F6-89D6-E77C1197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A0E3-DECA-4E0F-86C2-DEE510A3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9F9B-BFE4-47D1-AED2-202EDE8B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8B05-E9B2-4A1D-A937-F8C85AC0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573-D8A5-4AE5-9069-0EF8E2CF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D706-8C3F-401F-BDBC-E95114B9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3AAD-399F-4F58-AA8F-99FEE5F3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1225-BEAF-44CF-973A-5ED55227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3583-0B40-44FD-BE5C-5FD6DB41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715D-6F39-4E4E-80FB-07606802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4FA8-16DE-4896-858D-CB78A79E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1E08-31BC-46DD-A429-4F84699F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8575-01E8-44F8-84DC-076BCEAC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577C-816E-48F7-87E6-A8F16FB7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42698-0E65-4FFB-95D7-6941F3DA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326-01DA-4970-8FBF-A50058B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95F1F-CF67-4083-8B13-BBD1035D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1E9E1-6970-4997-B68C-ADD1D71F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F75C3-2118-438C-B045-73B625BE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51D16-9D21-4833-80B2-D54C4D19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FC1CE-6758-4098-8348-097A6B5D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010B4-3697-4C02-A83D-916A2ABB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8C858-9B93-48A7-B432-0EF72BD2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37535-1E57-4684-ACCE-FC19F09E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EE1B9-6DF0-4771-84AF-9230086D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E91B4-9191-4F63-996E-065BAFC5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F8F-DE80-4F1E-B521-EA6E8C43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BB54C-CF6E-4E3E-8C36-A61396B3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61A66-3C40-48C2-A2C4-EB344506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8941A-6DED-4D42-BBAD-7003373F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C645B-5B70-424E-A9B3-54329DD8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8E2B4-75B0-42D9-AA2B-5AA62888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FBE8E-81D1-432E-B283-827FF01C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14A0E-A566-4D91-9B52-B0BC06D6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4B6CA-F603-451B-B659-B86A1CC3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17F88-E2BE-44C2-9849-A016B2F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9A23E-50F0-4E2F-AF43-200E1CF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653-7155-4F11-826C-49527D1B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D99E5-6C00-411E-B588-552E65A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194C3-DFD1-4F48-A91A-00DD2EAA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3C542-663F-4BC7-9B3C-E7DED227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823F7A-9C18-49D0-8A8D-3A4D27A5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D76CC-267A-440F-9388-2A06E6DA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49D20-9C24-44B9-8451-DD4E5007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C7CCA-9AF6-4472-8911-A6E6A8D2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9EDC3-C7F2-4CDF-AF91-0486EC01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C5D67-F6F4-4553-84BC-633927F8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93A50-D4E2-4B51-9017-76803F63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CE3-EA94-488C-AB7C-70E1C83F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699E9-67F2-442A-87C0-B64AAAFA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84C51-BC6E-41F2-B71E-4787C054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E2229-BEB6-49BE-8BAB-959C4ED7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0E0BD-77C3-4FDE-8E22-CCC3BED6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7084B-1197-4562-994E-7B32843A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D24-C26C-4ED0-84D1-9456DD50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157D-A4F9-4E70-A52E-62BE4AEC8F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C76-ABE5-462C-A8EF-524440E719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9E3D-7B04-4A25-8352-3E38A97D96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2019-1CB1-4191-B0DF-B17AC48D19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E160-A962-49F8-BCC6-44D520376D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FCB0-387E-42DC-A421-4DA3AE83E66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E2DA-8566-4B14-9977-D17A6FFA7B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575f6d"/>
                </a:solidFill>
                <a:latin typeface="Century Schoolbook"/>
              </a:rPr>
              <a:t>БИОТЕХНОЛОГИИ.</a:t>
            </a:r>
            <a:br>
              <a:rPr sz="5000"/>
            </a:br>
            <a:r>
              <a:rPr b="1" lang="ru-RU" sz="5000" spc="-1" strike="noStrike">
                <a:solidFill>
                  <a:srgbClr val="575f6d"/>
                </a:solidFill>
                <a:latin typeface="Century Schoolbook"/>
              </a:rPr>
              <a:t>ГЕННАЯ ИНЖЕНЕРИЯ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новые возможности и проблем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3564000" y="836640"/>
            <a:ext cx="489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технологии в сельском хозя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ое сельское хозяйство использует биотехнологические методы, но, как правило, не принимает два биотехнологических метода генетической модификации: трансгенез и использование ионизирующего излучения для мутагенных цел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!!!! - нельзя считать ошибкой определение биотехнологии как экологически чистого мет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http://traditio-ru.org/images/thumb/6/69/Ford_tractor%2C_Sweden.jpg/200px-Ford_tractor%2C_Sweden.jpg"/>
          <p:cNvPicPr/>
          <p:nvPr/>
        </p:nvPicPr>
        <p:blipFill>
          <a:blip r:embed="rId1"/>
          <a:stretch/>
        </p:blipFill>
        <p:spPr>
          <a:xfrm>
            <a:off x="468360" y="836640"/>
            <a:ext cx="2951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171360" y="-83808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171360" y="-83808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1713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713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171360" y="-846000"/>
            <a:ext cx="26002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3276720" y="620640"/>
            <a:ext cx="54720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ехнологии в медиц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ее время появились эффективные средства борьбы с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теросклероз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о, прежде всего статины (и появляются все новые и более эффективные средства). Считается, что широкое применение этих лекарств должно привести к существенному продлению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ряда специалистов, решение проблемы онкологических заболеваний будет достигнуто с помощью иммунологических методов, позволяющих избирательно уничтожать опухолевые клетки. Решение проблемы рака должно повысить среднюю продолжительность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4" descr="http://region-alliance.com/images/p021_1_01.png"/>
          <p:cNvPicPr/>
          <p:nvPr/>
        </p:nvPicPr>
        <p:blipFill>
          <a:blip r:embed="rId1"/>
          <a:stretch/>
        </p:blipFill>
        <p:spPr>
          <a:xfrm>
            <a:off x="179280" y="692280"/>
            <a:ext cx="30974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НЯТИЕ ГЕННОЙ ИНЖЕНЕРИИ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енная инженерия - это метод биотехнологии, который занимается исследованиями по перестройке генотип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енотип является не просто механической суммой генов, а сложной, сложившейся в процессе эволюции организмов системой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1116000" y="750960"/>
            <a:ext cx="67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методы генной инженер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трикция - разрезание ДНК человека на множество различных фрагментов, но с одинаковыми липкими концами. Такие же концы получают при разрезании плазмидной ДН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игирование - включение фрагментов ДНК человека в плазмиды благодаря сшиванию липких концов ферментом лигаз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ансформация - введение рекомбинантных плазмид в бактериальные клетки, обработанные специальным образом - так, чтобы они на короткое время стали проницаемыми для макромолеку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1116000" y="4797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крининг - отбор среди клонов трансформированных бактерий тех, которые содержат плазмиды, несущие нужный ген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Биотехнологии"/>
          <p:cNvPicPr/>
          <p:nvPr/>
        </p:nvPicPr>
        <p:blipFill>
          <a:blip r:embed="rId1"/>
          <a:stretch/>
        </p:blipFill>
        <p:spPr>
          <a:xfrm>
            <a:off x="395280" y="907920"/>
            <a:ext cx="3384720" cy="453708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2"/>
          <p:cNvSpPr/>
          <p:nvPr/>
        </p:nvSpPr>
        <p:spPr>
          <a:xfrm>
            <a:off x="4284720" y="2011320"/>
            <a:ext cx="395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екция - отрасль сельскохозяйственного производства, которая занимается выведением новых сортов растений, пород животных и штаммов микроорг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а на научных методах, разработанных в течение длительной работы по содержанию домашних животных, возделыванию культурных растений и культивированию микроорг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476360" y="788400"/>
            <a:ext cx="63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формулировать  понятие о биотехнологии как науке, о её происхождении, методах и технолог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знакомить с различными разновидностями  производства  в биотехноло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зучить  методы клеточной инжен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755640" y="589320"/>
            <a:ext cx="75614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ширить знания представление о различных методах биотехнологий; о способах взаимодействия на здоровье человека и окружающую ср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Познакомить с научно- исследовательскими работами учёных-  микробиологов, Л.Пастера и Р.Ко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   Microscope"/>
          <p:cNvPicPr/>
          <p:nvPr/>
        </p:nvPicPr>
        <p:blipFill>
          <a:blip r:embed="rId1"/>
          <a:stretch/>
        </p:blipFill>
        <p:spPr>
          <a:xfrm>
            <a:off x="539640" y="1844640"/>
            <a:ext cx="2737080" cy="37450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3419640" y="1844640"/>
            <a:ext cx="53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технология- это наука о методах и технологиях производства различных ценных веществ и продуктов с использованием природных биологических объектов (микроорганизмов, растительных и животных клеток), частей клеток (клеточных мембран, рибосом, митохондрий, хлоропластов) и процес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bochenok.ru/_img/his/his_03.jpg"/>
          <p:cNvPicPr/>
          <p:nvPr/>
        </p:nvPicPr>
        <p:blipFill>
          <a:blip r:embed="rId1"/>
          <a:stretch/>
        </p:blipFill>
        <p:spPr>
          <a:xfrm>
            <a:off x="539640" y="765000"/>
            <a:ext cx="3024360" cy="50403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3924360" y="1829160"/>
            <a:ext cx="47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и биотехнологии уходят в далёкое прошлое и связаны с хлебопечением, пивоварением, виноделием и другими способами приготовления пищи, известными человеку ещё в дре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http://www.bochenok.ru/_img/his/his_05.jpg"/>
          <p:cNvPicPr/>
          <p:nvPr/>
        </p:nvPicPr>
        <p:blipFill>
          <a:blip r:embed="rId1"/>
          <a:stretch/>
        </p:blipFill>
        <p:spPr>
          <a:xfrm>
            <a:off x="395280" y="692280"/>
            <a:ext cx="4105440" cy="446544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4643280" y="692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биотехнологический  процесс, как брожение, с участием микроорганизмов, был известен и хорошо применялся ещё в древнем Вавилоне, о чём свидетельствует описание приготовления пива в виде записи на дощечке, обнаруженное в 1981г. при раскопках Вавил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Louis Pasteur.jpg"/>
          <p:cNvPicPr/>
          <p:nvPr/>
        </p:nvPicPr>
        <p:blipFill>
          <a:blip r:embed="rId1"/>
          <a:stretch/>
        </p:blipFill>
        <p:spPr>
          <a:xfrm>
            <a:off x="684360" y="404640"/>
            <a:ext cx="2381040" cy="288000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3"/>
          <p:cNvSpPr/>
          <p:nvPr/>
        </p:nvSpPr>
        <p:spPr>
          <a:xfrm>
            <a:off x="3851280" y="549360"/>
            <a:ext cx="410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кой биотехнология стала благодаря научным исследованиям и работам французского основоположника микробиологии и иммунологии Л.Пастера (1822-18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826920" y="342900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экспериментальных работах надо сомневаться до тех пор, пока факты не заставят отказаться от всяких сомнен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826920" y="443700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ое это великое человеческое счастье – получить новый результа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3132000" y="549360"/>
            <a:ext cx="55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Х в. происходило бурное развитие молекулярной биологии и генетики, опирающихся на достижения химии и физ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й основе разрабатывались новые биотехнологические методы, позволяющие манипулировать непосредственно генами, создавать новые продукты, организмы и изменять свойства уже существу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цель применения этих мет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ее полное использование потенциала живых организмов в интересах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Genes_PREIMA20100513_0213_5"/>
          <p:cNvPicPr/>
          <p:nvPr/>
        </p:nvPicPr>
        <p:blipFill>
          <a:blip r:embed="rId1"/>
          <a:stretch/>
        </p:blipFill>
        <p:spPr>
          <a:xfrm>
            <a:off x="395280" y="620640"/>
            <a:ext cx="2521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1042920" y="474840"/>
            <a:ext cx="72741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технологии в пищевой промыш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755640" y="2997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http://agroday.ru/uploads/content/govyadina11-300x204.jpg"/>
          <p:cNvPicPr/>
          <p:nvPr/>
        </p:nvPicPr>
        <p:blipFill>
          <a:blip r:embed="rId1"/>
          <a:stretch/>
        </p:blipFill>
        <p:spPr>
          <a:xfrm>
            <a:off x="1258920" y="836640"/>
            <a:ext cx="5616720" cy="25923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5"/>
          <p:cNvSpPr/>
          <p:nvPr/>
        </p:nvSpPr>
        <p:spPr>
          <a:xfrm>
            <a:off x="1258920" y="3500280"/>
            <a:ext cx="6192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1187280" y="350028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итательную добавку в пищу чаще всего вносят лизин и метионин. Глутамат натрия и глицин употребляют как ароматические вещества для усиления и улучшения вкуса пищи. У глицина освежающий, сладкий вкус. Его вводят в сладкие напитки, и кроме того, он проявляет там бактериостатическое действ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стеин предотвращает подгорание пищи, улучшает пекарские процессы и качество хлеб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9:55:19Z</dcterms:created>
  <dc:creator>Юрий</dc:creator>
  <dc:description/>
  <dc:language>en-US</dc:language>
  <cp:lastModifiedBy>Преподаватель</cp:lastModifiedBy>
  <dcterms:modified xsi:type="dcterms:W3CDTF">2015-12-10T05:53:04Z</dcterms:modified>
  <cp:revision>32</cp:revision>
  <dc:subject/>
  <dc:title>Генная инженерия: новые возможности и проблемы.</dc:title>
</cp:coreProperties>
</file>