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BFF-F324-4ABE-8175-2ECE7AFB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3BE-ADD0-4351-83EF-2A29C223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431-454C-4E9E-99CE-060F1C3E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86C-BB93-4E73-A148-29AB6A28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7BAD-159B-4CA6-857D-F84AD514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DB09-9EA6-43C3-9FAF-B0AF6113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0B5E-7B31-41D2-AF68-40710658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978E-B742-48A0-B5E0-8CE7E5A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5E12-5F15-45F7-BA1A-8FF1EB2B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05D0-5CA1-4267-8BB9-7F1DAB0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3E90-623D-4C14-AA6C-415497A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1C1-D04C-4C4A-99ED-0CAE1765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E42F-7007-40F0-AE19-738F5F8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EB1E-768B-406D-B530-4877749D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FDA8-4C14-4826-967B-EB012ACE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581E-C785-4CA9-957A-7CBE2C6F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45F-4AFF-4F0F-A9DA-FDAE3FF1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366-9FC1-4662-A31A-12EBC715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92B-0F21-4102-B4D7-00FE6CC7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C37-9BFF-400D-BD4A-DDA5DC9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E88-B97F-4552-8A66-319C954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8DD-A30C-4008-B5AD-020F364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A92-0BBB-4563-A44E-2F7C443A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1F8-1135-405A-AB5C-13F72A78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4B7-EB4F-45D4-BAF3-59DC5C1D3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A32-3FCD-47CD-957D-7B23FB51DC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Индивидуальное занятие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по РСВ и ФП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в 1 классе школы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I-II </a:t>
            </a: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вида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«Звуки С, Л,»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Тема: «На лесной полянке»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71600" y="5105520"/>
            <a:ext cx="69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составила :учитель-дефектоло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ЦО на проспекте Вернадского , СП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ерева Наталья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Хорошо говори звук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«Л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09600" y="1905120"/>
            <a:ext cx="7561440" cy="38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АЛ – АЛ – АЛ -  Я  УПАЛ(А) 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УЛ – УЛ- УЛ –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Э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ТО СТУЛ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ОЛ – ОЛ – ОЛ – ВОТ  СТОЛ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ОЛКА – ОЛКА -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Э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ТО П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ИЛКА – ИЛКА –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Э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ТО В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ОТГАД</a:t>
            </a: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Й КРОССВ</a:t>
            </a: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РД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4" descr="getImage (73)"/>
          <p:cNvPicPr/>
          <p:nvPr/>
        </p:nvPicPr>
        <p:blipFill>
          <a:blip r:embed="rId1"/>
          <a:stretch/>
        </p:blipFill>
        <p:spPr>
          <a:xfrm>
            <a:off x="533520" y="1828800"/>
            <a:ext cx="3284280" cy="46483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</p:pic>
      <p:sp>
        <p:nvSpPr>
          <p:cNvPr id="166" name="Text Box 5"/>
          <p:cNvSpPr/>
          <p:nvPr/>
        </p:nvSpPr>
        <p:spPr>
          <a:xfrm>
            <a:off x="4800600" y="175248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796640" y="236232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703400" y="342900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О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856760" y="403848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793400" y="4648320"/>
            <a:ext cx="19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946400" y="5486400"/>
            <a:ext cx="3250080" cy="642600"/>
          </a:xfrm>
          <a:prstGeom prst="rect">
            <a:avLst/>
          </a:prstGeom>
          <a:solidFill>
            <a:srgbClr val="1cd2d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О 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800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 СТУ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276720" y="586728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Повтори прави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»  без удар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ния  говор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м как  «</a:t>
            </a:r>
            <a:r>
              <a:rPr b="1" lang="ru-RU" sz="3600" spc="-1" strike="noStrike">
                <a:solidFill>
                  <a:srgbClr val="99ff66"/>
                </a:solidFill>
                <a:latin typeface="Book Antiqua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914400" y="3352680"/>
            <a:ext cx="2357280" cy="144792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1447920"/>
              <a:gd name="textAreaBottom" fmla="*/ 1267200 h 1447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429000" y="3505320"/>
            <a:ext cx="3048120" cy="1218960"/>
          </a:xfrm>
          <a:prstGeom prst="rightArrow">
            <a:avLst>
              <a:gd name="adj1" fmla="val 50000"/>
              <a:gd name="adj2" fmla="val 62515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6400800" y="3429000"/>
            <a:ext cx="2509920" cy="1371600"/>
          </a:xfrm>
          <a:custGeom>
            <a:avLst/>
            <a:gdLst>
              <a:gd name="textAreaLeft" fmla="*/ 627480 w 2509920"/>
              <a:gd name="textAreaRight" fmla="*/ 1882440 w 2509920"/>
              <a:gd name="textAreaTop" fmla="*/ 0 h 1371600"/>
              <a:gd name="textAreaBottom" fmla="*/ 1200240 h 13716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838080" y="5334120"/>
            <a:ext cx="89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Book Antiqua"/>
              </a:rPr>
              <a:t>ПОЛЯНКА   ПОБЕЖАЛИ  СОЛНЫШ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2133720" y="518112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 flipV="1">
            <a:off x="6705720" y="5105160"/>
            <a:ext cx="2286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«На лесн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й пол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нке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ригр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о ве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нее 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нышк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а лесн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й по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ке раст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ял сне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обеж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и ве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ые ручей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а 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рке поя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ась зе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ая тр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в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росн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ся мед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дь в бер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г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Из-под 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стьев 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ез го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дный 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жи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Всех разбу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ло т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плое ве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ннее 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(л)нц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419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р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ет в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нее 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нышк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а лесн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й по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ке раст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л сне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беж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и в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ые ручейк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а г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рке поя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ась зе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ая тр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03lab37091252122993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379404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3270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сн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ся мед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ь в бер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Из-под 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тьев 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ез гол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ный 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ж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сех разбуд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о т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лое в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нее 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76bb60b7b52d23dd19fc0fa3c3f16057-3"/>
          <p:cNvPicPr/>
          <p:nvPr/>
        </p:nvPicPr>
        <p:blipFill>
          <a:blip r:embed="rId1"/>
          <a:stretch/>
        </p:blipFill>
        <p:spPr>
          <a:xfrm>
            <a:off x="3581280" y="228600"/>
            <a:ext cx="5257800" cy="3733920"/>
          </a:xfrm>
          <a:prstGeom prst="rect">
            <a:avLst/>
          </a:prstGeom>
          <a:ln w="9360">
            <a:solidFill>
              <a:srgbClr val="99ff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1" name="Picture 10" descr="Медведь"/>
          <p:cNvPicPr/>
          <p:nvPr/>
        </p:nvPicPr>
        <p:blipFill>
          <a:blip r:embed="rId2"/>
          <a:stretch/>
        </p:blipFill>
        <p:spPr>
          <a:xfrm>
            <a:off x="380880" y="228600"/>
            <a:ext cx="3003840" cy="3763800"/>
          </a:xfrm>
          <a:prstGeom prst="rect">
            <a:avLst/>
          </a:prstGeom>
          <a:ln w="9360">
            <a:solidFill>
              <a:srgbClr val="99ff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03lab37091252122993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4965840"/>
          </a:xfrm>
          <a:prstGeom prst="rect">
            <a:avLst/>
          </a:prstGeom>
          <a:ln w="9360">
            <a:solidFill>
              <a:srgbClr val="99ff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76bb60b7b52d23dd19fc0fa3c3f16057-3"/>
          <p:cNvPicPr/>
          <p:nvPr/>
        </p:nvPicPr>
        <p:blipFill>
          <a:blip r:embed="rId1"/>
          <a:stretch/>
        </p:blipFill>
        <p:spPr>
          <a:xfrm>
            <a:off x="3733920" y="533520"/>
            <a:ext cx="5181480" cy="36669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Picture 5" descr="Медведь"/>
          <p:cNvPicPr/>
          <p:nvPr/>
        </p:nvPicPr>
        <p:blipFill>
          <a:blip r:embed="rId2"/>
          <a:stretch/>
        </p:blipFill>
        <p:spPr>
          <a:xfrm>
            <a:off x="304920" y="457200"/>
            <a:ext cx="3003480" cy="37638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Text Box 6"/>
          <p:cNvSpPr/>
          <p:nvPr/>
        </p:nvSpPr>
        <p:spPr>
          <a:xfrm>
            <a:off x="533520" y="457200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Сост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вь предлож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ния по карт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н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Исп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ffffb7"/>
                </a:solidFill>
                <a:latin typeface="Book Antiqua"/>
              </a:rPr>
              <a:t>льзуй слов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: в берл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ге, просн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ся, гол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дный 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жик, в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ез, из-под л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ть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4038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Ко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разбу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о с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нышк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Где раста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 снег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Что поя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ось на 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76bb60b7b52d23dd19fc0fa3c3f16057-3"/>
          <p:cNvPicPr/>
          <p:nvPr/>
        </p:nvPicPr>
        <p:blipFill>
          <a:blip r:embed="rId1"/>
          <a:stretch/>
        </p:blipFill>
        <p:spPr>
          <a:xfrm>
            <a:off x="4648320" y="299880"/>
            <a:ext cx="4267080" cy="2936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8" name="Picture 6" descr="03lab37091252122993"/>
          <p:cNvPicPr/>
          <p:nvPr/>
        </p:nvPicPr>
        <p:blipFill>
          <a:blip r:embed="rId2"/>
          <a:stretch/>
        </p:blipFill>
        <p:spPr>
          <a:xfrm>
            <a:off x="152280" y="276120"/>
            <a:ext cx="4343400" cy="29736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</p:pic>
      <p:sp>
        <p:nvSpPr>
          <p:cNvPr id="199" name="Text Box 7"/>
          <p:cNvSpPr/>
          <p:nvPr/>
        </p:nvSpPr>
        <p:spPr>
          <a:xfrm>
            <a:off x="-12600" y="4267080"/>
            <a:ext cx="102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Слушай и отвечай на вопрос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Что ты 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ал(а) на зан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т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Я говор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л(а) з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ки 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«С»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«Л»,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от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дывал(а) кросс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Я с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шал(а) расс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Как назыв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ется расс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Слушай и отвечай на вопрос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Какая сегодня пог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Какой сегодня день недел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Какой день недели был вчер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2895480" y="1905120"/>
            <a:ext cx="15264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4190760" y="1905120"/>
            <a:ext cx="15228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486400" y="205740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6019560" y="1828800"/>
            <a:ext cx="15228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2895480" y="3200400"/>
            <a:ext cx="7632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190760" y="3200400"/>
            <a:ext cx="15228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7391160" y="3200400"/>
            <a:ext cx="15228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6172200" y="3809880"/>
            <a:ext cx="838080" cy="763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 flipH="1">
            <a:off x="3124080" y="4495680"/>
            <a:ext cx="7632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5714640" y="4495680"/>
            <a:ext cx="15228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8686440" y="4495680"/>
            <a:ext cx="15228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МОЛОДЕЦ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752480" y="2514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Молодец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butterfly13"/>
          <p:cNvPicPr/>
          <p:nvPr/>
        </p:nvPicPr>
        <p:blipFill>
          <a:blip r:embed="rId2"/>
          <a:stretch/>
        </p:blipFill>
        <p:spPr>
          <a:xfrm>
            <a:off x="1600200" y="45720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butterfly13"/>
          <p:cNvPicPr/>
          <p:nvPr/>
        </p:nvPicPr>
        <p:blipFill>
          <a:blip r:embed="rId3"/>
          <a:stretch/>
        </p:blipFill>
        <p:spPr>
          <a:xfrm>
            <a:off x="3505320" y="1066680"/>
            <a:ext cx="1466640" cy="167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butterfly13"/>
          <p:cNvPicPr/>
          <p:nvPr/>
        </p:nvPicPr>
        <p:blipFill>
          <a:blip r:embed="rId4"/>
          <a:stretch/>
        </p:blipFill>
        <p:spPr>
          <a:xfrm>
            <a:off x="5562720" y="914400"/>
            <a:ext cx="1466640" cy="167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butterfly13"/>
          <p:cNvPicPr/>
          <p:nvPr/>
        </p:nvPicPr>
        <p:blipFill>
          <a:blip r:embed="rId5"/>
          <a:stretch/>
        </p:blipFill>
        <p:spPr>
          <a:xfrm>
            <a:off x="5257800" y="3733920"/>
            <a:ext cx="1467000" cy="1676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butterfly13"/>
          <p:cNvPicPr/>
          <p:nvPr/>
        </p:nvPicPr>
        <p:blipFill>
          <a:blip r:embed="rId6"/>
          <a:stretch/>
        </p:blipFill>
        <p:spPr>
          <a:xfrm>
            <a:off x="2057400" y="3733920"/>
            <a:ext cx="14670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Как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е сег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дня числ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1 - п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р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2 - втор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3 - тр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4 - четв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рт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5 - п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т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 - шест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7 - седьм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8 - восьм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3 – три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4 – чет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ы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рна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5 – пят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6 – шест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7-сем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8- восем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19- девятн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цат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Как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я пог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да быв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ет весн</a:t>
            </a: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4400" spc="-1" strike="noStrike">
                <a:solidFill>
                  <a:srgbClr val="ffffb7"/>
                </a:solidFill>
                <a:latin typeface="Book Antiqua"/>
              </a:rPr>
              <a:t>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п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сму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с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лне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дождл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т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ё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хол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ог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а прохл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84195929_1_marta9"/>
          <p:cNvPicPr/>
          <p:nvPr/>
        </p:nvPicPr>
        <p:blipFill>
          <a:blip r:embed="rId1"/>
          <a:stretch/>
        </p:blipFill>
        <p:spPr>
          <a:xfrm>
            <a:off x="304920" y="1201680"/>
            <a:ext cx="3124080" cy="2344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Picture 7" descr="10461"/>
          <p:cNvPicPr/>
          <p:nvPr/>
        </p:nvPicPr>
        <p:blipFill>
          <a:blip r:embed="rId2"/>
          <a:stretch/>
        </p:blipFill>
        <p:spPr>
          <a:xfrm>
            <a:off x="380880" y="3943440"/>
            <a:ext cx="3276720" cy="2457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9" descr="isti-hava-1332305805_101526"/>
          <p:cNvPicPr/>
          <p:nvPr/>
        </p:nvPicPr>
        <p:blipFill>
          <a:blip r:embed="rId3"/>
          <a:stretch/>
        </p:blipFill>
        <p:spPr>
          <a:xfrm>
            <a:off x="5029200" y="4343400"/>
            <a:ext cx="2971800" cy="22287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Зарядка для язы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5" descr="блинчик"/>
          <p:cNvPicPr/>
          <p:nvPr/>
        </p:nvPicPr>
        <p:blipFill>
          <a:blip r:embed="rId1"/>
          <a:stretch/>
        </p:blipFill>
        <p:spPr>
          <a:xfrm>
            <a:off x="1876320" y="1974960"/>
            <a:ext cx="5486400" cy="17618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23" name="Oval 9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848720" y="182880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924680" y="1828800"/>
            <a:ext cx="106704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7772400" y="1828800"/>
            <a:ext cx="1143000" cy="10666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7" descr="чистим зубы"/>
          <p:cNvPicPr/>
          <p:nvPr/>
        </p:nvPicPr>
        <p:blipFill>
          <a:blip r:embed="rId2"/>
          <a:stretch/>
        </p:blipFill>
        <p:spPr>
          <a:xfrm>
            <a:off x="1447920" y="4191120"/>
            <a:ext cx="5638680" cy="1933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30" name="Oval 19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8077320" y="4495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1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2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3"/>
          <p:cNvSpPr/>
          <p:nvPr/>
        </p:nvSpPr>
        <p:spPr>
          <a:xfrm>
            <a:off x="8077320" y="4495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24"/>
          <p:cNvSpPr/>
          <p:nvPr/>
        </p:nvSpPr>
        <p:spPr>
          <a:xfrm>
            <a:off x="8077320" y="44197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8001000" y="44197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124080" y="457200"/>
            <a:ext cx="15264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 flipH="1">
            <a:off x="7315200" y="457200"/>
            <a:ext cx="7632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Прочитай, хорошо говори звук 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«С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е-се-се – сег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ня, // воскре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-су-су – субб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а-са-са – ко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,// о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ре-сре-сре – сред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на-сна-сна – весн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ве-све –све – св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т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он-сон-сон – с</a:t>
            </a: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(л)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Book Antiqua"/>
              </a:rPr>
              <a:t>ВСТАВЬ ПРОПУЩЕННУЮ БУКВУ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Book Antiqua"/>
              </a:rPr>
              <a:t>Хорошо говори звук «С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4" descr="1289985583_s2"/>
          <p:cNvPicPr/>
          <p:nvPr/>
        </p:nvPicPr>
        <p:blipFill>
          <a:blip r:embed="rId1"/>
          <a:stretch/>
        </p:blipFill>
        <p:spPr>
          <a:xfrm>
            <a:off x="1143000" y="1676520"/>
            <a:ext cx="7337520" cy="47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Book Antiqua"/>
              </a:rPr>
              <a:t>ПРОЧИТАЙ ПРЕДЛОЖ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1289985589_s11"/>
          <p:cNvPicPr/>
          <p:nvPr/>
        </p:nvPicPr>
        <p:blipFill>
          <a:blip r:embed="rId1"/>
          <a:stretch/>
        </p:blipFill>
        <p:spPr>
          <a:xfrm>
            <a:off x="1219320" y="1523880"/>
            <a:ext cx="7162560" cy="490068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1676520" y="5335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3429000" y="380880"/>
            <a:ext cx="15228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943600" y="60948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7162920" y="38052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Book Antiqua"/>
              </a:rPr>
              <a:t>ИГРА «СОБЕРИ СУМКУ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i?id=133228007-65-72"/>
          <p:cNvPicPr/>
          <p:nvPr/>
        </p:nvPicPr>
        <p:blipFill>
          <a:blip r:embed="rId1"/>
          <a:stretch/>
        </p:blipFill>
        <p:spPr>
          <a:xfrm>
            <a:off x="533520" y="3610080"/>
            <a:ext cx="2743200" cy="24685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2" name="Picture 7" descr="i?id=422621437-01-72"/>
          <p:cNvPicPr/>
          <p:nvPr/>
        </p:nvPicPr>
        <p:blipFill>
          <a:blip r:embed="rId2"/>
          <a:stretch/>
        </p:blipFill>
        <p:spPr>
          <a:xfrm>
            <a:off x="1219320" y="1981080"/>
            <a:ext cx="1752480" cy="13082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Picture 15" descr="i?id=265477995-22-72"/>
          <p:cNvPicPr/>
          <p:nvPr/>
        </p:nvPicPr>
        <p:blipFill>
          <a:blip r:embed="rId3"/>
          <a:stretch/>
        </p:blipFill>
        <p:spPr>
          <a:xfrm>
            <a:off x="3733920" y="4191120"/>
            <a:ext cx="1428480" cy="14284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4" name="Picture 17" descr="i?id=343767953-56-72"/>
          <p:cNvPicPr/>
          <p:nvPr/>
        </p:nvPicPr>
        <p:blipFill>
          <a:blip r:embed="rId4"/>
          <a:stretch/>
        </p:blipFill>
        <p:spPr>
          <a:xfrm>
            <a:off x="5562720" y="4038480"/>
            <a:ext cx="1600200" cy="9604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Picture 19" descr="i?id=222323729-33-72"/>
          <p:cNvPicPr/>
          <p:nvPr/>
        </p:nvPicPr>
        <p:blipFill>
          <a:blip r:embed="rId5"/>
          <a:stretch/>
        </p:blipFill>
        <p:spPr>
          <a:xfrm>
            <a:off x="3581280" y="2209680"/>
            <a:ext cx="1428840" cy="10670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Picture 21" descr="i?id=193268636-38-72"/>
          <p:cNvPicPr/>
          <p:nvPr/>
        </p:nvPicPr>
        <p:blipFill>
          <a:blip r:embed="rId6"/>
          <a:stretch/>
        </p:blipFill>
        <p:spPr>
          <a:xfrm>
            <a:off x="7772400" y="1981080"/>
            <a:ext cx="1190520" cy="14288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7" name="Picture 23" descr="i?id=210224408-22-72"/>
          <p:cNvPicPr/>
          <p:nvPr/>
        </p:nvPicPr>
        <p:blipFill>
          <a:blip r:embed="rId7"/>
          <a:stretch/>
        </p:blipFill>
        <p:spPr>
          <a:xfrm>
            <a:off x="7467480" y="4572000"/>
            <a:ext cx="1428840" cy="14191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25" descr="i?id=33079505-35-72"/>
          <p:cNvPicPr/>
          <p:nvPr/>
        </p:nvPicPr>
        <p:blipFill>
          <a:blip r:embed="rId8"/>
          <a:stretch/>
        </p:blipFill>
        <p:spPr>
          <a:xfrm>
            <a:off x="5867280" y="2057400"/>
            <a:ext cx="1428840" cy="14288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Line 26"/>
          <p:cNvSpPr/>
          <p:nvPr/>
        </p:nvSpPr>
        <p:spPr>
          <a:xfrm>
            <a:off x="3581280" y="5335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 flipV="1">
            <a:off x="5257800" y="304560"/>
            <a:ext cx="22860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 flipV="1">
            <a:off x="6172200" y="380880"/>
            <a:ext cx="22860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C 0.01129 0.07477 0.02257 0.14977 0.0283 0.17778 C 0.03403 0.20579 0.03021 0.16088 0.0349 0.16875 C 0.03959 0.17662 0.04809 0.20046 0.0566 0.2243 E">
                                      <p:cBhvr>
                                        <p:cTn id="14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03704E-006 C -0.01475 -0.08959 -0.02951 -0.17894 -0.06007 -0.22894 C -0.09062 -0.27894 -0.15087 -0.3051 -0.18333 -0.30001 C -0.2158 -0.29491 -0.24305 -0.21482 -0.25503 -0.19792 E">
                                      <p:cBhvr>
                                        <p:cTn id="15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C -0.04791 -0.11875 -0.09583 -0.23727 -0.16163 -0.26458 C -0.22743 -0.2919 -0.33385 -0.17708 -0.39496 -0.16458 C -0.45607 -0.15208 -0.48298 -0.17824 -0.5283 -0.18889 C -0.57361 -0.19954 -0.65225 -0.24259 -0.66666 -0.22893 C -0.68107 -0.21528 -0.62569 -0.14444 -0.61493 -0.10671 C -0.60416 -0.06898 -0.60295 -0.03565 -0.60173 -0.00231 E">
                                      <p:cBhvr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86 -0.03079 C -0.06476 -0.04005 -0.04948 -0.04907 -0.09479 -0.04861 C -0.1401 -0.04815 -0.30521 -0.06204 -0.35139 -0.0287 C -0.39757 0.00463 -0.34479 0.09259 -0.37153 0.15139 C -0.39826 0.21019 -0.48819 0.29583 -0.51146 0.32477 E">
                                      <p:cBhvr>
                                        <p:cTn id="16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4:01:34Z</dcterms:created>
  <dc:creator>admin</dc:creator>
  <dc:description/>
  <dc:language>en-US</dc:language>
  <cp:lastModifiedBy>User</cp:lastModifiedBy>
  <dcterms:modified xsi:type="dcterms:W3CDTF">2017-05-24T09:00:4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