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A08-9673-4E26-ADB9-2F312004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CA6-6FFA-4D28-96AA-D6E8254C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BF7-295A-49D3-BD26-8CB7D650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820-626C-4714-9A51-21A9C313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BF57-7255-446C-A166-DAAB6DEA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C63F-EB3B-42E8-AE99-22C4B235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BE79-D4BC-402E-B9C8-699F6159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916-8AF5-45F0-8118-9D7FE60F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7CB7-1661-46B5-A65F-DC815F20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4F9A-9FA6-48C5-8898-2A015CD4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6EE9-D170-401F-830F-4871E8C4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31F-4B72-4E3D-A203-A8E89E15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3845-9407-40E8-8060-77B5B915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8BAE-39B4-44FF-879C-D8D7E034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19C3-4E46-466A-8D47-FCD51034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F5C7-2179-43FD-9A3F-1D31ED0B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4EBD-1C6B-4897-9395-F39874A2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462-E88F-4669-A056-43746DA6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E9C-CCF2-4D7A-A590-4A14A699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0A1-E9D3-4C4D-BD6C-51366242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40F-4282-461A-8862-38FDAC26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2EE-E4BA-489C-BAAC-34C3ED3C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316-AA4B-4165-AC9B-2FEAB943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E34-266D-4A4C-9B15-E74FB0A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4046-57CA-47EB-A009-5A03A9542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B3F8-32BD-4CDA-8E30-BEF4BF305D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Индивидуальное занятие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по РСВ и ФП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в 1 классе школы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I-II </a:t>
            </a: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вида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«Звуки С, Л,»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Тема: «На лесной полянке»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371600" y="5105520"/>
            <a:ext cx="693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составила :учитель-дефектоло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ОУ СОШ ЦО на проспекте Вернадского , СП №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верева Наталья Ю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Book Antiqua"/>
              </a:rPr>
              <a:t>Хорошо говори звук </a:t>
            </a: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«Л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09600" y="1905120"/>
            <a:ext cx="7561440" cy="380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АЛ – АЛ – АЛ -  Я  УПАЛ(А) 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УЛ – УЛ- УЛ –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Э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ТО СТУЛ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ОЛ – ОЛ – ОЛ – ВОТ  СТОЛ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ОЛКА – ОЛКА -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Э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ТО П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ИЛКА – ИЛКА –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Э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ТО В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Book Antiqua"/>
              </a:rPr>
              <a:t>ОТГАД</a:t>
            </a: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4000" spc="-1" strike="noStrike">
                <a:solidFill>
                  <a:srgbClr val="ffffb7"/>
                </a:solidFill>
                <a:latin typeface="Book Antiqua"/>
              </a:rPr>
              <a:t>Й КРОССВ</a:t>
            </a: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4000" spc="-1" strike="noStrike">
                <a:solidFill>
                  <a:srgbClr val="ffffb7"/>
                </a:solidFill>
                <a:latin typeface="Book Antiqua"/>
              </a:rPr>
              <a:t>РД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4" descr="getImage (73)"/>
          <p:cNvPicPr/>
          <p:nvPr/>
        </p:nvPicPr>
        <p:blipFill>
          <a:blip r:embed="rId1"/>
          <a:stretch/>
        </p:blipFill>
        <p:spPr>
          <a:xfrm>
            <a:off x="533520" y="1828800"/>
            <a:ext cx="3284280" cy="46483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</p:pic>
      <p:sp>
        <p:nvSpPr>
          <p:cNvPr id="166" name="Text Box 5"/>
          <p:cNvSpPr/>
          <p:nvPr/>
        </p:nvSpPr>
        <p:spPr>
          <a:xfrm>
            <a:off x="4800600" y="175248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796640" y="236232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703400" y="342900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РОВ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856760" y="403848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793400" y="4648320"/>
            <a:ext cx="19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В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946400" y="5486400"/>
            <a:ext cx="3250080" cy="642600"/>
          </a:xfrm>
          <a:prstGeom prst="rect">
            <a:avLst/>
          </a:prstGeom>
          <a:solidFill>
            <a:srgbClr val="1cd2d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Э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О М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800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  СТУ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276720" y="586728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Book Antiqua"/>
              </a:rPr>
              <a:t>Повтори прави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3726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»  без удар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ния  говор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м как  «</a:t>
            </a:r>
            <a:r>
              <a:rPr b="1" lang="ru-RU" sz="3600" spc="-1" strike="noStrike">
                <a:solidFill>
                  <a:srgbClr val="99ff66"/>
                </a:solidFill>
                <a:latin typeface="Book Antiqua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914400" y="3352680"/>
            <a:ext cx="2357280" cy="144792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1447920"/>
              <a:gd name="textAreaBottom" fmla="*/ 1267200 h 1447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429000" y="3505320"/>
            <a:ext cx="3048120" cy="1218960"/>
          </a:xfrm>
          <a:prstGeom prst="rightArrow">
            <a:avLst>
              <a:gd name="adj1" fmla="val 50000"/>
              <a:gd name="adj2" fmla="val 62515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К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6400800" y="3429000"/>
            <a:ext cx="2509920" cy="1371600"/>
          </a:xfrm>
          <a:custGeom>
            <a:avLst/>
            <a:gdLst>
              <a:gd name="textAreaLeft" fmla="*/ 627480 w 2509920"/>
              <a:gd name="textAreaRight" fmla="*/ 1882440 w 2509920"/>
              <a:gd name="textAreaTop" fmla="*/ 0 h 1371600"/>
              <a:gd name="textAreaBottom" fmla="*/ 1200240 h 13716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838080" y="5334120"/>
            <a:ext cx="89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Book Antiqua"/>
              </a:rPr>
              <a:t>ПОЛЯНКА   ПОБЕЖАЛИ  СОЛНЫШ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 flipV="1">
            <a:off x="2133720" y="518112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3"/>
          <p:cNvSpPr/>
          <p:nvPr/>
        </p:nvSpPr>
        <p:spPr>
          <a:xfrm flipV="1">
            <a:off x="6705720" y="5105160"/>
            <a:ext cx="22860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«На лесн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й пол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нке»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Пригр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о ве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нее 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нышк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а лесн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й по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ке раст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ял сне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Побеж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и ве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ые ручейк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а г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рке поя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ась зе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ая тр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в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Просн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у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ся мед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дь в бер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г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Из-под 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стьев 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ы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ез го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дный 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жи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Всех разбуд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о т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плое ве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нее 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(л)нц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4191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р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ет ве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нее 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нышк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а лесн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й пол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ке раст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ял сне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беж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и ве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ые ручейк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а г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рке появ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ась зел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ая тр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03lab37091252122993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379404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23270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росн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у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ся медв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ь в берл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Из-под л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тьев в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ез гол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ный 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жи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сех разбуд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о т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лое ве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нее 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н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76bb60b7b52d23dd19fc0fa3c3f16057-3"/>
          <p:cNvPicPr/>
          <p:nvPr/>
        </p:nvPicPr>
        <p:blipFill>
          <a:blip r:embed="rId1"/>
          <a:stretch/>
        </p:blipFill>
        <p:spPr>
          <a:xfrm>
            <a:off x="3581280" y="228600"/>
            <a:ext cx="5257800" cy="3733920"/>
          </a:xfrm>
          <a:prstGeom prst="rect">
            <a:avLst/>
          </a:prstGeom>
          <a:ln w="9360">
            <a:solidFill>
              <a:srgbClr val="99ff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1" name="Picture 10" descr="Медведь"/>
          <p:cNvPicPr/>
          <p:nvPr/>
        </p:nvPicPr>
        <p:blipFill>
          <a:blip r:embed="rId2"/>
          <a:stretch/>
        </p:blipFill>
        <p:spPr>
          <a:xfrm>
            <a:off x="380880" y="228600"/>
            <a:ext cx="3003840" cy="3763800"/>
          </a:xfrm>
          <a:prstGeom prst="rect">
            <a:avLst/>
          </a:prstGeom>
          <a:ln w="9360">
            <a:solidFill>
              <a:srgbClr val="99ff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03lab37091252122993"/>
          <p:cNvPicPr/>
          <p:nvPr/>
        </p:nvPicPr>
        <p:blipFill>
          <a:blip r:embed="rId1"/>
          <a:stretch/>
        </p:blipFill>
        <p:spPr>
          <a:xfrm>
            <a:off x="685800" y="838080"/>
            <a:ext cx="7848720" cy="4965840"/>
          </a:xfrm>
          <a:prstGeom prst="rect">
            <a:avLst/>
          </a:prstGeom>
          <a:ln w="9360">
            <a:solidFill>
              <a:srgbClr val="99ff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76bb60b7b52d23dd19fc0fa3c3f16057-3"/>
          <p:cNvPicPr/>
          <p:nvPr/>
        </p:nvPicPr>
        <p:blipFill>
          <a:blip r:embed="rId1"/>
          <a:stretch/>
        </p:blipFill>
        <p:spPr>
          <a:xfrm>
            <a:off x="3733920" y="533520"/>
            <a:ext cx="5181480" cy="36669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4" name="Picture 5" descr="Медведь"/>
          <p:cNvPicPr/>
          <p:nvPr/>
        </p:nvPicPr>
        <p:blipFill>
          <a:blip r:embed="rId2"/>
          <a:stretch/>
        </p:blipFill>
        <p:spPr>
          <a:xfrm>
            <a:off x="304920" y="457200"/>
            <a:ext cx="3003480" cy="37638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Text Box 6"/>
          <p:cNvSpPr/>
          <p:nvPr/>
        </p:nvSpPr>
        <p:spPr>
          <a:xfrm>
            <a:off x="533520" y="457200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Сост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вь предлож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ния по карт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н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Исп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льзуй слов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: в берл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ге, просн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ся, гол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дный 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жик, в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ы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ез, из-под л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ть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40381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Ког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 разбуд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о 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нышк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Где раста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 снег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Что поя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ось на г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р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76bb60b7b52d23dd19fc0fa3c3f16057-3"/>
          <p:cNvPicPr/>
          <p:nvPr/>
        </p:nvPicPr>
        <p:blipFill>
          <a:blip r:embed="rId1"/>
          <a:stretch/>
        </p:blipFill>
        <p:spPr>
          <a:xfrm>
            <a:off x="4648320" y="299880"/>
            <a:ext cx="4267080" cy="2936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8" name="Picture 6" descr="03lab37091252122993"/>
          <p:cNvPicPr/>
          <p:nvPr/>
        </p:nvPicPr>
        <p:blipFill>
          <a:blip r:embed="rId2"/>
          <a:stretch/>
        </p:blipFill>
        <p:spPr>
          <a:xfrm>
            <a:off x="152280" y="276120"/>
            <a:ext cx="4343400" cy="29736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</p:pic>
      <p:sp>
        <p:nvSpPr>
          <p:cNvPr id="199" name="Text Box 7"/>
          <p:cNvSpPr/>
          <p:nvPr/>
        </p:nvSpPr>
        <p:spPr>
          <a:xfrm>
            <a:off x="-12600" y="4267080"/>
            <a:ext cx="102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Book Antiqua"/>
              </a:rPr>
              <a:t>Слушай и отвечай на вопрос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Что ты д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ал(а) на зан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ти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Я говор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(а) з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ки 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«С»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 и 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«Л»,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 отг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дывал(а) кросс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р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Я с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шал(а) расск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Как назы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ется расск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Book Antiqua"/>
              </a:rPr>
              <a:t>Слушай и отвечай на вопрос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Какая сегодня погод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Какой сегодня день недел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- 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Какой день недели был вчер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H="1">
            <a:off x="2895480" y="1905120"/>
            <a:ext cx="15264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4190760" y="1905120"/>
            <a:ext cx="15228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486400" y="205740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6019560" y="1828800"/>
            <a:ext cx="15228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H="1">
            <a:off x="2895480" y="3200400"/>
            <a:ext cx="7632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4190760" y="3200400"/>
            <a:ext cx="15228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7391160" y="3200400"/>
            <a:ext cx="15228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6172200" y="3809880"/>
            <a:ext cx="838080" cy="763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4"/>
          <p:cNvSpPr/>
          <p:nvPr/>
        </p:nvSpPr>
        <p:spPr>
          <a:xfrm flipH="1">
            <a:off x="3124080" y="4495680"/>
            <a:ext cx="7632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 flipH="1">
            <a:off x="5714640" y="4495680"/>
            <a:ext cx="15228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 flipH="1">
            <a:off x="8686440" y="4495680"/>
            <a:ext cx="15228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МОЛОДЕЦ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1752480" y="2514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Book Antiqua"/>
              </a:rPr>
              <a:t>Молодец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butterfly13"/>
          <p:cNvPicPr/>
          <p:nvPr/>
        </p:nvPicPr>
        <p:blipFill>
          <a:blip r:embed="rId2"/>
          <a:stretch/>
        </p:blipFill>
        <p:spPr>
          <a:xfrm>
            <a:off x="1600200" y="45720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butterfly13"/>
          <p:cNvPicPr/>
          <p:nvPr/>
        </p:nvPicPr>
        <p:blipFill>
          <a:blip r:embed="rId3"/>
          <a:stretch/>
        </p:blipFill>
        <p:spPr>
          <a:xfrm>
            <a:off x="3505320" y="1066680"/>
            <a:ext cx="1466640" cy="167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butterfly13"/>
          <p:cNvPicPr/>
          <p:nvPr/>
        </p:nvPicPr>
        <p:blipFill>
          <a:blip r:embed="rId4"/>
          <a:stretch/>
        </p:blipFill>
        <p:spPr>
          <a:xfrm>
            <a:off x="5562720" y="914400"/>
            <a:ext cx="1466640" cy="1676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butterfly13"/>
          <p:cNvPicPr/>
          <p:nvPr/>
        </p:nvPicPr>
        <p:blipFill>
          <a:blip r:embed="rId5"/>
          <a:stretch/>
        </p:blipFill>
        <p:spPr>
          <a:xfrm>
            <a:off x="5257800" y="3733920"/>
            <a:ext cx="1467000" cy="1676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butterfly13"/>
          <p:cNvPicPr/>
          <p:nvPr/>
        </p:nvPicPr>
        <p:blipFill>
          <a:blip r:embed="rId6"/>
          <a:stretch/>
        </p:blipFill>
        <p:spPr>
          <a:xfrm>
            <a:off x="2057400" y="3733920"/>
            <a:ext cx="14670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Как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е сег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дня чис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1 - п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р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2 - втор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3 - тр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4 - четв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рт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5 - п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т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 - шест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7 - седьм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е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8 - восьм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3 – три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4 – чет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ы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рна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5 – пят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6 – шест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7-сем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8- восем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9- девят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Как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я пог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да быв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ет весн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760" y="121896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п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сму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с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лнеч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дождл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т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л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хол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прохл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84195929_1_marta9"/>
          <p:cNvPicPr/>
          <p:nvPr/>
        </p:nvPicPr>
        <p:blipFill>
          <a:blip r:embed="rId1"/>
          <a:stretch/>
        </p:blipFill>
        <p:spPr>
          <a:xfrm>
            <a:off x="304920" y="1201680"/>
            <a:ext cx="3124080" cy="23446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" name="Picture 7" descr="10461"/>
          <p:cNvPicPr/>
          <p:nvPr/>
        </p:nvPicPr>
        <p:blipFill>
          <a:blip r:embed="rId2"/>
          <a:stretch/>
        </p:blipFill>
        <p:spPr>
          <a:xfrm>
            <a:off x="380880" y="3943440"/>
            <a:ext cx="3276720" cy="24573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9" descr="isti-hava-1332305805_101526"/>
          <p:cNvPicPr/>
          <p:nvPr/>
        </p:nvPicPr>
        <p:blipFill>
          <a:blip r:embed="rId3"/>
          <a:stretch/>
        </p:blipFill>
        <p:spPr>
          <a:xfrm>
            <a:off x="5029200" y="4343400"/>
            <a:ext cx="2971800" cy="22287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Book Antiqua"/>
              </a:rPr>
              <a:t>Зарядка для языч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5" descr="блинчик"/>
          <p:cNvPicPr/>
          <p:nvPr/>
        </p:nvPicPr>
        <p:blipFill>
          <a:blip r:embed="rId1"/>
          <a:stretch/>
        </p:blipFill>
        <p:spPr>
          <a:xfrm>
            <a:off x="1876320" y="1974960"/>
            <a:ext cx="5486400" cy="176184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23" name="Oval 9"/>
          <p:cNvSpPr/>
          <p:nvPr/>
        </p:nvSpPr>
        <p:spPr>
          <a:xfrm>
            <a:off x="7924680" y="1828800"/>
            <a:ext cx="106704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7924680" y="1828800"/>
            <a:ext cx="106704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924680" y="1828800"/>
            <a:ext cx="106704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848720" y="182880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7924680" y="1828800"/>
            <a:ext cx="106704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7772400" y="1828800"/>
            <a:ext cx="1143000" cy="10666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7" descr="чистим зубы"/>
          <p:cNvPicPr/>
          <p:nvPr/>
        </p:nvPicPr>
        <p:blipFill>
          <a:blip r:embed="rId2"/>
          <a:stretch/>
        </p:blipFill>
        <p:spPr>
          <a:xfrm>
            <a:off x="1447920" y="4191120"/>
            <a:ext cx="5638680" cy="1933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30" name="Oval 19"/>
          <p:cNvSpPr/>
          <p:nvPr/>
        </p:nvSpPr>
        <p:spPr>
          <a:xfrm>
            <a:off x="8077320" y="44197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8077320" y="4495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21"/>
          <p:cNvSpPr/>
          <p:nvPr/>
        </p:nvSpPr>
        <p:spPr>
          <a:xfrm>
            <a:off x="8077320" y="44197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22"/>
          <p:cNvSpPr/>
          <p:nvPr/>
        </p:nvSpPr>
        <p:spPr>
          <a:xfrm>
            <a:off x="8077320" y="44197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23"/>
          <p:cNvSpPr/>
          <p:nvPr/>
        </p:nvSpPr>
        <p:spPr>
          <a:xfrm>
            <a:off x="8077320" y="4495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24"/>
          <p:cNvSpPr/>
          <p:nvPr/>
        </p:nvSpPr>
        <p:spPr>
          <a:xfrm>
            <a:off x="8077320" y="44197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25"/>
          <p:cNvSpPr/>
          <p:nvPr/>
        </p:nvSpPr>
        <p:spPr>
          <a:xfrm>
            <a:off x="8001000" y="44197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124080" y="457200"/>
            <a:ext cx="15264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 flipH="1">
            <a:off x="7315200" y="457200"/>
            <a:ext cx="7632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Book Antiqua"/>
              </a:rPr>
              <a:t>Прочитай, хорошо говори звук 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«С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е-се-се – сег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ня, // воскре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-су-су – субб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а-са-са – ко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,// о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ре-сре-сре – сред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на-сна-сна – весн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ве-све –све – св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т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он-сон-сон – 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(л)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Book Antiqua"/>
              </a:rPr>
              <a:t>ВСТАВЬ ПРОПУЩЕННУЮ БУКВУ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Book Antiqua"/>
              </a:rPr>
              <a:t>Хорошо говори звук «С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4" descr="1289985583_s2"/>
          <p:cNvPicPr/>
          <p:nvPr/>
        </p:nvPicPr>
        <p:blipFill>
          <a:blip r:embed="rId1"/>
          <a:stretch/>
        </p:blipFill>
        <p:spPr>
          <a:xfrm>
            <a:off x="1143000" y="1676520"/>
            <a:ext cx="7337520" cy="47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Book Antiqua"/>
              </a:rPr>
              <a:t>ПРОЧИТАЙ ПРЕДЛОЖ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1289985589_s11"/>
          <p:cNvPicPr/>
          <p:nvPr/>
        </p:nvPicPr>
        <p:blipFill>
          <a:blip r:embed="rId1"/>
          <a:stretch/>
        </p:blipFill>
        <p:spPr>
          <a:xfrm>
            <a:off x="1219320" y="1523880"/>
            <a:ext cx="7162560" cy="490068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1676520" y="533520"/>
            <a:ext cx="30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 flipV="1">
            <a:off x="3429000" y="380880"/>
            <a:ext cx="15228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5943600" y="60948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7162920" y="38052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Book Antiqua"/>
              </a:rPr>
              <a:t>ИГРА «СОБЕРИ СУМКУ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i?id=133228007-65-72"/>
          <p:cNvPicPr/>
          <p:nvPr/>
        </p:nvPicPr>
        <p:blipFill>
          <a:blip r:embed="rId1"/>
          <a:stretch/>
        </p:blipFill>
        <p:spPr>
          <a:xfrm>
            <a:off x="533520" y="3610080"/>
            <a:ext cx="2743200" cy="24685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2" name="Picture 7" descr="i?id=422621437-01-72"/>
          <p:cNvPicPr/>
          <p:nvPr/>
        </p:nvPicPr>
        <p:blipFill>
          <a:blip r:embed="rId2"/>
          <a:stretch/>
        </p:blipFill>
        <p:spPr>
          <a:xfrm>
            <a:off x="1219320" y="1981080"/>
            <a:ext cx="1752480" cy="13082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3" name="Picture 15" descr="i?id=265477995-22-72"/>
          <p:cNvPicPr/>
          <p:nvPr/>
        </p:nvPicPr>
        <p:blipFill>
          <a:blip r:embed="rId3"/>
          <a:stretch/>
        </p:blipFill>
        <p:spPr>
          <a:xfrm>
            <a:off x="3733920" y="4191120"/>
            <a:ext cx="1428480" cy="14284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4" name="Picture 17" descr="i?id=343767953-56-72"/>
          <p:cNvPicPr/>
          <p:nvPr/>
        </p:nvPicPr>
        <p:blipFill>
          <a:blip r:embed="rId4"/>
          <a:stretch/>
        </p:blipFill>
        <p:spPr>
          <a:xfrm>
            <a:off x="5562720" y="4038480"/>
            <a:ext cx="1600200" cy="9604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5" name="Picture 19" descr="i?id=222323729-33-72"/>
          <p:cNvPicPr/>
          <p:nvPr/>
        </p:nvPicPr>
        <p:blipFill>
          <a:blip r:embed="rId5"/>
          <a:stretch/>
        </p:blipFill>
        <p:spPr>
          <a:xfrm>
            <a:off x="3581280" y="2209680"/>
            <a:ext cx="1428840" cy="10670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6" name="Picture 21" descr="i?id=193268636-38-72"/>
          <p:cNvPicPr/>
          <p:nvPr/>
        </p:nvPicPr>
        <p:blipFill>
          <a:blip r:embed="rId6"/>
          <a:stretch/>
        </p:blipFill>
        <p:spPr>
          <a:xfrm>
            <a:off x="7772400" y="1981080"/>
            <a:ext cx="1190520" cy="14288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7" name="Picture 23" descr="i?id=210224408-22-72"/>
          <p:cNvPicPr/>
          <p:nvPr/>
        </p:nvPicPr>
        <p:blipFill>
          <a:blip r:embed="rId7"/>
          <a:stretch/>
        </p:blipFill>
        <p:spPr>
          <a:xfrm>
            <a:off x="7467480" y="4572000"/>
            <a:ext cx="1428840" cy="14191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8" name="Picture 25" descr="i?id=33079505-35-72"/>
          <p:cNvPicPr/>
          <p:nvPr/>
        </p:nvPicPr>
        <p:blipFill>
          <a:blip r:embed="rId8"/>
          <a:stretch/>
        </p:blipFill>
        <p:spPr>
          <a:xfrm>
            <a:off x="5867280" y="2057400"/>
            <a:ext cx="1428840" cy="14288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9" name="Line 26"/>
          <p:cNvSpPr/>
          <p:nvPr/>
        </p:nvSpPr>
        <p:spPr>
          <a:xfrm>
            <a:off x="3581280" y="53352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 flipV="1">
            <a:off x="5257800" y="304560"/>
            <a:ext cx="22860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 flipV="1">
            <a:off x="6172200" y="380880"/>
            <a:ext cx="22860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C 0.01129 0.07477 0.02257 0.14977 0.0283 0.17778 C 0.03403 0.20579 0.03021 0.16088 0.0349 0.16875 C 0.03959 0.17662 0.04809 0.20046 0.0566 0.2243 E">
                                      <p:cBhvr>
                                        <p:cTn id="14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03704E-006 C -0.01475 -0.08959 -0.02951 -0.17894 -0.06007 -0.22894 C -0.09062 -0.27894 -0.15087 -0.3051 -0.18333 -0.30001 C -0.2158 -0.29491 -0.24305 -0.21482 -0.25503 -0.19792 E">
                                      <p:cBhvr>
                                        <p:cTn id="15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C -0.04791 -0.11875 -0.09583 -0.23727 -0.16163 -0.26458 C -0.22743 -0.2919 -0.33385 -0.17708 -0.39496 -0.16458 C -0.45607 -0.15208 -0.48298 -0.17824 -0.5283 -0.18889 C -0.57361 -0.19954 -0.65225 -0.24259 -0.66666 -0.22893 C -0.68107 -0.21528 -0.62569 -0.14444 -0.61493 -0.10671 C -0.60416 -0.06898 -0.60295 -0.03565 -0.60173 -0.00231 E">
                                      <p:cBhvr>
                                        <p:cTn id="159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86 -0.03079 C -0.06476 -0.04005 -0.04948 -0.04907 -0.09479 -0.04861 C -0.1401 -0.04815 -0.30521 -0.06204 -0.35139 -0.0287 C -0.39757 0.00463 -0.34479 0.09259 -0.37153 0.15139 C -0.39826 0.21019 -0.48819 0.29583 -0.51146 0.32477 E">
                                      <p:cBhvr>
                                        <p:cTn id="16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4:01:34Z</dcterms:created>
  <dc:creator>admin</dc:creator>
  <dc:description/>
  <dc:language>en-US</dc:language>
  <cp:lastModifiedBy>User</cp:lastModifiedBy>
  <dcterms:modified xsi:type="dcterms:W3CDTF">2017-05-24T09:00:4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