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9E7C-C533-4EE0-B863-4F0E2C9860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A1F7-7497-425A-9AE8-73C5FAAE005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5EAF-8A6A-4C5B-B554-BA5F8CFDF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B4EE-87CF-46EE-9300-307FF29B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7366-0704-436D-9D24-EF3E8AD2C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AE6B-BA2B-493C-B6BE-1ADB47E41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E9E1-49D1-4AF8-A85B-8D7AC0BD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6DF6-97B5-4B27-9F61-0E236971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7609-F76F-48CF-95B8-8E5F2852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7F4C-E8A3-49A7-8D49-388B7A1A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A71C-31B2-4093-BED4-68E1FA8A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3038-033B-472B-8C5E-BD2F9FAA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ABDF-5F9D-4548-BA0B-836D2242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78E1-CD74-474B-A991-72F2E0D4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4A90-71C1-4279-8003-D37CB5AFDE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520" y="1500120"/>
            <a:ext cx="756108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b00000"/>
                </a:solidFill>
                <a:latin typeface="Bookman Old Style"/>
              </a:rPr>
              <a:t>«Не для школы, а для</a:t>
            </a:r>
            <a:br>
              <a:rPr sz="5400"/>
            </a:br>
            <a:r>
              <a:rPr b="1" i="1" lang="ru-RU" sz="5400" spc="-1" strike="noStrike">
                <a:solidFill>
                  <a:srgbClr val="b00000"/>
                </a:solidFill>
                <a:latin typeface="Bookman Old Style"/>
              </a:rPr>
              <a:t>жизни мы учимся!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96680" y="4365720"/>
            <a:ext cx="4816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 кла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Times New Roman"/>
              </a:rPr>
              <a:t>Работа в группах</a:t>
            </a:r>
            <a:br>
              <a:rPr sz="4400"/>
            </a:br>
            <a:r>
              <a:rPr b="1" i="1" lang="ru-RU" sz="4400" spc="-1" strike="noStrike">
                <a:solidFill>
                  <a:srgbClr val="800000"/>
                </a:solidFill>
                <a:latin typeface="Times New Roman"/>
              </a:rPr>
              <a:t>УДАЧИ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2" descr="C:\Documents and Settings\User\Мои документы\Мои рисунки\i (23).jpg"/>
          <p:cNvPicPr/>
          <p:nvPr/>
        </p:nvPicPr>
        <p:blipFill>
          <a:blip r:embed="rId1"/>
          <a:stretch/>
        </p:blipFill>
        <p:spPr>
          <a:xfrm>
            <a:off x="928800" y="292896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Ответы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,3,5,7 групп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1) -8,55  2) 10,1   3)   -6,3 &gt; -6,5  4)  - 6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,4,6 групп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1) 14,3    2)  7,5    3)  - 5,75 &lt; -5,25  4) 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Times New Roman"/>
              </a:rPr>
              <a:t>ИТОГ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Довольны ли вы своей работой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За что бы вы хотели похвалить себя, одноклассник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Какие были затруднения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00"/>
                </a:solidFill>
                <a:latin typeface="Times New Roman"/>
              </a:rPr>
              <a:t>       </a:t>
            </a:r>
            <a:r>
              <a:rPr b="0" i="1" lang="ru-RU" sz="3200" spc="-1" strike="noStrike">
                <a:solidFill>
                  <a:srgbClr val="800000"/>
                </a:solidFill>
                <a:latin typeface="Times New Roman"/>
              </a:rPr>
              <a:t>Домашнее задание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любые 3 номер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110,  № 1112,  № 1115, № 11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42960" y="1785600"/>
            <a:ext cx="82296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800000"/>
                </a:solidFill>
                <a:latin typeface="Times New Roman"/>
              </a:rPr>
              <a:t>              </a:t>
            </a:r>
            <a:r>
              <a:rPr b="1" i="1" lang="ru-RU" sz="4800" spc="-1" strike="noStrike">
                <a:solidFill>
                  <a:srgbClr val="800000"/>
                </a:solidFill>
                <a:latin typeface="Times New Roman"/>
              </a:rPr>
              <a:t>Спасибо   з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800000"/>
                </a:solidFill>
                <a:latin typeface="Times New Roman"/>
              </a:rPr>
              <a:t>                         </a:t>
            </a:r>
            <a:r>
              <a:rPr b="1" i="1" lang="ru-RU" sz="4800" spc="-1" strike="noStrike">
                <a:solidFill>
                  <a:srgbClr val="800000"/>
                </a:solidFill>
                <a:latin typeface="Times New Roman"/>
              </a:rPr>
              <a:t>сотрудничество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4800" spc="-1" strike="noStrike">
                <a:solidFill>
                  <a:srgbClr val="800000"/>
                </a:solidFill>
                <a:latin typeface="Times New Roman"/>
              </a:rPr>
              <a:t>Перед   вами     ряд    чисе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857320"/>
            <a:ext cx="82296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5,6;   11,8;  -0,5;  1/2;  3,7;  7;  -19;   0.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Замените звездочки знаком  «+» и «-« так, </a:t>
            </a: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чтобы</a:t>
            </a: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 получились </a:t>
            </a: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верные   равенств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500200"/>
            <a:ext cx="82296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7,2 * (-7,2) = 0             7,2 * (-5,3) = 1,9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3,7 * (-6,4) = -10,1       3,6 * 8,1=-4,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 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4,9 * 1,7 = -6,6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8588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Назовите все целые значения </a:t>
            </a: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х, удовлетворяющие неравенствам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214360"/>
            <a:ext cx="82296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xI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5;    -1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xI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8;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xI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&lt;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Times New Roman"/>
              </a:rPr>
              <a:t>«Щадящий опрос» – работа в пара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C:\Documents and Settings\User\Мои документы\Мои рисунки\i (21).jpg"/>
          <p:cNvPicPr/>
          <p:nvPr/>
        </p:nvPicPr>
        <p:blipFill>
          <a:blip r:embed="rId1"/>
          <a:stretch/>
        </p:blipFill>
        <p:spPr>
          <a:xfrm>
            <a:off x="1285920" y="2786040"/>
            <a:ext cx="27860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803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0040" y="785520"/>
            <a:ext cx="814392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1 вариант                         2 вариан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3,5 + 8,1                         -7,5 + 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2,9 – 3,6                          - 3,7 – 5,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7,5 – (-22,8)                      - 4,7 –(-2,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5/6 + 3/8                          -7/9 + 5/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5/7 -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/14                 -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1/8 –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Times New Roman"/>
              </a:rPr>
              <a:t>Провер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 вариант                 2 вариан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,6                                    - 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6,5                                  - 9,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5,3                                   - 1,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11/24                              1/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1/14                          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3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7/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4300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1вариан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(-11\24)  Д(15,3)  Я(-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11/14)   И(4,6)    Т(5,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(-0,5)   И(1/8)   Н(-6,5)    К(-15,3)   Й(1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2 вариан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(9,5)   Д(0,45)   Я(- 6/16)   И(1,5)   Т(-1,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(1/18)   И(-9,5)    Н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6/24)   К(-3,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Й(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7/1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БРАХМАГУПТА - индийский математи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C:\Documents and Settings\User\Мои документы\Мои рисунки\0.jpg"/>
          <p:cNvPicPr/>
          <p:nvPr/>
        </p:nvPicPr>
        <p:blipFill>
          <a:blip r:embed="rId1"/>
          <a:stretch/>
        </p:blipFill>
        <p:spPr>
          <a:xfrm>
            <a:off x="857160" y="2000160"/>
            <a:ext cx="57150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Admin</cp:lastModifiedBy>
  <dcterms:modified xsi:type="dcterms:W3CDTF">2015-10-28T14:29:35Z</dcterms:modified>
  <cp:revision>53</cp:revision>
  <dc:subject/>
  <dc:title>Слайд 1</dc:title>
</cp:coreProperties>
</file>