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CE14-542D-4A43-879D-A7BE172E0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D454-A193-473D-A249-BA38A773E2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822-568A-47B7-BC9E-2787547B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17C-EEF0-4403-A4C0-AFED6755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D33-6828-487E-8B20-237FBF4D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4EB-81BC-4DF0-80A4-FD760959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2DF-2FE1-4C62-868E-881BD8E2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D93-403D-4553-B9E1-E1D1F992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ACC-1D1F-42CF-AC2E-092C3BF7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2B7-F6C5-47AA-86CE-181F9FD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91B-0ED1-4FAF-96B6-F7C9AD3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8AE-DD51-4080-92C2-D65C0A1B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424-4015-4F98-BAFD-4A1A859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0C6-C084-459B-957F-E55076D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8145-9F7D-43B0-B130-86677463F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1500120"/>
            <a:ext cx="756108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00000"/>
                </a:solidFill>
                <a:latin typeface="Bookman Old Style"/>
              </a:rPr>
              <a:t>«Не для школы, а для</a:t>
            </a:r>
            <a:br>
              <a:rPr sz="5400"/>
            </a:br>
            <a:r>
              <a:rPr b="1" i="1" lang="ru-RU" sz="5400" spc="-1" strike="noStrike">
                <a:solidFill>
                  <a:srgbClr val="b00000"/>
                </a:solidFill>
                <a:latin typeface="Bookman Old Style"/>
              </a:rPr>
              <a:t>жизни мы учимся!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6680" y="436572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Работа в группах</a:t>
            </a:r>
            <a:br>
              <a:rPr sz="4400"/>
            </a:b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УДАЧ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Documents and Settings\User\Мои документы\Мои рисунки\i (23).jpg"/>
          <p:cNvPicPr/>
          <p:nvPr/>
        </p:nvPicPr>
        <p:blipFill>
          <a:blip r:embed="rId1"/>
          <a:stretch/>
        </p:blipFill>
        <p:spPr>
          <a:xfrm>
            <a:off x="928800" y="29289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Ответ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3,5,7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) -8,55  2) 10,1   3)   -6,3 &gt; -6,5  4)  - 6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,4,6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) 14,3    2)  7,5    3)  - 5,75 &lt; -5,25  4)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овольны ли вы своей работ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За что бы вы хотели похвалить себя, одноклассн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ие были затрудн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800000"/>
                </a:solidFill>
                <a:latin typeface="Times New Roman"/>
              </a:rPr>
              <a:t>Домашнее 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любые 3 номе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0,  № 1112,  № 1115, № 11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42960" y="178560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             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Спасибо   з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                        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сотрудничеств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Перед   вами     ряд    чисе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8573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,6;   11,8;  -0,5;  1/2;  3,7;  7;  -19;   0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Замените звездочки знаком  «+» и «-« так,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чтобы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получились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верные   равен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0020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,2 * (-7,2) = 0             7,2 * (-5,3) = 1,9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3,7 * (-6,4) = -10,1       3,6 * 8,1=-4,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4,9 * 1,7 = -6,6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Назовите все целые значения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х, удовлетворяющие неравенства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1436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xI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5;    -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x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x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&lt;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Щадящий опрос» – работа в пар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Documents and Settings\User\Мои документы\Мои рисунки\i (21).jpg"/>
          <p:cNvPicPr/>
          <p:nvPr/>
        </p:nvPicPr>
        <p:blipFill>
          <a:blip r:embed="rId1"/>
          <a:stretch/>
        </p:blipFill>
        <p:spPr>
          <a:xfrm>
            <a:off x="1285920" y="2786040"/>
            <a:ext cx="2786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7855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1 вариант   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3,5 + 8,1                         -7,5 + 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2,9 – 3,6                          - 3,7 – 5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,5 – (-22,8)                      - 4,7 –(-2,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5/6 + 3/8                          -7/9 + 5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5/7 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/14                 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1/8 –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вариант                 2 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,6                                    - 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6,5                                  - 9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5,3                                   - 1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11/24                              1/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/14                         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/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430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1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(-11\24)  Д(15,3)  Я(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1/14)   И(4,6)    Т(5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(-0,5)   И(1/8)   Н(-6,5)    К(-15,3)   Й(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(9,5)   Д(0,45)   Я(- 6/16)   И(1,5)   Т(-1,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(1/18)   И(-9,5)    Н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6/24)   К(-3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Й(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7/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РАХМАГУПТА - индийский математ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Documents and Settings\User\Мои документы\Мои рисунки\0.jpg"/>
          <p:cNvPicPr/>
          <p:nvPr/>
        </p:nvPicPr>
        <p:blipFill>
          <a:blip r:embed="rId1"/>
          <a:stretch/>
        </p:blipFill>
        <p:spPr>
          <a:xfrm>
            <a:off x="857160" y="2000160"/>
            <a:ext cx="5715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5-10-28T14:29:35Z</dcterms:modified>
  <cp:revision>53</cp:revision>
  <dc:subject/>
  <dc:title>Слайд 1</dc:title>
</cp:coreProperties>
</file>