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633-C5F1-4090-84CA-6E7CD5B0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80E-EE43-4549-8085-30B4F967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14B-7C4D-4F2B-BD36-5266B281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973-66DA-48FF-943A-BD6EF7F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107-59DF-4057-8823-6D56A1CF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D4C-9617-4E44-B73A-08CAE3E4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03D0-1F82-4A4B-9DB4-A45C6DB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4D37-B5AD-482C-B484-E05073F9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A172-CCC3-42E5-B00F-E5F1DAA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1349-CF0D-45FB-AD3B-E8F1976F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1D9B-4D6D-4428-937C-36DC931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33A-7B59-4A3E-B27A-44665D75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FD0-6725-4AA2-9411-3707FA3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47F-7D52-4F40-B25D-9C9D8DD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18F-E21F-4E7C-BCAA-F3806BA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C1A7-C19F-4412-8BF7-8F946880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144E-E8D1-49A9-826C-1364E170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73CB-5100-4939-9923-BE841378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DB1A-9BAA-4899-B5C6-8411BFE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C2FF-2FE7-461E-8789-C1B999A6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A037-DCB8-4EDE-89D5-35EBF0B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14F4-344C-4AA6-9F89-02CF4C4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10C-B13E-42AD-A72E-4339F387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3C45-29BD-44BD-8C58-6D9196E6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EA1-AF73-43ED-9750-76BE9DC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BE68-82DE-44CB-A0DD-E630A8A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0E9E-6408-436D-B3C4-136EEFE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4562-7980-4DD5-B08F-A814C1D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0399-A6E7-4625-AA11-E8AE1C75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EA05-1C96-4428-97E2-5119F82F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E50-10B1-47A1-AA90-B72DEE6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F98-5BC2-4939-9E63-16616422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3D2-45C3-4ACB-8876-CF5F54F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ACA-1AE8-4BD1-9C2E-C96EEBD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F44-35EB-415C-87D4-734F237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932-64E0-4B39-9A10-9228EB9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A6DA3-E716-4A53-8180-4C3E20313CDD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2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2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4" name="Freeform 22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22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7" name="Freeform 28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28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60" name="Freeform 29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5-Point Star 32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50A8A-8DF2-4E39-815C-6800BCFF6A1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06D46-47B0-4FFF-B102-AEF62A0AAE70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7"/>
          <p:cNvSpPr txBox="1"/>
          <p:nvPr/>
        </p:nvSpPr>
        <p:spPr>
          <a:xfrm>
            <a:off x="324000" y="620640"/>
            <a:ext cx="84960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клони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еликим тем годам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56" name="Poklonimsya_Velikim_Tem_Godam_Kobzon_1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332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411280" y="0"/>
            <a:ext cx="4176720" cy="5759280"/>
          </a:xfrm>
          <a:prstGeom prst="rect">
            <a:avLst/>
          </a:prstGeom>
          <a:ln w="0">
            <a:noFill/>
          </a:ln>
        </p:spPr>
      </p:pic>
      <p:pic>
        <p:nvPicPr>
          <p:cNvPr id="158" name="Краснознаменный Ансамбль - Священная война (быстрее)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9763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1"/>
          <a:stretch/>
        </p:blipFill>
        <p:spPr>
          <a:xfrm>
            <a:off x="2340000" y="189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80e0f"/>
                </a:solidFill>
                <a:latin typeface="Impact"/>
              </a:rPr>
              <a:t>ЛЁНЯ ГОЛИКОВ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61" name="Picture 5" descr="D:\Второй винт\Школа\воспит работа\День победы\на конкурс\pg12.jpg"/>
          <p:cNvPicPr/>
          <p:nvPr/>
        </p:nvPicPr>
        <p:blipFill>
          <a:blip r:embed="rId1"/>
          <a:stretch/>
        </p:blipFill>
        <p:spPr>
          <a:xfrm>
            <a:off x="2268360" y="1197000"/>
            <a:ext cx="4642200" cy="43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64_6118696_big"/>
          <p:cNvPicPr/>
          <p:nvPr/>
        </p:nvPicPr>
        <p:blipFill>
          <a:blip r:embed="rId1"/>
          <a:stretch/>
        </p:blipFill>
        <p:spPr>
          <a:xfrm>
            <a:off x="755640" y="115920"/>
            <a:ext cx="74296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38881_800_600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Impact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65" name="metronom2.mp3" descr=""/>
          <p:cNvPicPr/>
          <p:nvPr/>
        </p:nvPicPr>
        <p:blipFill>
          <a:blip r:embed="rId2"/>
          <a:stretch/>
        </p:blipFill>
        <p:spPr>
          <a:xfrm>
            <a:off x="88390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4577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i9375-image-big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5451480"/>
          </a:xfrm>
          <a:prstGeom prst="rect">
            <a:avLst/>
          </a:prstGeom>
          <a:ln w="0">
            <a:noFill/>
          </a:ln>
        </p:spPr>
      </p:pic>
      <p:pic>
        <p:nvPicPr>
          <p:cNvPr id="167" name="st_80545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680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05:11Z</dcterms:created>
  <dc:creator>ТолькоДляТестов</dc:creator>
  <dc:description/>
  <dc:language>en-US</dc:language>
  <cp:lastModifiedBy>Admin</cp:lastModifiedBy>
  <dcterms:modified xsi:type="dcterms:W3CDTF">2017-05-29T13:47:39Z</dcterms:modified>
  <cp:revision>29</cp:revision>
  <dc:subject/>
  <dc:title>Никто не забыт, ничто не забыто!</dc:title>
</cp:coreProperties>
</file>