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media/image10.jpeg" ContentType="image/jpeg"/>
  <Override PartName="/ppt/media/image5.png" ContentType="image/pn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4F48C-316D-43D1-9132-7CE091A89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685440"/>
            <a:ext cx="7797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80e0f"/>
              </a:solidFill>
              <a:latin typeface="Impac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14440" y="2063880"/>
            <a:ext cx="7797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4440" y="3793680"/>
            <a:ext cx="7797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49940-D288-4F35-ABBC-CB0AE642A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14440" y="685440"/>
            <a:ext cx="7797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80e0f"/>
              </a:solidFill>
              <a:latin typeface="Impac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14440" y="2063880"/>
            <a:ext cx="38052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10440" y="2063880"/>
            <a:ext cx="38052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14440" y="3793680"/>
            <a:ext cx="38052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10440" y="3793680"/>
            <a:ext cx="38052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62EFD-1B79-468A-A131-B28F9B22E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14440" y="685440"/>
            <a:ext cx="7797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80e0f"/>
              </a:solidFill>
              <a:latin typeface="Impac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14440" y="2063880"/>
            <a:ext cx="25106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51080" y="2063880"/>
            <a:ext cx="25106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787720" y="2063880"/>
            <a:ext cx="25106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14440" y="3793680"/>
            <a:ext cx="25106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51080" y="3793680"/>
            <a:ext cx="25106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787720" y="3793680"/>
            <a:ext cx="25106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B9912-33DA-4E9E-823D-2B72F19BF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78FFA-D570-4041-A08B-CC9F20805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14440" y="685440"/>
            <a:ext cx="7797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80e0f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514440" y="2063880"/>
            <a:ext cx="7797600" cy="33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6D1DF-2B0B-4943-8404-FC934DCEA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14440" y="685440"/>
            <a:ext cx="7797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80e0f"/>
              </a:solidFill>
              <a:latin typeface="Impac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14440" y="2063880"/>
            <a:ext cx="779760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03A28-1705-4D72-BF51-DEE26CF75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14440" y="685440"/>
            <a:ext cx="7797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80e0f"/>
              </a:solidFill>
              <a:latin typeface="Impac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14440" y="2063880"/>
            <a:ext cx="380520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10440" y="2063880"/>
            <a:ext cx="380520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2D146-FB80-484F-B95C-AF370D7B6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14440" y="685440"/>
            <a:ext cx="7797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80e0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3274A-AB82-469E-8527-396F6C5E4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514440" y="685440"/>
            <a:ext cx="7797600" cy="53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20459-1D53-42F4-AE8E-16DE23331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14440" y="685440"/>
            <a:ext cx="7797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80e0f"/>
              </a:solidFill>
              <a:latin typeface="Impac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14440" y="2063880"/>
            <a:ext cx="38052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10440" y="2063880"/>
            <a:ext cx="380520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4440" y="3793680"/>
            <a:ext cx="38052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9CFE9-3D5A-476B-B6F2-24D72F35A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685440"/>
            <a:ext cx="7797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80e0f"/>
              </a:solidFill>
              <a:latin typeface="Impac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14440" y="2063880"/>
            <a:ext cx="7797600" cy="33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9A3D0-4FE8-4B14-A546-30E385932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14440" y="685440"/>
            <a:ext cx="7797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80e0f"/>
              </a:solidFill>
              <a:latin typeface="Impact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14440" y="2063880"/>
            <a:ext cx="380520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10440" y="2063880"/>
            <a:ext cx="38052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10440" y="3793680"/>
            <a:ext cx="38052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BC77F-F025-4FAF-B1E3-12239EEAC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685440"/>
            <a:ext cx="7797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80e0f"/>
              </a:solidFill>
              <a:latin typeface="Impac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14440" y="2063880"/>
            <a:ext cx="38052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10440" y="2063880"/>
            <a:ext cx="38052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14440" y="3793680"/>
            <a:ext cx="7797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C33AC-2241-4426-ACDD-5CBE6DA92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685440"/>
            <a:ext cx="7797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80e0f"/>
              </a:solidFill>
              <a:latin typeface="Impac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14440" y="2063880"/>
            <a:ext cx="7797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4440" y="3793680"/>
            <a:ext cx="7797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1DCC5-156C-41FA-82CB-E792A930D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14440" y="685440"/>
            <a:ext cx="7797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80e0f"/>
              </a:solidFill>
              <a:latin typeface="Impac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14440" y="2063880"/>
            <a:ext cx="38052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10440" y="2063880"/>
            <a:ext cx="38052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14440" y="3793680"/>
            <a:ext cx="38052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10440" y="3793680"/>
            <a:ext cx="38052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4B801-4CCA-49B9-81D1-FA2A60C3D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685440"/>
            <a:ext cx="7797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80e0f"/>
              </a:solidFill>
              <a:latin typeface="Impac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14440" y="2063880"/>
            <a:ext cx="25106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151080" y="2063880"/>
            <a:ext cx="25106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787720" y="2063880"/>
            <a:ext cx="25106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514440" y="3793680"/>
            <a:ext cx="25106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151080" y="3793680"/>
            <a:ext cx="25106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5787720" y="3793680"/>
            <a:ext cx="25106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B81FC-237C-43CD-BDB7-EAF05616A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C915CC-4D91-4D49-A9BC-1DAF60444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14440" y="685440"/>
            <a:ext cx="7797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80e0f"/>
              </a:solidFill>
              <a:latin typeface="Impac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514440" y="2063880"/>
            <a:ext cx="7797600" cy="33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5990AF-FCB2-47DC-82C3-7B23EFF45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14440" y="685440"/>
            <a:ext cx="7797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80e0f"/>
              </a:solidFill>
              <a:latin typeface="Impac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14440" y="2063880"/>
            <a:ext cx="779760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470EC4-5AC7-468B-BADA-80E138349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14440" y="685440"/>
            <a:ext cx="7797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80e0f"/>
              </a:solidFill>
              <a:latin typeface="Impac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4440" y="2063880"/>
            <a:ext cx="380520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510440" y="2063880"/>
            <a:ext cx="380520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D9AC20-F6F0-4AA5-8051-68E2453C4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14440" y="685440"/>
            <a:ext cx="7797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80e0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4FE75D-2D5C-4B3B-A33D-8BE84CCFA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14440" y="685440"/>
            <a:ext cx="7797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80e0f"/>
              </a:solidFill>
              <a:latin typeface="Impac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14440" y="2063880"/>
            <a:ext cx="779760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F9ACF-2C34-41FA-ACC9-FC330E7D9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514440" y="685440"/>
            <a:ext cx="7797600" cy="53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1D7DA0-C11D-4BBC-9CD8-E603EAC83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14440" y="685440"/>
            <a:ext cx="7797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80e0f"/>
              </a:solidFill>
              <a:latin typeface="Impac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14440" y="2063880"/>
            <a:ext cx="38052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510440" y="2063880"/>
            <a:ext cx="380520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14440" y="3793680"/>
            <a:ext cx="38052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BE3F67-5B1F-4110-A4CB-C5818E38A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14440" y="685440"/>
            <a:ext cx="7797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80e0f"/>
              </a:solidFill>
              <a:latin typeface="Impac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14440" y="2063880"/>
            <a:ext cx="380520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510440" y="2063880"/>
            <a:ext cx="38052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10440" y="3793680"/>
            <a:ext cx="38052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F6B30E-F9EF-4FC3-BE34-16E75D266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14440" y="685440"/>
            <a:ext cx="7797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80e0f"/>
              </a:solidFill>
              <a:latin typeface="Impac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14440" y="2063880"/>
            <a:ext cx="38052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10440" y="2063880"/>
            <a:ext cx="38052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14440" y="3793680"/>
            <a:ext cx="7797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05CB21-771A-48EA-BC33-7F8FF8BD2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14440" y="685440"/>
            <a:ext cx="7797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80e0f"/>
              </a:solidFill>
              <a:latin typeface="Impac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14440" y="2063880"/>
            <a:ext cx="7797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14440" y="3793680"/>
            <a:ext cx="7797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840B56-7DAB-41B2-941D-03FA7877F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14440" y="685440"/>
            <a:ext cx="7797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80e0f"/>
              </a:solidFill>
              <a:latin typeface="Impac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14440" y="2063880"/>
            <a:ext cx="38052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510440" y="2063880"/>
            <a:ext cx="38052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14440" y="3793680"/>
            <a:ext cx="38052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10440" y="3793680"/>
            <a:ext cx="38052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815993-39F3-4027-BD9B-DF5018CE8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14440" y="685440"/>
            <a:ext cx="7797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80e0f"/>
              </a:solidFill>
              <a:latin typeface="Impac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14440" y="2063880"/>
            <a:ext cx="25106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151080" y="2063880"/>
            <a:ext cx="25106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787720" y="2063880"/>
            <a:ext cx="25106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514440" y="3793680"/>
            <a:ext cx="25106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151080" y="3793680"/>
            <a:ext cx="25106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5787720" y="3793680"/>
            <a:ext cx="25106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7885EC-AE36-4D33-994D-29F7508BC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685440"/>
            <a:ext cx="7797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80e0f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063880"/>
            <a:ext cx="380520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10440" y="2063880"/>
            <a:ext cx="380520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D9891-EBC5-4789-B415-6BB218F47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14440" y="685440"/>
            <a:ext cx="7797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80e0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4AC02-C9AC-47B7-A87E-45E7220FA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14440" y="685440"/>
            <a:ext cx="7797600" cy="53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BBB4C-7059-4E86-9DA2-BDCA82F28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14440" y="685440"/>
            <a:ext cx="7797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80e0f"/>
              </a:solidFill>
              <a:latin typeface="Impac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14440" y="2063880"/>
            <a:ext cx="38052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10440" y="2063880"/>
            <a:ext cx="380520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4440" y="3793680"/>
            <a:ext cx="38052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F39E3-9397-49D0-A4E5-90D6937E3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685440"/>
            <a:ext cx="7797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80e0f"/>
              </a:solidFill>
              <a:latin typeface="Impac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14440" y="2063880"/>
            <a:ext cx="380520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10440" y="2063880"/>
            <a:ext cx="38052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10440" y="3793680"/>
            <a:ext cx="38052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8F9F9-A63E-431A-9678-C57A33C85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685440"/>
            <a:ext cx="7797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80e0f"/>
              </a:solidFill>
              <a:latin typeface="Impac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14440" y="2063880"/>
            <a:ext cx="38052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10440" y="2063880"/>
            <a:ext cx="38052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14440" y="3793680"/>
            <a:ext cx="7797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5CD27-3B3F-4831-BD8F-6501BE290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Brickwork-SD-R1acrop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" name="Group 9"/>
          <p:cNvGrpSpPr/>
          <p:nvPr/>
        </p:nvGrpSpPr>
        <p:grpSpPr>
          <a:xfrm>
            <a:off x="-19080" y="0"/>
            <a:ext cx="9004320" cy="6643800"/>
            <a:chOff x="-19080" y="0"/>
            <a:chExt cx="9004320" cy="6643800"/>
          </a:xfrm>
        </p:grpSpPr>
        <p:grpSp>
          <p:nvGrpSpPr>
            <p:cNvPr id="2" name="Rectangle 10"/>
            <p:cNvGrpSpPr/>
            <p:nvPr/>
          </p:nvGrpSpPr>
          <p:grpSpPr>
            <a:xfrm>
              <a:off x="-19080" y="0"/>
              <a:ext cx="9004320" cy="6643800"/>
              <a:chOff x="-19080" y="0"/>
              <a:chExt cx="9004320" cy="6643800"/>
            </a:xfrm>
          </p:grpSpPr>
          <p:pic>
            <p:nvPicPr>
              <p:cNvPr id="3" name="Rectangle 10" descr=""/>
              <p:cNvPicPr/>
              <p:nvPr/>
            </p:nvPicPr>
            <p:blipFill>
              <a:blip r:embed="rId4"/>
              <a:stretch/>
            </p:blipFill>
            <p:spPr>
              <a:xfrm>
                <a:off x="-19080" y="0"/>
                <a:ext cx="9004320" cy="6643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" name=""/>
              <p:cNvSpPr/>
              <p:nvPr/>
            </p:nvSpPr>
            <p:spPr>
              <a:xfrm>
                <a:off x="58320" y="29520"/>
                <a:ext cx="8807040" cy="6442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</p:grpSp>
        <p:grpSp>
          <p:nvGrpSpPr>
            <p:cNvPr id="5" name="Rectangle 12"/>
            <p:cNvGrpSpPr/>
            <p:nvPr/>
          </p:nvGrpSpPr>
          <p:grpSpPr>
            <a:xfrm>
              <a:off x="58320" y="5461920"/>
              <a:ext cx="8604000" cy="756360"/>
              <a:chOff x="58320" y="5461920"/>
              <a:chExt cx="8604000" cy="756360"/>
            </a:xfrm>
          </p:grpSpPr>
          <p:pic>
            <p:nvPicPr>
              <p:cNvPr id="6" name="Rectangle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58320" y="5464080"/>
                <a:ext cx="8602200" cy="754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" name=""/>
              <p:cNvSpPr/>
              <p:nvPr/>
            </p:nvSpPr>
            <p:spPr>
              <a:xfrm>
                <a:off x="58320" y="5461920"/>
                <a:ext cx="8604000" cy="75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</p:grpSp>
        <p:sp>
          <p:nvSpPr>
            <p:cNvPr id="8" name="Freeform 11"/>
            <p:cNvSpPr/>
            <p:nvPr/>
          </p:nvSpPr>
          <p:spPr>
            <a:xfrm>
              <a:off x="39600" y="29520"/>
              <a:ext cx="8654400" cy="6225120"/>
            </a:xfrm>
            <a:custGeom>
              <a:avLst/>
              <a:gdLst/>
              <a:ahLst/>
              <a:rect l="l" t="t" r="r" b="b"/>
              <a:pathLst>
                <a:path w="11773291" h="6419514">
                  <a:moveTo>
                    <a:pt x="11750059" y="0"/>
                  </a:moveTo>
                  <a:lnTo>
                    <a:pt x="11773291" y="6419514"/>
                  </a:lnTo>
                  <a:lnTo>
                    <a:pt x="0" y="6411047"/>
                  </a:lnTo>
                </a:path>
              </a:pathLst>
            </a:custGeom>
            <a:noFill/>
            <a:ln w="8244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685440"/>
            <a:ext cx="7797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80e0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b80e0f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514440" y="2063880"/>
            <a:ext cx="779760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6000"/>
          </a:bodyPr>
          <a:p>
            <a:pPr marL="219240" indent="-219240">
              <a:lnSpc>
                <a:spcPct val="120000"/>
              </a:lnSpc>
              <a:spcBef>
                <a:spcPts val="1001"/>
              </a:spcBef>
              <a:buClr>
                <a:srgbClr val="b80e0f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1" marL="658080" indent="-219240">
              <a:lnSpc>
                <a:spcPct val="120000"/>
              </a:lnSpc>
              <a:spcBef>
                <a:spcPts val="1001"/>
              </a:spcBef>
              <a:buClr>
                <a:srgbClr val="b80e0f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2" marL="1097280" indent="-219240">
              <a:lnSpc>
                <a:spcPct val="120000"/>
              </a:lnSpc>
              <a:spcBef>
                <a:spcPts val="1001"/>
              </a:spcBef>
              <a:buClr>
                <a:srgbClr val="b80e0f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3" marL="1536120" indent="-219240">
              <a:lnSpc>
                <a:spcPct val="120000"/>
              </a:lnSpc>
              <a:spcBef>
                <a:spcPts val="1001"/>
              </a:spcBef>
              <a:buClr>
                <a:srgbClr val="b80e0f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4" marL="1974960" indent="-219240">
              <a:lnSpc>
                <a:spcPct val="120000"/>
              </a:lnSpc>
              <a:spcBef>
                <a:spcPts val="1001"/>
              </a:spcBef>
              <a:buClr>
                <a:srgbClr val="b80e0f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5" marL="1974960" indent="-21924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6" marL="1974960" indent="-21924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5473800" y="5757480"/>
            <a:ext cx="28382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514440" y="5757480"/>
            <a:ext cx="412416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4714920" y="5757480"/>
            <a:ext cx="68112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800" spc="-1" strike="noStrike">
                <a:solidFill>
                  <a:srgbClr val="5c070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CF59770-B84C-4622-9103-83C0CEC093AE}" type="slidenum">
              <a:rPr b="0" lang="ru-RU" sz="2800" spc="-1" strike="noStrike">
                <a:solidFill>
                  <a:srgbClr val="5c0708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7" descr="Brickwork-SD-R1acrop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1" name="Freeform 12"/>
          <p:cNvGrpSpPr/>
          <p:nvPr/>
        </p:nvGrpSpPr>
        <p:grpSpPr>
          <a:xfrm>
            <a:off x="-85680" y="-49320"/>
            <a:ext cx="8955000" cy="6662880"/>
            <a:chOff x="-85680" y="-49320"/>
            <a:chExt cx="8955000" cy="6662880"/>
          </a:xfrm>
        </p:grpSpPr>
        <p:pic>
          <p:nvPicPr>
            <p:cNvPr id="52" name="Freeform 12" descr=""/>
            <p:cNvPicPr/>
            <p:nvPr/>
          </p:nvPicPr>
          <p:blipFill>
            <a:blip r:embed="rId4"/>
            <a:stretch/>
          </p:blipFill>
          <p:spPr>
            <a:xfrm>
              <a:off x="-85680" y="-49320"/>
              <a:ext cx="8955000" cy="666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-7920" y="-17640"/>
              <a:ext cx="8753400" cy="645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</p:grpSp>
      <p:grpSp>
        <p:nvGrpSpPr>
          <p:cNvPr id="54" name="Freeform 22"/>
          <p:cNvGrpSpPr/>
          <p:nvPr/>
        </p:nvGrpSpPr>
        <p:grpSpPr>
          <a:xfrm>
            <a:off x="-12600" y="4443480"/>
            <a:ext cx="8467560" cy="1719360"/>
            <a:chOff x="-12600" y="4443480"/>
            <a:chExt cx="8467560" cy="1719360"/>
          </a:xfrm>
        </p:grpSpPr>
        <p:pic>
          <p:nvPicPr>
            <p:cNvPr id="55" name="Freeform 22" descr=""/>
            <p:cNvPicPr/>
            <p:nvPr/>
          </p:nvPicPr>
          <p:blipFill>
            <a:blip r:embed="rId5"/>
            <a:stretch/>
          </p:blipFill>
          <p:spPr>
            <a:xfrm>
              <a:off x="-12600" y="4443480"/>
              <a:ext cx="8467560" cy="171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-11160" y="4444920"/>
              <a:ext cx="8466120" cy="171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</p:grpSp>
      <p:grpSp>
        <p:nvGrpSpPr>
          <p:cNvPr id="57" name="Freeform 28"/>
          <p:cNvGrpSpPr/>
          <p:nvPr/>
        </p:nvGrpSpPr>
        <p:grpSpPr>
          <a:xfrm>
            <a:off x="0" y="0"/>
            <a:ext cx="5810040" cy="324000"/>
            <a:chOff x="0" y="0"/>
            <a:chExt cx="5810040" cy="324000"/>
          </a:xfrm>
        </p:grpSpPr>
        <p:pic>
          <p:nvPicPr>
            <p:cNvPr id="58" name="Freeform 28" descr=""/>
            <p:cNvPicPr/>
            <p:nvPr/>
          </p:nvPicPr>
          <p:blipFill>
            <a:blip r:embed="rId6"/>
            <a:stretch/>
          </p:blipFill>
          <p:spPr>
            <a:xfrm>
              <a:off x="2880" y="0"/>
              <a:ext cx="5807160" cy="3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0" y="0"/>
              <a:ext cx="58086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</p:grpSp>
      <p:sp>
        <p:nvSpPr>
          <p:cNvPr id="60" name="Freeform 29"/>
          <p:cNvSpPr/>
          <p:nvPr/>
        </p:nvSpPr>
        <p:spPr>
          <a:xfrm rot="21420000">
            <a:off x="-171360" y="212400"/>
            <a:ext cx="8480160" cy="5746680"/>
          </a:xfrm>
          <a:custGeom>
            <a:avLst/>
            <a:gdLst/>
            <a:ahLst/>
            <a:rect l="l" t="t" r="r" b="b"/>
            <a:pathLst>
              <a:path w="11307378" h="5746008">
                <a:moveTo>
                  <a:pt x="11270997" y="0"/>
                </a:moveTo>
                <a:lnTo>
                  <a:pt x="11307378" y="5746008"/>
                </a:lnTo>
                <a:lnTo>
                  <a:pt x="1" y="5743137"/>
                </a:lnTo>
              </a:path>
            </a:pathLst>
          </a:custGeom>
          <a:noFill/>
          <a:ln w="8244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1" name="5-Point Star 32"/>
          <p:cNvSpPr/>
          <p:nvPr/>
        </p:nvSpPr>
        <p:spPr>
          <a:xfrm rot="21420000">
            <a:off x="3122640" y="5057280"/>
            <a:ext cx="514440" cy="514440"/>
          </a:xfrm>
          <a:custGeom>
            <a:avLst/>
            <a:gdLst/>
            <a:ahLst/>
            <a:rect l="l" t="t" r="r" b="b"/>
            <a:pathLst>
              <a:path w="514350" h="514350">
                <a:moveTo>
                  <a:pt x="1" y="196464"/>
                </a:moveTo>
                <a:lnTo>
                  <a:pt x="172322" y="161524"/>
                </a:lnTo>
                <a:lnTo>
                  <a:pt x="257175" y="0"/>
                </a:lnTo>
                <a:lnTo>
                  <a:pt x="342028" y="161524"/>
                </a:lnTo>
                <a:lnTo>
                  <a:pt x="514349" y="196464"/>
                </a:lnTo>
                <a:lnTo>
                  <a:pt x="394470" y="331231"/>
                </a:lnTo>
                <a:lnTo>
                  <a:pt x="416118" y="514349"/>
                </a:lnTo>
                <a:lnTo>
                  <a:pt x="257175" y="436115"/>
                </a:lnTo>
                <a:lnTo>
                  <a:pt x="98232" y="514349"/>
                </a:lnTo>
                <a:lnTo>
                  <a:pt x="119880" y="331231"/>
                </a:lnTo>
                <a:lnTo>
                  <a:pt x="1" y="196464"/>
                </a:lnTo>
                <a:close/>
              </a:path>
            </a:pathLst>
          </a:custGeom>
          <a:solidFill>
            <a:srgbClr val="0000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14440" y="685440"/>
            <a:ext cx="7797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80e0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b80e0f"/>
              </a:solidFill>
              <a:latin typeface="Impac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514440" y="2063880"/>
            <a:ext cx="779760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6000"/>
          </a:bodyPr>
          <a:p>
            <a:pPr marL="219240" indent="-219240">
              <a:lnSpc>
                <a:spcPct val="120000"/>
              </a:lnSpc>
              <a:spcBef>
                <a:spcPts val="1001"/>
              </a:spcBef>
              <a:buClr>
                <a:srgbClr val="b80e0f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1" marL="658080" indent="-219240">
              <a:lnSpc>
                <a:spcPct val="120000"/>
              </a:lnSpc>
              <a:spcBef>
                <a:spcPts val="1001"/>
              </a:spcBef>
              <a:buClr>
                <a:srgbClr val="b80e0f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2" marL="1097280" indent="-219240">
              <a:lnSpc>
                <a:spcPct val="120000"/>
              </a:lnSpc>
              <a:spcBef>
                <a:spcPts val="1001"/>
              </a:spcBef>
              <a:buClr>
                <a:srgbClr val="b80e0f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3" marL="1536120" indent="-219240">
              <a:lnSpc>
                <a:spcPct val="120000"/>
              </a:lnSpc>
              <a:spcBef>
                <a:spcPts val="1001"/>
              </a:spcBef>
              <a:buClr>
                <a:srgbClr val="b80e0f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4" marL="1974960" indent="-219240">
              <a:lnSpc>
                <a:spcPct val="120000"/>
              </a:lnSpc>
              <a:spcBef>
                <a:spcPts val="1001"/>
              </a:spcBef>
              <a:buClr>
                <a:srgbClr val="b80e0f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5" marL="1974960" indent="-21924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6" marL="1974960" indent="-21924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dt" idx="4"/>
          </p:nvPr>
        </p:nvSpPr>
        <p:spPr>
          <a:xfrm rot="21420000">
            <a:off x="3668040" y="4714560"/>
            <a:ext cx="460836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ftr" idx="5"/>
          </p:nvPr>
        </p:nvSpPr>
        <p:spPr>
          <a:xfrm rot="21420000">
            <a:off x="-12600" y="4954320"/>
            <a:ext cx="298764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sldNum" idx="6"/>
          </p:nvPr>
        </p:nvSpPr>
        <p:spPr>
          <a:xfrm rot="21420000">
            <a:off x="7400520" y="3819240"/>
            <a:ext cx="68112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400" spc="-1" strike="noStrike">
                <a:solidFill>
                  <a:srgbClr val="40404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1EF55A-230F-42E5-B0EA-D51F6BAFC2C0}" type="slidenum">
              <a:rPr b="0" lang="ru-RU" sz="2400" spc="-1" strike="noStrike">
                <a:solidFill>
                  <a:srgbClr val="40404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7" descr="Brickwork-SD-R1acrop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4" name="Group 9"/>
          <p:cNvGrpSpPr/>
          <p:nvPr/>
        </p:nvGrpSpPr>
        <p:grpSpPr>
          <a:xfrm>
            <a:off x="-19080" y="0"/>
            <a:ext cx="9004320" cy="6643800"/>
            <a:chOff x="-19080" y="0"/>
            <a:chExt cx="9004320" cy="6643800"/>
          </a:xfrm>
        </p:grpSpPr>
        <p:grpSp>
          <p:nvGrpSpPr>
            <p:cNvPr id="105" name="Rectangle 10"/>
            <p:cNvGrpSpPr/>
            <p:nvPr/>
          </p:nvGrpSpPr>
          <p:grpSpPr>
            <a:xfrm>
              <a:off x="-19080" y="0"/>
              <a:ext cx="9004320" cy="6643800"/>
              <a:chOff x="-19080" y="0"/>
              <a:chExt cx="9004320" cy="6643800"/>
            </a:xfrm>
          </p:grpSpPr>
          <p:pic>
            <p:nvPicPr>
              <p:cNvPr id="106" name="Rectangle 10" descr=""/>
              <p:cNvPicPr/>
              <p:nvPr/>
            </p:nvPicPr>
            <p:blipFill>
              <a:blip r:embed="rId4"/>
              <a:stretch/>
            </p:blipFill>
            <p:spPr>
              <a:xfrm>
                <a:off x="-19080" y="0"/>
                <a:ext cx="9004320" cy="6643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" name=""/>
              <p:cNvSpPr/>
              <p:nvPr/>
            </p:nvSpPr>
            <p:spPr>
              <a:xfrm>
                <a:off x="58320" y="29520"/>
                <a:ext cx="8807040" cy="6442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</p:grpSp>
        <p:grpSp>
          <p:nvGrpSpPr>
            <p:cNvPr id="108" name="Rectangle 12"/>
            <p:cNvGrpSpPr/>
            <p:nvPr/>
          </p:nvGrpSpPr>
          <p:grpSpPr>
            <a:xfrm>
              <a:off x="58320" y="5461920"/>
              <a:ext cx="8604000" cy="756360"/>
              <a:chOff x="58320" y="5461920"/>
              <a:chExt cx="8604000" cy="756360"/>
            </a:xfrm>
          </p:grpSpPr>
          <p:pic>
            <p:nvPicPr>
              <p:cNvPr id="109" name="Rectangle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58320" y="5464080"/>
                <a:ext cx="8602200" cy="754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" name=""/>
              <p:cNvSpPr/>
              <p:nvPr/>
            </p:nvSpPr>
            <p:spPr>
              <a:xfrm>
                <a:off x="58320" y="5461920"/>
                <a:ext cx="8604000" cy="75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</p:grpSp>
        <p:sp>
          <p:nvSpPr>
            <p:cNvPr id="111" name="Freeform 11"/>
            <p:cNvSpPr/>
            <p:nvPr/>
          </p:nvSpPr>
          <p:spPr>
            <a:xfrm>
              <a:off x="39600" y="29520"/>
              <a:ext cx="8654400" cy="6225120"/>
            </a:xfrm>
            <a:custGeom>
              <a:avLst/>
              <a:gdLst/>
              <a:ahLst/>
              <a:rect l="l" t="t" r="r" b="b"/>
              <a:pathLst>
                <a:path w="11773291" h="6419514">
                  <a:moveTo>
                    <a:pt x="11750059" y="0"/>
                  </a:moveTo>
                  <a:lnTo>
                    <a:pt x="11773291" y="6419514"/>
                  </a:lnTo>
                  <a:lnTo>
                    <a:pt x="0" y="6411047"/>
                  </a:lnTo>
                </a:path>
              </a:pathLst>
            </a:custGeom>
            <a:noFill/>
            <a:ln w="8244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</p:grpSp>
      <p:sp>
        <p:nvSpPr>
          <p:cNvPr id="112" name="TextBox 13"/>
          <p:cNvSpPr/>
          <p:nvPr/>
        </p:nvSpPr>
        <p:spPr>
          <a:xfrm>
            <a:off x="404640" y="88740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Impact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3" name="TextBox 14"/>
          <p:cNvSpPr/>
          <p:nvPr/>
        </p:nvSpPr>
        <p:spPr>
          <a:xfrm>
            <a:off x="7897680" y="290664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Impact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14440" y="685440"/>
            <a:ext cx="7797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80e0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b80e0f"/>
              </a:solidFill>
              <a:latin typeface="Impac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514440" y="2063880"/>
            <a:ext cx="779760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6000"/>
          </a:bodyPr>
          <a:p>
            <a:pPr marL="219240" indent="-219240">
              <a:lnSpc>
                <a:spcPct val="120000"/>
              </a:lnSpc>
              <a:spcBef>
                <a:spcPts val="1001"/>
              </a:spcBef>
              <a:buClr>
                <a:srgbClr val="b80e0f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1" marL="658080" indent="-219240">
              <a:lnSpc>
                <a:spcPct val="120000"/>
              </a:lnSpc>
              <a:spcBef>
                <a:spcPts val="1001"/>
              </a:spcBef>
              <a:buClr>
                <a:srgbClr val="b80e0f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2" marL="1097280" indent="-219240">
              <a:lnSpc>
                <a:spcPct val="120000"/>
              </a:lnSpc>
              <a:spcBef>
                <a:spcPts val="1001"/>
              </a:spcBef>
              <a:buClr>
                <a:srgbClr val="b80e0f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3" marL="1536120" indent="-219240">
              <a:lnSpc>
                <a:spcPct val="120000"/>
              </a:lnSpc>
              <a:spcBef>
                <a:spcPts val="1001"/>
              </a:spcBef>
              <a:buClr>
                <a:srgbClr val="b80e0f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4" marL="1974960" indent="-219240">
              <a:lnSpc>
                <a:spcPct val="120000"/>
              </a:lnSpc>
              <a:spcBef>
                <a:spcPts val="1001"/>
              </a:spcBef>
              <a:buClr>
                <a:srgbClr val="b80e0f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5" marL="1974960" indent="-21924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6" marL="1974960" indent="-21924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dt" idx="7"/>
          </p:nvPr>
        </p:nvSpPr>
        <p:spPr>
          <a:xfrm>
            <a:off x="5473800" y="5757480"/>
            <a:ext cx="28382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 type="ftr" idx="8"/>
          </p:nvPr>
        </p:nvSpPr>
        <p:spPr>
          <a:xfrm>
            <a:off x="514440" y="5757480"/>
            <a:ext cx="412416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 type="sldNum" idx="9"/>
          </p:nvPr>
        </p:nvSpPr>
        <p:spPr>
          <a:xfrm>
            <a:off x="4714920" y="5757480"/>
            <a:ext cx="68112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800" spc="-1" strike="noStrike">
                <a:solidFill>
                  <a:srgbClr val="5c070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B019A92-10F8-4204-93E0-3F847DAF82A0}" type="slidenum">
              <a:rPr b="0" lang="ru-RU" sz="2800" spc="-1" strike="noStrike">
                <a:solidFill>
                  <a:srgbClr val="5c0708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WordArt 7"/>
          <p:cNvSpPr txBox="1"/>
          <p:nvPr/>
        </p:nvSpPr>
        <p:spPr>
          <a:xfrm>
            <a:off x="324000" y="620640"/>
            <a:ext cx="8496000" cy="388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поклонимс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великим тем годам..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pic>
        <p:nvPicPr>
          <p:cNvPr id="156" name="Poklonimsya_Velikim_Tem_Godam_Kobzon_1.mp3" descr=""/>
          <p:cNvPicPr/>
          <p:nvPr/>
        </p:nvPicPr>
        <p:blipFill>
          <a:blip r:embed="rId1"/>
          <a:stretch/>
        </p:blipFill>
        <p:spPr>
          <a:xfrm>
            <a:off x="8572680" y="62150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333322" fill="hold"/>
                                        <p:tgtEl>
                                          <p:spTgt spid="1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4" descr=""/>
          <p:cNvPicPr/>
          <p:nvPr/>
        </p:nvPicPr>
        <p:blipFill>
          <a:blip r:embed="rId1"/>
          <a:stretch/>
        </p:blipFill>
        <p:spPr>
          <a:xfrm>
            <a:off x="2411280" y="0"/>
            <a:ext cx="4176720" cy="5759280"/>
          </a:xfrm>
          <a:prstGeom prst="rect">
            <a:avLst/>
          </a:prstGeom>
          <a:ln w="0">
            <a:noFill/>
          </a:ln>
        </p:spPr>
      </p:pic>
      <p:pic>
        <p:nvPicPr>
          <p:cNvPr id="158" name="Краснознаменный Ансамбль - Священная война (быстрее).mp3" descr=""/>
          <p:cNvPicPr/>
          <p:nvPr/>
        </p:nvPicPr>
        <p:blipFill>
          <a:blip r:embed="rId2"/>
          <a:stretch/>
        </p:blipFill>
        <p:spPr>
          <a:xfrm>
            <a:off x="8572680" y="63579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" dur="197632" fill="hold"/>
                                        <p:tgtEl>
                                          <p:spTgt spid="1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4" descr="&amp;Scy;&amp;ocy;&amp;vcy;&amp;iecy;&amp;tcy;&amp;scy;&amp;kcy;&amp;icy;&amp;iecy; &amp;vcy;&amp;ocy;&amp;icy;&amp;ncy;&amp;ycy; &amp;ocy;&amp;tcy;&amp;pcy;&amp;rcy;&amp;acy;&amp;vcy;&amp;lcy;&amp;yacy;&amp;yucy;&amp;tcy;&amp;scy;&amp;yacy; &amp;ncy;&amp;acy; &amp;fcy;&amp;rcy;&amp;ocy;&amp;ncy;&amp;tcy; 1941 &amp;gcy;. &amp;Mcy;&amp;iecy;&amp;scy;&amp;tcy;&amp;ocy; &amp;scy;&amp;hardcy;&amp;iecy;&amp;mcy;&amp;kcy;&amp;icy;: &amp;Tcy;&amp;acy;&amp;mcy;&amp;bcy;&amp;ocy;&amp;vcy;c&amp;kcy;&amp;acy;&amp;yacy; &amp;ocy;&amp;bcy;&amp;lcy;&amp;acy;&amp;scy;&amp;tcy;&amp;softcy; &amp;Acy;&amp;vcy;&amp;tcy;&amp;ocy;&amp;rcy; &amp;scy;&amp;hardcy;&amp;iecy;&amp;mcy;&amp;kcy;&amp;icy;: &amp;CHcy;&amp;iecy;&amp;rcy;&amp;ncy;&amp;ocy;&amp;vcy; &amp;Dcy;. &amp;Rcy;&amp;Gcy;&amp;Acy;&amp;Kcy;&amp;Fcy;&amp;Dcy; &amp;iecy;&amp;dcy;.&amp;khcy;&amp;rcy;.0-256305"/>
          <p:cNvPicPr/>
          <p:nvPr/>
        </p:nvPicPr>
        <p:blipFill>
          <a:blip r:embed="rId1"/>
          <a:stretch/>
        </p:blipFill>
        <p:spPr>
          <a:xfrm>
            <a:off x="2340000" y="189000"/>
            <a:ext cx="4032360" cy="5373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9280" y="260280"/>
            <a:ext cx="779796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80e0f"/>
                </a:solidFill>
                <a:latin typeface="Impact"/>
              </a:rPr>
              <a:t>ЛЁНЯ ГОЛИКОВ</a:t>
            </a:r>
            <a:endParaRPr b="0" lang="en-US" sz="4400" spc="-1" strike="noStrike">
              <a:solidFill>
                <a:srgbClr val="b80e0f"/>
              </a:solidFill>
              <a:latin typeface="Impact"/>
            </a:endParaRPr>
          </a:p>
        </p:txBody>
      </p:sp>
      <p:pic>
        <p:nvPicPr>
          <p:cNvPr id="161" name="Picture 5" descr="D:\Второй винт\Школа\воспит работа\День победы\на конкурс\pg12.jpg"/>
          <p:cNvPicPr/>
          <p:nvPr/>
        </p:nvPicPr>
        <p:blipFill>
          <a:blip r:embed="rId1"/>
          <a:stretch/>
        </p:blipFill>
        <p:spPr>
          <a:xfrm>
            <a:off x="2268360" y="1197000"/>
            <a:ext cx="4642200" cy="4329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0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" dur="50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" dur="50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" dur="50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4" descr="1064_6118696_big"/>
          <p:cNvPicPr/>
          <p:nvPr/>
        </p:nvPicPr>
        <p:blipFill>
          <a:blip r:embed="rId1"/>
          <a:stretch/>
        </p:blipFill>
        <p:spPr>
          <a:xfrm>
            <a:off x="755640" y="115920"/>
            <a:ext cx="7429680" cy="5484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38881_800_600"/>
          <p:cNvPicPr/>
          <p:nvPr/>
        </p:nvPicPr>
        <p:blipFill>
          <a:blip r:embed="rId1"/>
          <a:stretch/>
        </p:blipFill>
        <p:spPr>
          <a:xfrm>
            <a:off x="250920" y="333360"/>
            <a:ext cx="8642160" cy="633744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Impact"/>
              </a:rPr>
              <a:t>ДАВАЙТЕ ПОЧТИМ ПАМЯТЬ ВСЕХ ПОГИБШИХ ЗА РОДИНУ МИНУТОЙ МОЛЧАНИЯ.</a:t>
            </a:r>
            <a:endParaRPr b="0" lang="en-US" sz="2800" spc="-1" strike="noStrike">
              <a:solidFill>
                <a:srgbClr val="b80e0f"/>
              </a:solidFill>
              <a:latin typeface="Impact"/>
            </a:endParaRPr>
          </a:p>
        </p:txBody>
      </p:sp>
      <p:pic>
        <p:nvPicPr>
          <p:cNvPr id="165" name="metronom2.mp3" descr=""/>
          <p:cNvPicPr/>
          <p:nvPr/>
        </p:nvPicPr>
        <p:blipFill>
          <a:blip r:embed="rId2"/>
          <a:stretch/>
        </p:blipFill>
        <p:spPr>
          <a:xfrm>
            <a:off x="8839080" y="628668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" restart="whenNotActive" nodeType="interactiveSeq" fill="hold">
                <p:stCondLst>
                  <p:cond evt="onClick">
                    <p:tgtEl>
                      <p:spTgt spid="165"/>
                    </p:tgtEl>
                  </p:cond>
                </p:stCondLst>
                <p:childTnLst>
                  <p:par>
                    <p:cTn id="59" nodeType="clickEffect" fill="hold">
                      <p:stCondLst>
                        <p:cond evt="onClick">
                          <p:tgtEl>
                            <p:spTgt spid="165"/>
                          </p:tgtEl>
                        </p:cond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2" dur="145772" fill="hold"/>
                                        <p:tgtEl>
                                          <p:spTgt spid="1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9" descr="i9375-image-big"/>
          <p:cNvPicPr/>
          <p:nvPr/>
        </p:nvPicPr>
        <p:blipFill>
          <a:blip r:embed="rId1"/>
          <a:stretch/>
        </p:blipFill>
        <p:spPr>
          <a:xfrm>
            <a:off x="755640" y="189000"/>
            <a:ext cx="7488360" cy="5451480"/>
          </a:xfrm>
          <a:prstGeom prst="rect">
            <a:avLst/>
          </a:prstGeom>
          <a:ln w="0">
            <a:noFill/>
          </a:ln>
        </p:spPr>
      </p:pic>
      <p:pic>
        <p:nvPicPr>
          <p:cNvPr id="167" name="st_80545.mp3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0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9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136802" fill="hold"/>
                                        <p:tgtEl>
                                          <p:spTgt spid="1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4T18:05:11Z</dcterms:created>
  <dc:creator>ТолькоДляТестов</dc:creator>
  <dc:description/>
  <dc:language>en-US</dc:language>
  <cp:lastModifiedBy>Admin</cp:lastModifiedBy>
  <dcterms:modified xsi:type="dcterms:W3CDTF">2017-05-29T13:47:39Z</dcterms:modified>
  <cp:revision>29</cp:revision>
  <dc:subject/>
  <dc:title>Никто не забыт, ничто не забыто!</dc:title>
</cp:coreProperties>
</file>