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A75-6BED-4021-ACB4-5F34CABE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1F7-0CFA-41E7-8FDA-295062D9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D0A3-F6EE-4B1C-9B22-797FB08B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11A-621A-4952-A10C-4ABD5D80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4EE4-8846-43D5-B0FE-A8BF4447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86C3-D150-4DA4-8587-99606528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6915-51B2-4187-9A9C-7A61018B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C907-8C33-431B-8E85-B5540401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E0B4-0F13-4D65-A239-5564741E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947D-F1E4-4D7C-83EE-F5777F88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4C1C-2B8E-46D9-BF1F-3AC2EE3A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491-B8BE-44D4-B73B-F68DD4D1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AABB-0711-4D31-B625-08EE513A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4AD1-3E19-4EEC-A39A-0D48FF56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0C05-62BD-4C66-8917-41B33950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FCD4-A3C7-4A63-8729-F27CA18A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E9E8-FEEE-424B-8182-21CC9D3A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D2E9-89E4-40DB-B068-283C32E0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010E-D3B5-47FD-88E6-85845C55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B3107-D65A-4C7A-8CEB-C2E577CA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3AF84-77AB-44BF-A65B-0B27BB84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0BE21-F88A-4A2D-9EEE-BA9FC3C6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615-3530-4CE4-BC13-AB861724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F89B-ED43-47ED-8891-05095FAB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47C7-88DD-4E69-945B-04102943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8CB49-B00C-4108-ADA0-8A52B47B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E0CEA-4090-4C73-847C-DDF867A2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DE648-32B9-410A-8BC7-2E7691F6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62F4-7D36-4340-B176-DF3A96CA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00B2-549D-47BF-BCA1-AF592529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10BB5-2479-4D83-8130-EF84134E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E0C79-C5A8-45A1-8110-B1D207A6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07B18-33C4-4358-832C-F8847CD7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5A8-E7BA-4D24-9F8B-6B23C04C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58064-58A3-4819-BB6C-886AB2E3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73BCC-74C4-42CA-9BBE-F5F627D3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1B2DD-4350-4E15-9733-C816D259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4E6E8-1D9E-4881-8AB7-B4AC1CA9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745B6-DDCA-4256-B4E9-9E118853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0A942-A36C-4FA4-B7C8-C07360C4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41C17-4DCB-4E64-8354-60D5DD6F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BCB1E-9995-41C6-BF82-B2660820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425D8-CDA5-488D-AD0C-466E95F9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106B4-BFFF-41A0-90DA-11DB1782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C50-EE3C-4813-AF83-24F4CF52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6AA59-9028-4976-BA62-D70DE5C7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CFD2A-5AC6-45E2-A85D-B8CE059E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B11D6-5E09-40ED-8D2F-53A8C3EB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2D0B1-9942-430F-ACA5-31E66B97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BAF26-1642-406A-B2CC-C1EE5DAE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80C75-37B3-4C24-AF17-4BD69C7E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E11C9-0F8E-46CD-91DA-1DAA6093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E776C-D61B-4547-8F24-A1FA3799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CDF68-280E-4A9A-BCE9-29F5367F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726F2-279E-4D0C-9209-9982EFD6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73B-D772-4EFC-8A0C-68D46D4A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D3BBB-A72C-4DD5-B0EE-90735C04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531-4A7D-4CBB-84D1-02E2E0A1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AED-99C7-4279-8C99-4AA730AF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F8CE-F115-439C-92D7-6E1FC2E1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6D26-41CB-453F-93A4-3DBABEB56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C074-3F04-4A02-B8D0-8E3827E5F17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8E99-95F0-4A11-84A6-CB4B64C480B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40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41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47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F8BD-AA1A-4585-8002-B40D501868E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9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2ACF-3D37-4149-8B08-4A93806833A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нар фатима цаллагов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WordArt 6"/>
          <p:cNvSpPr txBox="1"/>
          <p:nvPr/>
        </p:nvSpPr>
        <p:spPr>
          <a:xfrm>
            <a:off x="1600200" y="152280"/>
            <a:ext cx="655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етæгкаты  Къостайы   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3048120" y="1066680"/>
            <a:ext cx="5333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5  азы юбилеймæ</a:t>
            </a:r>
            <a:endParaRPr b="0" i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цаликова"/>
          <p:cNvPicPr/>
          <p:nvPr/>
        </p:nvPicPr>
        <p:blipFill>
          <a:blip r:embed="rId1"/>
          <a:stretch/>
        </p:blipFill>
        <p:spPr>
          <a:xfrm>
            <a:off x="457200" y="457200"/>
            <a:ext cx="4648320" cy="5715000"/>
          </a:xfrm>
          <a:prstGeom prst="rect">
            <a:avLst/>
          </a:prstGeom>
          <a:ln w="177840">
            <a:solidFill>
              <a:srgbClr val="ffff00"/>
            </a:solidFill>
            <a:miter/>
          </a:ln>
          <a:effectLst>
            <a:outerShdw dist="180599" dir="18560258" blurRad="0" rotWithShape="0">
              <a:srgbClr val="808080">
                <a:alpha val="50000"/>
              </a:srgbClr>
            </a:outerShdw>
          </a:effectLst>
        </p:spPr>
      </p:pic>
      <p:sp>
        <p:nvSpPr>
          <p:cNvPr id="260" name="WordArt 5"/>
          <p:cNvSpPr txBox="1"/>
          <p:nvPr/>
        </p:nvSpPr>
        <p:spPr>
          <a:xfrm>
            <a:off x="5715000" y="1219320"/>
            <a:ext cx="31240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Йæ  уарзон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ылгоймаг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æлыккаты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нæ 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сканирование0015"/>
          <p:cNvPicPr/>
          <p:nvPr/>
        </p:nvPicPr>
        <p:blipFill>
          <a:blip r:embed="rId1"/>
          <a:stretch/>
        </p:blipFill>
        <p:spPr>
          <a:xfrm>
            <a:off x="4876920" y="304920"/>
            <a:ext cx="4039920" cy="6248160"/>
          </a:xfrm>
          <a:prstGeom prst="rect">
            <a:avLst/>
          </a:prstGeom>
          <a:ln w="0">
            <a:noFill/>
          </a:ln>
        </p:spPr>
      </p:pic>
      <p:sp>
        <p:nvSpPr>
          <p:cNvPr id="262" name="WordArt 7"/>
          <p:cNvSpPr txBox="1"/>
          <p:nvPr/>
        </p:nvSpPr>
        <p:spPr>
          <a:xfrm>
            <a:off x="228600" y="1600200"/>
            <a:ext cx="43434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Æрцыдтæн…мæхицæй фыддæр 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æгуырæй куы ссардтон дæу дæр,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æ уарзон, мæ иубæстон адæм!..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R48big[1]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0562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1203480" y="567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7"/>
          <p:cNvSpPr txBox="1"/>
          <p:nvPr/>
        </p:nvSpPr>
        <p:spPr>
          <a:xfrm>
            <a:off x="609480" y="563868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зæуджыхъæу    19 æнус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228600" y="1066680"/>
            <a:ext cx="3657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сканирование0018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2011320"/>
            <a:ext cx="9144000" cy="4846680"/>
          </a:xfrm>
          <a:prstGeom prst="rect">
            <a:avLst/>
          </a:prstGeom>
          <a:ln w="0">
            <a:noFill/>
          </a:ln>
        </p:spPr>
      </p:pic>
      <p:sp>
        <p:nvSpPr>
          <p:cNvPr id="268" name="WordArt 8"/>
          <p:cNvSpPr txBox="1"/>
          <p:nvPr/>
        </p:nvSpPr>
        <p:spPr>
          <a:xfrm>
            <a:off x="304920" y="304920"/>
            <a:ext cx="624816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азет «Цæгат Кавказы»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ыццаг  редактор-Евсеев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kosta[1]"/>
          <p:cNvPicPr/>
          <p:nvPr/>
        </p:nvPicPr>
        <p:blipFill>
          <a:blip r:embed="rId1"/>
          <a:stretch/>
        </p:blipFill>
        <p:spPr>
          <a:xfrm>
            <a:off x="4876920" y="838080"/>
            <a:ext cx="3495600" cy="4876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сканирование0021"/>
          <p:cNvPicPr/>
          <p:nvPr/>
        </p:nvPicPr>
        <p:blipFill>
          <a:blip r:embed="rId2"/>
          <a:stretch/>
        </p:blipFill>
        <p:spPr>
          <a:xfrm>
            <a:off x="228600" y="304920"/>
            <a:ext cx="37306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сканирование0028"/>
          <p:cNvPicPr/>
          <p:nvPr/>
        </p:nvPicPr>
        <p:blipFill>
          <a:blip r:embed="rId1"/>
          <a:stretch/>
        </p:blipFill>
        <p:spPr>
          <a:xfrm>
            <a:off x="2971800" y="228600"/>
            <a:ext cx="4189320" cy="57895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272" name="Text Box 5"/>
          <p:cNvSpPr/>
          <p:nvPr/>
        </p:nvSpPr>
        <p:spPr>
          <a:xfrm>
            <a:off x="2895480" y="613584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6"/>
          <p:cNvSpPr txBox="1"/>
          <p:nvPr/>
        </p:nvSpPr>
        <p:spPr>
          <a:xfrm>
            <a:off x="380880" y="6019920"/>
            <a:ext cx="8534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ты царды фæстаг азтæ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bbe0e3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bad414125204[1]"/>
          <p:cNvPicPr/>
          <p:nvPr/>
        </p:nvPicPr>
        <p:blipFill>
          <a:blip r:embed="rId1"/>
          <a:stretch/>
        </p:blipFill>
        <p:spPr>
          <a:xfrm>
            <a:off x="2590920" y="304920"/>
            <a:ext cx="4086000" cy="6095880"/>
          </a:xfrm>
          <a:prstGeom prst="rect">
            <a:avLst/>
          </a:prstGeom>
          <a:ln w="18720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сканирование0031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сканирование0017"/>
          <p:cNvPicPr/>
          <p:nvPr/>
        </p:nvPicPr>
        <p:blipFill>
          <a:blip r:embed="rId1"/>
          <a:stretch/>
        </p:blipFill>
        <p:spPr>
          <a:xfrm>
            <a:off x="228600" y="457200"/>
            <a:ext cx="4800600" cy="581184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277" name="WordArt 5"/>
          <p:cNvSpPr txBox="1"/>
          <p:nvPr/>
        </p:nvSpPr>
        <p:spPr>
          <a:xfrm>
            <a:off x="5410080" y="380880"/>
            <a:ext cx="3353040" cy="22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ъоста  уыд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æ  рæстæджы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мран,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рон  Прометей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5334120" y="2666880"/>
            <a:ext cx="358128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ыдон  адæмæн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рвæй  æрхастой 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ынг, Къоста  т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хæн  радт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ухс  хъуыдытæ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æмæ  рæсугъд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ивад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721e1e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новый-2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WordArt 11"/>
          <p:cNvSpPr txBox="1"/>
          <p:nvPr/>
        </p:nvSpPr>
        <p:spPr>
          <a:xfrm>
            <a:off x="0" y="3808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етæгкаты  Къоста 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WordArt 12"/>
          <p:cNvSpPr txBox="1"/>
          <p:nvPr/>
        </p:nvSpPr>
        <p:spPr>
          <a:xfrm>
            <a:off x="0" y="2743200"/>
            <a:ext cx="39625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рон æвзаг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æмæ литературæйы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ындурæвæрæ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новый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героич. песни.mp3" descr=""/>
          <p:cNvPicPr/>
          <p:nvPr/>
        </p:nvPicPr>
        <p:blipFill>
          <a:blip r:embed="rId2"/>
          <a:stretch/>
        </p:blipFill>
        <p:spPr>
          <a:xfrm>
            <a:off x="8305920" y="62485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289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6"/>
          <p:cNvSpPr/>
          <p:nvPr/>
        </p:nvSpPr>
        <p:spPr>
          <a:xfrm>
            <a:off x="5029200" y="58672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5335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нов4"/>
          <p:cNvPicPr/>
          <p:nvPr/>
        </p:nvPicPr>
        <p:blipFill>
          <a:blip r:embed="rId1"/>
          <a:stretch/>
        </p:blipFill>
        <p:spPr>
          <a:xfrm>
            <a:off x="4724280" y="0"/>
            <a:ext cx="4192560" cy="5867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нов5"/>
          <p:cNvPicPr/>
          <p:nvPr/>
        </p:nvPicPr>
        <p:blipFill>
          <a:blip r:embed="rId2"/>
          <a:stretch/>
        </p:blipFill>
        <p:spPr>
          <a:xfrm>
            <a:off x="228600" y="0"/>
            <a:ext cx="4268880" cy="5867280"/>
          </a:xfrm>
          <a:prstGeom prst="rect">
            <a:avLst/>
          </a:prstGeom>
          <a:ln w="0">
            <a:noFill/>
          </a:ln>
        </p:spPr>
      </p:pic>
      <p:sp>
        <p:nvSpPr>
          <p:cNvPr id="250" name="WordArt 11"/>
          <p:cNvSpPr txBox="1"/>
          <p:nvPr/>
        </p:nvSpPr>
        <p:spPr>
          <a:xfrm>
            <a:off x="0" y="586728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уыбаты  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ия-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ъостайы мад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" name="WordArt 12"/>
          <p:cNvSpPr txBox="1"/>
          <p:nvPr/>
        </p:nvSpPr>
        <p:spPr>
          <a:xfrm>
            <a:off x="4876920" y="594360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уан- йæ  фыд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47,-52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47,-52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4800600" y="297504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Beslan5[1]"/>
          <p:cNvPicPr/>
          <p:nvPr/>
        </p:nvPicPr>
        <p:blipFill>
          <a:blip r:embed="rId1"/>
          <a:stretch/>
        </p:blipFill>
        <p:spPr>
          <a:xfrm>
            <a:off x="228600" y="304920"/>
            <a:ext cx="4952880" cy="6281640"/>
          </a:xfrm>
          <a:prstGeom prst="rect">
            <a:avLst/>
          </a:prstGeom>
          <a:ln w="0">
            <a:noFill/>
          </a:ln>
        </p:spPr>
      </p:pic>
      <p:sp>
        <p:nvSpPr>
          <p:cNvPr id="254" name="WordArt 8"/>
          <p:cNvSpPr txBox="1"/>
          <p:nvPr/>
        </p:nvSpPr>
        <p:spPr>
          <a:xfrm>
            <a:off x="5405400" y="914400"/>
            <a:ext cx="35053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ды рæвдыд федта 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ндзейæ-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æлмæнзæрдæ,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ызгъæрин  сылгоймагæй.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сканирование0013"/>
          <p:cNvPicPr/>
          <p:nvPr/>
        </p:nvPicPr>
        <p:blipFill>
          <a:blip r:embed="rId1"/>
          <a:stretch/>
        </p:blipFill>
        <p:spPr>
          <a:xfrm>
            <a:off x="2438280" y="0"/>
            <a:ext cx="448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сканирование0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Beslan5[1]"/>
          <p:cNvPicPr/>
          <p:nvPr/>
        </p:nvPicPr>
        <p:blipFill>
          <a:blip r:embed="rId1"/>
          <a:stretch/>
        </p:blipFill>
        <p:spPr>
          <a:xfrm>
            <a:off x="2209680" y="380880"/>
            <a:ext cx="4546800" cy="5765760"/>
          </a:xfrm>
          <a:prstGeom prst="rect">
            <a:avLst/>
          </a:prstGeom>
          <a:ln w="177840">
            <a:solidFill>
              <a:srgbClr val="ffff00"/>
            </a:solidFill>
            <a:miter/>
          </a:ln>
          <a:effectLst>
            <a:outerShdw dist="153009" dir="19106018" blurRad="0" rotWithShape="0">
              <a:srgbClr val="080808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imgB[1]"/>
          <p:cNvPicPr/>
          <p:nvPr/>
        </p:nvPicPr>
        <p:blipFill>
          <a:blip r:embed="rId1"/>
          <a:stretch/>
        </p:blipFill>
        <p:spPr>
          <a:xfrm>
            <a:off x="304920" y="-990720"/>
            <a:ext cx="6858000" cy="8229600"/>
          </a:xfrm>
          <a:prstGeom prst="rect">
            <a:avLst/>
          </a:prstGeom>
          <a:ln w="177840">
            <a:solidFill>
              <a:srgbClr val="ffff00"/>
            </a:solidFill>
            <a:miter/>
          </a:ln>
          <a:effectLst>
            <a:outerShdw dist="171040" dir="19079154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7-05-29T13:52:4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