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850-A67D-4D18-B75D-57F6961C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8B6-768E-4660-AE72-06165D7A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6A9-E4D5-4715-8211-45BE92AE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E5C-9122-4D61-B896-63DE1D0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0881-E718-415A-871B-683089C3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C243-357E-4CC3-BCC8-64830A6C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1EE3-9560-472B-B3D1-FAF68FA1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83A5-5D02-43EC-AD01-9C1A78E7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E5BE-8BA0-4750-A8A3-0541F3C2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408D-19BA-47CB-BE36-993F4DBC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B0A5-903D-43BA-BC1F-9467D773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F66-44E1-4ADB-BCF7-CEFE3ECD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A94A-9687-4B7F-BE04-4AB6B2F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E6BD-D17E-4296-BA6B-1F4AB4AC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B7EA-FA1B-4FF4-9ECF-D9D72951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4913-0ADD-4B8E-9D51-2009714D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9AB5-DB71-4D6C-BD76-6ED0555A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94EF-5715-48F1-A755-B724EF39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C5BC-1123-4394-B83E-276EEB2D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3755-DFB4-4AD8-A35A-0BEB0125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94BB-274D-450F-B925-F16D7648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B41B-DB94-423F-BB97-BF082AA9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F35-4EAE-44CB-BBC9-A0FC91AF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8F75-6959-4AD5-B8A5-9E8643F6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9D60-C9D0-4AEC-BB7D-7495A3C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94A4-1F33-49CF-8609-7B1E499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C0AA-8E95-407E-B2F6-946E01A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1CEA-3AE7-40C6-8726-BE719B86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B8A8-610C-4F57-BFD7-2A968AB0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EBF3-6BE3-47DB-9EB0-F19FCB3C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72AA9-EB6A-4EE4-B7D4-6AA8D407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977A-A41F-4DF6-A21B-61E464E1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E4BD-F576-4C3B-A220-ABD301B9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FB7-EE3E-40DD-B865-BDBED05B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BC49-1AF6-409F-A5B4-8F21F7C3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55AC-1358-4DAF-B190-F8F5E4D5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506B-6EFE-46DA-A8CB-91E7CDF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6215A-E3C3-430A-AF58-EE03AFEC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FF61-F8BE-4098-9ADE-1CFBBBE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64FD-6D34-4EC5-940B-114FC170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AFD4-1448-4957-ACCA-92BCCD62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9D3BB-9060-456F-B3BD-CD407359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ACB82-3A64-42B8-83A8-47A370FE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0DA1-1BE8-4E8E-A001-2B5D0358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355-AFB0-4CBA-8B97-38B4E793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CDB79-4F57-4DBF-9D2F-1D515CEF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AC224-4954-475C-B7A6-65B349A3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D354-6C94-4021-81BA-7D0169FA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38AEE-D9AC-446B-A89B-AEADC516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72B7-B330-439B-B35B-853E388A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A9C8E-0F27-4A5F-8D27-C083FD9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A376-4DAB-4B35-A947-1CF9069C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54F93-403F-47F5-83D4-72F5B52C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F541-3260-4D61-9239-FC6CBF45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23A6-DB1F-488A-B646-920CE5C0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C6F-9B27-4192-9678-5676CA2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DE64-F34E-45EF-B056-AD9817F3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0D7-E260-4DCA-9A7A-1EF02AE6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C85-39DD-4957-B07D-3A4ABB4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EE4-FF48-4850-930F-C962CF15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A587-0B39-463E-AC3B-578046B58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5CAC-7DFA-40F0-983B-1DD932B52FC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8430-A347-4767-BC5E-F9761D80FED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4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4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969D-5CD8-4426-8DDD-4D6F0093B77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5A35-8B58-44B7-A836-1B2BB824E0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нар фатима цаллаго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6"/>
          <p:cNvSpPr txBox="1"/>
          <p:nvPr/>
        </p:nvSpPr>
        <p:spPr>
          <a:xfrm>
            <a:off x="1600200" y="152280"/>
            <a:ext cx="655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етæгкаты  Къостайы   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3048120" y="1066680"/>
            <a:ext cx="5333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5  азы юбилеймæ</a:t>
            </a:r>
            <a:endParaRPr b="0" i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цаликова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5715000"/>
          </a:xfrm>
          <a:prstGeom prst="rect">
            <a:avLst/>
          </a:prstGeom>
          <a:ln w="177840">
            <a:solidFill>
              <a:srgbClr val="ffff00"/>
            </a:solidFill>
            <a:miter/>
          </a:ln>
          <a:effectLst>
            <a:outerShdw dist="180599" dir="18560258" blurRad="0" rotWithShape="0">
              <a:srgbClr val="808080">
                <a:alpha val="50000"/>
              </a:srgbClr>
            </a:outerShdw>
          </a:effectLst>
        </p:spPr>
      </p:pic>
      <p:sp>
        <p:nvSpPr>
          <p:cNvPr id="260" name="WordArt 5"/>
          <p:cNvSpPr txBox="1"/>
          <p:nvPr/>
        </p:nvSpPr>
        <p:spPr>
          <a:xfrm>
            <a:off x="5715000" y="1219320"/>
            <a:ext cx="31240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æ  уарзон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ылгоймаг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æлыккаты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нæ 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сканирование0015"/>
          <p:cNvPicPr/>
          <p:nvPr/>
        </p:nvPicPr>
        <p:blipFill>
          <a:blip r:embed="rId1"/>
          <a:stretch/>
        </p:blipFill>
        <p:spPr>
          <a:xfrm>
            <a:off x="4876920" y="304920"/>
            <a:ext cx="4039920" cy="6248160"/>
          </a:xfrm>
          <a:prstGeom prst="rect">
            <a:avLst/>
          </a:prstGeom>
          <a:ln w="0">
            <a:noFill/>
          </a:ln>
        </p:spPr>
      </p:pic>
      <p:sp>
        <p:nvSpPr>
          <p:cNvPr id="262" name="WordArt 7"/>
          <p:cNvSpPr txBox="1"/>
          <p:nvPr/>
        </p:nvSpPr>
        <p:spPr>
          <a:xfrm>
            <a:off x="228600" y="1600200"/>
            <a:ext cx="43434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Æрцыдтæн…мæхицæй фыддæр 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æгуырæй куы ссардтон дæу дæр,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æ уарзон, мæ иубæстон адæм!..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R48big[1]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1203480" y="567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7"/>
          <p:cNvSpPr txBox="1"/>
          <p:nvPr/>
        </p:nvSpPr>
        <p:spPr>
          <a:xfrm>
            <a:off x="609480" y="563868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зæуджыхъæу    19 æнус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228600" y="1066680"/>
            <a:ext cx="365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сканирование001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2011320"/>
            <a:ext cx="9144000" cy="48466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8"/>
          <p:cNvSpPr txBox="1"/>
          <p:nvPr/>
        </p:nvSpPr>
        <p:spPr>
          <a:xfrm>
            <a:off x="304920" y="304920"/>
            <a:ext cx="62481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зет «Цæгат Кавказы»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ыццаг  редактор-Евсеев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kosta[1]"/>
          <p:cNvPicPr/>
          <p:nvPr/>
        </p:nvPicPr>
        <p:blipFill>
          <a:blip r:embed="rId1"/>
          <a:stretch/>
        </p:blipFill>
        <p:spPr>
          <a:xfrm>
            <a:off x="4876920" y="838080"/>
            <a:ext cx="3495600" cy="4876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сканирование0021"/>
          <p:cNvPicPr/>
          <p:nvPr/>
        </p:nvPicPr>
        <p:blipFill>
          <a:blip r:embed="rId2"/>
          <a:stretch/>
        </p:blipFill>
        <p:spPr>
          <a:xfrm>
            <a:off x="228600" y="304920"/>
            <a:ext cx="37306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сканирование0028"/>
          <p:cNvPicPr/>
          <p:nvPr/>
        </p:nvPicPr>
        <p:blipFill>
          <a:blip r:embed="rId1"/>
          <a:stretch/>
        </p:blipFill>
        <p:spPr>
          <a:xfrm>
            <a:off x="2971800" y="228600"/>
            <a:ext cx="4189320" cy="57895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72" name="Text Box 5"/>
          <p:cNvSpPr/>
          <p:nvPr/>
        </p:nvSpPr>
        <p:spPr>
          <a:xfrm>
            <a:off x="2895480" y="613584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6"/>
          <p:cNvSpPr txBox="1"/>
          <p:nvPr/>
        </p:nvSpPr>
        <p:spPr>
          <a:xfrm>
            <a:off x="380880" y="601992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ты царды фæстаг азтæ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bbe0e3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bad414125204[1]"/>
          <p:cNvPicPr/>
          <p:nvPr/>
        </p:nvPicPr>
        <p:blipFill>
          <a:blip r:embed="rId1"/>
          <a:stretch/>
        </p:blipFill>
        <p:spPr>
          <a:xfrm>
            <a:off x="2590920" y="304920"/>
            <a:ext cx="4086000" cy="6095880"/>
          </a:xfrm>
          <a:prstGeom prst="rect">
            <a:avLst/>
          </a:prstGeom>
          <a:ln w="18720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сканирование0031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сканирование0017"/>
          <p:cNvPicPr/>
          <p:nvPr/>
        </p:nvPicPr>
        <p:blipFill>
          <a:blip r:embed="rId1"/>
          <a:stretch/>
        </p:blipFill>
        <p:spPr>
          <a:xfrm>
            <a:off x="228600" y="457200"/>
            <a:ext cx="4800600" cy="58118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277" name="WordArt 5"/>
          <p:cNvSpPr txBox="1"/>
          <p:nvPr/>
        </p:nvSpPr>
        <p:spPr>
          <a:xfrm>
            <a:off x="5410080" y="380880"/>
            <a:ext cx="335304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ъоста  уыд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æ  рæстæджы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мран,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рон  Прометей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5334120" y="2666880"/>
            <a:ext cx="35812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ыдон  адæмæн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вæй  æрхастой 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ынг, Къоста  т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хæн  радт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ухс  хъуыдытæ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æмæ  рæсугъд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ивад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721e1e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новый-2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11"/>
          <p:cNvSpPr txBox="1"/>
          <p:nvPr/>
        </p:nvSpPr>
        <p:spPr>
          <a:xfrm>
            <a:off x="0" y="3808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етæгкаты  Къоста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0" y="2743200"/>
            <a:ext cx="3962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рон æвзаг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æмæ литературæй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ындурæвæрæ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новый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героич. песни.mp3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89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5029200" y="5867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335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нов4"/>
          <p:cNvPicPr/>
          <p:nvPr/>
        </p:nvPicPr>
        <p:blipFill>
          <a:blip r:embed="rId1"/>
          <a:stretch/>
        </p:blipFill>
        <p:spPr>
          <a:xfrm>
            <a:off x="4724280" y="0"/>
            <a:ext cx="4192560" cy="5867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нов5"/>
          <p:cNvPicPr/>
          <p:nvPr/>
        </p:nvPicPr>
        <p:blipFill>
          <a:blip r:embed="rId2"/>
          <a:stretch/>
        </p:blipFill>
        <p:spPr>
          <a:xfrm>
            <a:off x="228600" y="0"/>
            <a:ext cx="4268880" cy="5867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11"/>
          <p:cNvSpPr txBox="1"/>
          <p:nvPr/>
        </p:nvSpPr>
        <p:spPr>
          <a:xfrm>
            <a:off x="0" y="58672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уыбаты  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ия-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ъостайы мад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WordArt 12"/>
          <p:cNvSpPr txBox="1"/>
          <p:nvPr/>
        </p:nvSpPr>
        <p:spPr>
          <a:xfrm>
            <a:off x="4876920" y="59436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уан- йæ  фыд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47,-52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47,-52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4800600" y="297504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Beslan5[1]"/>
          <p:cNvPicPr/>
          <p:nvPr/>
        </p:nvPicPr>
        <p:blipFill>
          <a:blip r:embed="rId1"/>
          <a:stretch/>
        </p:blipFill>
        <p:spPr>
          <a:xfrm>
            <a:off x="228600" y="304920"/>
            <a:ext cx="4952880" cy="6281640"/>
          </a:xfrm>
          <a:prstGeom prst="rect">
            <a:avLst/>
          </a:prstGeom>
          <a:ln w="0">
            <a:noFill/>
          </a:ln>
        </p:spPr>
      </p:pic>
      <p:sp>
        <p:nvSpPr>
          <p:cNvPr id="254" name="WordArt 8"/>
          <p:cNvSpPr txBox="1"/>
          <p:nvPr/>
        </p:nvSpPr>
        <p:spPr>
          <a:xfrm>
            <a:off x="5405400" y="914400"/>
            <a:ext cx="35053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ды рæвдыд федта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ндзейæ-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æлмæнзæрдæ,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ызгъæрин  сылгоймагæй.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сканирование0013"/>
          <p:cNvPicPr/>
          <p:nvPr/>
        </p:nvPicPr>
        <p:blipFill>
          <a:blip r:embed="rId1"/>
          <a:stretch/>
        </p:blipFill>
        <p:spPr>
          <a:xfrm>
            <a:off x="2438280" y="0"/>
            <a:ext cx="448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сканирование0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Beslan5[1]"/>
          <p:cNvPicPr/>
          <p:nvPr/>
        </p:nvPicPr>
        <p:blipFill>
          <a:blip r:embed="rId1"/>
          <a:stretch/>
        </p:blipFill>
        <p:spPr>
          <a:xfrm>
            <a:off x="2209680" y="380880"/>
            <a:ext cx="4546800" cy="5765760"/>
          </a:xfrm>
          <a:prstGeom prst="rect">
            <a:avLst/>
          </a:prstGeom>
          <a:ln w="177840">
            <a:solidFill>
              <a:srgbClr val="ffff00"/>
            </a:solidFill>
            <a:miter/>
          </a:ln>
          <a:effectLst>
            <a:outerShdw dist="153009" dir="19106018" blurRad="0" rotWithShape="0">
              <a:srgbClr val="080808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imgB[1]"/>
          <p:cNvPicPr/>
          <p:nvPr/>
        </p:nvPicPr>
        <p:blipFill>
          <a:blip r:embed="rId1"/>
          <a:stretch/>
        </p:blipFill>
        <p:spPr>
          <a:xfrm>
            <a:off x="304920" y="-990720"/>
            <a:ext cx="6858000" cy="8229600"/>
          </a:xfrm>
          <a:prstGeom prst="rect">
            <a:avLst/>
          </a:prstGeom>
          <a:ln w="177840">
            <a:solidFill>
              <a:srgbClr val="ffff00"/>
            </a:solidFill>
            <a:miter/>
          </a:ln>
          <a:effectLst>
            <a:outerShdw dist="171040" dir="19079154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5-29T13:52:4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