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68E-1945-41FE-8C45-58A4C4FB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BAD-2970-418A-A4F3-8EDDF62E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87EF-1956-4E93-BD8B-0A1FF73F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C1EB-6FDE-48C8-9449-E3A943C5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4960-2E74-4605-B485-AECAA767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03A5-C5AD-4D01-B6FD-7483B6E7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68D3-9110-496F-9255-0E493EEE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5121-B1B3-4800-8FD3-AE15FCF7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4464-48CA-4199-9D15-BDB7D125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B0ED-90AE-4194-834A-C6DB198F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5218-A0DF-4622-B69B-3EDDAF1F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5C4-F90D-473E-9AE4-1A4590AA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E68A-D14E-4C9D-9B7B-1C8F16D3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2708-9045-404C-BE2D-D427E1BD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D77E-A327-4EF1-AEFD-F33719F3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0042-6268-4CE8-BC85-F2C43301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326E-EE05-4A7A-8577-AC0D9F76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AFD-E015-49A1-B002-BC3A69C6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315-F747-4B95-A903-A5C16F3D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ED6-1E46-49C5-96F7-79828B95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9A9A-C812-47E0-8BA1-A5218FCF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09B-EFA2-434B-8DF2-0404283F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333-4969-4C01-8AE5-EE810AAC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F943-9102-44BF-A6B8-73C419F0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1A88-0FCB-41B2-BAC1-7D143764E01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FD20-54D9-46AB-9E6F-0D0BF53A443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imes New Roman"/>
              </a:rPr>
              <a:t>Религия древних греков 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029200" y="457200"/>
            <a:ext cx="3657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Дионис — самый веселый среди богов, покровитель виноградарей и виноделов, ему посвящались особые празднества в конце сельскохозяйственного года — дионисии. Кроме олимпийских богов существовало множество других (преимущественно — местных, локальных) богов, которые имели свои функци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5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257440" y="228240"/>
            <a:ext cx="342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Боги обладали человеческим обликом, желаниями, мыслями, чувствами, даже недостатками. Они строго наказывали тех, кто пытался приблизиться к ни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Особое место занимает миф о титане Прометее — защитнике людей от произвола богов. Прометей похитил с Олимпа огонь и передал его людям, за что Зевс приковал его к скале и обрек на вечные муки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" descr="http://upload.wikimedia.org/wikipedia/commons/9/9f/Prometheus_Adam_Louvre_MR1745.jpg"/>
          <p:cNvPicPr/>
          <p:nvPr/>
        </p:nvPicPr>
        <p:blipFill>
          <a:blip r:embed="rId1"/>
          <a:stretch/>
        </p:blipFill>
        <p:spPr>
          <a:xfrm>
            <a:off x="0" y="0"/>
            <a:ext cx="515952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181480" y="5943600"/>
            <a:ext cx="29019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Verdana"/>
              </a:rPr>
              <a:t>Статуя Прометея Николаса Себастьяна Адам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6477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роме мифов о богах существовали легенды о героях, самым любимым из которых был Геракл, который совершил двенадцать великих подвигов. Мифы и легенды о богах и героях складывались в целые циклы, ставшие в дальнейшем источником сюжетов для литературы, драматургии и скульптур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080120" y="0"/>
            <a:ext cx="2063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00040" y="1676160"/>
            <a:ext cx="2590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Олимпия была центром поклонения Зевсу, которому посвящались здесь спортивные Олимпийские соревнования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230640" cy="5257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850000" y="1295280"/>
            <a:ext cx="3294000" cy="4600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14480" y="228600"/>
            <a:ext cx="902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араллельно с мифологией развивалась культовая практика — жертвоприношения и молитвы, которые проходили в храмах. Каждый город имел бога-покровителя. Афина считалась покровительницею Афин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6172200"/>
            <a:ext cx="3200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Борьба на Олимпийских играх</a:t>
            </a: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5257800"/>
            <a:ext cx="2590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Метание диска на Олимпийских играх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есто главного святилища Аполлона — Дельфы, где находился известный дельфийский оракул (оракул — место в святилище, где получали ответ божества на заданный вопрос, или именно прорицания божества), как считали греки здесь находился отмеченный особым камнем центр Земли.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74674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Arial"/>
              </a:rPr>
              <a:t>КОНЕЦ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Мифология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58676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чала складываться еще в крито-микенский период. Древнейшими были божества, что воплощали силы природы. От союза Геи — земли и Урана — неба появились титаны, старшим был Океан, младшим — Кронос. По мифологии Кронос решил отомстить своему отцу за то, что он заточил его братьев циклопов в тартаре (глубочайшей бездне,  находящейся под Аидом). Пока Уран спал, Кронос нанес ему тяжелый удар и стал царем всех богов. Дети Кроноса — боги во главе с Зевсом в жестокой схватке с титанами одержали победу и разделили власть над миром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6153120" y="1067400"/>
            <a:ext cx="2990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Голова Титана, в Национальном Археологическом Музее в Афинах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" descr="File:Headoftitan-athens.jpg"/>
          <p:cNvPicPr/>
          <p:nvPr/>
        </p:nvPicPr>
        <p:blipFill>
          <a:blip r:embed="rId1"/>
          <a:stretch/>
        </p:blipFill>
        <p:spPr>
          <a:xfrm>
            <a:off x="6064200" y="2362320"/>
            <a:ext cx="3079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Генеологическое древо древнегреческих бог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_s1046"/>
          <p:cNvSpPr/>
          <p:nvPr/>
        </p:nvSpPr>
        <p:spPr>
          <a:xfrm>
            <a:off x="3276720" y="838080"/>
            <a:ext cx="2438280" cy="68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ec85e"/>
            </a:solidFill>
            <a:miter/>
          </a:ln>
          <a:effectLst>
            <a:outerShdw dist="63504" dir="19383909" blurRad="0" rotWithShape="0">
              <a:srgbClr val="eec85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Гея – Земля + Уран - небо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_s1047"/>
          <p:cNvSpPr/>
          <p:nvPr/>
        </p:nvSpPr>
        <p:spPr>
          <a:xfrm>
            <a:off x="304920" y="1295280"/>
            <a:ext cx="1427040" cy="587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aa8456"/>
            </a:solidFill>
            <a:miter/>
          </a:ln>
          <a:effectLst>
            <a:outerShdw dist="63504" dir="19383909" blurRad="0" rotWithShape="0">
              <a:srgbClr val="aa84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Океан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_s1048"/>
          <p:cNvSpPr/>
          <p:nvPr/>
        </p:nvSpPr>
        <p:spPr>
          <a:xfrm>
            <a:off x="7315200" y="1371600"/>
            <a:ext cx="1523880" cy="6094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aa8456"/>
            </a:solidFill>
            <a:miter/>
          </a:ln>
          <a:effectLst>
            <a:outerShdw dist="63504" dir="19383909" blurRad="0" rotWithShape="0">
              <a:srgbClr val="aa84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Arial"/>
              </a:rPr>
              <a:t>Солнце – 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Arial"/>
              </a:rPr>
              <a:t>Гелиос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_s1049"/>
          <p:cNvSpPr/>
          <p:nvPr/>
        </p:nvSpPr>
        <p:spPr>
          <a:xfrm>
            <a:off x="1066680" y="2286000"/>
            <a:ext cx="1295640" cy="5554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aa8456"/>
            </a:solidFill>
            <a:miter/>
          </a:ln>
          <a:effectLst>
            <a:outerShdw dist="63504" dir="19383909" blurRad="0" rotWithShape="0">
              <a:srgbClr val="aa84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Луна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Селен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_s1051"/>
          <p:cNvSpPr/>
          <p:nvPr/>
        </p:nvSpPr>
        <p:spPr>
          <a:xfrm>
            <a:off x="2743200" y="2209680"/>
            <a:ext cx="1442880" cy="57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aa8456"/>
            </a:solidFill>
            <a:miter/>
          </a:ln>
          <a:effectLst>
            <a:outerShdw dist="63504" dir="19383909" blurRad="0" rotWithShape="0">
              <a:srgbClr val="aa84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циклоп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_s1050"/>
          <p:cNvSpPr/>
          <p:nvPr/>
        </p:nvSpPr>
        <p:spPr>
          <a:xfrm>
            <a:off x="4572000" y="2133720"/>
            <a:ext cx="1523880" cy="63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aa8456"/>
            </a:solidFill>
            <a:miter/>
          </a:ln>
          <a:effectLst>
            <a:outerShdw dist="63504" dir="19383909" blurRad="0" rotWithShape="0">
              <a:srgbClr val="aa84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Arial"/>
              </a:rPr>
              <a:t>Крон – 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Arial"/>
              </a:rPr>
              <a:t>Время + 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Arial"/>
              </a:rPr>
              <a:t>Рея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_s1052"/>
          <p:cNvSpPr/>
          <p:nvPr/>
        </p:nvSpPr>
        <p:spPr>
          <a:xfrm>
            <a:off x="6553080" y="2209680"/>
            <a:ext cx="1503360" cy="4795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aa8456"/>
            </a:solidFill>
            <a:miter/>
          </a:ln>
          <a:effectLst>
            <a:outerShdw dist="63504" dir="19383909" blurRad="0" rotWithShape="0">
              <a:srgbClr val="aa84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великаны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_s1054"/>
          <p:cNvSpPr/>
          <p:nvPr/>
        </p:nvSpPr>
        <p:spPr>
          <a:xfrm>
            <a:off x="152280" y="3200400"/>
            <a:ext cx="1219320" cy="5335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Arial"/>
              </a:rPr>
              <a:t>Деметра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_s1058"/>
          <p:cNvSpPr/>
          <p:nvPr/>
        </p:nvSpPr>
        <p:spPr>
          <a:xfrm>
            <a:off x="1523880" y="3200400"/>
            <a:ext cx="1295640" cy="5335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Посейдон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_s1056"/>
          <p:cNvSpPr/>
          <p:nvPr/>
        </p:nvSpPr>
        <p:spPr>
          <a:xfrm>
            <a:off x="2971800" y="3200400"/>
            <a:ext cx="1301760" cy="49068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Зевс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_s1055"/>
          <p:cNvSpPr/>
          <p:nvPr/>
        </p:nvSpPr>
        <p:spPr>
          <a:xfrm>
            <a:off x="4419720" y="3200400"/>
            <a:ext cx="1434960" cy="522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Гер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_s1053"/>
          <p:cNvSpPr/>
          <p:nvPr/>
        </p:nvSpPr>
        <p:spPr>
          <a:xfrm>
            <a:off x="6019920" y="3200400"/>
            <a:ext cx="1447560" cy="53352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  <a:ea typeface="Arial"/>
              </a:rPr>
              <a:t>Гест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_s1057"/>
          <p:cNvSpPr/>
          <p:nvPr/>
        </p:nvSpPr>
        <p:spPr>
          <a:xfrm>
            <a:off x="7570800" y="3124080"/>
            <a:ext cx="1573200" cy="56700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Аид + Персефон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_s1059"/>
          <p:cNvSpPr/>
          <p:nvPr/>
        </p:nvSpPr>
        <p:spPr>
          <a:xfrm>
            <a:off x="3124080" y="3809880"/>
            <a:ext cx="1117800" cy="53352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aeaea"/>
                </a:solidFill>
                <a:latin typeface="Arial"/>
                <a:ea typeface="Arial"/>
              </a:rPr>
              <a:t>Афина</a:t>
            </a:r>
            <a:endParaRPr b="0" lang="en-US" sz="9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_s1063"/>
          <p:cNvSpPr/>
          <p:nvPr/>
        </p:nvSpPr>
        <p:spPr>
          <a:xfrm>
            <a:off x="4495680" y="3809880"/>
            <a:ext cx="1346400" cy="5335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Арес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_s1060"/>
          <p:cNvSpPr/>
          <p:nvPr/>
        </p:nvSpPr>
        <p:spPr>
          <a:xfrm>
            <a:off x="3200400" y="4572000"/>
            <a:ext cx="1117440" cy="479520"/>
          </a:xfrm>
          <a:prstGeom prst="rect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aeaea"/>
                </a:solidFill>
                <a:latin typeface="Arial"/>
                <a:ea typeface="Arial"/>
              </a:rPr>
              <a:t>Артемида </a:t>
            </a:r>
            <a:endParaRPr b="0" lang="en-US" sz="9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_s1064"/>
          <p:cNvSpPr/>
          <p:nvPr/>
        </p:nvSpPr>
        <p:spPr>
          <a:xfrm>
            <a:off x="4495680" y="4572000"/>
            <a:ext cx="1371600" cy="457200"/>
          </a:xfrm>
          <a:prstGeom prst="rect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Гефест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_s1061"/>
          <p:cNvSpPr/>
          <p:nvPr/>
        </p:nvSpPr>
        <p:spPr>
          <a:xfrm>
            <a:off x="3200400" y="5257800"/>
            <a:ext cx="1193760" cy="457200"/>
          </a:xfrm>
          <a:prstGeom prst="rect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aeaea"/>
                </a:solidFill>
                <a:latin typeface="Arial"/>
                <a:ea typeface="Arial"/>
              </a:rPr>
              <a:t>Аполлон</a:t>
            </a:r>
            <a:endParaRPr b="0" lang="en-US" sz="9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_s1064"/>
          <p:cNvSpPr/>
          <p:nvPr/>
        </p:nvSpPr>
        <p:spPr>
          <a:xfrm>
            <a:off x="4572000" y="5257800"/>
            <a:ext cx="1371600" cy="457200"/>
          </a:xfrm>
          <a:prstGeom prst="rect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eaeaea"/>
            </a:solidFill>
            <a:miter/>
          </a:ln>
          <a:effectLst>
            <a:outerShdw dist="63504" dir="19383909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Гермес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266720" y="152280"/>
            <a:ext cx="4419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Гора Олимп считалась жилищем двенадцати верховных богов во главе с Зевсом. Громовержец Зевс стал царем богов и людей, бог грома и молнии, верховный бог. Посейдон — морей, источников и вод.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Statue of Zeus (Hermitage) - &amp;Scy;&amp;tcy;&amp;acy;&amp;tcy;&amp;ucy;&amp;yacy; &amp;YUcy;&amp;pcy;&amp;icy;&amp;tcy;&amp;iecy;&amp;rcy;&amp;acy;.jpg"/>
          <p:cNvPicPr/>
          <p:nvPr/>
        </p:nvPicPr>
        <p:blipFill>
          <a:blip r:embed="rId1"/>
          <a:stretch/>
        </p:blipFill>
        <p:spPr>
          <a:xfrm>
            <a:off x="0" y="533520"/>
            <a:ext cx="3781440" cy="6019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1280" y="151920"/>
            <a:ext cx="282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Verdana"/>
              </a:rPr>
              <a:t>Статуя Зевса в Эрмитаж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054760" y="2743200"/>
            <a:ext cx="4089240" cy="4114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657600" y="4800600"/>
            <a:ext cx="13953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Verdana"/>
              </a:rPr>
              <a:t>Статуя ПосейдонаСтатуя Посейдона в порту Копенгаг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Verdana"/>
              </a:rPr>
              <a:t>на.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49568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Гера — жена Зевса — была покровительницей брака и семьи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857160"/>
            <a:ext cx="3772080" cy="6000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2280" y="228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Аид — мрачного подземного царств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914560" cy="3895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267080" y="5181480"/>
            <a:ext cx="457200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естра Зевса — Деметра — богиней плодородия, другая сестра — Гестия — покровительницей до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257800" y="228600"/>
            <a:ext cx="3733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Любимая дочь Зевса Афина почиталась как богиня военной мудрости и мудрости вообще, она покровительствовала знаниям и ремеслам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0" y="15192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Гермес — сначала бог скотоводства и покровитель пастухов, позже почитался как вестник олимпийских богов, покровитель путешественников, купцов, бог торговли, изобретатель меры и пастушьей флейты.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Артемида сначала была богиней плодородия и покровительницей животных и охоты, богиней Луны, позже она стала покровительницей женского целомудрия и рожениц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3855960" cy="541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2320" y="60948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Богом войны был Арес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Аполлон — брат Артемиды, божество солнечного света, образования, медицины, искусства, что воплощается его спутницами — девятью музам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" descr="File:Muses sarcophagus Louvre MR880.jpg"/>
          <p:cNvPicPr/>
          <p:nvPr/>
        </p:nvPicPr>
        <p:blipFill>
          <a:blip r:embed="rId1"/>
          <a:stretch/>
        </p:blipFill>
        <p:spPr>
          <a:xfrm>
            <a:off x="0" y="2949480"/>
            <a:ext cx="9144000" cy="3908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85800" y="5715000"/>
            <a:ext cx="7162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352320" y="30492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Еще одна дочь Зевса — Афродита, что родилась из пены морской возле острова Кипр, богиня любви и красот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ужем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Афродиты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был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бог-кузнец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Гефест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" descr="Statue of Venus - &amp;Scy;&amp;tcy;&amp;acy;&amp;tcy;&amp;ucy;&amp;yacy; &amp;Vcy;&amp;iecy;&amp;ncy;&amp;iecy;&amp;rcy;&amp;ycy;.jpg"/>
          <p:cNvPicPr/>
          <p:nvPr/>
        </p:nvPicPr>
        <p:blipFill>
          <a:blip r:embed="rId1"/>
          <a:stretch/>
        </p:blipFill>
        <p:spPr>
          <a:xfrm>
            <a:off x="0" y="0"/>
            <a:ext cx="304956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934240" y="2362320"/>
            <a:ext cx="3209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5-29T18:57:3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