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22E-8E76-48A8-B028-CF2EB0AF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072-2A56-4CD6-BDC7-2B64137B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3FB-221E-4D8A-AF2A-4A26137E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B54-3A3A-4993-836F-172A88E5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3199-D6F2-43B6-AE04-B232BA97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8BF0-D87B-45E4-AEA8-74E0EDC7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44D3-A3DD-4768-B9FB-CE05337E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C3D3-836D-42DC-AE66-BE7F52DF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79B4-C9F8-46E8-8502-7AE1EC40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617E-BC4E-4FFE-92F8-29C6170F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5A18-0F37-43F3-95A3-CED0602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D43-B6C0-4FC7-B554-7FF009EE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A34F-1231-41AB-B259-236F5D3F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AC49-72C4-4130-869E-5ADE086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1F06-1B55-4C67-9EC9-837A1EF6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0369-7C83-4C82-A338-6DEE53C7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940A-A76E-4C8B-A015-FD8D1EE4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D5F-9110-4DC7-A0CF-85D5222A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152-0DC2-4720-840C-6E4C2D84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FF7-1D4F-4D7B-A7D2-407320C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59C-544E-479D-B9B5-9DD804B1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B36-09EF-4EEF-8888-547CA493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FD7-DD81-40E0-9536-DF10041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68E-7059-4A66-A412-BBAC395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1667-0695-4971-85FE-706D0A9E8E9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5DAF-F507-4235-AB6B-220FDF63707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Религия древних греков 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029200" y="457200"/>
            <a:ext cx="3657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Дионис — самый веселый среди богов, покровитель виноградарей и виноделов, ему посвящались особые празднества в конце сельскохозяйственного года — дионисии. Кроме олимпийских богов существовало множество других (преимущественно — местных, локальных) богов, которые имели свои функ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5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57440" y="228240"/>
            <a:ext cx="342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Боги обладали человеческим обликом, желаниями, мыслями, чувствами, даже недостатками. Они строго наказывали тех, кто пытался приблизиться к ни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собое место занимает миф о титане Прометее — защитнике людей от произвола богов. Прометей похитил с Олимпа огонь и передал его людям, за что Зевс приковал его к скале и обрек на вечные мук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" descr="http://upload.wikimedia.org/wikipedia/commons/9/9f/Prometheus_Adam_Louvre_MR1745.jpg"/>
          <p:cNvPicPr/>
          <p:nvPr/>
        </p:nvPicPr>
        <p:blipFill>
          <a:blip r:embed="rId1"/>
          <a:stretch/>
        </p:blipFill>
        <p:spPr>
          <a:xfrm>
            <a:off x="0" y="0"/>
            <a:ext cx="51595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181480" y="5943600"/>
            <a:ext cx="2901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Verdana"/>
              </a:rPr>
              <a:t>Статуя Прометея Николаса Себастьяна Адам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647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роме мифов о богах существовали легенды о героях, самым любимым из которых был Геракл, который совершил двенадцать великих подвигов. Мифы и легенды о богах и героях складывались в целые циклы, ставшие в дальнейшем источником сюжетов для литературы, драматургии и скульпту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080120" y="0"/>
            <a:ext cx="2063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00040" y="167616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лимпия была центром поклонения Зевсу, которому посвящались здесь спортивные Олимпийские соревнов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230640" cy="5257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850000" y="1295280"/>
            <a:ext cx="3294000" cy="4600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4480" y="228600"/>
            <a:ext cx="902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араллельно с мифологией развивалась культовая практика — жертвоприношения и молитвы, которые проходили в храмах. Каждый город имел бога-покровителя. Афина считалась покровительницею Афин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6172200"/>
            <a:ext cx="3200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Борьба на Олимпийских играх</a:t>
            </a: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5257800"/>
            <a:ext cx="2590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Метание диска на Олимпийских игра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есто главного святилища Аполлона — Дельфы, где находился известный дельфийский оракул (оракул — место в святилище, где получали ответ божества на заданный вопрос, или именно прорицания божества), как считали греки здесь находился отмеченный особым камнем центр Земли.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4674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Мифологи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5867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чала складываться еще в крито-микенский период. Древнейшими были божества, что воплощали силы природы. От союза Геи — земли и Урана — неба появились титаны, старшим был Океан, младшим — Кронос. По мифологии Кронос решил отомстить своему отцу за то, что он заточил его братьев циклопов в тартаре (глубочайшей бездне,  находящейся под Аидом). Пока Уран спал, Кронос нанес ему тяжелый удар и стал царем всех богов. Дети Кроноса — боги во главе с Зевсом в жестокой схватке с титанами одержали победу и разделили власть над миро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153120" y="1067400"/>
            <a:ext cx="2990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Голова Титана, в Национальном Археологическом Музее в Афинах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File:Headoftitan-athens.jpg"/>
          <p:cNvPicPr/>
          <p:nvPr/>
        </p:nvPicPr>
        <p:blipFill>
          <a:blip r:embed="rId1"/>
          <a:stretch/>
        </p:blipFill>
        <p:spPr>
          <a:xfrm>
            <a:off x="6064200" y="2362320"/>
            <a:ext cx="307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Генеологическое древо древнегреческих бог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_s1046"/>
          <p:cNvSpPr/>
          <p:nvPr/>
        </p:nvSpPr>
        <p:spPr>
          <a:xfrm>
            <a:off x="3276720" y="838080"/>
            <a:ext cx="243828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ec85e"/>
            </a:solidFill>
            <a:miter/>
          </a:ln>
          <a:effectLst>
            <a:outerShdw dist="63504" dir="19383909" blurRad="0" rotWithShape="0">
              <a:srgbClr val="eec8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Гея – Земля + Уран - небо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_s1047"/>
          <p:cNvSpPr/>
          <p:nvPr/>
        </p:nvSpPr>
        <p:spPr>
          <a:xfrm>
            <a:off x="304920" y="1295280"/>
            <a:ext cx="1427040" cy="587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Океан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_s1048"/>
          <p:cNvSpPr/>
          <p:nvPr/>
        </p:nvSpPr>
        <p:spPr>
          <a:xfrm>
            <a:off x="7315200" y="1371600"/>
            <a:ext cx="1523880" cy="6094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Солнце – 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Гелиос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_s1049"/>
          <p:cNvSpPr/>
          <p:nvPr/>
        </p:nvSpPr>
        <p:spPr>
          <a:xfrm>
            <a:off x="1066680" y="2286000"/>
            <a:ext cx="1295640" cy="55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Луна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Селен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_s1051"/>
          <p:cNvSpPr/>
          <p:nvPr/>
        </p:nvSpPr>
        <p:spPr>
          <a:xfrm>
            <a:off x="2743200" y="2209680"/>
            <a:ext cx="1442880" cy="57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циклоп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_s1050"/>
          <p:cNvSpPr/>
          <p:nvPr/>
        </p:nvSpPr>
        <p:spPr>
          <a:xfrm>
            <a:off x="4572000" y="2133720"/>
            <a:ext cx="1523880" cy="63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Крон – 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Время + 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Рея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_s1052"/>
          <p:cNvSpPr/>
          <p:nvPr/>
        </p:nvSpPr>
        <p:spPr>
          <a:xfrm>
            <a:off x="6553080" y="2209680"/>
            <a:ext cx="1503360" cy="4795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великаны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_s1054"/>
          <p:cNvSpPr/>
          <p:nvPr/>
        </p:nvSpPr>
        <p:spPr>
          <a:xfrm>
            <a:off x="152280" y="3200400"/>
            <a:ext cx="1219320" cy="5335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Деметра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_s1058"/>
          <p:cNvSpPr/>
          <p:nvPr/>
        </p:nvSpPr>
        <p:spPr>
          <a:xfrm>
            <a:off x="1523880" y="3200400"/>
            <a:ext cx="1295640" cy="5335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Посейдон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_s1056"/>
          <p:cNvSpPr/>
          <p:nvPr/>
        </p:nvSpPr>
        <p:spPr>
          <a:xfrm>
            <a:off x="2971800" y="3200400"/>
            <a:ext cx="1301760" cy="4906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Зев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_s1055"/>
          <p:cNvSpPr/>
          <p:nvPr/>
        </p:nvSpPr>
        <p:spPr>
          <a:xfrm>
            <a:off x="4419720" y="3200400"/>
            <a:ext cx="1434960" cy="52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Гер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_s1053"/>
          <p:cNvSpPr/>
          <p:nvPr/>
        </p:nvSpPr>
        <p:spPr>
          <a:xfrm>
            <a:off x="6019920" y="3200400"/>
            <a:ext cx="1447560" cy="53352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  <a:ea typeface="Arial"/>
              </a:rPr>
              <a:t>Гест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_s1057"/>
          <p:cNvSpPr/>
          <p:nvPr/>
        </p:nvSpPr>
        <p:spPr>
          <a:xfrm>
            <a:off x="7570800" y="3124080"/>
            <a:ext cx="1573200" cy="567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Аид + Персефон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_s1059"/>
          <p:cNvSpPr/>
          <p:nvPr/>
        </p:nvSpPr>
        <p:spPr>
          <a:xfrm>
            <a:off x="3124080" y="3809880"/>
            <a:ext cx="1117800" cy="53352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Arial"/>
                <a:ea typeface="Arial"/>
              </a:rPr>
              <a:t>Афина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_s1063"/>
          <p:cNvSpPr/>
          <p:nvPr/>
        </p:nvSpPr>
        <p:spPr>
          <a:xfrm>
            <a:off x="4495680" y="3809880"/>
            <a:ext cx="1346400" cy="5335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Ар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_s1060"/>
          <p:cNvSpPr/>
          <p:nvPr/>
        </p:nvSpPr>
        <p:spPr>
          <a:xfrm>
            <a:off x="3200400" y="4572000"/>
            <a:ext cx="1117440" cy="47952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Arial"/>
                <a:ea typeface="Arial"/>
              </a:rPr>
              <a:t>Артемида 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_s1064"/>
          <p:cNvSpPr/>
          <p:nvPr/>
        </p:nvSpPr>
        <p:spPr>
          <a:xfrm>
            <a:off x="4495680" y="4572000"/>
            <a:ext cx="1371600" cy="45720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Гефест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_s1061"/>
          <p:cNvSpPr/>
          <p:nvPr/>
        </p:nvSpPr>
        <p:spPr>
          <a:xfrm>
            <a:off x="3200400" y="5257800"/>
            <a:ext cx="1193760" cy="45720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Arial"/>
                <a:ea typeface="Arial"/>
              </a:rPr>
              <a:t>Аполлон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_s1064"/>
          <p:cNvSpPr/>
          <p:nvPr/>
        </p:nvSpPr>
        <p:spPr>
          <a:xfrm>
            <a:off x="4572000" y="5257800"/>
            <a:ext cx="1371600" cy="45720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Герм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266720" y="152280"/>
            <a:ext cx="4419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Гора Олимп считалась жилищем двенадцати верховных богов во главе с Зевсом. Громовержец Зевс стал царем богов и людей, бог грома и молнии, верховный бог. Посейдон — морей, источников и вод.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Statue of Zeus (Hermitage) - &amp;Scy;&amp;tcy;&amp;acy;&amp;tcy;&amp;ucy;&amp;yacy; &amp;YUcy;&amp;pcy;&amp;icy;&amp;tcy;&amp;iecy;&amp;rcy;&amp;acy;.jpg"/>
          <p:cNvPicPr/>
          <p:nvPr/>
        </p:nvPicPr>
        <p:blipFill>
          <a:blip r:embed="rId1"/>
          <a:stretch/>
        </p:blipFill>
        <p:spPr>
          <a:xfrm>
            <a:off x="0" y="533520"/>
            <a:ext cx="3781440" cy="6019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1280" y="151920"/>
            <a:ext cx="282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Статуя Зевса в Эрмитаж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54760" y="2743200"/>
            <a:ext cx="408924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57600" y="4800600"/>
            <a:ext cx="1395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Verdana"/>
              </a:rPr>
              <a:t>Статуя ПосейдонаСтатуя Посейдона в порту Копенгаг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Verdana"/>
              </a:rPr>
              <a:t>на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49568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Гера — жена Зевса — была покровительницей брака и семь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3772080" cy="6000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280" y="228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Аид — мрачного подземного царств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914560" cy="3895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267080" y="5181480"/>
            <a:ext cx="45720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естра Зевса — Деметра — богиней плодородия, другая сестра — Гестия — покровительницей до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257800" y="228600"/>
            <a:ext cx="3733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Любимая дочь Зевса Афина почиталась как богиня военной мудрости и мудрости вообще, она покровительствовала знаниям и ремесл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0" y="1519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Гермес — сначала бог скотоводства и покровитель пастухов, позже почитался как вестник олимпийских богов, покровитель путешественников, купцов, бог торговли, изобретатель меры и пастушьей флейты.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ртемида сначала была богиней плодородия и покровительницей животных и охоты, богиней Луны, позже она стала покровительницей женского целомудрия и рожениц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385596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2320" y="60948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Богом войны был Аре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поллон — брат Артемиды, божество солнечного света, образования, медицины, искусства, что воплощается его спутницами — девятью муза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File:Muses sarcophagus Louvre MR880.jpg"/>
          <p:cNvPicPr/>
          <p:nvPr/>
        </p:nvPicPr>
        <p:blipFill>
          <a:blip r:embed="rId1"/>
          <a:stretch/>
        </p:blipFill>
        <p:spPr>
          <a:xfrm>
            <a:off x="0" y="2949480"/>
            <a:ext cx="9144000" cy="3908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5800" y="5715000"/>
            <a:ext cx="716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352320" y="3049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Еще одна дочь Зевса — Афродита, что родилась из пены морской возле острова Кипр, богиня любви и красот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ужем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фродиты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был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бог-кузнец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Гефест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Statue of Venus - &amp;Scy;&amp;tcy;&amp;acy;&amp;tcy;&amp;ucy;&amp;yacy; &amp;Vcy;&amp;iecy;&amp;ncy;&amp;iecy;&amp;rcy;&amp;ycy;.jpg"/>
          <p:cNvPicPr/>
          <p:nvPr/>
        </p:nvPicPr>
        <p:blipFill>
          <a:blip r:embed="rId1"/>
          <a:stretch/>
        </p:blipFill>
        <p:spPr>
          <a:xfrm>
            <a:off x="0" y="0"/>
            <a:ext cx="30495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934240" y="2362320"/>
            <a:ext cx="3209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5-29T18:57:3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