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45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0F9-C38C-4936-8282-47CAC4B2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A87-C81F-46F1-9BDE-EEFE9CD5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F75-D0A2-4477-87A8-DF8003B4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960-35A1-41E5-BEEB-BC485A1E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F123-D517-4127-A7D5-F8FF03E0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52A0-01B1-41B0-AC3E-DBD56D2A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3EE6-CF02-44B4-8031-812097F5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9E8E-DF79-4A93-A067-4AD8E403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6825-A4B3-442F-A845-72490463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04FF-6C61-4F92-B2B1-1DDC525F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28B3-0490-4697-B887-FEF89672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F30-9063-4AE7-9F6B-35E4FA3B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12C9-78B1-4094-953D-2D20B7BE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F278-FE82-4BCA-BB40-AC99C2E9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15C3-34B8-48CA-B5D4-BB6D48EE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BCA0-3D00-4006-8B4C-18C0875A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137C-4AEE-49DB-8184-BAF19E31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670E-331B-473D-9D90-3E1DFACE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0AD2-9D0B-4980-B2D8-5719E24D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44A31-3AB1-4F1E-8DFA-6C693341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25F06-CC53-42B6-86A2-1BDC876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6108-C326-42AE-B03B-00CE24BB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5FC-1658-4E31-A784-07CF236E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583B-4C53-4CFF-8CD9-64081567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3020-49E3-4266-9834-3819FF19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E209-C89E-47E9-8563-83F34265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24BB-7A4C-49C3-AD6A-27268E16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983B-F76D-4D7B-BBCE-B551F558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61017-CFA7-4A56-8A72-4618F1F3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23616-6BAC-4C7F-81D0-CC93CB27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0938-BA93-4B7D-A907-3B6F00F4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E578-CB27-459B-BBC2-AC6B2638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EB08-9B6C-45A4-A801-40EF3CCB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1CB-C7C4-40B4-BDB2-26A75902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1BAA-2662-4A94-9158-E4F48C0B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6B53-A2A9-4570-B2ED-2250D409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DAE0A-462A-4EA5-886C-EEA9298A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58BD-F619-4AAF-B065-47DD4147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578C5-54BA-4E92-88B5-F5BDDD61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2CC4-C773-430B-BF2C-2BC58DD6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77406-5DE2-4428-9579-6BD95157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D0D8-C89A-4DC1-848F-BF174A28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A637-379E-4476-AE78-C17D8ED1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D8C-4183-4B92-9605-21F1294E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880-BA99-4998-A73B-EA0BFE9E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FF9-106C-42BB-ADDA-E241F74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77B-0546-47F8-BCC8-89A0C58F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416-E1BE-4AF7-B072-8BDB4386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86cb83"/>
                </a:gs>
                <a:gs pos="100000">
                  <a:srgbClr val="7dbe7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6cb83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72AE-8C48-4CBA-AD54-B503C6DF89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86cb83"/>
                </a:gs>
                <a:gs pos="100000">
                  <a:srgbClr val="71ab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6cb83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0C8E-1F78-41C6-B958-9003E699DE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B34-C384-4451-82DD-C87F86BF3AE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6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7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9A0B-BEB4-48F0-A87F-B7F829F4608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УРАЛ – В ГОДЫ ВЕЛИКОЙ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ОТЕЧЕСТВЕННОЙ ВОЙНЫ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515280" y="5618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104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87960" cy="32767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268360" y="3247920"/>
            <a:ext cx="67075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44524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Уральский компрессорный завод и завод «Уралэлектроаппарат» и в Челябинске завод им. Д. Колющенко, завод «Челябкомпрессор» производили знаменитые «Катюши»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692360" y="1886040"/>
            <a:ext cx="619272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«Катюши»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1239840"/>
            <a:ext cx="5364000" cy="36291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237200" y="3527280"/>
            <a:ext cx="49068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Артиллерийские установк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272200" cy="35971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500720" y="3414600"/>
            <a:ext cx="46432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Всего за годы войны выпустили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000 самоходных артиллерийских установ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32 танк «Т-34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219 тяжелых тан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510 средних танковых корпус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100 танковых баш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50 000 артиллерийских оруд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1,1 млн винтовок и караби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13 400 пуше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61 500 пистол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«Урал – подлинное царство пушек и родина самоходной артиллерии. Все артиллерийские системы отличного качества: легкие, изящные, и самое главное, высокопробойные…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ршал Р. Я.Малин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Урал стал важнейшим местом формирования воинских частей и подготовки боевых ресурс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8204040" y="4681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826920" y="1739880"/>
            <a:ext cx="60501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На фронт отправились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 58 000 добровольцев,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из них 7 000 женщин.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 Формировались отряды народного ополчения – 195 300 человек.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Сформировали 500 воинских частей и соединений.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Занятия по военной подготовке 1942 год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539640" y="1809720"/>
            <a:ext cx="73454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Юрий Левитан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396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ужественный, торжественный голос Юрия Левитана звучал как набат, как колокол в годину горя. Голос звал к защите, внушал уверенность в могуществе страны, был символом победы и мощи нашего государства. Трансляция звучала не из Москвы, а из Свердловска, о чем почти никто не зна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24670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072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Занятия по военной подготовке 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79280" y="1376280"/>
            <a:ext cx="81378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Курсы радистов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392720" cy="3889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203800" y="1700280"/>
            <a:ext cx="394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Курсы медсестер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372000" y="1844280"/>
            <a:ext cx="2592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 годы войны на курсах обучилис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000 000 человек, которые использовали свои знания на фрон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1517760"/>
            <a:ext cx="63007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Регион направил на фронт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механизированных корпу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танковый корп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8 дивизий, большое количество бригад, полков, батальонов, ро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 их составе воевало боле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3 000 000 уральце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600 000 не вернулись с войн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6696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 Black"/>
              </a:rPr>
              <a:t>За отличные боевые действия Москва 27 раз салютовала уральским танкистам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 Black"/>
              </a:rPr>
              <a:t>О массовом героизме добровольцев говорят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 Black"/>
              </a:rPr>
              <a:t>54 ордена, прикрепленных к знаменам корпуса и его подразделений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391520" y="3898800"/>
            <a:ext cx="28728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5957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 мужество и отвагу, проявленные в ходе военных операций, уральские «чудо – богатыри» получи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2 368 награ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среди них 1000 героев Советского Союза, 27 полных кавалеров ордена Слав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МИНУТА МОЛЧ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2678040" cy="360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4940280" y="3924360"/>
            <a:ext cx="39528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Уральская земля дала  замечательных военачальник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2733480" cy="42274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9860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Филипп Афанасьевич Ершаков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андир 22 армии, участвовал в Смоленском сражении, обороне Полоцка, битве за Моск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ил звание генерал – лейтенанта, награжден двумя орде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гиб в концлагере «Хаммельбург» 9 июня 1942 г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375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Силантьев Александр Петрович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ерой Советского Союза, совершил 562 боевых вылета, участвовал в 20 штурмовках, провел 58 воздушных боев, лично сбил 23 самолета противн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5292720" y="1312920"/>
            <a:ext cx="3392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Разведчик Кузнецов Николай Иванович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05120" cy="504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33256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В годы Великой Отечественной войны Уральский регион был мощной индустриальной базой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 руководством созданного 3 июля 1941 года Совета по эвакуации была проведена грандиозная операция, равная по своей значимости величайшим битвам Второй мировой вой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 % всей военной продукции страны, включая танки, пушки, артиллерийские установки, стрелковое оружие – вот вклад Урала в окончательный разгром вра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Эвакуация – важнейшая задача Уральце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альский регион с июля 1941 года по декабрь 1942 года принял 2 127 000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392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826920" y="452520"/>
            <a:ext cx="831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Женщины, дети располагались в сельской местности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539640" y="1382760"/>
            <a:ext cx="81313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395280" y="37944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Квалифицированные рабочие в городах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997440" cy="5373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500720" y="1557360"/>
            <a:ext cx="453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Женщины — фронту. На обувной фабрике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05952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Подростки на трудовом фронте. Все работали под лозунгом «Заменим уходящих на фронт мужчин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Урал стал центром науки, образования, литературы и искусства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147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Свердловске размещался Президиум академии наук ССС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змещался Московский государственный университет им. Ломонос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 Урал эвакуировано 46 ВУ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 руководством П. Бажова и А. Караевой был создан и стал активно действовать литературный цент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ал принял 25 эвакуированных театр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ительный вклад внесли художни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ральский край становится в годы войны крупнейшим пунктом промышленной эвакуаци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 Урале было размешено 830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12 - приняла Свердловская обл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- Челябинская обл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4 – Пермская обл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0 – Оренбургская обл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72 – Башкирская АСС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4 – Удмуртская АСС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795320" y="189000"/>
            <a:ext cx="4916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1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07324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611280"/>
            <a:ext cx="8569080" cy="6246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Ленинград в дни блокады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Проявленное уральцами в годы Великой Отечественной войны несокрушимое единство фронта и тыла продемонстрировало несгибаемую народную волю, стало мощным фундаментом грядущей Победы.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3786120"/>
            <a:ext cx="3529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рал, чей вклад в разгром неприятеля был чрезвычайным весом, по праву празднов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ЕЛИКУЮ ПОБЕДУ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5049720" y="189000"/>
            <a:ext cx="3862440" cy="65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24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Уральский завод тяжелого машиностроения превратился в мастерскую по производству танков «Т-34»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79218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55640" y="314280"/>
            <a:ext cx="748836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Уралмашзавод выпускал самоходные артиллерийские установки СУ - 100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351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Уралмашзавод выпускал самоходные артиллерийские установки СУ - 122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55964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Челябинский завод «ТАНКОГРАД», тяжелый танк КВ -1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05636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7:19:59Z</dcterms:created>
  <dc:creator>PerkovaNV</dc:creator>
  <dc:description/>
  <dc:language>en-US</dc:language>
  <cp:lastModifiedBy>Adel</cp:lastModifiedBy>
  <dcterms:modified xsi:type="dcterms:W3CDTF">2011-03-18T20:18:17Z</dcterms:modified>
  <cp:revision>12</cp:revision>
  <dc:subject/>
  <dc:title>Слайд 1</dc:title>
</cp:coreProperties>
</file>