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D29-3EDA-4584-8759-3E1DD12C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70C-F606-4BD5-9414-EDC48231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D59-DFAA-429F-B753-A460738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96C-B543-4DBE-8406-1BA431E8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0ED-0465-4533-A527-1D3B3572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3ED0-0AE3-4817-911B-C2A1C4B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A68-AD63-49CD-8133-7875CBAF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F5B-60DA-4097-B653-6F2D205C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1FC6-1B23-4C7B-A435-7E496FC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4084-3207-4BD8-803A-6FC6DB8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0DD-7600-470A-8603-3FEEB27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0F6-26BF-4E0C-A26F-0AFE360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BFBF-43AA-4CC1-88A1-76E6FB4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DFBD-4353-4841-8011-6EF370A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7A68-AC78-4444-9C70-A2F1C48D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1787-C7A5-47E9-9D29-7F9F2F0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7C4C-078F-4889-B164-AB45D63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863B-6263-4037-9B2B-EDFE544E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24BF-7652-4292-B808-6DEE3D3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F131-FC27-40F3-931E-CEA8DC8E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B681-42F8-42C8-A584-B346A8F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6C07-C6E7-4283-B3AA-A1BD33D4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3DB-A872-453E-801F-C73296A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FE5A-90CD-476C-9541-055F93F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A817-D957-4CE2-B138-BD5C526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74A9-E2D6-47D7-8739-95129DD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F37B-A7ED-4531-88B3-DD886B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37FA-45C0-4A5E-8628-80ED7F56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6F95-C464-4235-B02A-8A66DC09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1C88-8D36-4DA3-9CDC-C6E698C2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CA57C-8586-4F8B-9612-2A57D97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5104-8BA5-47F1-ACD7-766FE4B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497B-3924-4020-AE6B-3C9F58A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544-FB2A-4299-93CB-DD697858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9F60-AF1B-4284-88B9-5AE1C63A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49BF-3357-4DC3-854C-78BAD26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218F-9FAE-4636-B85D-521FBCD8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EFE7-2718-4574-8FD8-2EEAD21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AD0D-1B7F-4FF3-82C5-318C529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5A71-8D6D-4EF1-8BDC-62222D6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E82F-261E-4B97-B87C-636FABE7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1300-473C-4D32-A203-4CBA15C8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91B5-D83A-447F-A86C-33D6D0D7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072-0FE6-4E93-A59E-5C7A61EF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4FA-B120-4657-B1B6-244090CF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4BF-1C4C-4C50-B48E-F0D8817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160-C0FB-4B28-A6AE-917F947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2E9-7CF4-4C9E-BC51-86BB782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7dbe7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EFE-02EA-43EB-9040-3D55773269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71ab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6cb83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1595-BED7-4DC0-9F76-7C1266170C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5EB8-FDA3-4AE3-8BC3-7D68AAB4B04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AC0-57D8-4B9D-874C-BC4AF1C74CF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УРАЛ – В ГОДЫ ВЕЛИКОЙ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ОТЕЧЕСТВЕННОЙ ВОЙНЫ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15280" y="5618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104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87960" cy="3276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268360" y="3247920"/>
            <a:ext cx="67075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4524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Уральский компрессорный завод и завод «Уралэлектроаппарат» и в Челябинске завод им. Д. Колющенко, завод «Челябкомпрессор» производили знаменитые «Катюши»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692360" y="1886040"/>
            <a:ext cx="6192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«Катюши»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5364000" cy="36291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237200" y="3527280"/>
            <a:ext cx="4906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Артиллерийские установк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272200" cy="35971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500720" y="3414600"/>
            <a:ext cx="4643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Всего за годы войны выпустили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000 самоходных артиллерийских установ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32 танк «Т-34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219 тяжелых тан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510 средних танковых корпу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100 танковых баш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0 000 артиллерийских оруд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1,1 млн винтовок и караби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13 400 пуш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61 500 пистол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«Урал – подлинное царство пушек и родина самоходной артиллерии. Все артиллерийские системы отличного качества: легкие, изящные, и самое главное, высокопробойные…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Р. Я.Малин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рал стал важнейшим местом формирования воинских частей и подготовки боевых ресурс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8204040" y="4681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826920" y="1739880"/>
            <a:ext cx="6050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На фронт отправились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58 000 добровольцев,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из них 7 000 женщин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Формировались отряды народного ополчения – 195 300 человек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Сформировали 500 воинских частей и соединений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Занятия по военной подготовке 1942 год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39640" y="1809720"/>
            <a:ext cx="73454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Юрий Левитан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396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ужественный, торжественный голос Юрия Левитана звучал как набат, как колокол в годину горя. Голос звал к защите, внушал уверенность в могуществе страны, был символом победы и мощи нашего государства. Трансляция звучала не из Москвы, а из Свердловска, о чем почти никто не зна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4670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72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Занятия по военной подготовке 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79280" y="1376280"/>
            <a:ext cx="81378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Курсы радистов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92720" cy="3889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203800" y="1700280"/>
            <a:ext cx="394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Курсы медсестер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372000" y="1844280"/>
            <a:ext cx="2592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 годы войны на курсах обучилис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000 000 человек, которые использовали свои знания на фрон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1517760"/>
            <a:ext cx="6300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Регион направил на фронт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механизированных корп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танковый корп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8 дивизий, большое количество бригад, полков, батальонов, ро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их составе воевало боле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3 000 000 уральце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600 000 не вернулись с войн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6696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За отличные боевые действия Москва 27 раз салютовала уральским танкистам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О массовом героизме добровольцев говоря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 Black"/>
              </a:rPr>
              <a:t>54 ордена, прикрепленных к знаменам корпуса и его подразделени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391520" y="3898800"/>
            <a:ext cx="2872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957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 мужество и отвагу, проявленные в ходе военных операций, уральские «чудо – богатыри» получи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2 368 награ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среди них 1000 героев Советского Союза, 27 полных кавалеров ордена Слав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ИНУТА МОЛЧ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2678040" cy="360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4940280" y="3924360"/>
            <a:ext cx="39528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Уральская земля дала  замечательных военачальник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733480" cy="4227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986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Филипп Афанасьевич Ершаков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андир 22 армии, участвовал в Смоленском сражении, обороне Полоцка, битве за Моск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ил звание генерал – лейтенанта, награжден двумя орде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гиб в концлагере «Хаммельбург» 9 июня 1942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75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Силантьев Александр Петрович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ерой Советского Союза, совершил 562 боевых вылета, участвовал в 20 штурмовках, провел 58 воздушных боев, лично сбил 23 самолета против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3392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Разведчик Кузнецов Николай Иванович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05120" cy="504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3256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В годы Великой Отечественной войны Уральский регион был мощной индустриальной базой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руководством созданного 3 июля 1941 года Совета по эвакуации была проведена грандиозная операция, равная по своей значимости величайшим битвам Второй мировой вой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 % всей военной продукции страны, включая танки, пушки, артиллерийские установки, стрелковое оружие – вот вклад Урала в окончательный разгром вра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Эвакуация – важнейшая задача Уральце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альский регион с июля 1941 года по декабрь 1942 года принял 2 127 000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3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826920" y="452520"/>
            <a:ext cx="831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Женщины, дети располагались в сельской местности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39640" y="1382760"/>
            <a:ext cx="81313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95280" y="37944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Квалифицированные рабочие в городах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997440" cy="5373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453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Женщины — фронту. На обувной фабрике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0595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Подростки на трудовом фронте. Все работали под лозунгом «Заменим уходящих на фронт мужчин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рал стал центром науки, образования, литературы и искусства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147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Свердловске размещался Президиум академии наук С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мещался Московский государственный университет им. Ломонос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Урал эвакуировано 46 ВУ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руководством П. Бажова и А. Караевой был создан и стал активно действовать литературный цент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ал принял 25 эвакуированных театр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тельный вклад внесли художни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ральский край становится в годы войны крупнейшим пунктом промышленной эвакуац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Урале было размешено 830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2 - приняла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- Челябин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4 – Перм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0 – Оренбург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2 – Башкирская А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4 – Удмуртская АСС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795320" y="189000"/>
            <a:ext cx="4916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611280"/>
            <a:ext cx="8569080" cy="6246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Ленинград в дни блока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Проявленное уральцами в годы Великой Отечественной войны несокрушимое единство фронта и тыла продемонстрировало несгибаемую народную волю, стало мощным фундаментом грядущей Победы.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3786120"/>
            <a:ext cx="3529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рал, чей вклад в разгром неприятеля был чрезвычайным весом, по праву праздно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ЕЛИКУЮ ПОБЕДУ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049720" y="189000"/>
            <a:ext cx="3862440" cy="65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24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Уральский завод тяжелого машиностроения превратился в мастерскую по производству танков «Т-34»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9218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55640" y="314280"/>
            <a:ext cx="74883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Уралмашзавод выпускал самоходные артиллерийские установки СУ - 100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351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Уралмашзавод выпускал самоходные артиллерийские установки СУ - 122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cb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Челябинский завод «ТАНКОГРАД», тяжелый танк КВ -1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05636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19:59Z</dcterms:created>
  <dc:creator>PerkovaNV</dc:creator>
  <dc:description/>
  <dc:language>en-US</dc:language>
  <cp:lastModifiedBy>Adel</cp:lastModifiedBy>
  <dcterms:modified xsi:type="dcterms:W3CDTF">2011-03-18T20:18:17Z</dcterms:modified>
  <cp:revision>12</cp:revision>
  <dc:subject/>
  <dc:title>Слайд 1</dc:title>
</cp:coreProperties>
</file>