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521C-9A2B-4294-A205-CC6D095E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3BAA-F25C-4337-B4AD-36DC4681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E015-C07E-4B21-B1A8-5DD17415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A3D3-C318-45D5-8FA5-9E712DA0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1410-6BE3-4CE8-B724-8F857A0D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0301-75FE-4FE2-977D-A6CE9BE5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4BC1-DCBE-4365-A9DA-48E33854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2D8A-EEE3-4619-A82A-50BA886E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46BD-75DB-4B90-B012-E37B2D7B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DB5C-F913-4FFF-8A85-69639B6B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F294-7E6B-413D-9369-2F38636A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AAB5-DFC9-46CE-984C-9A88FDF1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758B-61D2-440E-99AB-03A0CE6AC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Картинки по запросу каменные орудия"/>
          <p:cNvPicPr/>
          <p:nvPr/>
        </p:nvPicPr>
        <p:blipFill>
          <a:blip r:embed="rId1"/>
          <a:stretch/>
        </p:blipFill>
        <p:spPr>
          <a:xfrm>
            <a:off x="6934320" y="4776840"/>
            <a:ext cx="2209680" cy="2081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Картинки по запросу освоение огня"/>
          <p:cNvPicPr/>
          <p:nvPr/>
        </p:nvPicPr>
        <p:blipFill>
          <a:blip r:embed="rId2"/>
          <a:stretch/>
        </p:blipFill>
        <p:spPr>
          <a:xfrm>
            <a:off x="0" y="22860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Картинки по запросу наскальная живопись"/>
          <p:cNvPicPr/>
          <p:nvPr/>
        </p:nvPicPr>
        <p:blipFill>
          <a:blip r:embed="rId3"/>
          <a:stretch/>
        </p:blipFill>
        <p:spPr>
          <a:xfrm>
            <a:off x="3429000" y="2438280"/>
            <a:ext cx="3124080" cy="2394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Картинки по запросу колесо"/>
          <p:cNvPicPr/>
          <p:nvPr/>
        </p:nvPicPr>
        <p:blipFill>
          <a:blip r:embed="rId4"/>
          <a:stretch/>
        </p:blipFill>
        <p:spPr>
          <a:xfrm>
            <a:off x="6400800" y="0"/>
            <a:ext cx="2743200" cy="2620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Картинки по запросу гончарный круг"/>
          <p:cNvPicPr/>
          <p:nvPr/>
        </p:nvPicPr>
        <p:blipFill>
          <a:blip r:embed="rId5"/>
          <a:stretch/>
        </p:blipFill>
        <p:spPr>
          <a:xfrm>
            <a:off x="0" y="0"/>
            <a:ext cx="3809880" cy="2951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Картинки по запросу земледелие"/>
          <p:cNvPicPr/>
          <p:nvPr/>
        </p:nvPicPr>
        <p:blipFill>
          <a:blip r:embed="rId6"/>
          <a:stretch/>
        </p:blipFill>
        <p:spPr>
          <a:xfrm>
            <a:off x="6553080" y="2209680"/>
            <a:ext cx="2590920" cy="2556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Картинки по запросу ткачество и прядение"/>
          <p:cNvPicPr/>
          <p:nvPr/>
        </p:nvPicPr>
        <p:blipFill>
          <a:blip r:embed="rId7"/>
          <a:stretch/>
        </p:blipFill>
        <p:spPr>
          <a:xfrm>
            <a:off x="3808440" y="0"/>
            <a:ext cx="2630520" cy="2666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Картинки по запросу древняя лодка"/>
          <p:cNvPicPr/>
          <p:nvPr/>
        </p:nvPicPr>
        <p:blipFill>
          <a:blip r:embed="rId8"/>
          <a:stretch/>
        </p:blipFill>
        <p:spPr>
          <a:xfrm>
            <a:off x="3429000" y="4743360"/>
            <a:ext cx="3505320" cy="2114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Похожее изображение"/>
          <p:cNvPicPr/>
          <p:nvPr/>
        </p:nvPicPr>
        <p:blipFill>
          <a:blip r:embed="rId9"/>
          <a:stretch/>
        </p:blipFill>
        <p:spPr>
          <a:xfrm>
            <a:off x="0" y="4748040"/>
            <a:ext cx="365760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057400" y="1295280"/>
            <a:ext cx="5029200" cy="3080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99ff"/>
                </a:solidFill>
                <a:uFillTx/>
                <a:latin typeface="Book Antiqua"/>
              </a:rPr>
              <a:t>Домашнее задани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Book Antiqua"/>
              </a:rPr>
              <a:t>Внимательно прочитать §5, устно ответить на вопросы после н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Book Antiqua"/>
              </a:rPr>
              <a:t>Прочитать §7, приготовиться к викторине по §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Картинки по запросу каменные орудия"/>
          <p:cNvPicPr/>
          <p:nvPr/>
        </p:nvPicPr>
        <p:blipFill>
          <a:blip r:embed="rId1"/>
          <a:stretch/>
        </p:blipFill>
        <p:spPr>
          <a:xfrm>
            <a:off x="6934320" y="4776840"/>
            <a:ext cx="2209680" cy="2081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Картинки по запросу освоение огня"/>
          <p:cNvPicPr/>
          <p:nvPr/>
        </p:nvPicPr>
        <p:blipFill>
          <a:blip r:embed="rId2"/>
          <a:stretch/>
        </p:blipFill>
        <p:spPr>
          <a:xfrm>
            <a:off x="0" y="22860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Картинки по запросу наскальная живопись"/>
          <p:cNvPicPr/>
          <p:nvPr/>
        </p:nvPicPr>
        <p:blipFill>
          <a:blip r:embed="rId3"/>
          <a:stretch/>
        </p:blipFill>
        <p:spPr>
          <a:xfrm>
            <a:off x="3429000" y="2438280"/>
            <a:ext cx="3124080" cy="2394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Картинки по запросу колесо"/>
          <p:cNvPicPr/>
          <p:nvPr/>
        </p:nvPicPr>
        <p:blipFill>
          <a:blip r:embed="rId4"/>
          <a:stretch/>
        </p:blipFill>
        <p:spPr>
          <a:xfrm>
            <a:off x="6400800" y="0"/>
            <a:ext cx="2743200" cy="2620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Картинки по запросу гончарный круг"/>
          <p:cNvPicPr/>
          <p:nvPr/>
        </p:nvPicPr>
        <p:blipFill>
          <a:blip r:embed="rId5"/>
          <a:stretch/>
        </p:blipFill>
        <p:spPr>
          <a:xfrm>
            <a:off x="0" y="0"/>
            <a:ext cx="3809880" cy="2951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Картинки по запросу земледелие"/>
          <p:cNvPicPr/>
          <p:nvPr/>
        </p:nvPicPr>
        <p:blipFill>
          <a:blip r:embed="rId6"/>
          <a:stretch/>
        </p:blipFill>
        <p:spPr>
          <a:xfrm>
            <a:off x="6553080" y="2209680"/>
            <a:ext cx="2590920" cy="255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Картинки по запросу ткачество и прядение"/>
          <p:cNvPicPr/>
          <p:nvPr/>
        </p:nvPicPr>
        <p:blipFill>
          <a:blip r:embed="rId7"/>
          <a:stretch/>
        </p:blipFill>
        <p:spPr>
          <a:xfrm>
            <a:off x="3808440" y="0"/>
            <a:ext cx="2630520" cy="2666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Картинки по запросу древняя лодка"/>
          <p:cNvPicPr/>
          <p:nvPr/>
        </p:nvPicPr>
        <p:blipFill>
          <a:blip r:embed="rId8"/>
          <a:stretch/>
        </p:blipFill>
        <p:spPr>
          <a:xfrm>
            <a:off x="3429000" y="4743360"/>
            <a:ext cx="3505320" cy="2114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Похожее изображение"/>
          <p:cNvPicPr/>
          <p:nvPr/>
        </p:nvPicPr>
        <p:blipFill>
          <a:blip r:embed="rId9"/>
          <a:stretch/>
        </p:blipFill>
        <p:spPr>
          <a:xfrm>
            <a:off x="0" y="4748040"/>
            <a:ext cx="3657600" cy="2109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934320" y="3962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0303"/>
                </a:solidFill>
                <a:latin typeface="Book Antiqua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1676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0303"/>
                </a:solidFill>
                <a:latin typeface="Book Antiqu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53080" y="228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0303"/>
                </a:solidFill>
                <a:latin typeface="Book Antiqu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152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0303"/>
                </a:solidFill>
                <a:latin typeface="Book Antiqu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4876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0303"/>
                </a:solidFill>
                <a:latin typeface="Book Antiqu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6172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0303"/>
                </a:solidFill>
                <a:latin typeface="Book Antiqu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3733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0303"/>
                </a:solidFill>
                <a:latin typeface="Book Antiqu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3124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0303"/>
                </a:solidFill>
                <a:latin typeface="Book Antiqu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67480" y="5029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0303"/>
                </a:solidFill>
                <a:latin typeface="Book Antiqu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828800" y="1447920"/>
            <a:ext cx="5486400" cy="2104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Book Antiqua"/>
              </a:rPr>
              <a:t>От первобытности к цив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4191120"/>
            <a:ext cx="5639040" cy="1008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ff"/>
                </a:solidFill>
                <a:latin typeface="Book Antiqua"/>
              </a:rPr>
              <a:t>Цель занятия:</a:t>
            </a:r>
            <a:r>
              <a:rPr b="0" lang="en-US" sz="2000" spc="-1" strike="noStrike">
                <a:solidFill>
                  <a:srgbClr val="cc99ff"/>
                </a:solidFill>
                <a:latin typeface="Book Antiqua"/>
              </a:rPr>
              <a:t> определить значение открытия металлов для последующего развития человеч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09480" y="228600"/>
            <a:ext cx="7925040" cy="947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Book Antiqua"/>
              </a:rPr>
              <a:t>5 тыс. лет назад – </a:t>
            </a:r>
            <a:r>
              <a:rPr b="0" lang="en-US" sz="2800" spc="-1" strike="noStrike">
                <a:solidFill>
                  <a:srgbClr val="cc99ff"/>
                </a:solidFill>
                <a:latin typeface="Book Antiqua"/>
              </a:rPr>
              <a:t>переход от каменного века к бронзов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Картинки по запросу серебро металл"/>
          <p:cNvPicPr/>
          <p:nvPr/>
        </p:nvPicPr>
        <p:blipFill>
          <a:blip r:embed="rId2"/>
          <a:stretch/>
        </p:blipFill>
        <p:spPr>
          <a:xfrm>
            <a:off x="3352680" y="1447920"/>
            <a:ext cx="2514600" cy="1874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Картинки по запросу золото самородок"/>
          <p:cNvPicPr/>
          <p:nvPr/>
        </p:nvPicPr>
        <p:blipFill>
          <a:blip r:embed="rId3"/>
          <a:stretch/>
        </p:blipFill>
        <p:spPr>
          <a:xfrm>
            <a:off x="266760" y="1447920"/>
            <a:ext cx="285732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Картинки по запросу олово"/>
          <p:cNvPicPr/>
          <p:nvPr/>
        </p:nvPicPr>
        <p:blipFill>
          <a:blip r:embed="rId4"/>
          <a:stretch/>
        </p:blipFill>
        <p:spPr>
          <a:xfrm>
            <a:off x="3352680" y="4648320"/>
            <a:ext cx="2514600" cy="1649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Картинки по запросу медь"/>
          <p:cNvPicPr/>
          <p:nvPr/>
        </p:nvPicPr>
        <p:blipFill>
          <a:blip r:embed="rId5"/>
          <a:stretch/>
        </p:blipFill>
        <p:spPr>
          <a:xfrm>
            <a:off x="457200" y="4643280"/>
            <a:ext cx="2514600" cy="2138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581280" y="4038480"/>
            <a:ext cx="2057400" cy="52056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0303"/>
                </a:solidFill>
                <a:latin typeface="Book Antiqua"/>
              </a:rPr>
              <a:t>О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4038480"/>
            <a:ext cx="2057400" cy="52056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0303"/>
                </a:solidFill>
                <a:latin typeface="Book Antiqua"/>
              </a:rPr>
              <a:t>М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3429000"/>
            <a:ext cx="2057400" cy="520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Book Antiqua"/>
              </a:rPr>
              <a:t>Золо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3429000"/>
            <a:ext cx="2057400" cy="520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Book Antiqua"/>
              </a:rPr>
              <a:t>Сереб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Картинки по запросу бронза"/>
          <p:cNvPicPr/>
          <p:nvPr/>
        </p:nvPicPr>
        <p:blipFill>
          <a:blip r:embed="rId6"/>
          <a:stretch/>
        </p:blipFill>
        <p:spPr>
          <a:xfrm>
            <a:off x="6095880" y="4648320"/>
            <a:ext cx="2819520" cy="2114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477120" y="4038480"/>
            <a:ext cx="2057400" cy="52056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0303"/>
                </a:solidFill>
                <a:latin typeface="Book Antiqua"/>
              </a:rPr>
              <a:t>Брон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48520" y="1447920"/>
            <a:ext cx="2514600" cy="1800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Book Antiqua"/>
              </a:rPr>
              <a:t>Для украшения и ритуальных предм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4038480"/>
            <a:ext cx="533520" cy="52056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0303"/>
                </a:solidFill>
                <a:latin typeface="Book Antiqu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4038480"/>
            <a:ext cx="533160" cy="52056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0303"/>
                </a:solidFill>
                <a:latin typeface="Book Antiqua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Картинки по запросу бронзовый век"/>
          <p:cNvPicPr/>
          <p:nvPr/>
        </p:nvPicPr>
        <p:blipFill>
          <a:blip r:embed="rId2"/>
          <a:stretch/>
        </p:blipFill>
        <p:spPr>
          <a:xfrm>
            <a:off x="4343400" y="730080"/>
            <a:ext cx="4648320" cy="3156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Картинки по запросу бронзовый век"/>
          <p:cNvPicPr/>
          <p:nvPr/>
        </p:nvPicPr>
        <p:blipFill>
          <a:blip r:embed="rId3"/>
          <a:stretch/>
        </p:blipFill>
        <p:spPr>
          <a:xfrm>
            <a:off x="228600" y="428760"/>
            <a:ext cx="4038480" cy="3457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Картинки по запросу бронзовый век"/>
          <p:cNvPicPr/>
          <p:nvPr/>
        </p:nvPicPr>
        <p:blipFill>
          <a:blip r:embed="rId4"/>
          <a:stretch/>
        </p:blipFill>
        <p:spPr>
          <a:xfrm>
            <a:off x="1828800" y="4246560"/>
            <a:ext cx="51814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371600" y="990720"/>
            <a:ext cx="2514600" cy="947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Book Antiqua"/>
              </a:rPr>
              <a:t>Разделение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5257800"/>
            <a:ext cx="2514600" cy="947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Book Antiqua"/>
              </a:rPr>
              <a:t>Появление ден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3274920"/>
            <a:ext cx="3048120" cy="1373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Book Antiqua"/>
              </a:rPr>
              <a:t>Необходимость обмена и торгов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Картинки по запросу разделение труда"/>
          <p:cNvPicPr/>
          <p:nvPr/>
        </p:nvPicPr>
        <p:blipFill>
          <a:blip r:embed="rId2"/>
          <a:stretch/>
        </p:blipFill>
        <p:spPr>
          <a:xfrm>
            <a:off x="4952880" y="266760"/>
            <a:ext cx="3124440" cy="2324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Картинки по запросу обмен товарами"/>
          <p:cNvPicPr/>
          <p:nvPr/>
        </p:nvPicPr>
        <p:blipFill>
          <a:blip r:embed="rId3"/>
          <a:stretch/>
        </p:blipFill>
        <p:spPr>
          <a:xfrm>
            <a:off x="5257800" y="2971800"/>
            <a:ext cx="2619360" cy="1857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0" y="304920"/>
            <a:ext cx="0" cy="6248160"/>
          </a:xfrm>
          <a:prstGeom prst="line">
            <a:avLst/>
          </a:prstGeom>
          <a:ln w="7632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Картинки по запросу первые деньги в мире"/>
          <p:cNvPicPr/>
          <p:nvPr/>
        </p:nvPicPr>
        <p:blipFill>
          <a:blip r:embed="rId4"/>
          <a:stretch/>
        </p:blipFill>
        <p:spPr>
          <a:xfrm>
            <a:off x="4952880" y="4952880"/>
            <a:ext cx="316260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613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7200" y="3733920"/>
            <a:ext cx="3733920" cy="2653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Book Antiqua"/>
              </a:rPr>
              <a:t>Родовая община</a:t>
            </a:r>
            <a:r>
              <a:rPr b="0" lang="en-US" sz="2800" spc="-1" strike="noStrike">
                <a:solidFill>
                  <a:srgbClr val="cc99ff"/>
                </a:solidFill>
                <a:latin typeface="Book Antiqua"/>
              </a:rPr>
              <a:t> – коллектив людей, связанный родством и коллективным тру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572000" y="228600"/>
            <a:ext cx="4572000" cy="3149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72000" y="3700440"/>
            <a:ext cx="4572000" cy="3080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Book Antiqua"/>
              </a:rPr>
              <a:t>Соседская община</a:t>
            </a:r>
            <a:r>
              <a:rPr b="0" lang="en-US" sz="2800" spc="-1" strike="noStrike">
                <a:solidFill>
                  <a:srgbClr val="cc99ff"/>
                </a:solidFill>
                <a:latin typeface="Book Antiqua"/>
              </a:rPr>
              <a:t> – коллектив людей, включающий несколько семей и имеющий как коллективную, так и индивидуальную собстве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666880" y="349200"/>
            <a:ext cx="3733920" cy="1373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Book Antiqua"/>
              </a:rPr>
              <a:t>Возникновение соседской общ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1676520"/>
            <a:ext cx="3733920" cy="1373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Book Antiqua"/>
              </a:rPr>
              <a:t>Возникновение индивидуальной собств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3429000"/>
            <a:ext cx="3733920" cy="1373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Book Antiqua"/>
              </a:rPr>
              <a:t>Возникновение имущественного нераве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5181480"/>
            <a:ext cx="3733920" cy="520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Book Antiqua"/>
              </a:rPr>
              <a:t>Появление зн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295280"/>
            <a:ext cx="0" cy="304920"/>
          </a:xfrm>
          <a:prstGeom prst="line">
            <a:avLst/>
          </a:prstGeom>
          <a:ln w="7632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3048120"/>
            <a:ext cx="0" cy="304560"/>
          </a:xfrm>
          <a:prstGeom prst="line">
            <a:avLst/>
          </a:prstGeom>
          <a:ln w="7632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4800600"/>
            <a:ext cx="0" cy="304920"/>
          </a:xfrm>
          <a:prstGeom prst="line">
            <a:avLst/>
          </a:prstGeom>
          <a:ln w="7632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666880" y="776160"/>
            <a:ext cx="3733920" cy="520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99ff"/>
                </a:solidFill>
                <a:latin typeface="Book Antiqua"/>
              </a:rPr>
              <a:t>Рефлексивный эк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2057400"/>
            <a:ext cx="3733920" cy="330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Book Antiqua"/>
              </a:rPr>
              <a:t>Анализ своих ошиб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Book Antiqua"/>
              </a:rPr>
              <a:t>Вспомните все свои ошибки, подумайте, как их избежать в следующий раз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eo</cp:lastModifiedBy>
  <dcterms:modified xsi:type="dcterms:W3CDTF">2017-05-29T06:24:48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