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5F4-6988-4B54-B351-1936D1AA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323-47A9-4568-835A-3408D7BF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830-D633-496D-8C88-45F43096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034-ACFB-4F11-AF14-94103E2B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387-43EE-4A55-94EE-F2530B32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3FA-8FD5-451C-8553-2EDE250B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8CB-8A65-4878-9AEB-BB2067F5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2F5-D324-4EF5-81C9-BA61A49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044-8CAD-4A64-9C10-D1507308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28D-6E0C-4767-81AA-7D6A8F9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D72-E2A8-4965-B03E-7CD2640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A91-89F4-4898-A33C-B23A9A1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FF82-724B-4034-AF60-67137E8B3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и по запросу каменные орудия"/>
          <p:cNvPicPr/>
          <p:nvPr/>
        </p:nvPicPr>
        <p:blipFill>
          <a:blip r:embed="rId1"/>
          <a:stretch/>
        </p:blipFill>
        <p:spPr>
          <a:xfrm>
            <a:off x="6934320" y="477684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Картинки по запросу освоение огня"/>
          <p:cNvPicPr/>
          <p:nvPr/>
        </p:nvPicPr>
        <p:blipFill>
          <a:blip r:embed="rId2"/>
          <a:stretch/>
        </p:blipFill>
        <p:spPr>
          <a:xfrm>
            <a:off x="0" y="22860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Картинки по запросу наскальная живопись"/>
          <p:cNvPicPr/>
          <p:nvPr/>
        </p:nvPicPr>
        <p:blipFill>
          <a:blip r:embed="rId3"/>
          <a:stretch/>
        </p:blipFill>
        <p:spPr>
          <a:xfrm>
            <a:off x="3429000" y="2438280"/>
            <a:ext cx="3124080" cy="239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и по запросу колесо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620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и по запросу гончарный круг"/>
          <p:cNvPicPr/>
          <p:nvPr/>
        </p:nvPicPr>
        <p:blipFill>
          <a:blip r:embed="rId5"/>
          <a:stretch/>
        </p:blipFill>
        <p:spPr>
          <a:xfrm>
            <a:off x="0" y="0"/>
            <a:ext cx="3809880" cy="2951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и по запросу земледелие"/>
          <p:cNvPicPr/>
          <p:nvPr/>
        </p:nvPicPr>
        <p:blipFill>
          <a:blip r:embed="rId6"/>
          <a:stretch/>
        </p:blipFill>
        <p:spPr>
          <a:xfrm>
            <a:off x="6553080" y="2209680"/>
            <a:ext cx="2590920" cy="25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Картинки по запросу ткачество и прядение"/>
          <p:cNvPicPr/>
          <p:nvPr/>
        </p:nvPicPr>
        <p:blipFill>
          <a:blip r:embed="rId7"/>
          <a:stretch/>
        </p:blipFill>
        <p:spPr>
          <a:xfrm>
            <a:off x="3808440" y="0"/>
            <a:ext cx="263052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и по запросу древняя лодка"/>
          <p:cNvPicPr/>
          <p:nvPr/>
        </p:nvPicPr>
        <p:blipFill>
          <a:blip r:embed="rId8"/>
          <a:stretch/>
        </p:blipFill>
        <p:spPr>
          <a:xfrm>
            <a:off x="3429000" y="4743360"/>
            <a:ext cx="3505320" cy="211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Похожее изображение"/>
          <p:cNvPicPr/>
          <p:nvPr/>
        </p:nvPicPr>
        <p:blipFill>
          <a:blip r:embed="rId9"/>
          <a:stretch/>
        </p:blipFill>
        <p:spPr>
          <a:xfrm>
            <a:off x="0" y="4748040"/>
            <a:ext cx="36576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7400" y="1295280"/>
            <a:ext cx="5029200" cy="3080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99ff"/>
                </a:solidFill>
                <a:uFillTx/>
                <a:latin typeface="Book Antiqua"/>
              </a:rPr>
              <a:t>Домашнее 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Внимательно прочитать §5, устно ответить на вопросы после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Прочитать §7, приготовиться к викторине по §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и по запросу каменные орудия"/>
          <p:cNvPicPr/>
          <p:nvPr/>
        </p:nvPicPr>
        <p:blipFill>
          <a:blip r:embed="rId1"/>
          <a:stretch/>
        </p:blipFill>
        <p:spPr>
          <a:xfrm>
            <a:off x="6934320" y="477684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и по запросу освоение огня"/>
          <p:cNvPicPr/>
          <p:nvPr/>
        </p:nvPicPr>
        <p:blipFill>
          <a:blip r:embed="rId2"/>
          <a:stretch/>
        </p:blipFill>
        <p:spPr>
          <a:xfrm>
            <a:off x="0" y="22860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и по запросу наскальная живопись"/>
          <p:cNvPicPr/>
          <p:nvPr/>
        </p:nvPicPr>
        <p:blipFill>
          <a:blip r:embed="rId3"/>
          <a:stretch/>
        </p:blipFill>
        <p:spPr>
          <a:xfrm>
            <a:off x="3429000" y="2438280"/>
            <a:ext cx="3124080" cy="239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и по запросу колесо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62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и по запросу гончарный круг"/>
          <p:cNvPicPr/>
          <p:nvPr/>
        </p:nvPicPr>
        <p:blipFill>
          <a:blip r:embed="rId5"/>
          <a:stretch/>
        </p:blipFill>
        <p:spPr>
          <a:xfrm>
            <a:off x="0" y="0"/>
            <a:ext cx="3809880" cy="295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и по запросу земледелие"/>
          <p:cNvPicPr/>
          <p:nvPr/>
        </p:nvPicPr>
        <p:blipFill>
          <a:blip r:embed="rId6"/>
          <a:stretch/>
        </p:blipFill>
        <p:spPr>
          <a:xfrm>
            <a:off x="6553080" y="2209680"/>
            <a:ext cx="2590920" cy="255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и по запросу ткачество и прядение"/>
          <p:cNvPicPr/>
          <p:nvPr/>
        </p:nvPicPr>
        <p:blipFill>
          <a:blip r:embed="rId7"/>
          <a:stretch/>
        </p:blipFill>
        <p:spPr>
          <a:xfrm>
            <a:off x="3808440" y="0"/>
            <a:ext cx="263052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Картинки по запросу древняя лодка"/>
          <p:cNvPicPr/>
          <p:nvPr/>
        </p:nvPicPr>
        <p:blipFill>
          <a:blip r:embed="rId8"/>
          <a:stretch/>
        </p:blipFill>
        <p:spPr>
          <a:xfrm>
            <a:off x="3429000" y="4743360"/>
            <a:ext cx="350532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Похожее изображение"/>
          <p:cNvPicPr/>
          <p:nvPr/>
        </p:nvPicPr>
        <p:blipFill>
          <a:blip r:embed="rId9"/>
          <a:stretch/>
        </p:blipFill>
        <p:spPr>
          <a:xfrm>
            <a:off x="0" y="4748040"/>
            <a:ext cx="3657600" cy="210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934320" y="396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52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4876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6172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28800" y="1447920"/>
            <a:ext cx="5486400" cy="21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Book Antiqua"/>
              </a:rPr>
              <a:t>От первобытности к цив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191120"/>
            <a:ext cx="5639040" cy="1008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Book Antiqua"/>
              </a:rPr>
              <a:t>Цель занятия:</a:t>
            </a:r>
            <a:r>
              <a:rPr b="0" lang="en-US" sz="2000" spc="-1" strike="noStrike">
                <a:solidFill>
                  <a:srgbClr val="cc99ff"/>
                </a:solidFill>
                <a:latin typeface="Book Antiqua"/>
              </a:rPr>
              <a:t> определить значение открытия металлов для последующего развития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228600"/>
            <a:ext cx="7925040" cy="947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5 тыс. лет назад – </a:t>
            </a: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переход от каменного века к бронзов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Картинки по запросу серебро металл"/>
          <p:cNvPicPr/>
          <p:nvPr/>
        </p:nvPicPr>
        <p:blipFill>
          <a:blip r:embed="rId2"/>
          <a:stretch/>
        </p:blipFill>
        <p:spPr>
          <a:xfrm>
            <a:off x="3352680" y="144792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Картинки по запросу золото самородок"/>
          <p:cNvPicPr/>
          <p:nvPr/>
        </p:nvPicPr>
        <p:blipFill>
          <a:blip r:embed="rId3"/>
          <a:stretch/>
        </p:blipFill>
        <p:spPr>
          <a:xfrm>
            <a:off x="266760" y="14479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и по запросу олово"/>
          <p:cNvPicPr/>
          <p:nvPr/>
        </p:nvPicPr>
        <p:blipFill>
          <a:blip r:embed="rId4"/>
          <a:stretch/>
        </p:blipFill>
        <p:spPr>
          <a:xfrm>
            <a:off x="3352680" y="4648320"/>
            <a:ext cx="2514600" cy="164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Картинки по запросу медь"/>
          <p:cNvPicPr/>
          <p:nvPr/>
        </p:nvPicPr>
        <p:blipFill>
          <a:blip r:embed="rId5"/>
          <a:stretch/>
        </p:blipFill>
        <p:spPr>
          <a:xfrm>
            <a:off x="457200" y="4643280"/>
            <a:ext cx="2514600" cy="213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81280" y="4038480"/>
            <a:ext cx="205740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О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038480"/>
            <a:ext cx="205740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429000"/>
            <a:ext cx="20574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З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429000"/>
            <a:ext cx="20574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Сере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и по запросу бронза"/>
          <p:cNvPicPr/>
          <p:nvPr/>
        </p:nvPicPr>
        <p:blipFill>
          <a:blip r:embed="rId6"/>
          <a:stretch/>
        </p:blipFill>
        <p:spPr>
          <a:xfrm>
            <a:off x="6095880" y="46483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77120" y="4038480"/>
            <a:ext cx="205740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Брон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1447920"/>
            <a:ext cx="2514600" cy="1800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Для украшения и ритуаль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4038480"/>
            <a:ext cx="53352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038480"/>
            <a:ext cx="53316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Картинки по запросу бронзовый век"/>
          <p:cNvPicPr/>
          <p:nvPr/>
        </p:nvPicPr>
        <p:blipFill>
          <a:blip r:embed="rId2"/>
          <a:stretch/>
        </p:blipFill>
        <p:spPr>
          <a:xfrm>
            <a:off x="4343400" y="730080"/>
            <a:ext cx="4648320" cy="3156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Картинки по запросу бронзовый век"/>
          <p:cNvPicPr/>
          <p:nvPr/>
        </p:nvPicPr>
        <p:blipFill>
          <a:blip r:embed="rId3"/>
          <a:stretch/>
        </p:blipFill>
        <p:spPr>
          <a:xfrm>
            <a:off x="228600" y="428760"/>
            <a:ext cx="4038480" cy="345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и по запросу бронзовый век"/>
          <p:cNvPicPr/>
          <p:nvPr/>
        </p:nvPicPr>
        <p:blipFill>
          <a:blip r:embed="rId4"/>
          <a:stretch/>
        </p:blipFill>
        <p:spPr>
          <a:xfrm>
            <a:off x="1828800" y="4246560"/>
            <a:ext cx="5181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990720"/>
            <a:ext cx="2514600" cy="947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Разделени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5257800"/>
            <a:ext cx="2514600" cy="947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Появление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3274920"/>
            <a:ext cx="3048120" cy="137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Необходимость обмена и торго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и по запросу разделение труда"/>
          <p:cNvPicPr/>
          <p:nvPr/>
        </p:nvPicPr>
        <p:blipFill>
          <a:blip r:embed="rId2"/>
          <a:stretch/>
        </p:blipFill>
        <p:spPr>
          <a:xfrm>
            <a:off x="4952880" y="266760"/>
            <a:ext cx="3124440" cy="2324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и по запросу обмен товарами"/>
          <p:cNvPicPr/>
          <p:nvPr/>
        </p:nvPicPr>
        <p:blipFill>
          <a:blip r:embed="rId3"/>
          <a:stretch/>
        </p:blipFill>
        <p:spPr>
          <a:xfrm>
            <a:off x="5257800" y="2971800"/>
            <a:ext cx="2619360" cy="18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и по запросу первые деньги в мире"/>
          <p:cNvPicPr/>
          <p:nvPr/>
        </p:nvPicPr>
        <p:blipFill>
          <a:blip r:embed="rId4"/>
          <a:stretch/>
        </p:blipFill>
        <p:spPr>
          <a:xfrm>
            <a:off x="4952880" y="4952880"/>
            <a:ext cx="316260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61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3733920"/>
            <a:ext cx="3733920" cy="2653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Родовая община</a:t>
            </a: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 – коллектив людей, связанный родством и коллективным тру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0" y="228600"/>
            <a:ext cx="4572000" cy="3149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3700440"/>
            <a:ext cx="4572000" cy="3080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Соседская община</a:t>
            </a: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 – коллектив людей, включающий несколько семей и имеющий как коллективную, так и индивидуальную собств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66880" y="349200"/>
            <a:ext cx="3733920" cy="137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Возникновение соседской общ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676520"/>
            <a:ext cx="3733920" cy="137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Возникновение индивидуальной соб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3429000"/>
            <a:ext cx="3733920" cy="137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Возникновение имущественного нера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181480"/>
            <a:ext cx="373392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Появление з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295280"/>
            <a:ext cx="0" cy="30492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00600"/>
            <a:ext cx="0" cy="30492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666880" y="776160"/>
            <a:ext cx="373392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99ff"/>
                </a:solidFill>
                <a:latin typeface="Book Antiqua"/>
              </a:rPr>
              <a:t>Рефлексивный эк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057400"/>
            <a:ext cx="3733920" cy="330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Анализ своих ошиб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Вспомните все свои ошибки, подумайте, как их избежать в следующий р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o</cp:lastModifiedBy>
  <dcterms:modified xsi:type="dcterms:W3CDTF">2017-05-29T06:24:4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