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7E9-CFD5-4E5D-9D32-5B28F468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BD8-AB3B-45CC-9D22-EF5B02E2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00A-8EED-4574-8A29-A18A97AE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4F5-04D3-486D-AE7C-AF5C70BE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B1B-5622-4EA5-A365-5F16D04C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C91-BA90-4CC8-BCD2-68E1C27B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395-CEBC-4218-A1A8-46DECED2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2E9-86D3-467A-88EB-D26E5521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E05-170C-4F86-AF6B-CE6637CB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D99-A9AA-4477-BA79-8593749A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564-66E7-49BA-9449-32F6E06C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A81-A361-4730-B1DA-9444773A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003C-E0A3-4911-BB85-1B6BC557E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9900"/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УДЬ ОСТОРОЖЕН С ОГН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 РУКАХ ДЕТЕЙ ОН СТАНОВИТСЯ ВР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сканирование0118"/>
          <p:cNvPicPr/>
          <p:nvPr/>
        </p:nvPicPr>
        <p:blipFill>
          <a:blip r:embed="rId1"/>
          <a:stretch/>
        </p:blipFill>
        <p:spPr>
          <a:xfrm>
            <a:off x="324000" y="1700280"/>
            <a:ext cx="4157640" cy="439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сканирование0119"/>
          <p:cNvPicPr/>
          <p:nvPr/>
        </p:nvPicPr>
        <p:blipFill>
          <a:blip r:embed="rId2"/>
          <a:stretch/>
        </p:blipFill>
        <p:spPr>
          <a:xfrm>
            <a:off x="4788000" y="620640"/>
            <a:ext cx="396396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НА ОГНЕ ГОТОВЯТ Е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КЛЮЧАТЬ ГАЗОВЫЕ ПЛИТЫ ДОЛЖНЫ ТОЛЬКО ВЗРОС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сканирование0120"/>
          <p:cNvPicPr/>
          <p:nvPr/>
        </p:nvPicPr>
        <p:blipFill>
          <a:blip r:embed="rId1"/>
          <a:stretch/>
        </p:blipFill>
        <p:spPr>
          <a:xfrm>
            <a:off x="395280" y="1484280"/>
            <a:ext cx="40543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сканирование0121"/>
          <p:cNvPicPr/>
          <p:nvPr/>
        </p:nvPicPr>
        <p:blipFill>
          <a:blip r:embed="rId2"/>
          <a:stretch/>
        </p:blipFill>
        <p:spPr>
          <a:xfrm>
            <a:off x="5003640" y="404640"/>
            <a:ext cx="3511800" cy="375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ОГОНЬ СОГРЕВ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О ЕСЛИ КОСТЕР РАЗЖИГАЮТ ДЕТИ, ПРИХОДИТ Б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сканирование0122"/>
          <p:cNvPicPr/>
          <p:nvPr/>
        </p:nvPicPr>
        <p:blipFill>
          <a:blip r:embed="rId1"/>
          <a:stretch/>
        </p:blipFill>
        <p:spPr>
          <a:xfrm>
            <a:off x="250920" y="2133720"/>
            <a:ext cx="4108320" cy="42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сканирование0123"/>
          <p:cNvPicPr/>
          <p:nvPr/>
        </p:nvPicPr>
        <p:blipFill>
          <a:blip r:embed="rId2"/>
          <a:stretch/>
        </p:blipFill>
        <p:spPr>
          <a:xfrm>
            <a:off x="4788000" y="692280"/>
            <a:ext cx="4048200" cy="4233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6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ГОРЮЧИЕ ВЕЩЕСТВА НЕОБХОДИМ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О В ТВОИХ РУКАХ ОНИ МОГУТ ПРИВЕСТИ К ПОЖ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сканирование0124"/>
          <p:cNvPicPr/>
          <p:nvPr/>
        </p:nvPicPr>
        <p:blipFill>
          <a:blip r:embed="rId1"/>
          <a:stretch/>
        </p:blipFill>
        <p:spPr>
          <a:xfrm>
            <a:off x="468360" y="2349360"/>
            <a:ext cx="3935520" cy="431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сканирование0125"/>
          <p:cNvPicPr/>
          <p:nvPr/>
        </p:nvPicPr>
        <p:blipFill>
          <a:blip r:embed="rId2"/>
          <a:stretch/>
        </p:blipFill>
        <p:spPr>
          <a:xfrm>
            <a:off x="4716360" y="260280"/>
            <a:ext cx="4071960" cy="4341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ПИЧКИ ОЧЕНЬ НУЖ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О НЕ ДЛЯ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сканирование0126"/>
          <p:cNvPicPr/>
          <p:nvPr/>
        </p:nvPicPr>
        <p:blipFill>
          <a:blip r:embed="rId1"/>
          <a:stretch/>
        </p:blipFill>
        <p:spPr>
          <a:xfrm>
            <a:off x="324000" y="2060640"/>
            <a:ext cx="3998880" cy="42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сканирование0127"/>
          <p:cNvPicPr/>
          <p:nvPr/>
        </p:nvPicPr>
        <p:blipFill>
          <a:blip r:embed="rId2"/>
          <a:stretch/>
        </p:blipFill>
        <p:spPr>
          <a:xfrm>
            <a:off x="4716360" y="692280"/>
            <a:ext cx="4032360" cy="4236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ОГОНЬ – ХОРОШИЙ ПОМОЩНИ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 ПЛОХОЙ ТОВАРИЩ В ИГ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сканирование0128"/>
          <p:cNvPicPr/>
          <p:nvPr/>
        </p:nvPicPr>
        <p:blipFill>
          <a:blip r:embed="rId1"/>
          <a:stretch/>
        </p:blipFill>
        <p:spPr>
          <a:xfrm>
            <a:off x="324000" y="1916280"/>
            <a:ext cx="4227480" cy="4465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сканирование0129"/>
          <p:cNvPicPr/>
          <p:nvPr/>
        </p:nvPicPr>
        <p:blipFill>
          <a:blip r:embed="rId2"/>
          <a:stretch/>
        </p:blipFill>
        <p:spPr>
          <a:xfrm>
            <a:off x="4859280" y="620640"/>
            <a:ext cx="4035600" cy="4281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2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ЕЛКА – ВСЕГДА ПРАЗД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4720" y="549000"/>
            <a:ext cx="4680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И ЧТОБЫ ЕГО НЕ ОМРАЧ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НИКОГДА НЕ ЗАЖИГАЙ ОКОЛО ЕЛ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БЕНГАЛЬСКИЕ ОГНИ И СВ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ЭТО ИСТОЧНИК ПОЖ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сканирование0130"/>
          <p:cNvPicPr/>
          <p:nvPr/>
        </p:nvPicPr>
        <p:blipFill>
          <a:blip r:embed="rId1"/>
          <a:stretch/>
        </p:blipFill>
        <p:spPr>
          <a:xfrm>
            <a:off x="250920" y="1916280"/>
            <a:ext cx="4179960" cy="444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сканирование0131"/>
          <p:cNvPicPr/>
          <p:nvPr/>
        </p:nvPicPr>
        <p:blipFill>
          <a:blip r:embed="rId2"/>
          <a:stretch/>
        </p:blipFill>
        <p:spPr>
          <a:xfrm>
            <a:off x="4716360" y="692280"/>
            <a:ext cx="4062600" cy="430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800"/>
                            </p:stCondLst>
                            <p:childTnLst>
                              <p:par>
                                <p:cTn id="1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800"/>
                            </p:stCondLst>
                            <p:childTnLst>
                              <p:par>
                                <p:cTn id="1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8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18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38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А если уж случилась беда- вызывай пожарных  всегда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усть знает каждый гражданин – пожарный номер 01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1873440" cy="2087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43280" y="3716280"/>
            <a:ext cx="4042080" cy="2376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443640" y="1628640"/>
            <a:ext cx="226080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17:15:31Z</dcterms:created>
  <dc:creator>Юлия Никулина</dc:creator>
  <dc:description/>
  <dc:language>en-US</dc:language>
  <cp:lastModifiedBy>Admin</cp:lastModifiedBy>
  <dcterms:modified xsi:type="dcterms:W3CDTF">2017-05-30T19:56:13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