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C59-9D4C-4EA3-AEBD-FD0F5AA1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D1B-BAE7-41BD-86E9-12BCBF93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40A-E48F-4822-8C02-264A80AC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265-DE36-46E3-A969-93959554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F7C-D025-419D-8326-3D09316E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0F8-FE71-4449-9970-F6F91624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8C3-357F-4DA0-98DB-6D793BF2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674C-0EE9-475C-9556-CAC2C4A1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6383-ECCF-4DEF-AA32-1FE5DCA8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ECF-3A6F-446E-AB9F-7B98EB55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68B-12AF-457B-B649-3F9185A5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911D-5C6F-4950-8066-30B4EC93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3683-1C3A-42F5-AC8E-8407D59D6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9900"/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УДЬ ОСТОРОЖЕН С ОГН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 РУКАХ ДЕТЕЙ ОН СТАНОВИТСЯ ВР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сканирование0118"/>
          <p:cNvPicPr/>
          <p:nvPr/>
        </p:nvPicPr>
        <p:blipFill>
          <a:blip r:embed="rId1"/>
          <a:stretch/>
        </p:blipFill>
        <p:spPr>
          <a:xfrm>
            <a:off x="324000" y="1700280"/>
            <a:ext cx="4157640" cy="439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сканирование0119"/>
          <p:cNvPicPr/>
          <p:nvPr/>
        </p:nvPicPr>
        <p:blipFill>
          <a:blip r:embed="rId2"/>
          <a:stretch/>
        </p:blipFill>
        <p:spPr>
          <a:xfrm>
            <a:off x="4788000" y="620640"/>
            <a:ext cx="396396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НА ОГНЕ ГОТОВЯТ Е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КЛЮЧАТЬ ГАЗОВЫЕ ПЛИТЫ ДОЛЖНЫ ТОЛЬКО ВЗРОС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сканирование0120"/>
          <p:cNvPicPr/>
          <p:nvPr/>
        </p:nvPicPr>
        <p:blipFill>
          <a:blip r:embed="rId1"/>
          <a:stretch/>
        </p:blipFill>
        <p:spPr>
          <a:xfrm>
            <a:off x="395280" y="1484280"/>
            <a:ext cx="40543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сканирование0121"/>
          <p:cNvPicPr/>
          <p:nvPr/>
        </p:nvPicPr>
        <p:blipFill>
          <a:blip r:embed="rId2"/>
          <a:stretch/>
        </p:blipFill>
        <p:spPr>
          <a:xfrm>
            <a:off x="5003640" y="404640"/>
            <a:ext cx="3511800" cy="375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ОГОНЬ СОГРЕВ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О ЕСЛИ КОСТЕР РАЗЖИГАЮТ ДЕТИ, ПРИХОДИТ Б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сканирование0122"/>
          <p:cNvPicPr/>
          <p:nvPr/>
        </p:nvPicPr>
        <p:blipFill>
          <a:blip r:embed="rId1"/>
          <a:stretch/>
        </p:blipFill>
        <p:spPr>
          <a:xfrm>
            <a:off x="250920" y="2133720"/>
            <a:ext cx="4108320" cy="42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сканирование0123"/>
          <p:cNvPicPr/>
          <p:nvPr/>
        </p:nvPicPr>
        <p:blipFill>
          <a:blip r:embed="rId2"/>
          <a:stretch/>
        </p:blipFill>
        <p:spPr>
          <a:xfrm>
            <a:off x="4788000" y="692280"/>
            <a:ext cx="4048200" cy="4233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6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ГОРЮЧИЕ ВЕЩЕСТВА НЕОБХОДИМ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О В ТВОИХ РУКАХ ОНИ МОГУТ ПРИВЕСТИ К ПОЖ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сканирование0124"/>
          <p:cNvPicPr/>
          <p:nvPr/>
        </p:nvPicPr>
        <p:blipFill>
          <a:blip r:embed="rId1"/>
          <a:stretch/>
        </p:blipFill>
        <p:spPr>
          <a:xfrm>
            <a:off x="468360" y="2349360"/>
            <a:ext cx="3935520" cy="431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сканирование0125"/>
          <p:cNvPicPr/>
          <p:nvPr/>
        </p:nvPicPr>
        <p:blipFill>
          <a:blip r:embed="rId2"/>
          <a:stretch/>
        </p:blipFill>
        <p:spPr>
          <a:xfrm>
            <a:off x="4716360" y="260280"/>
            <a:ext cx="4071960" cy="4341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ПИЧКИ ОЧЕНЬ НУЖ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О НЕ ДЛЯ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сканирование0126"/>
          <p:cNvPicPr/>
          <p:nvPr/>
        </p:nvPicPr>
        <p:blipFill>
          <a:blip r:embed="rId1"/>
          <a:stretch/>
        </p:blipFill>
        <p:spPr>
          <a:xfrm>
            <a:off x="324000" y="2060640"/>
            <a:ext cx="3998880" cy="42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сканирование0127"/>
          <p:cNvPicPr/>
          <p:nvPr/>
        </p:nvPicPr>
        <p:blipFill>
          <a:blip r:embed="rId2"/>
          <a:stretch/>
        </p:blipFill>
        <p:spPr>
          <a:xfrm>
            <a:off x="4716360" y="692280"/>
            <a:ext cx="4032360" cy="4236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ОГОНЬ – ХОРОШИЙ ПОМОЩНИ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 ПЛОХОЙ ТОВАРИЩ В ИГ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сканирование0128"/>
          <p:cNvPicPr/>
          <p:nvPr/>
        </p:nvPicPr>
        <p:blipFill>
          <a:blip r:embed="rId1"/>
          <a:stretch/>
        </p:blipFill>
        <p:spPr>
          <a:xfrm>
            <a:off x="324000" y="1916280"/>
            <a:ext cx="4227480" cy="4465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сканирование0129"/>
          <p:cNvPicPr/>
          <p:nvPr/>
        </p:nvPicPr>
        <p:blipFill>
          <a:blip r:embed="rId2"/>
          <a:stretch/>
        </p:blipFill>
        <p:spPr>
          <a:xfrm>
            <a:off x="4859280" y="620640"/>
            <a:ext cx="4035600" cy="4281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2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ЕЛКА – ВСЕГДА ПРАЗД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4720" y="549000"/>
            <a:ext cx="4680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И ЧТОБЫ ЕГО НЕ ОМРАЧ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НИКОГДА НЕ ЗАЖИГАЙ ОКОЛО ЕЛ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БЕНГАЛЬСКИЕ ОГНИ И СВ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ЭТО ИСТОЧНИК ПОЖ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сканирование0130"/>
          <p:cNvPicPr/>
          <p:nvPr/>
        </p:nvPicPr>
        <p:blipFill>
          <a:blip r:embed="rId1"/>
          <a:stretch/>
        </p:blipFill>
        <p:spPr>
          <a:xfrm>
            <a:off x="250920" y="1916280"/>
            <a:ext cx="4179960" cy="444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сканирование0131"/>
          <p:cNvPicPr/>
          <p:nvPr/>
        </p:nvPicPr>
        <p:blipFill>
          <a:blip r:embed="rId2"/>
          <a:stretch/>
        </p:blipFill>
        <p:spPr>
          <a:xfrm>
            <a:off x="4716360" y="692280"/>
            <a:ext cx="4062600" cy="430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800"/>
                            </p:stCondLst>
                            <p:childTnLst>
                              <p:par>
                                <p:cTn id="1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800"/>
                            </p:stCondLst>
                            <p:childTnLst>
                              <p:par>
                                <p:cTn id="1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8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18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38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А если уж случилась беда- вызывай пожарных  всегда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усть знает каждый гражданин – пожарный номер 01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1873440" cy="2087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43280" y="3716280"/>
            <a:ext cx="4042080" cy="2376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443640" y="1628640"/>
            <a:ext cx="226080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17:15:31Z</dcterms:created>
  <dc:creator>Юлия Никулина</dc:creator>
  <dc:description/>
  <dc:language>en-US</dc:language>
  <cp:lastModifiedBy>Admin</cp:lastModifiedBy>
  <dcterms:modified xsi:type="dcterms:W3CDTF">2017-05-30T19:56:13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