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C69-9220-457F-A2C5-560177EB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40C-CC5D-4513-B843-A25DF0B7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C38-550C-4E93-A5B0-111EAED9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240-D0B9-4359-908D-4452BBD8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0B2-4D17-4D7A-82C1-518248A9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35E-F12A-45D6-AEB3-41D958D7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BB2-367C-460A-9DE6-D2EAC96E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F6C-27AB-4BA1-8592-27A8681C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D17-4057-45FB-AA7C-0D97D1C2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2D3D-3F96-470C-B028-9AD3A367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4B7-4CF6-47BA-81C6-3CB8EE24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37A-2FCA-4EC1-92FD-4B06F7C8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A3E1-D64F-49C1-8F7D-B72722092E03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54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3267000" y="1481040"/>
            <a:ext cx="5883480" cy="2895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76360" y="188640"/>
            <a:ext cx="57229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Наталья\Music\Pictures\logo.gif"/>
          <p:cNvPicPr/>
          <p:nvPr/>
        </p:nvPicPr>
        <p:blipFill>
          <a:blip r:embed="rId3"/>
          <a:stretch/>
        </p:blipFill>
        <p:spPr>
          <a:xfrm>
            <a:off x="7524720" y="189000"/>
            <a:ext cx="1381320" cy="13906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КСИКА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77336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ерите синонимы к словам: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екватный, флегматичный, утрировать, меркантильный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7630920" y="609300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КСИКА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206064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ая русская пословица следующим образом переведена на иностранный язык: «Недостаток ума компенсируй ходьбой»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7702200" y="587700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ФОЭПИЯ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вучьте свой заказ в кафе, если и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ложенных в меню блюд в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л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п из щавел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лат из свеклы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фтели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инчики с творогом и сливовым варенье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7674840" y="616572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ФОЭПИЯ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 отличается брОня от бронИ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674840" y="609300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ФОЭПИЯ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- сборник карт; от уда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исит два моих знач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чу - преображусь в наз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естящей, шёлковой я ткан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7674840" y="59500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ФОЭПИЯ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56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ом слове верно выделена буква, обозначающая ударный гласный звук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сивЕе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соропрОвод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пОстроф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дАтайство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7746120" y="60930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ФОЭПИЯ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ом слове буква, обозначающая ударный гласный, выделена вер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Эксперт               2) туф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созвонИмся        4) облЕгчи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7531200" y="59500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ЁРНЫЙ ЯЩИК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ё можно толочь в ступе и носить в решете. Можно прятать в неё концы и водить по ней вилами. Она бывает живая, мёртвая и на киселе. А если вы не хотите отвечать на мой вопрос, то можете набрать её в рот. Но в  ваших интересах на него ответить. Что эт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7603560" y="59500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ЁРНЫЙ ЯЩИК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а очень маленькая, но с её помощью можно прервать жизнь одного сказочного героя. Глупый человек может искать её в стоге сена, а тот, кто волнуется, будет на них сидеть. Новая одежда только что с неё. Что это за предм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7603560" y="602136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ОЛ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Картинка 9 из 7310"/>
          <p:cNvPicPr/>
          <p:nvPr/>
        </p:nvPicPr>
        <p:blipFill>
          <a:blip r:embed="rId1"/>
          <a:stretch/>
        </p:blipFill>
        <p:spPr>
          <a:xfrm>
            <a:off x="3995640" y="1700280"/>
            <a:ext cx="4513320" cy="4753080"/>
          </a:xfrm>
          <a:prstGeom prst="rect">
            <a:avLst/>
          </a:prstGeom>
          <a:ln w="0">
            <a:noFill/>
          </a:ln>
        </p:spPr>
      </p:pic>
      <p:grpSp>
        <p:nvGrpSpPr>
          <p:cNvPr id="104" name="Развернутая стрелка 4"/>
          <p:cNvGrpSpPr/>
          <p:nvPr/>
        </p:nvGrpSpPr>
        <p:grpSpPr>
          <a:xfrm>
            <a:off x="8113680" y="5840280"/>
            <a:ext cx="785880" cy="816120"/>
            <a:chOff x="8113680" y="5840280"/>
            <a:chExt cx="785880" cy="816120"/>
          </a:xfrm>
        </p:grpSpPr>
        <p:pic>
          <p:nvPicPr>
            <p:cNvPr id="105" name="Развернутая стрелка 4" descr=""/>
            <p:cNvPicPr/>
            <p:nvPr/>
          </p:nvPicPr>
          <p:blipFill>
            <a:blip r:embed="rId2"/>
            <a:stretch/>
          </p:blipFill>
          <p:spPr>
            <a:xfrm>
              <a:off x="8113680" y="5840280"/>
              <a:ext cx="78588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0800000">
              <a:off x="8172360" y="5877000"/>
              <a:ext cx="6717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tle 1" descr=""/>
          <p:cNvPicPr/>
          <p:nvPr/>
        </p:nvPicPr>
        <p:blipFill>
          <a:blip r:embed="rId1"/>
          <a:stretch/>
        </p:blipFill>
        <p:spPr>
          <a:xfrm>
            <a:off x="1212840" y="225360"/>
            <a:ext cx="7559640" cy="847800"/>
          </a:xfrm>
          <a:prstGeom prst="rect">
            <a:avLst/>
          </a:prstGeom>
          <a:ln w="0">
            <a:noFill/>
          </a:ln>
        </p:spPr>
      </p:pic>
      <p:sp>
        <p:nvSpPr>
          <p:cNvPr id="45" name="Straight Connector 4"/>
          <p:cNvSpPr/>
          <p:nvPr/>
        </p:nvSpPr>
        <p:spPr>
          <a:xfrm>
            <a:off x="380880" y="1143000"/>
            <a:ext cx="83822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1197000"/>
          <a:ext cx="8496000" cy="5184720"/>
        </p:xfrm>
        <a:graphic>
          <a:graphicData uri="http://schemas.openxmlformats.org/drawingml/2006/table">
            <a:tbl>
              <a:tblPr/>
              <a:tblGrid>
                <a:gridCol w="2736720"/>
                <a:gridCol w="1150920"/>
                <a:gridCol w="1225440"/>
                <a:gridCol w="1224000"/>
                <a:gridCol w="1079640"/>
                <a:gridCol w="1079280"/>
              </a:tblGrid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ЧЕСКАЯ СТРАНИЧ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С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ФОЭ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ЁРНЫЙ Я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УСЫ, ШАРА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2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3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4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5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6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sp>
        <p:nvSpPr>
          <p:cNvPr id="47" name="TextBox 6"/>
          <p:cNvSpPr/>
          <p:nvPr/>
        </p:nvSpPr>
        <p:spPr>
          <a:xfrm>
            <a:off x="3959640" y="623736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7" action="ppaction://hlinksldjump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ЁРНЫЙ ЯЩИК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1773000"/>
            <a:ext cx="88930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о бывает пятым у телеги вопреки всякому здравому смыслу. И что самое удивительное, некоторые любят вставлять в него палки. На нём можно даже жить, а можно в нём вертеться, но особенно его почему – то любят белки. Что эт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7674840" y="609300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ЁРНЫЙ ЯЩИК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560" y="1844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лодожёны очень хорошо его знают, потому что он рядом с ними целый месяц. А когда его целая бочка, то находятся вредители, готовые испортить его, добавив в него ложку дёгтя. Его обожал один представитель млекопитающих, любящий прикидываться тучкой. Что это так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7747920" y="623736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ЁРНЫЙ ЯЩИК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я апостола Петра в переводе с древнееврейского обозначает именно это. Он бывает краеугольным, а бывает точкой преткновения. Плохой человек носит его за пазухой. В споре коса может на него най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7603560" y="602136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УСЫ, ШАРАДЫ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C:\Users\Вова\Pictures\GIF\WebArt\BD10902_.GIF"/>
          <p:cNvPicPr/>
          <p:nvPr/>
        </p:nvPicPr>
        <p:blipFill>
          <a:blip r:embed="rId1"/>
          <a:stretch/>
        </p:blipFill>
        <p:spPr>
          <a:xfrm>
            <a:off x="1042920" y="2133720"/>
            <a:ext cx="2970360" cy="3240000"/>
          </a:xfrm>
          <a:prstGeom prst="rect">
            <a:avLst/>
          </a:prstGeom>
          <a:ln w="0">
            <a:noFill/>
          </a:ln>
        </p:spPr>
      </p:pic>
      <p:cxnSp>
        <p:nvCxnSpPr>
          <p:cNvPr id="119" name="AutoShape 2"/>
          <p:cNvCxnSpPr/>
          <p:nvPr/>
        </p:nvCxnSpPr>
        <p:spPr>
          <a:xfrm flipV="1">
            <a:off x="539640" y="4005000"/>
            <a:ext cx="759600" cy="759600"/>
          </a:xfrm>
          <a:prstGeom prst="straightConnector1">
            <a:avLst/>
          </a:prstGeom>
          <a:ln w="12708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120" name="Рисунок 5" descr="C:\Users\Вова\Pictures\GIF\WebArt\PE03323A.GIF"/>
          <p:cNvPicPr/>
          <p:nvPr/>
        </p:nvPicPr>
        <p:blipFill>
          <a:blip r:embed="rId2"/>
          <a:stretch/>
        </p:blipFill>
        <p:spPr>
          <a:xfrm>
            <a:off x="4643280" y="2565360"/>
            <a:ext cx="2490840" cy="2808360"/>
          </a:xfrm>
          <a:prstGeom prst="rect">
            <a:avLst/>
          </a:prstGeom>
          <a:ln w="0">
            <a:noFill/>
          </a:ln>
        </p:spPr>
      </p:pic>
      <p:sp>
        <p:nvSpPr>
          <p:cNvPr id="121" name="WordArt 3"/>
          <p:cNvSpPr txBox="1"/>
          <p:nvPr/>
        </p:nvSpPr>
        <p:spPr>
          <a:xfrm>
            <a:off x="3276720" y="3357720"/>
            <a:ext cx="1141200" cy="18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7524720" y="2924280"/>
            <a:ext cx="827280" cy="20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7236000" y="2133720"/>
            <a:ext cx="27288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65f91"/>
                </a:solidFill>
                <a:latin typeface="Arial Black"/>
              </a:rPr>
              <a:t>,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365f91"/>
              </a:solidFill>
              <a:latin typeface="Arial Black"/>
              <a:ea typeface="Arial Black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7674840" y="602136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УСЫ, ШАРАДЫ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3" descr="ребусы для детей"/>
          <p:cNvPicPr/>
          <p:nvPr/>
        </p:nvPicPr>
        <p:blipFill>
          <a:blip r:embed="rId1"/>
          <a:stretch/>
        </p:blipFill>
        <p:spPr>
          <a:xfrm>
            <a:off x="684360" y="1773360"/>
            <a:ext cx="7991280" cy="4680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747920" y="623736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УСЫ, ШАРАДЫ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г первый м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ёт в прошедшем време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торая часть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стричка в нотном пе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 целом – гениального строите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гко узнают питерские жител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7674840" y="602136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УСЫ, ШАРАДЫ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ое  - форма арбуза, Земл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догадаться уже вы смогл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из второго вкусную каш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т на завтрак  мамочка ваш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ое музыку будет дарить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за ручку тихонько крути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7674840" y="609300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УСЫ, ШАРАДЫ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к букве восемнадцатой по счё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бавим для начала третью нот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, с этажа шагая на этаж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сё та же красота, - добавим, - та ж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, всё сложив, получим мы в награ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вание театра или са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7674840" y="609300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СТОРИЧЕСКАЯ СТРАНИЧКА 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10 бал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483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Являются ли слов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ЦИРК и ЦИРКУЛЬ родственными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Картинка 63 из 9562"/>
          <p:cNvPicPr/>
          <p:nvPr/>
        </p:nvPicPr>
        <p:blipFill>
          <a:blip r:embed="rId1"/>
          <a:stretch/>
        </p:blipFill>
        <p:spPr>
          <a:xfrm>
            <a:off x="154764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Картинка 80 из 64000"/>
          <p:cNvPicPr/>
          <p:nvPr/>
        </p:nvPicPr>
        <p:blipFill>
          <a:blip r:embed="rId2"/>
          <a:stretch/>
        </p:blipFill>
        <p:spPr>
          <a:xfrm>
            <a:off x="5940360" y="4149720"/>
            <a:ext cx="162108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7918920" y="616572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СТОРИЧЕСКАЯ СТРАНИЧКА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20 бал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кая буква неофициально появилась в русском алфавите с приходом Интернета?</a:t>
            </a: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7846560" y="623736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7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СТОРИЧЕСКАЯ СТРАНИЧКА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40 бал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е приведённые ниже слова – устаревшие, но 4 устарели по одной причине, а одно – по другой. Как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) боярин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) веч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) армяк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) ямщик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) чел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Картинка 50 из 5558"/>
          <p:cNvPicPr/>
          <p:nvPr/>
        </p:nvPicPr>
        <p:blipFill>
          <a:blip r:embed="rId1"/>
          <a:stretch/>
        </p:blipFill>
        <p:spPr>
          <a:xfrm>
            <a:off x="3949560" y="3402000"/>
            <a:ext cx="3700440" cy="3187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7846560" y="616572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СТОРИЧЕСКАЯ СТРАНИЧКА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50 бал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341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.С. Пушкин и В.И. Даль были знакомы друг с другом. Пушкин даже подарил Далю свою сказку, сделав надпись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Твоя от твоих! Сказочнику Казаку Луганскому – сказочник Пушкин» О какой сказке идёт реч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7846560" y="623736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Картинка 4 из 17610"/>
          <p:cNvPicPr/>
          <p:nvPr/>
        </p:nvPicPr>
        <p:blipFill>
          <a:blip r:embed="rId2"/>
          <a:stretch/>
        </p:blipFill>
        <p:spPr>
          <a:xfrm>
            <a:off x="2152800" y="4413240"/>
            <a:ext cx="1955520" cy="2316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Картинка 2 из 9712"/>
          <p:cNvPicPr/>
          <p:nvPr/>
        </p:nvPicPr>
        <p:blipFill>
          <a:blip r:embed="rId3"/>
          <a:stretch/>
        </p:blipFill>
        <p:spPr>
          <a:xfrm>
            <a:off x="5102280" y="4340160"/>
            <a:ext cx="1938240" cy="23162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КСИКА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ни одним словом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ворить тихо, неразборчиво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вёртываться через голову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дти, делая частые, мелкие шаж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7846560" y="609300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КСИКА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989000"/>
            <a:ext cx="8642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ая поговорка гласит: «Не было ни гроша, да вдруг алтын!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сколько это алты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7493400" y="60213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КСИКА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ловаре В.И.Даля встречается ныне забытое слово КОЛОЗЕМИЦА. Каким заимствованным словом оно оказалось вытесненным в наши дн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7630920" y="595008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6:15:38Z</dcterms:created>
  <dc:creator>Наталья</dc:creator>
  <dc:description>З.В. Александрова  http://aida.ucoz.ru</dc:description>
  <dc:language>en-US</dc:language>
  <cp:lastModifiedBy>school127</cp:lastModifiedBy>
  <dcterms:modified xsi:type="dcterms:W3CDTF">2017-05-30T15:59:03Z</dcterms:modified>
  <cp:revision>185</cp:revision>
  <dc:subject>шаблон</dc:subject>
  <dc:title>Интеллектуальная викторина по  русскому  языку</dc:title>
</cp:coreProperties>
</file>