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8FE-9589-4E30-9EE4-C7703AA9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A6F-3C41-47DA-8765-C590E860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227-676F-4883-9A61-74B9655B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F19-F86F-4BB7-9220-71B0E4E1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B4B-880A-40B4-8863-9BFBB393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AD3-FB46-4FCA-9B81-017B3A7C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734-F7E4-49A6-AD37-39626AC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202-FC49-4C08-B1D8-C3FD4BC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253-D6AA-440D-96C2-979F9CB8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060-65ED-4023-9CFC-DBFA146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DA6-38B1-4D36-B5D4-1E1915C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19D-A73F-438D-97EC-496D3E6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C549-9E22-41DA-9E8A-CA85CEF8F5A6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54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3267000" y="1481040"/>
            <a:ext cx="5883480" cy="2895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76360" y="188640"/>
            <a:ext cx="57229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Наталья\Music\Pictures\logo.gif"/>
          <p:cNvPicPr/>
          <p:nvPr/>
        </p:nvPicPr>
        <p:blipFill>
          <a:blip r:embed="rId3"/>
          <a:stretch/>
        </p:blipFill>
        <p:spPr>
          <a:xfrm>
            <a:off x="7524720" y="189000"/>
            <a:ext cx="138132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773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те синонимы к словам: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екватный, флегматичный, утрировать, меркантильный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7630920" y="6093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206064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русская пословица следующим образом переведена на иностранный язык: «Недостаток ума компенсируй ходьбой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7702200" y="5877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вучьте свой заказ в кафе, если и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женных в меню блюд в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п из щавел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лат из свекл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фтели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нчики с творогом и сливовым варень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7674840" y="61657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отличается брОня от бронИ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- сборник карт; от уда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сит два моих знач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чу - преображусь в наз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естящей, шёлковой я тка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7674840" y="59500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ове верно выделена буква, обозначающая ударный гласный звук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ивЕе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соропрОвод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пОстроф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дАтай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746120" y="60930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ове буква, обозначающая ударный гласный, выделена 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Эксперт               2) туф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созвонИмся        4) облЕгчи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531200" y="59500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ё можно толочь в ступе и носить в решете. Можно прятать в неё концы и водить по ней вилами. Она бывает живая, мёртвая и на киселе. А если вы не хотите отвечать на мой вопрос, то можете набрать её в рот. Но в  ваших интересах на него ответить. Что э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603560" y="59500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а очень маленькая, но с её помощью можно прервать жизнь одного сказочного героя. Глупый человек может искать её в стоге сена, а тот, кто волнуется, будет на них сидеть. Новая одежда только что с неё. Что это за предм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760356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ОЛ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Картинка 9 из 7310"/>
          <p:cNvPicPr/>
          <p:nvPr/>
        </p:nvPicPr>
        <p:blipFill>
          <a:blip r:embed="rId1"/>
          <a:stretch/>
        </p:blipFill>
        <p:spPr>
          <a:xfrm>
            <a:off x="3995640" y="1700280"/>
            <a:ext cx="45133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04" name="Развернутая стрелка 4"/>
          <p:cNvGrpSpPr/>
          <p:nvPr/>
        </p:nvGrpSpPr>
        <p:grpSpPr>
          <a:xfrm>
            <a:off x="8113680" y="5840280"/>
            <a:ext cx="785880" cy="816120"/>
            <a:chOff x="8113680" y="5840280"/>
            <a:chExt cx="785880" cy="816120"/>
          </a:xfrm>
        </p:grpSpPr>
        <p:pic>
          <p:nvPicPr>
            <p:cNvPr id="105" name="Развернутая стрелка 4" descr=""/>
            <p:cNvPicPr/>
            <p:nvPr/>
          </p:nvPicPr>
          <p:blipFill>
            <a:blip r:embed="rId2"/>
            <a:stretch/>
          </p:blipFill>
          <p:spPr>
            <a:xfrm>
              <a:off x="8113680" y="5840280"/>
              <a:ext cx="78588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0800000">
              <a:off x="8172360" y="5877000"/>
              <a:ext cx="6717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1212840" y="225360"/>
            <a:ext cx="7559640" cy="84780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4"/>
          <p:cNvSpPr/>
          <p:nvPr/>
        </p:nvSpPr>
        <p:spPr>
          <a:xfrm>
            <a:off x="380880" y="1143000"/>
            <a:ext cx="83822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197000"/>
          <a:ext cx="8496000" cy="5184720"/>
        </p:xfrm>
        <a:graphic>
          <a:graphicData uri="http://schemas.openxmlformats.org/drawingml/2006/table">
            <a:tbl>
              <a:tblPr/>
              <a:tblGrid>
                <a:gridCol w="2736720"/>
                <a:gridCol w="1150920"/>
                <a:gridCol w="1225440"/>
                <a:gridCol w="1224000"/>
                <a:gridCol w="1079640"/>
                <a:gridCol w="1079280"/>
              </a:tblGrid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ЧЕСКАЯ СТРАНИ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Э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ЁРНЫЙ Я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УСЫ, ШАРА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47" name="TextBox 6"/>
          <p:cNvSpPr/>
          <p:nvPr/>
        </p:nvSpPr>
        <p:spPr>
          <a:xfrm>
            <a:off x="3959640" y="623736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7" action="ppaction://hlinksldjump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773000"/>
            <a:ext cx="88930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о бывает пятым у телеги вопреки всякому здравому смыслу. И что самое удивительное, некоторые любят вставлять в него палки. На нём можно даже жить, а можно в нём вертеться, но особенно его почему – то любят белки. Что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844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ожёны очень хорошо его знают, потому что он рядом с ними целый месяц. А когда его целая бочка, то находятся вредители, готовые испортить его, добавив в него ложку дёгтя. Его обожал один представитель млекопитающих, любящий прикидываться тучкой. 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747920" y="6237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я апостола Петра в переводе с древнееврейского обозначает именно это. Он бывает краеугольным, а бывает точкой преткновения. Плохой человек носит его за пазухой. В споре коса может на него най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760356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C:\Users\Вова\Pictures\GIF\WebArt\BD10902_.GIF"/>
          <p:cNvPicPr/>
          <p:nvPr/>
        </p:nvPicPr>
        <p:blipFill>
          <a:blip r:embed="rId1"/>
          <a:stretch/>
        </p:blipFill>
        <p:spPr>
          <a:xfrm>
            <a:off x="1042920" y="2133720"/>
            <a:ext cx="2970360" cy="3240000"/>
          </a:xfrm>
          <a:prstGeom prst="rect">
            <a:avLst/>
          </a:prstGeom>
          <a:ln w="0">
            <a:noFill/>
          </a:ln>
        </p:spPr>
      </p:pic>
      <p:cxnSp>
        <p:nvCxnSpPr>
          <p:cNvPr id="119" name="AutoShape 2"/>
          <p:cNvCxnSpPr/>
          <p:nvPr/>
        </p:nvCxnSpPr>
        <p:spPr>
          <a:xfrm flipV="1">
            <a:off x="539640" y="4005000"/>
            <a:ext cx="759600" cy="759600"/>
          </a:xfrm>
          <a:prstGeom prst="straightConnector1">
            <a:avLst/>
          </a:prstGeom>
          <a:ln w="12708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20" name="Рисунок 5" descr="C:\Users\Вова\Pictures\GIF\WebArt\PE03323A.GIF"/>
          <p:cNvPicPr/>
          <p:nvPr/>
        </p:nvPicPr>
        <p:blipFill>
          <a:blip r:embed="rId2"/>
          <a:stretch/>
        </p:blipFill>
        <p:spPr>
          <a:xfrm>
            <a:off x="4643280" y="2565360"/>
            <a:ext cx="2490840" cy="28083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3276720" y="3357720"/>
            <a:ext cx="11412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7524720" y="2924280"/>
            <a:ext cx="827280" cy="20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7236000" y="2133720"/>
            <a:ext cx="27288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65f91"/>
                </a:solidFill>
                <a:latin typeface="Arial Black"/>
              </a:rPr>
              <a:t>,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65f91"/>
              </a:solidFill>
              <a:latin typeface="Arial Black"/>
              <a:ea typeface="Arial Black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767484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ребусы для детей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747920" y="6237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г первый 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ёт в прошедшем време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ая част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стричка в нотном пе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 целом – гениального строите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гко узнают питерские жител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67484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е  - форма арбуза, Земл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догадаться уже вы смог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из второго вкусную каш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т на завтрак  мамочка ваш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ое музыку будет дарить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за ручку тихонько крут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к букве восемнадцатой по счё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бавим для начала третью но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, с этажа шагая на эта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сё та же красота, - добавим, - та ж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, всё сложив, получим мы в награ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вание театра или са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 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Являются ли слов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ЦИРК и ЦИРКУЛЬ родственным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63 из 9562"/>
          <p:cNvPicPr/>
          <p:nvPr/>
        </p:nvPicPr>
        <p:blipFill>
          <a:blip r:embed="rId1"/>
          <a:stretch/>
        </p:blipFill>
        <p:spPr>
          <a:xfrm>
            <a:off x="154764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80 из 64000"/>
          <p:cNvPicPr/>
          <p:nvPr/>
        </p:nvPicPr>
        <p:blipFill>
          <a:blip r:embed="rId2"/>
          <a:stretch/>
        </p:blipFill>
        <p:spPr>
          <a:xfrm>
            <a:off x="5940360" y="4149720"/>
            <a:ext cx="162108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918920" y="6165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ая буква неофициально появилась в русском алфавите с приходом Интернета?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7846560" y="623736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4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е приведённые ниже слова – устаревшие, но 4 устарели по одной причине, а одно – по другой. К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) бояри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) веч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) армя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) ямщи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) ч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50 из 5558"/>
          <p:cNvPicPr/>
          <p:nvPr/>
        </p:nvPicPr>
        <p:blipFill>
          <a:blip r:embed="rId1"/>
          <a:stretch/>
        </p:blipFill>
        <p:spPr>
          <a:xfrm>
            <a:off x="3949560" y="3402000"/>
            <a:ext cx="3700440" cy="3187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846560" y="6165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5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341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.С. Пушкин и В.И. Даль были знакомы друг с другом. Пушкин даже подарил Далю свою сказку, сделав надпис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Твоя от твоих! Сказочнику Казаку Луганскому – сказочник Пушкин» О какой сказке идёт ре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846560" y="623736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4 из 17610"/>
          <p:cNvPicPr/>
          <p:nvPr/>
        </p:nvPicPr>
        <p:blipFill>
          <a:blip r:embed="rId2"/>
          <a:stretch/>
        </p:blipFill>
        <p:spPr>
          <a:xfrm>
            <a:off x="2152800" y="4413240"/>
            <a:ext cx="1955520" cy="231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Картинка 2 из 9712"/>
          <p:cNvPicPr/>
          <p:nvPr/>
        </p:nvPicPr>
        <p:blipFill>
          <a:blip r:embed="rId3"/>
          <a:stretch/>
        </p:blipFill>
        <p:spPr>
          <a:xfrm>
            <a:off x="5102280" y="4340160"/>
            <a:ext cx="1938240" cy="2316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и одним словом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ворить тихо, неразборчиво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вёртываться через голову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дти, делая частые, мелкие шаж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846560" y="6093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ая поговорка гласит: «Не было ни гроша, да вдруг алтын!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сколько это алты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7493400" y="6021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оваре В.И.Даля встречается ныне забытое слово КОЛОЗЕМИЦА. Каким заимствованным словом оно оказалось вытесненным в наши д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7630920" y="59500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6:15:38Z</dcterms:created>
  <dc:creator>Наталья</dc:creator>
  <dc:description>З.В. Александрова  http://aida.ucoz.ru</dc:description>
  <dc:language>en-US</dc:language>
  <cp:lastModifiedBy>school127</cp:lastModifiedBy>
  <dcterms:modified xsi:type="dcterms:W3CDTF">2017-05-30T15:59:03Z</dcterms:modified>
  <cp:revision>185</cp:revision>
  <dc:subject>шаблон</dc:subject>
  <dc:title>Интеллектуальная викторина по  русскому  языку</dc:title>
</cp:coreProperties>
</file>