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E84-23BB-4389-B624-1BE9762E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056-FFFF-4710-A9D5-B24223CB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6F07A-74F0-4144-8751-D9AA7C2F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7343E-D02C-4CC1-9916-044745E5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5970D-596D-4EA1-BD7A-2341080E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7733A-683F-425B-A5FE-4441FA9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72DDE-62C9-49CE-9AE2-DB262FD0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25965-8A68-4CB2-A677-2D216747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D31AE-FC48-4AAD-B423-0F36E40A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53EAD-4EDE-4EC2-9ED6-52CC6996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D37AE-71A4-4C06-B51C-6803BAA0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D517E-A3DF-4D80-B5C0-CD6D7F5D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C7A-B9B8-4B89-A218-B946B15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E6076-D6E1-44A5-B81D-092729A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3243A-72ED-471C-B265-9E1CD59E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7C5CA-121C-402D-9662-58CFED5C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296F4-96D4-4045-AC01-42CB0FF4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D6E63-5C06-4251-9B79-82232F15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6CF89-0B3E-488F-8880-64018724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3A367-A762-49E7-B63B-CDFCAB9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43D4F-09FF-4BF9-BAA2-C50211D8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3832F-FD22-4F91-8DE0-A917E9BF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CF99A-A189-4E8B-9720-91BA4D21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EA0-A652-46A8-B6B3-435DF430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FD98E-FE50-46E5-9649-684F658F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58667-4EAF-4C33-8024-F0175148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BBB9C-898C-4504-BB1C-83944AB5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CE035-7C43-43DC-8326-F31F3C04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192DF-E943-43EC-87ED-11435998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28A6B-0D9C-455C-8B6A-7382CFAB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3AD95-0419-4137-B9FB-B9DAF594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E8B00-CB57-4C69-B75A-20F6C74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B6D1B-AB44-4D3B-9614-4429558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61011-AE81-4E91-A65F-0B5C7174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1932-F919-4EA1-B853-7103CCF6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DA499-4ACC-4DAE-8F3D-EBB55D44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B15EF-C977-474C-A2B4-55A8BAD7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79AC9-4D66-456D-BDE7-4E65320F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98C1E-10C2-4BDF-BF47-30819703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C9E49-BE44-4B7F-B5BB-5445CD66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B8F7E-18BB-42D8-9646-2454FE58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376BA-682A-4C02-94A7-E597900C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8874F-9E28-4297-AB72-276D8682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43DDB-3B4C-4B9D-A946-E3FED8E3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A38B8-D802-43F8-B1FC-6A3F1F4F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092E-1E84-4EAB-B679-D8490600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AC5B5-63C2-4AF4-8825-B32FE3D9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322AE-DC1A-496C-AF51-B64CEF9E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886B3-6453-4607-AAA8-AA171423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518C9-E4F4-4AD0-A2A6-3DC9F9B7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0A96F-FF6F-4D2F-AFA6-4F9CD16A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9C390F-D15D-4197-A436-3AC788B5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9E6B6E-0147-410B-AADE-CBC415ED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79667E-DCC5-4E12-B902-10C12BA8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7919B7-7191-423F-B1BE-E15AAAA7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450458-023A-4E30-A289-4FC9A2CB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DAE8-CB33-4CA0-992B-CAFE4DAD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DE0553-4FBF-4D97-9BC1-26745329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21EE28-93CA-4FE8-8FFD-D5FC4891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7CAB51-1C28-4DD1-A283-82547B4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11BAB7-D169-48E0-9049-20494713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6A3BD5-4AD3-4780-8BF2-587D6B87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C95B76-6984-4B90-A37F-F8E1FCA7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A87811-9271-4513-A2CF-877CB935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CD66CE-0A5B-498E-84B8-D5C0C091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AE514F-C34D-4D50-BB0B-6F5C7049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C103C0-2A51-447E-8685-995F6412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E82-8224-46A7-8485-00B5B5D6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8120B1-B06B-4256-841E-062CF608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6945CA-FD5E-4009-8F99-D27D2984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E1D415-A8B3-4E73-BD65-42E1233F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DFAC33-496A-4EE6-A3FE-F3D072CB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9C4387-2FB4-4942-A954-2AB1B0D2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6F2295-AED9-4A23-91DA-5B107910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AEC270-6FE7-4A04-8B59-A3347A1B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0F0B01-23DD-402E-ABBD-1F9CE570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C46600-5A07-49CB-ABCF-56C2731F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C81E-B71F-480D-8627-D4DE0AB9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DE79-4F99-46F9-9E12-43656B2A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94AC-5124-41A7-BB9E-A78EB085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265-4412-453C-9458-544D346D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2B25-F5E7-4081-B63A-C1A3C0E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9113-BF15-4C7D-8A50-EACD65A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9260-7FB4-404B-848E-6EAB38FD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3CA0-31A0-407C-88AC-25684D2E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B8EE-5684-46EC-9EC0-245114EF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408F-8969-43C7-AC19-5067B688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CFAC-EAA5-429C-A65D-11DA7BB1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9D93-7E26-47CB-9F77-58057028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E6E7-3358-464F-B6C8-0042D172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BF38-5044-4B83-B312-CDFBF15C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29C-641D-4215-9533-00DF0514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5AEB-B5CF-442A-B63D-EC75BED7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7598-9F38-4481-819D-5D77C11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DC1F-7D98-495C-9BBD-CA78BDBB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D6EB-5F66-451F-A88F-931D742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2AF8-C270-47D3-A413-7D915BF4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5E334-0479-4427-AFA8-EB0E6324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614A-CBD4-487F-A8DB-DFCD1AF3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667B-DF5A-493D-812D-5C19472E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5279-75E8-4F2C-9A79-8911E334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DD569-E386-4BB3-A214-4BE88D0A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5F9-EBB3-46E6-8053-11CC6669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CB57A-2C8C-4E3A-9B55-967BE262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5EC6-4255-466F-ABD6-CB2687C3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A060-7BAB-4978-8C49-6734F50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10F0-5C2C-478F-9168-3352A78A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6228-4084-4A9A-B4F4-F402132D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1E37-241F-4271-969B-FD5C7360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AA72-F225-4605-A1E1-809C968D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B9C9-C758-4927-9368-A56A65BE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66BDC-80A8-4E1D-BD21-E49A6E48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952D-8B71-4C3C-943B-0B2AD119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06B-BC3D-4DEA-A56E-74D03A94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B7EDE-1419-4951-A729-23E25811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08CCA-F47E-4712-AFC4-07C85153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11DC-9BE4-467E-A4CE-2743A364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EC689-87DE-4520-81FD-B8845566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84B1F-D73C-4F47-8FD0-2368711A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56F9-BDBD-4BD1-A506-C79BCA74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A0894-7EE3-4441-AE5E-17012FEA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1EBC6-FE6D-445D-B99F-80AD301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FC512-69B4-473F-BC99-832F6AF6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4B6B-7B85-4BE6-8E0E-CB6CBCFC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291-F8B2-4C84-AB1F-DC180945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0D75E-1EE0-4724-A536-BFF2D44D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3130E-3467-466F-B9DF-2BCD0185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DD742-B5CD-472C-979C-0E5C47A2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3714-B876-475A-9825-992D7D04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E7204-6E61-433D-9713-EF9D098D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E8B5-1096-432C-9CD5-4E93AA9A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2404A-4768-48E5-97AF-E226EB02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0B3E-ABAC-43EC-A12F-0DA2C2F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7AC0C-5987-49FF-89EB-538769C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032A4-F7B3-472B-A36B-92F7500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0DB-1C99-4279-A341-BC36126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492CE-C5A1-4432-9C57-64712F79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FE160-9132-4259-A5F4-E6362557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2D8AC-44A3-4EE7-BCCC-659DF53F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43127-D79B-4771-9A69-FB5BFA20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C5D1A-CD59-48DE-870F-39111281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CFE2-C7EE-43B4-84E7-53154230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E8CB3-3CB1-413F-8CE6-4EA2FFE8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69784-BB02-447C-9472-DD32AA24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E1120-5909-4BD2-B2EA-18ECEFE3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A9355-8B39-4945-BF74-56C8A103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E70-027F-44B4-A271-8940F524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C474F-7BC9-41E0-B465-6E38EB20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25C8-0F8D-4D48-9CC1-EE4C5B64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D4828-65D0-4EF8-AE3A-AAD12D4E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065DF-7CD3-497B-BAF3-4A7AFBE8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65B7C-F984-483C-BBC8-FD9B5BDF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B21F8-1915-4FF5-8CDD-716F29C0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AA548-350C-4899-B6E0-54B14DB7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6336-ED1D-4A89-9DC2-088BE3AA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D7E5-0C51-45FB-820E-E2959767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C7127-5675-4A98-A325-4E318355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E58-6EFE-4D91-A23B-97A51E7D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C8956-E180-41B3-A568-F0D07474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13141-FD4A-49AB-A2CA-8175BB5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B2633-591F-43E0-8045-C2F60ED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D7767-2922-4B56-807C-AFB7EE7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5D4B9-3349-4A53-8343-758F851D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75AD4-4ADE-42F5-B9A9-AE664CB9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83FA5-7D5A-4D76-A818-CE3283AF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0A0CB-E8B6-48B0-BBEA-0A435F72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BEC36-8BFE-4D3A-A105-875A84EA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30025-F3A4-4422-B128-65FC1296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1DDD-4625-482B-9458-1189789152C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C395-7964-4239-AD49-5CB75B18B1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8977-FD7F-4C7A-8A31-93194E8FD39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D378-0A06-459A-B83B-BA0A9EB9CAC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692A-83C0-472B-AA46-6D172F14E0E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3A3A-4B72-475C-8618-39652CDD37C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DBC3-7D79-4E8B-A731-4017EC981A5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0682-C3D0-4024-B5CB-B91CCAC7863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52DF-6973-40AA-A4A4-9F6F06C753F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7270-1D53-4708-BB8B-A27351BC388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917-611B-41EA-9B26-C417BDEC2CA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7F94-1E09-4442-9AE2-184E073DDEA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C1F8-75CE-4CAD-9C79-5EDD4123C5B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C2AA-8B33-435F-B0FF-0DE02CF089F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9720" y="1214280"/>
            <a:ext cx="73486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16349"/>
                </a:solidFill>
                <a:latin typeface="Georgia"/>
              </a:rPr>
              <a:t>«Из истории имён»</a:t>
            </a:r>
            <a:br>
              <a:rPr sz="4200"/>
            </a:br>
            <a:br>
              <a:rPr sz="4200"/>
            </a:b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0" lang="ru-RU" sz="3300" spc="-1" strike="noStrike">
                <a:solidFill>
                  <a:srgbClr val="0070c0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200016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ересказ текста учебника на с. 40-45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атной тетради выполнить задание  20 на  с. 10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ть историю о том, как возникли фамилии Пескарёв, Печников, Веселов  или своя фамилия (на выбор)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6" name="Picture 4" descr="03"/>
          <p:cNvPicPr/>
          <p:nvPr/>
        </p:nvPicPr>
        <p:blipFill>
          <a:blip r:embed="rId1"/>
          <a:stretch/>
        </p:blipFill>
        <p:spPr>
          <a:xfrm>
            <a:off x="6659640" y="333360"/>
            <a:ext cx="2303280" cy="18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WordArt 4"/>
          <p:cNvSpPr txBox="1"/>
          <p:nvPr/>
        </p:nvSpPr>
        <p:spPr>
          <a:xfrm>
            <a:off x="928800" y="1071720"/>
            <a:ext cx="7416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Спасибо за участ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738" name="Picture 5" descr=""/>
          <p:cNvPicPr/>
          <p:nvPr/>
        </p:nvPicPr>
        <p:blipFill>
          <a:blip r:embed="rId1"/>
          <a:stretch/>
        </p:blipFill>
        <p:spPr>
          <a:xfrm>
            <a:off x="3214800" y="3357720"/>
            <a:ext cx="28098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 Древней Греции Гомер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08" name="Picture 6" descr="3747589"/>
          <p:cNvPicPr/>
          <p:nvPr/>
        </p:nvPicPr>
        <p:blipFill>
          <a:blip r:embed="rId1"/>
          <a:stretch/>
        </p:blipFill>
        <p:spPr>
          <a:xfrm>
            <a:off x="447840" y="1714680"/>
            <a:ext cx="4219560" cy="368136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4"/>
          <p:cNvSpPr/>
          <p:nvPr/>
        </p:nvSpPr>
        <p:spPr>
          <a:xfrm>
            <a:off x="4643280" y="642960"/>
            <a:ext cx="4071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ервый же ми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 рождению каждый убогий и знат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я как сладостный дар, от родных своих получ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428720" y="642960"/>
            <a:ext cx="47149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ременном толковом словаре русского языка Т.Ф.Ефремово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Имя -  наименование человека, даваемое ему при рождении и отличающее его от других».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5" descr="Словарь словарь русского языка автора Т.Ф. Ефремовой (Толково - словообразовательный). Новый словарь русского языка. П-Я Толково"/>
          <p:cNvPicPr/>
          <p:nvPr/>
        </p:nvPicPr>
        <p:blipFill>
          <a:blip r:embed="rId1"/>
          <a:stretch/>
        </p:blipFill>
        <p:spPr>
          <a:xfrm>
            <a:off x="428760" y="928800"/>
            <a:ext cx="3786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ена и прозвища в древней Руси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04360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ющие внешние признаки или черты характера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в семье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и место рождения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ство  с каким-либо животным или растением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4" name="Picture 7" descr=""/>
          <p:cNvPicPr/>
          <p:nvPr/>
        </p:nvPicPr>
        <p:blipFill>
          <a:blip r:embed="rId1"/>
          <a:stretch/>
        </p:blipFill>
        <p:spPr>
          <a:xfrm>
            <a:off x="5715000" y="1484280"/>
            <a:ext cx="2817720" cy="41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Рисунок 4" descr=""/>
          <p:cNvPicPr/>
          <p:nvPr/>
        </p:nvPicPr>
        <p:blipFill>
          <a:blip r:embed="rId1"/>
          <a:srcRect l="23261" t="19508" r="44151" b="8150"/>
          <a:stretch/>
        </p:blipFill>
        <p:spPr>
          <a:xfrm>
            <a:off x="2000160" y="428760"/>
            <a:ext cx="50720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3280" y="578592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70c0"/>
                </a:solidFill>
                <a:latin typeface="Georgia"/>
              </a:rPr>
              <a:t>Крещение Рус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8" name="Picture 8" descr="Крещение руси реферат :: Work"/>
          <p:cNvPicPr/>
          <p:nvPr/>
        </p:nvPicPr>
        <p:blipFill>
          <a:blip r:embed="rId1"/>
          <a:stretch/>
        </p:blipFill>
        <p:spPr>
          <a:xfrm>
            <a:off x="428760" y="428760"/>
            <a:ext cx="815652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499680" y="1357200"/>
            <a:ext cx="835812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фамилия» на латинском языке означает «семья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на Руси у человека было только им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к именам прибавляли еще и отчество . Говорили: Петр, Иванов сын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позднее и появились фамилии: Иванов, Борис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0735d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f0735d"/>
                </a:solidFill>
                <a:latin typeface="Times New Roman"/>
                <a:ea typeface="Times New Roman"/>
              </a:rPr>
              <a:t>Как зовут богатырей?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21" name="Picture 7" descr="195829292"/>
          <p:cNvPicPr/>
          <p:nvPr/>
        </p:nvPicPr>
        <p:blipFill>
          <a:blip r:embed="rId1"/>
          <a:stretch/>
        </p:blipFill>
        <p:spPr>
          <a:xfrm>
            <a:off x="1476360" y="1484280"/>
            <a:ext cx="5977080" cy="43498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403280" y="5949720"/>
            <a:ext cx="72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бота с учебником. (с.41- 42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Таблица 2" descr=""/>
          <p:cNvPicPr/>
          <p:nvPr/>
        </p:nvPicPr>
        <p:blipFill>
          <a:blip r:embed="rId1"/>
          <a:stretch/>
        </p:blipFill>
        <p:spPr>
          <a:xfrm>
            <a:off x="1474920" y="2060640"/>
            <a:ext cx="6224400" cy="26398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6"/>
          <p:cNvSpPr/>
          <p:nvPr/>
        </p:nvSpPr>
        <p:spPr>
          <a:xfrm>
            <a:off x="1835280" y="3068640"/>
            <a:ext cx="194472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Ничего не поня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1763640" y="2205000"/>
            <a:ext cx="201636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Получил удоволь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1835280" y="3860640"/>
            <a:ext cx="194472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Удив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"/>
          <p:cNvSpPr/>
          <p:nvPr/>
        </p:nvSpPr>
        <p:spPr>
          <a:xfrm>
            <a:off x="5508720" y="2205000"/>
            <a:ext cx="187164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Узнал что-то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5508720" y="3860640"/>
            <a:ext cx="18190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5508720" y="2997360"/>
            <a:ext cx="181908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Науч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Солнце 11"/>
          <p:cNvSpPr/>
          <p:nvPr/>
        </p:nvSpPr>
        <p:spPr>
          <a:xfrm>
            <a:off x="3924360" y="2565360"/>
            <a:ext cx="1368360" cy="1270080"/>
          </a:xfrm>
          <a:prstGeom prst="sun">
            <a:avLst>
              <a:gd name="adj" fmla="val 25000"/>
            </a:avLst>
          </a:prstGeom>
          <a:solidFill>
            <a:srgbClr val="d19049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TextBox 10" descr=""/>
          <p:cNvPicPr/>
          <p:nvPr/>
        </p:nvPicPr>
        <p:blipFill>
          <a:blip r:embed="rId2"/>
          <a:stretch/>
        </p:blipFill>
        <p:spPr>
          <a:xfrm>
            <a:off x="4041720" y="2682720"/>
            <a:ext cx="1500120" cy="1279800"/>
          </a:xfrm>
          <a:prstGeom prst="rect">
            <a:avLst/>
          </a:prstGeom>
          <a:ln w="0">
            <a:noFill/>
          </a:ln>
        </p:spPr>
      </p:pic>
      <p:pic>
        <p:nvPicPr>
          <p:cNvPr id="732" name="Заголовок 1" descr=""/>
          <p:cNvPicPr/>
          <p:nvPr/>
        </p:nvPicPr>
        <p:blipFill>
          <a:blip r:embed="rId3"/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3" name="Рисунок 13" descr="139.gif"/>
          <p:cNvPicPr/>
          <p:nvPr/>
        </p:nvPicPr>
        <p:blipFill>
          <a:blip r:embed="rId4"/>
          <a:stretch/>
        </p:blipFill>
        <p:spPr>
          <a:xfrm>
            <a:off x="3500280" y="4786200"/>
            <a:ext cx="2151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7:58:05Z</dcterms:created>
  <dc:creator>Екатерина</dc:creator>
  <dc:description/>
  <dc:language>en-US</dc:language>
  <cp:lastModifiedBy>Дайаана Макарова</cp:lastModifiedBy>
  <dcterms:modified xsi:type="dcterms:W3CDTF">2017-05-30T10:36:55Z</dcterms:modified>
  <cp:revision>34</cp:revision>
  <dc:subject/>
  <dc:title>Слайд 1</dc:title>
</cp:coreProperties>
</file>