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387-B477-4727-829C-278947C3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CBA-241A-472D-B752-00FFF03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4DFBC-1997-4A94-BFC6-73F67D3E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5E9D1-50BA-4D1E-9749-253EB86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45DD3-7FF9-46F6-B22F-B35C6CE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EDB81-E4B5-46E7-9AD6-8221102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9E1EA-3A54-4445-A49D-EAABD26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23196-B572-4EE7-9224-DBE5F2C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35867-D09A-45CD-A86E-AF83F6B3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B0DD2-AB0D-45DD-BA07-B94DC8FC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C979E-7F76-43C1-A235-88552707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6F5C8-13E6-4971-9157-A7031177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75B-CA69-4897-A857-F2B6D39C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5C8B5-C10D-4B47-9002-1D918C0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C405B-BDB7-4718-9169-68E5345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580B3-A9A9-4DC0-8E6D-FD00C0D9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3E241-DCA3-43C8-9654-823B51C0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6739D-1681-4F4B-A665-22051EE4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31B4C-9490-49E9-BBDE-DFAD76D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B8A93-68D1-4DF5-9149-CC40E9ED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C6920-08CE-4444-919F-F061B164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EFC35-60EF-4138-9865-AC9B6BFD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5A074-EA1E-4676-B4AE-EFE1C703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35A-075D-45B8-8C7B-A0CE18A3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47AD9-47EC-4A6F-9AD3-139AC360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3D130-746B-4133-8044-E1E85DD4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E345F-5D16-4635-AF40-13E849C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09912-4C42-4C7B-9E0E-BBD6C4C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699B-8BC3-41E3-9578-4A306E6E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5782-5429-4832-9522-C936BA2B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EF68D-8F12-43D7-A71D-0D0E5C73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EF2DE-A5E5-4D7E-AB4A-35DF373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35D5E-8BE1-47D3-AE13-5D562C8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1109D-817C-43B6-AD0B-1C57893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CDF7-A027-4E90-9B4C-625AAD97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50A10-157D-4306-8885-72D205C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16B3-393F-4E49-970F-AABACD48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F035C-9A7C-40B9-AF06-7379CBD2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96DD7-01C4-4CF5-9435-215038C5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D7820-43AD-48CA-96A4-B67D237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890DA-D35D-4810-B964-B71357FE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64691-87AB-449F-941F-8F46818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8916D-ED40-4743-8E60-F94F8B6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8C8DA-E264-4066-B2E0-7F14F5D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37757-1B2A-4DE7-A47C-46C1AD5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D8E2-A38B-4617-9CC0-16702B8F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93F6D-FE92-413F-BFB0-2867B2D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8967A-34E0-40C2-82DA-8875787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91F1E-AE58-43E3-B1FC-AB013D2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2FF59-6903-4051-AE17-FD7F2A7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04BB6-7B89-4121-A504-0C8C4A4C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13A872-8558-46D6-B216-E13CFCC6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3B4BD8-C32B-468F-9ACF-A3708253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A11AA0-151C-430D-931F-61509C0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625F06-0712-4BE9-9C20-D9C15F3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6BB4DA-DE7D-4D65-B361-8BE626BD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91B-185E-40F7-B73A-867EBDF6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711711-2C23-4300-9F77-73BE5B7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E8F75A-1D44-41E4-8786-595975F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05080C-5969-4825-895D-09C5D149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30F69-7F58-4EB4-8B02-5908FC1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082C5-F773-4854-869F-56E8D12B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2213F-DBD2-48E9-AA31-DD15401D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89BEC4-13EF-4912-B1C4-9462487E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3B87AC-7896-4118-9621-08B260A5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300C2A-25D3-4C9E-9A5C-FC90D73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DF3BD9-4EE1-443B-B3E0-E2EAD02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3FD-A8F7-41B2-9C06-C2843AC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F8AE63-461A-4EE8-995F-E17B4ED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48303B-6DFE-4513-A8E7-4AB5B06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DC91D3-0B57-42D4-A9C3-57ECD0AC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71FC0A-5815-4500-80D2-6836141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863A4C-6FA9-4C68-BCEA-36EB8C88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EEB953-6671-4116-8952-17F2B3E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86A925-A637-4630-9C76-9A51073C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5A3E8C-0C3E-4A1C-8594-6EAF2FC5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39329C-83A9-401D-B6CE-D3DB4FDD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74D-0961-4CE5-A0A9-9D500C47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0CE-3660-4F56-82ED-330F4272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288D-C0AD-4025-9669-F887090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BEE-EE5A-42A7-B5BC-A7710ABB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D9D8-4B69-4AC9-A78C-898DE8B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56AF-9F38-4946-997A-5B23E6A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4AC-15A3-4A65-9BBE-06C4EA8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987C-6D68-463E-95A1-F557C9B0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986C-53CC-4516-A7BC-5B7FDE90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E56B-BBAA-48B0-875D-134E8D59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A501-8D3C-4405-937B-5D4D2D6B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7678-E442-4DA7-A806-85BA0CF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811F-FAE1-46B1-B152-1863E8B8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3691-C6D0-4534-B872-B56EE8C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F3E-771A-4A48-AE0A-A594923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CBD5-BE71-450D-B131-7AE31DF7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5152-6091-4F7E-A379-C91250D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5FC1-1C28-4053-A450-B635E39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1E5A-3473-4B40-B9BD-9DE076D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A595-FB58-436B-A6EB-5376938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E7DF-119F-4A66-8520-98CB3CB1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8A83-DEB0-4EA5-9A40-1F103BC7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871E-4630-4F47-9CE4-CAA94B25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1D90-E125-47CB-8F57-FE048605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D050-9219-43F6-A713-53252286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602-38F1-4604-81D2-F378E93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E089-8C68-46F6-A2D7-CA9140E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33D7-9936-4DA1-97F4-51C421E5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43D4-E30E-41AC-861A-A397DC9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58A8-223B-48FE-BFFA-C2CF706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AFFE-1C15-4865-8985-E66FD64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1DA7-8A1D-4515-A61A-261099A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2A85B-B876-4AEE-9CEF-5CD11CB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2D66-8EDC-40C3-8F77-6DE5708E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5713-7110-4585-A375-C0A90EFB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0436-B079-4656-AC46-D6CCF9A0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9BF-3A48-4594-8DB0-FCDB30C8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B6972-C475-4EDA-AB4C-078CAC2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1428-A2B3-47C6-910D-7D12E27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D874-3C88-48AC-96FB-CF07BDD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A083-72DE-4694-9CA3-90D966B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BBB0-6493-4DAC-8347-8835E2B5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FD67-1339-4671-BF0E-5470671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F1E9-32B8-498C-A3EA-68DC275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57C0-05C6-43F7-A747-967EF42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D68E-31D7-49E2-AD3E-75ACEB17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F705-CF61-4FB1-AC27-8134DB03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DAC-A427-4E87-822C-4250D203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ED03-D1CB-4063-B670-3F686ED5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37FF-CFD2-44D0-94C6-CB1E0FF6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516F-8266-42BB-B135-B8E99EF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4108-B6DB-4311-9EF7-65F46023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8A1D5-4501-48B9-A9D2-C2DA591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0BF4-C339-4576-BA42-AA24F489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D4AC8-ACA0-4BF1-A014-96DAC47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AFA6-0E8B-4A47-9BC4-23C792B3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6E27-5B34-480A-AEA2-F9B4603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44FF-15EF-4C25-816F-C2D67DF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B98-7E72-4BDC-A78E-A2A655E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0BB4D-51C8-4032-8033-4E069059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7DE0-D5D9-4843-846E-036DADEC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C829-F59B-4AFC-9F70-AC9E6A77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E5C32-16EC-42E2-AB6B-7CF95F8E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A633-BEF2-40A5-9BDF-1BA0411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F28AB-14A0-4D3C-88C0-54A4B679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24B4-A0CF-4FFF-A964-0FDAE38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C2D6-C439-4178-A189-036DECB8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6132-E0F0-4735-BF15-593C1E80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21284-0733-4854-86B8-9CF85DB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3D6-0252-4EAB-890F-8C86D6A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3B94-F7CF-49BE-82AB-9CF227A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83DE8-59B8-4CC2-B3C3-8A215E3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ADC2F-0284-4C10-BF7C-AC3A9141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69F15-B3E8-44F8-9E20-115394BC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18AD-3604-4B02-87E0-F28438AE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8970-C203-4AAF-BFB2-538E258A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57DE-8395-40AF-9404-779C619D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17359-7E6D-4607-BF33-E82BF91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24606-7C20-414A-B454-A2EDE1F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769E-0A2F-4AE1-9B1C-579C7C12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1C6-5E59-4128-8847-ACAE03D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4C40-4015-424A-B1EF-346A3063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A1405-99E8-4EFF-B684-1EC5162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A8364-F8E0-48B4-9E4F-308A425B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A9985-4325-4AA6-AA64-EFE9FA4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2C31-99D5-43E3-8E21-49B1E2A2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76178-079E-46EE-8C70-2EDA3309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03D8-CC6A-495A-8074-12B299E5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AB521-C829-40B2-9715-B8B8E61B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87609-1DCB-4DCA-A3A1-C92D114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A48D6-910A-4E33-B702-731327DE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D98-2676-434F-A2E2-9F66A597D93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271-955B-4FBB-B9ED-BAEE6FC6A0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2AE-CE4F-4D54-8B13-43D40CA2D6C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9D1-149A-47DF-A630-29DCE404DE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EBC-AE1D-485F-A388-5AA8471C3B1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C80-A700-4CAE-8471-D6ED5FFA927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439-DA53-41DE-B3A2-20218C75A01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0B8F-0594-4A10-B7A9-554D2F457CB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50F-0AEB-4A35-83CC-5C327B8D38B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CD7-AD4C-4B54-95BE-8228279B38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A6BE-D25B-43CA-9199-DC5235A917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8DF8-1B10-4ED9-A8BB-F731919031E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6B9F-0FCD-48C3-AAA6-2182ABF5E8F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9984-646A-45C1-B377-004BDC117D4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9720" y="1214280"/>
            <a:ext cx="73486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6349"/>
                </a:solidFill>
                <a:latin typeface="Georgia"/>
              </a:rPr>
              <a:t>«Из истории имён»</a:t>
            </a:r>
            <a:br>
              <a:rPr sz="4200"/>
            </a:br>
            <a:br>
              <a:rPr sz="4200"/>
            </a:b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3300" spc="-1" strike="noStrike">
                <a:solidFill>
                  <a:srgbClr val="0070c0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20001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ересказ текста учебника на с. 40-45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атной тетради выполнить задание  20 на  с. 10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историю о том, как возникли фамилии Пескарёв, Печников, Веселов  или своя фамилия (на выбор)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6" name="Picture 4" descr="03"/>
          <p:cNvPicPr/>
          <p:nvPr/>
        </p:nvPicPr>
        <p:blipFill>
          <a:blip r:embed="rId1"/>
          <a:stretch/>
        </p:blipFill>
        <p:spPr>
          <a:xfrm>
            <a:off x="6659640" y="333360"/>
            <a:ext cx="230328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WordArt 4"/>
          <p:cNvSpPr txBox="1"/>
          <p:nvPr/>
        </p:nvSpPr>
        <p:spPr>
          <a:xfrm>
            <a:off x="928800" y="1071720"/>
            <a:ext cx="74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Спасибо за участ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738" name="Picture 5" descr=""/>
          <p:cNvPicPr/>
          <p:nvPr/>
        </p:nvPicPr>
        <p:blipFill>
          <a:blip r:embed="rId1"/>
          <a:stretch/>
        </p:blipFill>
        <p:spPr>
          <a:xfrm>
            <a:off x="3214800" y="3357720"/>
            <a:ext cx="28098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Древней Греции Гомер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08" name="Picture 6" descr="3747589"/>
          <p:cNvPicPr/>
          <p:nvPr/>
        </p:nvPicPr>
        <p:blipFill>
          <a:blip r:embed="rId1"/>
          <a:stretch/>
        </p:blipFill>
        <p:spPr>
          <a:xfrm>
            <a:off x="447840" y="1714680"/>
            <a:ext cx="4219560" cy="36813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4643280" y="642960"/>
            <a:ext cx="407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ервый же ми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рождению каждый убогий и знат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я как сладостный дар, от родных своих полу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428720" y="642960"/>
            <a:ext cx="47149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ременном толковом словаре русского языка Т.Ф.Ефремов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Имя -  наименование человека, даваемое ему при рождении и отличающее его от других».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5" descr="Словарь словарь русского языка автора Т.Ф. Ефремовой (Толково - словообразовательный). Новый словарь русского языка. П-Я Толково"/>
          <p:cNvPicPr/>
          <p:nvPr/>
        </p:nvPicPr>
        <p:blipFill>
          <a:blip r:embed="rId1"/>
          <a:stretch/>
        </p:blipFill>
        <p:spPr>
          <a:xfrm>
            <a:off x="428760" y="928800"/>
            <a:ext cx="3786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на и прозвища в древней Руси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4360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щие внешние признаки или черты характер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в семье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и место рожд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о  с каким-либо животным или растением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4" name="Picture 7" descr=""/>
          <p:cNvPicPr/>
          <p:nvPr/>
        </p:nvPicPr>
        <p:blipFill>
          <a:blip r:embed="rId1"/>
          <a:stretch/>
        </p:blipFill>
        <p:spPr>
          <a:xfrm>
            <a:off x="5715000" y="1484280"/>
            <a:ext cx="281772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4" descr=""/>
          <p:cNvPicPr/>
          <p:nvPr/>
        </p:nvPicPr>
        <p:blipFill>
          <a:blip r:embed="rId1"/>
          <a:srcRect l="23261" t="19508" r="44151" b="8150"/>
          <a:stretch/>
        </p:blipFill>
        <p:spPr>
          <a:xfrm>
            <a:off x="2000160" y="428760"/>
            <a:ext cx="5072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3280" y="578592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70c0"/>
                </a:solidFill>
                <a:latin typeface="Georgia"/>
              </a:rPr>
              <a:t>Крещение Рус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8" name="Picture 8" descr="Крещение руси реферат :: Work"/>
          <p:cNvPicPr/>
          <p:nvPr/>
        </p:nvPicPr>
        <p:blipFill>
          <a:blip r:embed="rId1"/>
          <a:stretch/>
        </p:blipFill>
        <p:spPr>
          <a:xfrm>
            <a:off x="428760" y="428760"/>
            <a:ext cx="81565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499680" y="135720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фамилия» на латинском языке означает «семья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на Руси у человека было только им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к именам прибавляли еще и отчество . Говорили: Петр, Иванов сын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позднее и появились фамилии: Иванов, Борис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0735d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f0735d"/>
                </a:solidFill>
                <a:latin typeface="Times New Roman"/>
                <a:ea typeface="Times New Roman"/>
              </a:rPr>
              <a:t>Как зовут богатырей?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21" name="Picture 7" descr="195829292"/>
          <p:cNvPicPr/>
          <p:nvPr/>
        </p:nvPicPr>
        <p:blipFill>
          <a:blip r:embed="rId1"/>
          <a:stretch/>
        </p:blipFill>
        <p:spPr>
          <a:xfrm>
            <a:off x="1476360" y="1484280"/>
            <a:ext cx="5977080" cy="43498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403280" y="5949720"/>
            <a:ext cx="72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бота с учебником. (с.41- 42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Таблица 2" descr=""/>
          <p:cNvPicPr/>
          <p:nvPr/>
        </p:nvPicPr>
        <p:blipFill>
          <a:blip r:embed="rId1"/>
          <a:stretch/>
        </p:blipFill>
        <p:spPr>
          <a:xfrm>
            <a:off x="1474920" y="2060640"/>
            <a:ext cx="6224400" cy="26398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1835280" y="3068640"/>
            <a:ext cx="194472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Ничего не поня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1763640" y="2205000"/>
            <a:ext cx="201636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Получил удоволь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835280" y="3860640"/>
            <a:ext cx="19447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Уди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"/>
          <p:cNvSpPr/>
          <p:nvPr/>
        </p:nvSpPr>
        <p:spPr>
          <a:xfrm>
            <a:off x="5508720" y="2205000"/>
            <a:ext cx="18716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Узнал что-то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5508720" y="3860640"/>
            <a:ext cx="1819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5508720" y="2997360"/>
            <a:ext cx="181908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Науч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олнце 11"/>
          <p:cNvSpPr/>
          <p:nvPr/>
        </p:nvSpPr>
        <p:spPr>
          <a:xfrm>
            <a:off x="3924360" y="2565360"/>
            <a:ext cx="1368360" cy="1270080"/>
          </a:xfrm>
          <a:prstGeom prst="sun">
            <a:avLst>
              <a:gd name="adj" fmla="val 25000"/>
            </a:avLst>
          </a:prstGeom>
          <a:solidFill>
            <a:srgbClr val="d19049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TextBox 10" descr=""/>
          <p:cNvPicPr/>
          <p:nvPr/>
        </p:nvPicPr>
        <p:blipFill>
          <a:blip r:embed="rId2"/>
          <a:stretch/>
        </p:blipFill>
        <p:spPr>
          <a:xfrm>
            <a:off x="4041720" y="2682720"/>
            <a:ext cx="1500120" cy="1279800"/>
          </a:xfrm>
          <a:prstGeom prst="rect">
            <a:avLst/>
          </a:prstGeom>
          <a:ln w="0">
            <a:noFill/>
          </a:ln>
        </p:spPr>
      </p:pic>
      <p:pic>
        <p:nvPicPr>
          <p:cNvPr id="732" name="Заголовок 1" descr=""/>
          <p:cNvPicPr/>
          <p:nvPr/>
        </p:nvPicPr>
        <p:blipFill>
          <a:blip r:embed="rId3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3" name="Рисунок 13" descr="139.gif"/>
          <p:cNvPicPr/>
          <p:nvPr/>
        </p:nvPicPr>
        <p:blipFill>
          <a:blip r:embed="rId4"/>
          <a:stretch/>
        </p:blipFill>
        <p:spPr>
          <a:xfrm>
            <a:off x="3500280" y="4786200"/>
            <a:ext cx="2151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7:58:05Z</dcterms:created>
  <dc:creator>Екатерина</dc:creator>
  <dc:description/>
  <dc:language>en-US</dc:language>
  <cp:lastModifiedBy>Дайаана Макарова</cp:lastModifiedBy>
  <dcterms:modified xsi:type="dcterms:W3CDTF">2017-05-30T10:36:55Z</dcterms:modified>
  <cp:revision>34</cp:revision>
  <dc:subject/>
  <dc:title>Слайд 1</dc:title>
</cp:coreProperties>
</file>