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CC6-0337-4751-B514-6AF39FAC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79B-6D8A-4B85-99AF-D16C33F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43D-E9BA-4C82-8CD3-126FAD4B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AD6-3865-425B-8729-0B7E9A77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7E7-2BE4-4F69-B553-7A67D57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611-B943-43FB-81B7-02EF3B79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757-2676-4268-BFDD-7C1FD5EB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559-58D2-4CE2-BAA3-400F16BB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49C-7287-46A5-8A07-3224803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283-ED5E-4FF7-908C-B27C355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834-043C-4938-9B46-62B2F2AB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100-5A98-4B82-A3A2-B1D6C35A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B06-FCA0-4EB0-BE00-7C09FD9BC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rcRect l="5776" t="0" r="0" b="77960"/>
          <a:stretch/>
        </p:blipFill>
        <p:spPr>
          <a:xfrm>
            <a:off x="287280" y="216000"/>
            <a:ext cx="8569440" cy="1412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533520" y="1447920"/>
            <a:ext cx="8569080" cy="499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Что общего во всех этих словах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41148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ёд,  ряд, соль, рис, мел, лю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14200" y="1071720"/>
            <a:ext cx="6500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арисуем мягкий знак 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ежно капелькой 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Вот так: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Букву капелька смягчит 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лово мягко прозвучит.</a:t>
            </a:r>
            <a:br>
              <a:rPr sz="4800"/>
            </a:b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" name="Picture 3" descr="C:\Documents and Settings\ADMIN\Рабочий стол\82020127_large_.png"/>
          <p:cNvPicPr/>
          <p:nvPr/>
        </p:nvPicPr>
        <p:blipFill>
          <a:blip r:embed="rId1"/>
          <a:stretch/>
        </p:blipFill>
        <p:spPr>
          <a:xfrm>
            <a:off x="5643720" y="2928960"/>
            <a:ext cx="2944800" cy="360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571760" y="3571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Чистописание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10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4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Picture 11" descr="52a9522f28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16"/>
          <p:cNvSpPr txBox="1"/>
          <p:nvPr/>
        </p:nvSpPr>
        <p:spPr>
          <a:xfrm>
            <a:off x="1981080" y="1676520"/>
            <a:ext cx="5562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4fb94f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4fb94f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523880" y="99072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ягкий знак как показатель мягкости согласных звуков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6"/>
          <p:cNvSpPr/>
          <p:nvPr/>
        </p:nvSpPr>
        <p:spPr>
          <a:xfrm>
            <a:off x="457200" y="990720"/>
            <a:ext cx="8280360" cy="5562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560" y="228600"/>
            <a:ext cx="49021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ВЕДЕНИЯ О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762120" y="914400"/>
            <a:ext cx="633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мягкий знак 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не обозначает звука; 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бозначает мягкость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ного звука;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пишется в середине слова между двумя согласными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может менять смысл слова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Picture 4" descr="D:\Оксана\картинки\sova200.png"/>
          <p:cNvPicPr/>
          <p:nvPr/>
        </p:nvPicPr>
        <p:blipFill>
          <a:blip r:embed="rId1"/>
          <a:stretch/>
        </p:blipFill>
        <p:spPr>
          <a:xfrm>
            <a:off x="6566040" y="6480"/>
            <a:ext cx="257148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:\Users\Лара\Desktop\img9.jpg"/>
          <p:cNvPicPr/>
          <p:nvPr/>
        </p:nvPicPr>
        <p:blipFill>
          <a:blip r:embed="rId1"/>
          <a:stretch/>
        </p:blipFill>
        <p:spPr>
          <a:xfrm>
            <a:off x="228600" y="42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Лара\Desktop\img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пишите, вставляя нужные по смыслу слова: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47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абль сел на ______.                             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ня взял___________.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лесу растёт _______ .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ра_______сливу.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009920" y="2057040"/>
            <a:ext cx="1600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Облако 2"/>
          <p:cNvSpPr/>
          <p:nvPr/>
        </p:nvSpPr>
        <p:spPr>
          <a:xfrm flipV="1">
            <a:off x="108000" y="1179000"/>
            <a:ext cx="8928000" cy="4321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22096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егодня на уроке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 уроке 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Эти знания мне нужны для того, чтоб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не не понят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кончите пред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14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Спасибо за хорошую работу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Оксана\картинки\19.jpg"/>
          <p:cNvPicPr/>
          <p:nvPr/>
        </p:nvPicPr>
        <p:blipFill>
          <a:blip r:embed="rId1"/>
          <a:stretch/>
        </p:blipFill>
        <p:spPr>
          <a:xfrm>
            <a:off x="2303640" y="506520"/>
            <a:ext cx="4536720" cy="463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ра</dc:creator>
  <dc:description>viki.rdf.ru</dc:description>
  <dc:language>en-US</dc:language>
  <cp:lastModifiedBy>Лара</cp:lastModifiedBy>
  <dcterms:modified xsi:type="dcterms:W3CDTF">2017-04-16T11:46:35Z</dcterms:modified>
  <cp:revision>26</cp:revision>
  <dc:subject/>
  <dc:title>Ъ и Ь зна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9000000000001024140</vt:lpwstr>
  </property>
  <property fmtid="{D5CDD505-2E9C-101B-9397-08002B2CF9AE}" pid="3" name="Version">
    <vt:r8>1</vt:r8>
  </property>
</Properties>
</file>