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D98-C696-4819-8183-89732C8B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573-18CC-4A07-A88C-09AEFACF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1DB-F6C6-4B6F-A40E-6515EBCC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C4C-A9B7-4FBF-8B60-E4A15E3E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A1A-AEEE-417C-8524-62039AF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94F-9CD5-410B-8428-5A9A7BC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C0E-D6A1-4437-AD2B-F253603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FC1-B39B-4D2B-AF51-81200D60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74C-E32C-478C-9CC8-12C2A06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5C4-9CE4-419F-B6ED-1049991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9F8-77FE-4B27-9D89-7D435275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B24-F24B-4F69-B2C2-30CCA122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248-0A4A-4274-86B0-A003D6328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rcRect l="5776" t="0" r="0" b="77960"/>
          <a:stretch/>
        </p:blipFill>
        <p:spPr>
          <a:xfrm>
            <a:off x="287280" y="216000"/>
            <a:ext cx="8569440" cy="1412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533520" y="1447920"/>
            <a:ext cx="8569080" cy="499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общего во всех этих слова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41148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ёд,  ряд, соль, рис, мел, лю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14200" y="1071720"/>
            <a:ext cx="6500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арисуем мягкий знак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ежно капелькой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Вот так: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укву капелька смягчит 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лово мягко прозвучит.</a:t>
            </a:r>
            <a:br>
              <a:rPr sz="4800"/>
            </a:b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Picture 3" descr="C:\Documents and Settings\ADMIN\Рабочий стол\82020127_large_.png"/>
          <p:cNvPicPr/>
          <p:nvPr/>
        </p:nvPicPr>
        <p:blipFill>
          <a:blip r:embed="rId1"/>
          <a:stretch/>
        </p:blipFill>
        <p:spPr>
          <a:xfrm>
            <a:off x="5643720" y="2928960"/>
            <a:ext cx="2944800" cy="36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71760" y="357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Чистописание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10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4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Picture 11" descr="52a9522f28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16"/>
          <p:cNvSpPr txBox="1"/>
          <p:nvPr/>
        </p:nvSpPr>
        <p:spPr>
          <a:xfrm>
            <a:off x="1981080" y="1676520"/>
            <a:ext cx="5562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4fb94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4fb94f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523880" y="99072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ягкий знак как показатель мягкости согласных звуков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6"/>
          <p:cNvSpPr/>
          <p:nvPr/>
        </p:nvSpPr>
        <p:spPr>
          <a:xfrm>
            <a:off x="457200" y="990720"/>
            <a:ext cx="8280360" cy="5562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228600"/>
            <a:ext cx="49021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ВЕДЕНИЯ О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762120" y="914400"/>
            <a:ext cx="633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ягкий знак 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е обозначает звука; 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бозначает мягкость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ного звука;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пишется в середине слова между двумя согласными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может менять смысл слова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Picture 4" descr="D:\Оксана\картинки\sova200.png"/>
          <p:cNvPicPr/>
          <p:nvPr/>
        </p:nvPicPr>
        <p:blipFill>
          <a:blip r:embed="rId1"/>
          <a:stretch/>
        </p:blipFill>
        <p:spPr>
          <a:xfrm>
            <a:off x="6566040" y="6480"/>
            <a:ext cx="257148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Users\Лара\Desktop\img9.jpg"/>
          <p:cNvPicPr/>
          <p:nvPr/>
        </p:nvPicPr>
        <p:blipFill>
          <a:blip r:embed="rId1"/>
          <a:stretch/>
        </p:blipFill>
        <p:spPr>
          <a:xfrm>
            <a:off x="228600" y="42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Лара\Desktop\img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пишите, вставляя нужные по смыслу слова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бль сел на ______.                             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ня взял___________.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лесу растёт _______ .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а_______сливу.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009920" y="2057040"/>
            <a:ext cx="1600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Облако 2"/>
          <p:cNvSpPr/>
          <p:nvPr/>
        </p:nvSpPr>
        <p:spPr>
          <a:xfrm flipV="1">
            <a:off x="108000" y="1179000"/>
            <a:ext cx="8928000" cy="4321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2096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егодня на уроке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 уроке 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ти знания мне нужны для того, чтоб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не не понят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кончите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14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Спасибо за хорошую работу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Оксана\картинки\19.jpg"/>
          <p:cNvPicPr/>
          <p:nvPr/>
        </p:nvPicPr>
        <p:blipFill>
          <a:blip r:embed="rId1"/>
          <a:stretch/>
        </p:blipFill>
        <p:spPr>
          <a:xfrm>
            <a:off x="2303640" y="506520"/>
            <a:ext cx="4536720" cy="463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ра</dc:creator>
  <dc:description>viki.rdf.ru</dc:description>
  <dc:language>en-US</dc:language>
  <cp:lastModifiedBy>Лара</cp:lastModifiedBy>
  <dcterms:modified xsi:type="dcterms:W3CDTF">2017-04-16T11:46:35Z</dcterms:modified>
  <cp:revision>26</cp:revision>
  <dc:subject/>
  <dc:title>Ъ и Ь зна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9000000000001024140</vt:lpwstr>
  </property>
  <property fmtid="{D5CDD505-2E9C-101B-9397-08002B2CF9AE}" pid="3" name="Version">
    <vt:r8>1</vt:r8>
  </property>
</Properties>
</file>