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camera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chimes.wav" ContentType="audio/x-wav"/>
  <Override PartName="/ppt/media/image8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677-778D-4B3E-8676-44D8CB4C5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B045-8BBD-4970-A970-7E019E57A9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333-FABD-4A70-956F-AD27996E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83E-4E89-4095-89C9-C0FFAF46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AC8-2F8F-4C58-B688-1CD3F332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19B-09AE-42D4-939C-935CB507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7F94B-832C-4928-B764-8090DCB3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F3FC5-679F-4C11-B6D1-A6E4C260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44496-902E-42C0-BDE1-D3C48E0F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152F8-E1C2-45A6-A590-B673D757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F0FFF-62CE-4432-BDA2-E4B2710B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064AC-A591-4DB3-AB11-05F4CD7B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14CF5-229F-45E0-820A-38AD530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79A-9AE3-4235-99E6-619F9398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DB65B-7F0B-4F5F-857B-5C66A5C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8FA2A-AC89-4383-9856-F421D8A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EBF62-E818-4873-8B84-09F34FFD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D5DB2-9546-4060-B428-A3461616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3CD67-28F8-409A-A676-7FEEAD8C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2E3-B787-4783-9E94-FA59E5C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8D5-5E5F-41A4-B8D1-EFAEB1CA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F1B-3747-4749-B8A2-5D2D4FE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A57-5F59-41F0-ABB7-00415F0B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F4D-9124-497C-9E97-4489BBE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EDD-A2E9-419C-A0E9-9070264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CCF-81FC-4B75-8D26-7FF1B842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35E4-F84A-40D8-A978-B8E3F9A31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28B9-5C41-4D89-A895-6941E285BE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20760"/>
            <a:ext cx="8229600" cy="57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Анаграм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Наритимскид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винаренуе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фэкоцинетиф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Ерокн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934920" y="3571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Прямоугольник 6" descr=""/>
          <p:cNvPicPr/>
          <p:nvPr/>
        </p:nvPicPr>
        <p:blipFill>
          <a:blip r:embed="rId1"/>
          <a:stretch/>
        </p:blipFill>
        <p:spPr>
          <a:xfrm>
            <a:off x="5516640" y="5699160"/>
            <a:ext cx="3328920" cy="482400"/>
          </a:xfrm>
          <a:prstGeom prst="rect">
            <a:avLst/>
          </a:prstGeom>
          <a:ln w="0">
            <a:noFill/>
          </a:ln>
        </p:spPr>
      </p:pic>
      <p:sp>
        <p:nvSpPr>
          <p:cNvPr id="111" name="Нижний колонтитул 7"/>
          <p:cNvSpPr/>
          <p:nvPr/>
        </p:nvSpPr>
        <p:spPr>
          <a:xfrm flipH="1">
            <a:off x="9529200" y="6356520"/>
            <a:ext cx="21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311720" y="828720"/>
            <a:ext cx="4575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щее правило решения квадратных уравнений, приведенных к единому каноническому виду х²+вх+с=0 , было сформулировано в Европе лишь в 1544 г. Штиф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C:\Documents and Settings\Sergey\Рабочий стол\57984922_Stifel_Michel.jpg"/>
          <p:cNvPicPr/>
          <p:nvPr/>
        </p:nvPicPr>
        <p:blipFill>
          <a:blip r:embed="rId2"/>
          <a:stretch/>
        </p:blipFill>
        <p:spPr>
          <a:xfrm>
            <a:off x="239760" y="739800"/>
            <a:ext cx="3989520" cy="51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7000" y="-360"/>
            <a:ext cx="78865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ОВРЕМЕННЫЙ ВИД РЕШЕНИЯ КВАДРАТНЫХ  УРАВНЕНИЙ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ывод формулы решения квадратного уравнения   в общем виде имеется у Виета,     однако Виет признавал только положительные корни.    Лишь в 17 в. благодаря трудам Декарта, Ньютона и других ученых способ решения квадратных уравнений принимает современный ви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1"/>
          <a:stretch/>
        </p:blipFill>
        <p:spPr>
          <a:xfrm>
            <a:off x="6099120" y="2533680"/>
            <a:ext cx="2600280" cy="342108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2"/>
          <a:stretch/>
        </p:blipFill>
        <p:spPr>
          <a:xfrm>
            <a:off x="3343320" y="2589120"/>
            <a:ext cx="2633760" cy="341640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117" name="Picture 26" descr=""/>
          <p:cNvPicPr/>
          <p:nvPr/>
        </p:nvPicPr>
        <p:blipFill>
          <a:blip r:embed="rId3"/>
          <a:stretch/>
        </p:blipFill>
        <p:spPr>
          <a:xfrm>
            <a:off x="603360" y="2585880"/>
            <a:ext cx="2554200" cy="340056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sp>
        <p:nvSpPr>
          <p:cNvPr id="118" name="Text Box 27"/>
          <p:cNvSpPr/>
          <p:nvPr/>
        </p:nvSpPr>
        <p:spPr>
          <a:xfrm>
            <a:off x="585720" y="5981760"/>
            <a:ext cx="24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96-16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Дек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951520" y="60213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43-17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3514680" y="6014880"/>
            <a:ext cx="24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40-1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.Ви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 flipV="1">
            <a:off x="485640" y="495180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13"/>
          <p:cNvSpPr/>
          <p:nvPr/>
        </p:nvSpPr>
        <p:spPr>
          <a:xfrm>
            <a:off x="428760" y="36432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544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№1 Установите связь между квадратным уравнением и способами его ре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Скругленный прямоугольник 7"/>
          <p:cNvSpPr/>
          <p:nvPr/>
        </p:nvSpPr>
        <p:spPr>
          <a:xfrm>
            <a:off x="428760" y="1714680"/>
            <a:ext cx="3071520" cy="642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Скругленный прямоугольник 11"/>
          <p:cNvSpPr/>
          <p:nvPr/>
        </p:nvSpPr>
        <p:spPr>
          <a:xfrm>
            <a:off x="428760" y="264312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928800" y="3635280"/>
                <a:ext cx="22557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Скругленный прямоугольник 14"/>
          <p:cNvSpPr/>
          <p:nvPr/>
        </p:nvSpPr>
        <p:spPr>
          <a:xfrm>
            <a:off x="428760" y="45720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кругленный прямоугольник 16"/>
          <p:cNvSpPr/>
          <p:nvPr/>
        </p:nvSpPr>
        <p:spPr>
          <a:xfrm>
            <a:off x="428760" y="557208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760" y="2643120"/>
                <a:ext cx="3082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1"/>
              <p:cNvSpPr txBox="1"/>
              <p:nvPr/>
            </p:nvSpPr>
            <p:spPr>
              <a:xfrm>
                <a:off x="1271520" y="5599080"/>
                <a:ext cx="1428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928800" y="4606920"/>
                <a:ext cx="2068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4979880" y="3362400"/>
                <a:ext cx="25178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035680" y="2357280"/>
                <a:ext cx="29685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867200" y="1500120"/>
                <a:ext cx="3038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8"/>
              <p:cNvSpPr txBox="1"/>
              <p:nvPr/>
            </p:nvSpPr>
            <p:spPr>
              <a:xfrm>
                <a:off x="5106960" y="4214880"/>
                <a:ext cx="1687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5022720" y="5500800"/>
                <a:ext cx="3122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0"/>
              <p:cNvSpPr txBox="1"/>
              <p:nvPr/>
            </p:nvSpPr>
            <p:spPr>
              <a:xfrm>
                <a:off x="5162400" y="4572000"/>
                <a:ext cx="2575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5"/>
          <p:cNvSpPr/>
          <p:nvPr/>
        </p:nvSpPr>
        <p:spPr>
          <a:xfrm>
            <a:off x="0" y="76824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2c"/>
                </a:solidFill>
                <a:latin typeface="Calibri"/>
                <a:ea typeface="Times New Roman"/>
              </a:rPr>
              <a:t>Уравнение  не имеет решения при , 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8258040" y="1068480"/>
            <a:ext cx="689040" cy="438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0" y="105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0" y="360"/>
            <a:ext cx="2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7" descr=""/>
          <p:cNvPicPr/>
          <p:nvPr/>
        </p:nvPicPr>
        <p:blipFill>
          <a:blip r:embed="rId2"/>
          <a:stretch/>
        </p:blipFill>
        <p:spPr>
          <a:xfrm>
            <a:off x="8032680" y="3446640"/>
            <a:ext cx="914400" cy="703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9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26"/>
          <p:cNvSpPr/>
          <p:nvPr/>
        </p:nvSpPr>
        <p:spPr>
          <a:xfrm flipH="1">
            <a:off x="7581960" y="348948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27"/>
          <p:cNvSpPr/>
          <p:nvPr/>
        </p:nvSpPr>
        <p:spPr>
          <a:xfrm>
            <a:off x="7554960" y="36291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7746840" y="3776760"/>
            <a:ext cx="189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13"/>
          <p:cNvSpPr/>
          <p:nvPr/>
        </p:nvSpPr>
        <p:spPr>
          <a:xfrm>
            <a:off x="428760" y="36432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544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1   Проверьте правильность выпол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Скругленный прямоугольник 7"/>
          <p:cNvSpPr/>
          <p:nvPr/>
        </p:nvSpPr>
        <p:spPr>
          <a:xfrm>
            <a:off x="428760" y="1714680"/>
            <a:ext cx="3071520" cy="642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Скругленный прямоугольник 11"/>
          <p:cNvSpPr/>
          <p:nvPr/>
        </p:nvSpPr>
        <p:spPr>
          <a:xfrm>
            <a:off x="428760" y="264312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928800" y="3635280"/>
                <a:ext cx="22557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Скругленный прямоугольник 14"/>
          <p:cNvSpPr/>
          <p:nvPr/>
        </p:nvSpPr>
        <p:spPr>
          <a:xfrm>
            <a:off x="428760" y="45720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Скругленный прямоугольник 16"/>
          <p:cNvSpPr/>
          <p:nvPr/>
        </p:nvSpPr>
        <p:spPr>
          <a:xfrm>
            <a:off x="428760" y="557208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428760" y="2643120"/>
                <a:ext cx="3082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1271520" y="5599080"/>
                <a:ext cx="1428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928800" y="4606920"/>
                <a:ext cx="2068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979880" y="3362400"/>
                <a:ext cx="25178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035680" y="2357280"/>
                <a:ext cx="29685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4867200" y="1500120"/>
                <a:ext cx="3038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8"/>
              <p:cNvSpPr txBox="1"/>
              <p:nvPr/>
            </p:nvSpPr>
            <p:spPr>
              <a:xfrm>
                <a:off x="5106960" y="4214880"/>
                <a:ext cx="1687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5022720" y="5500800"/>
                <a:ext cx="3122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0"/>
              <p:cNvSpPr txBox="1"/>
              <p:nvPr/>
            </p:nvSpPr>
            <p:spPr>
              <a:xfrm>
                <a:off x="5162400" y="4572000"/>
                <a:ext cx="2575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5"/>
          <p:cNvSpPr/>
          <p:nvPr/>
        </p:nvSpPr>
        <p:spPr>
          <a:xfrm>
            <a:off x="0" y="76824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4d"/>
                </a:solidFill>
                <a:latin typeface="Calibri"/>
                <a:ea typeface="Times New Roman"/>
              </a:rPr>
              <a:t>Уравнение  не имеет решения при , 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58040" y="1068480"/>
            <a:ext cx="689040" cy="438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0" y="105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0" y="360"/>
            <a:ext cx="2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7" descr=""/>
          <p:cNvPicPr/>
          <p:nvPr/>
        </p:nvPicPr>
        <p:blipFill>
          <a:blip r:embed="rId2"/>
          <a:stretch/>
        </p:blipFill>
        <p:spPr>
          <a:xfrm>
            <a:off x="8032680" y="3446640"/>
            <a:ext cx="914400" cy="70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9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26"/>
          <p:cNvSpPr/>
          <p:nvPr/>
        </p:nvSpPr>
        <p:spPr>
          <a:xfrm flipH="1">
            <a:off x="7581960" y="348948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27"/>
          <p:cNvSpPr/>
          <p:nvPr/>
        </p:nvSpPr>
        <p:spPr>
          <a:xfrm>
            <a:off x="7554960" y="36291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29"/>
          <p:cNvCxnSpPr>
            <a:stCxn id="151" idx="3"/>
          </p:cNvCxnSpPr>
          <p:nvPr/>
        </p:nvCxnSpPr>
        <p:spPr>
          <a:xfrm>
            <a:off x="3500280" y="2036880"/>
            <a:ext cx="1772640" cy="3921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32"/>
          <p:cNvCxnSpPr/>
          <p:nvPr/>
        </p:nvCxnSpPr>
        <p:spPr>
          <a:xfrm>
            <a:off x="3514680" y="2957040"/>
            <a:ext cx="1572480" cy="7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34"/>
          <p:cNvCxnSpPr>
            <a:stCxn id="149" idx="3"/>
          </p:cNvCxnSpPr>
          <p:nvPr/>
        </p:nvCxnSpPr>
        <p:spPr>
          <a:xfrm>
            <a:off x="3500280" y="3965040"/>
            <a:ext cx="1658160" cy="964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38"/>
          <p:cNvCxnSpPr>
            <a:stCxn id="155" idx="3"/>
          </p:cNvCxnSpPr>
          <p:nvPr/>
        </p:nvCxnSpPr>
        <p:spPr>
          <a:xfrm flipV="1">
            <a:off x="3499920" y="1514160"/>
            <a:ext cx="1458360" cy="3380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40"/>
          <p:cNvCxnSpPr>
            <a:stCxn id="155" idx="3"/>
          </p:cNvCxnSpPr>
          <p:nvPr/>
        </p:nvCxnSpPr>
        <p:spPr>
          <a:xfrm flipV="1">
            <a:off x="3500280" y="3913920"/>
            <a:ext cx="1558080" cy="980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Прямая со стрелкой 42"/>
          <p:cNvCxnSpPr>
            <a:stCxn id="156" idx="3"/>
          </p:cNvCxnSpPr>
          <p:nvPr/>
        </p:nvCxnSpPr>
        <p:spPr>
          <a:xfrm flipV="1">
            <a:off x="3499920" y="4485600"/>
            <a:ext cx="1615320" cy="1408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Line 35"/>
          <p:cNvSpPr/>
          <p:nvPr/>
        </p:nvSpPr>
        <p:spPr>
          <a:xfrm flipV="1">
            <a:off x="7667640" y="3785760"/>
            <a:ext cx="270000" cy="12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5920" y="277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2  определение количества  корней   неполного квадратного уравн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96800" y="1890720"/>
          <a:ext cx="8029800" cy="4389480"/>
        </p:xfrm>
        <a:graphic>
          <a:graphicData uri="http://schemas.openxmlformats.org/drawingml/2006/table">
            <a:tbl>
              <a:tblPr/>
              <a:tblGrid>
                <a:gridCol w="1606680"/>
                <a:gridCol w="1604880"/>
                <a:gridCol w="1478160"/>
                <a:gridCol w="2182680"/>
                <a:gridCol w="1157400"/>
              </a:tblGrid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различных по модулю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противоположных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имею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х ²– 8х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² + 4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- 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х² – 4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15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8680" y="214200"/>
            <a:ext cx="84866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2    проверьте правильность выпол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360" y="1200240"/>
          <a:ext cx="8029440" cy="4500360"/>
        </p:xfrm>
        <a:graphic>
          <a:graphicData uri="http://schemas.openxmlformats.org/drawingml/2006/table">
            <a:tbl>
              <a:tblPr/>
              <a:tblGrid>
                <a:gridCol w="1606680"/>
                <a:gridCol w="1207800"/>
                <a:gridCol w="1814760"/>
                <a:gridCol w="2243160"/>
                <a:gridCol w="1157040"/>
              </a:tblGrid>
              <a:tr h="12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различных по модулю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противоположных            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имею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х ²– 8х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² + 4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- 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х² – 4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15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aff"/>
                </a:solidFill>
                <a:latin typeface="Tahoma"/>
              </a:rPr>
              <a:t>Тест №3  </a:t>
            </a:r>
            <a:br>
              <a:rPr sz="3600"/>
            </a:br>
            <a:r>
              <a:rPr b="0" lang="ru-RU" sz="3600" spc="-1" strike="noStrike">
                <a:solidFill>
                  <a:srgbClr val="0a0aff"/>
                </a:solidFill>
                <a:latin typeface="Tahoma"/>
              </a:rPr>
              <a:t>определение  количества корней  квадратного уравн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320" y="19051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96800" y="1890720"/>
          <a:ext cx="8433000" cy="3240000"/>
        </p:xfrm>
        <a:graphic>
          <a:graphicData uri="http://schemas.openxmlformats.org/drawingml/2006/table">
            <a:tbl>
              <a:tblPr/>
              <a:tblGrid>
                <a:gridCol w="1532160"/>
                <a:gridCol w="1600200"/>
                <a:gridCol w="1971720"/>
                <a:gridCol w="1628640"/>
                <a:gridCol w="170028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8х+5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х²-12х+1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3х+4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²+6х+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›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‹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3  </a:t>
            </a:r>
            <a:br>
              <a:rPr sz="3600"/>
            </a:b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оверьте правильность выполн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8320" y="2071440"/>
            <a:ext cx="8543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6800" y="1890720"/>
          <a:ext cx="8433000" cy="4262400"/>
        </p:xfrm>
        <a:graphic>
          <a:graphicData uri="http://schemas.openxmlformats.org/drawingml/2006/table">
            <a:tbl>
              <a:tblPr/>
              <a:tblGrid>
                <a:gridCol w="1532160"/>
                <a:gridCol w="1600200"/>
                <a:gridCol w="1971720"/>
                <a:gridCol w="1628640"/>
                <a:gridCol w="1700280"/>
              </a:tblGrid>
              <a:tr h="8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8х+5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х²-12х+1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3х+4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²+6х+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›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‹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2473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Какое уравнение «лишне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1) 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   (2)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3х+4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0,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+7=0                       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25=0                               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-8=0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х-2)(х+3)=0                         7х+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3)    4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5х+2=0                    (4)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10х+25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            2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,5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+1=0                       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1=0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2х+8=0                           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Какое уравнение «лишне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9984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1)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(2)  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3х+4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0,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+7=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+5х-8=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25=0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-8=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х-2)(х+3)=0                       7х+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3)  4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5х+2=0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a0a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(4)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10х+25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          2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,5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+1=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1=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+2х+8=0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= 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99640" y="813960"/>
            <a:ext cx="73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Дискриминан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Уравн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Коэффициен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Кор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Квадратные уравнения в Инд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6271920"/>
            <a:ext cx="403848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хаскара Агарь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(1114-118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86080" y="914040"/>
            <a:ext cx="467208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Древней Индии    были распространены публичные соревнования в решении трудных задач.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     Вот одна из задач знаменитого индийского математика XII века  Бхаск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rcRect l="18165" t="38603" r="71291" b="41877"/>
          <a:stretch/>
        </p:blipFill>
        <p:spPr>
          <a:xfrm>
            <a:off x="385920" y="971640"/>
            <a:ext cx="3843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Задача Бхаск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7120" y="1071360"/>
            <a:ext cx="484344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две партии разбивш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бавлялись обезья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сть восьмая их в квадр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роще весело резви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иком радостным двенадц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здух свежий оглаш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месте сколько же ты скаж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зьян там было в рощ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F:\Обевзяна\kak_obezianki_obedali.jpg"/>
          <p:cNvPicPr/>
          <p:nvPr/>
        </p:nvPicPr>
        <p:blipFill>
          <a:blip r:embed="rId1"/>
          <a:stretch/>
        </p:blipFill>
        <p:spPr>
          <a:xfrm>
            <a:off x="5500800" y="1071720"/>
            <a:ext cx="3276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4520" y="299520"/>
            <a:ext cx="810072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ше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5329080"/>
            <a:ext cx="640080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Сопоставьте своё решение и решение ученого. Сравните способы реш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3200400" y="942840"/>
                <a:ext cx="5386320" cy="431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TextBox 3"/>
          <p:cNvSpPr/>
          <p:nvPr/>
        </p:nvSpPr>
        <p:spPr>
          <a:xfrm>
            <a:off x="3186000" y="478620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: 48 или 16 обезья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Тест (разноуровневые задания)</a:t>
            </a:r>
            <a:br>
              <a:rPr sz="36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ить квадратное уравнение различными способами: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а) по свойству коэффициентов;  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б)по формуле корней;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)по формуле корней для четного коэффициента;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г)выделением квадрата двучлена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За уравнение уровня «В» получают еще дополнительно 2 балла , за уровень «С» – 3 балла.</a:t>
            </a:r>
            <a:br>
              <a:rPr sz="1400"/>
            </a:br>
            <a:r>
              <a:rPr b="1" lang="ru-RU" sz="1200" spc="-1" strike="noStrike">
                <a:solidFill>
                  <a:srgbClr val="000066"/>
                </a:solidFill>
                <a:latin typeface="Tahoma"/>
              </a:rPr>
              <a:t> </a:t>
            </a:r>
            <a:br>
              <a:rPr sz="1200"/>
            </a:br>
            <a:br>
              <a:rPr sz="13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2640" y="251424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Первый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16х+1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9=3х(2-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3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471760"/>
            <a:ext cx="403848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торой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14х-1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10х=5(х</a:t>
            </a:r>
            <a:r>
              <a:rPr b="0" lang="ru-RU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1 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779480" y="5456160"/>
            <a:ext cx="760680" cy="5270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5411880" y="5372280"/>
            <a:ext cx="744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43080" y="843120"/>
          <a:ext cx="8543880" cy="3482640"/>
        </p:xfrm>
        <a:graphic>
          <a:graphicData uri="http://schemas.openxmlformats.org/drawingml/2006/table">
            <a:tbl>
              <a:tblPr/>
              <a:tblGrid>
                <a:gridCol w="2369880"/>
                <a:gridCol w="771480"/>
                <a:gridCol w="771480"/>
                <a:gridCol w="1681200"/>
                <a:gridCol w="1474920"/>
                <a:gridCol w="738360"/>
                <a:gridCol w="736560"/>
              </a:tblGrid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Урав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·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x-2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6x-16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4x-32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5x-14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5x+6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13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13840" y="4414680"/>
            <a:ext cx="86439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Заполнить таблицу.  Сделать выв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Создать учебный проект на тему «Квадратные уравнения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Существуют ещё несколько способов решения квадратных уравнений. Рекомендую поискать их в математических книгах и поделиться своими находками на занят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ок трен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184120" indent="-21841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3399"/>
                </a:solidFill>
                <a:latin typeface="Tahoma"/>
              </a:rPr>
              <a:t>«Квадратные уравне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</a:t>
            </a: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Уравнение представляет собой   наиболее серьезную и важную вещь в математике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 algn="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  </a:t>
            </a: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Лодж.О</a:t>
            </a:r>
            <a:r>
              <a:rPr b="0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0440" y="1071720"/>
            <a:ext cx="810108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А. Эйнштейн</a:t>
            </a: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:«Мне приходится делить  своё  время  между политикой  и  уравнениями. Однако уравнения, по-моему, гораздо важнее, потому что политика существует только до данного момента, а уравнения будут существовать вечн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2320" y="274320"/>
            <a:ext cx="57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4400" y="19173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8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x² +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12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x 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+2012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 = 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0960" y="55872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0a0aff"/>
                </a:solidFill>
                <a:latin typeface="Tahoma"/>
              </a:rPr>
              <a:t>(2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m-5</a:t>
            </a:r>
            <a:r>
              <a:rPr b="1" lang="ru-RU" sz="3200" spc="-1" strike="noStrike">
                <a:solidFill>
                  <a:srgbClr val="0a0aff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x</a:t>
            </a:r>
            <a:r>
              <a:rPr b="1" lang="en-US" sz="3200" spc="-1" strike="noStrike" baseline="30000">
                <a:solidFill>
                  <a:srgbClr val="0a0a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+(4m+8)x+36=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ри каких значениях параметра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данное уравн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является приведенным квадратным уравнением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В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является неполным квадратным уравнением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С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не является квадратным уравн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92920" y="2709720"/>
            <a:ext cx="1711440" cy="44640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939000" y="3753000"/>
            <a:ext cx="1711440" cy="44604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951600" y="4925880"/>
            <a:ext cx="1711440" cy="44640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В каком древнем городе еще около 2000 лет до н.э. первыми научились решать квадратные уравн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5" descr=""/>
          <p:cNvPicPr/>
          <p:nvPr/>
        </p:nvPicPr>
        <p:blipFill>
          <a:blip r:embed="rId1"/>
          <a:stretch/>
        </p:blipFill>
        <p:spPr>
          <a:xfrm>
            <a:off x="1898640" y="1562040"/>
            <a:ext cx="547380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уравнение вида ах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+вх+с=0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Название выражения  в 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- 4 а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Сколько корней имеет квадратное уравнение, если </a:t>
            </a:r>
            <a:r>
              <a:rPr b="1" lang="en-US" sz="1600" spc="-1" strike="noStrike">
                <a:solidFill>
                  <a:srgbClr val="000066"/>
                </a:solidFill>
                <a:latin typeface="Book Antiqua"/>
              </a:rPr>
              <a:t>D &gt; 0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Сколько коней имеет квадратное уравнение если</a:t>
            </a:r>
            <a:r>
              <a:rPr b="1" lang="en-US" sz="1600" spc="-1" strike="noStrike">
                <a:solidFill>
                  <a:srgbClr val="000066"/>
                </a:solidFill>
                <a:latin typeface="Book Antiqua"/>
              </a:rPr>
              <a:t>   D=0 ?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Чему равен корень уравнения  ах 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= 0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где коэффициенты </a:t>
            </a:r>
            <a:r>
              <a:rPr b="1" lang="ru-RU" sz="2000" spc="-1" strike="noStrike">
                <a:solidFill>
                  <a:srgbClr val="000066"/>
                </a:solidFill>
                <a:latin typeface="Book Antiqua"/>
              </a:rPr>
              <a:t>в  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  или  </a:t>
            </a:r>
            <a:r>
              <a:rPr b="1" lang="ru-RU" sz="2000" spc="-1" strike="noStrike">
                <a:solidFill>
                  <a:srgbClr val="000066"/>
                </a:solidFill>
                <a:latin typeface="Book Antiqua"/>
              </a:rPr>
              <a:t>с 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  равны нулю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в котором первый коэффициент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а =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В каком древнем городе еще около 2000 лет до н.э. первыми научились решать квадратные уравнения?</a:t>
            </a: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6" descr=""/>
          <p:cNvPicPr/>
          <p:nvPr/>
        </p:nvPicPr>
        <p:blipFill>
          <a:blip r:embed="rId1"/>
          <a:stretch/>
        </p:blipFill>
        <p:spPr>
          <a:xfrm>
            <a:off x="1835280" y="1397160"/>
            <a:ext cx="5833800" cy="2512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5010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уравнение вида ах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+вх+с=0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Название выражения  в 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- 4 а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Сколько корней имеет квадратное уравнение, если </a:t>
            </a: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D &gt; 0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Сколько коней имеет квадратное уравнение если</a:t>
            </a: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   D=0 ?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Чему равен корень уравнения  ах 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= 0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где коэффициенты в     или  с    равны нулю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в котором первый коэффициент а =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62040" y="426960"/>
            <a:ext cx="4600440" cy="53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ормулы решения квадратных уравнений в Европе    были впервые изложены в 1202 году итальянским     математиком Леонардом Фибоначчи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       </a:t>
            </a: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онард Фибонач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C:\Documents and Settings\Ирина\Рабочий стол\открытые уроки\fibonacci.jpg"/>
          <p:cNvPicPr/>
          <p:nvPr/>
        </p:nvPicPr>
        <p:blipFill>
          <a:blip r:embed="rId1"/>
          <a:stretch/>
        </p:blipFill>
        <p:spPr>
          <a:xfrm>
            <a:off x="398520" y="455760"/>
            <a:ext cx="377676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1:41Z</dcterms:created>
  <dc:creator>Ирина</dc:creator>
  <dc:description/>
  <dc:language>en-US</dc:language>
  <cp:lastModifiedBy>Sergey</cp:lastModifiedBy>
  <dcterms:modified xsi:type="dcterms:W3CDTF">2013-04-22T15:57:42Z</dcterms:modified>
  <cp:revision>115</cp:revision>
  <dc:subject/>
  <dc:title>Анаграммы</dc:title>
</cp:coreProperties>
</file>