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FD5-3337-4366-97A3-BEE5ACA9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F5-D987-4710-B70A-2F60675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E86-4A0D-415F-97EA-867E441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092-5742-4C7B-933A-3BD7E8D5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97F6-1624-4BE0-9A4A-AA3A1A0F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849-2913-469F-9A23-888378BC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F42-6AE6-4DB8-B927-F18BC9D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B06-B566-494D-A391-BCFEC597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9E9-C584-474C-85BF-AF106DB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07DB-2137-4CC8-9EDA-DDA5D6E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786-0175-4B43-80B6-FD01481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F89-267C-4882-B7E4-2987BB21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3EB4-1D33-4279-98A8-82EE444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FAB-25AB-49B6-9917-52878DE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741-F332-4AB9-9261-2F1FCB23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0B6E-5BA7-418B-B1C6-7C50BDD2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09D-BE9C-4FDE-9D44-9026366F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3A2-0441-4391-9E11-33617CC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A69-AF36-4795-A85D-3826151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F98-3ADC-449B-8F52-89D4237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223-B578-44D6-AD2B-6449B1D9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D46-395D-4935-9CF8-541BEE3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8F8-FDE9-43B2-A3B8-D8AF942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BB5-3C4C-4037-876E-69A1429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F2C-C54F-4B5D-9FD1-070FD8DC989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A6D-A37D-49CC-9E45-BD9A65FB3F9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Презентация подготовлен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учителем информатики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ГБОУ Лицей № 1561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entury Gothic"/>
              </a:rPr>
              <a:t>Кондруховой Ольгой Васильевной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ить, сколько раз в данном слове встречается буква «а»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6040" y="1166760"/>
            <a:ext cx="7711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program slovo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var s:string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l,i,k:integer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(‘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ведите слово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’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read(s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l:=length(s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for i:=1 to l do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f copy(s,i,1)=‘a’ then k:=k+1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(k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</a:t>
            </a:r>
            <a:r>
              <a:rPr b="1" lang="en-US" sz="22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1143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Написать программу, которая выводит на экране сообщение в «телеграфном» стиле, т.е. буквы сообщения должны появляться по одной, причем с некоторой задержкой.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7280" y="1052280"/>
            <a:ext cx="63770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telegramma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uses crt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c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n:intege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rsc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:=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елеграмм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r n:=1 to length(c) d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c[n]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delay(1000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;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readke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ить, является ли слово перевертышем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9280" y="1163520"/>
            <a:ext cx="770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program perevertish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var a,b,c:string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:integer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writeln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Введите слово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read(a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for i:=length(a) downto 1 do begi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c:=copy(a,i,1)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b:=b+c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if a=b then write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да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 else write('</a:t>
            </a:r>
            <a:r>
              <a:rPr b="0" lang="ru-RU" sz="2200" spc="-1" strike="noStrike">
                <a:solidFill>
                  <a:srgbClr val="7f7f7f"/>
                </a:solidFill>
                <a:latin typeface="Century Gothic"/>
              </a:rPr>
              <a:t>нет</a:t>
            </a: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'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В языке Паскаль существует стандартный  тип данных, который называется символьным. К символьным переменным относятся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Латинские буквы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Русские буквы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Знаки препинания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Скобки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Цифры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В программах их значения всегда заключаются в апострофы: </a:t>
            </a: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‘F’, ‘12345’, ‘</a:t>
            </a:r>
            <a:r>
              <a:rPr b="0" lang="ru-RU" sz="2500" spc="-1" strike="noStrike">
                <a:solidFill>
                  <a:srgbClr val="7f7f7f"/>
                </a:solidFill>
                <a:latin typeface="Century Gothic"/>
              </a:rPr>
              <a:t>Привет</a:t>
            </a: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’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ледовательность символов, заключенная в апострофы,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строкой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и описывается типом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str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роки, состоящие из 1 символа, называются символьными константам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 строки может быть указан размер (от 1 до 255)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1:string;(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лина до 255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1:string [80];(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е более 80 символов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оковые величин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ова длина строк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ет, Вася!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Строковые процедуры и функции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317520"/>
          <a:ext cx="8229600" cy="581328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426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унк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(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пределяет длину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at (st1,st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ring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бъединяет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2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(st,x,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ring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омер символа, с которого начинается копирование,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о копируемых символ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 (st1,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типа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пределяет позицию, с которой начинается строка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е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цеду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(st,x,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имволов из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чиная с позиции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t (st,st1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ка строки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у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1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чиная с позиции 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 (n,s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ывает число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роковую переменную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 (st,n,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овывает строку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исло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озиция символ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ределение длины строки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74600" y="1163520"/>
            <a:ext cx="699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dlina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st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l:integer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ln(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ведите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року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'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read(st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l:=length(st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'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лин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=  ',l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ерация конкатенации (+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8240" y="1163520"/>
            <a:ext cx="7067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sceplenie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a,b,c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ан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 '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:=a+b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c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Операция вырезки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8240" y="1268280"/>
            <a:ext cx="7067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rogram slovo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var a,b:string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gi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:=‘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тика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’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:=copy(a,3,5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rite(b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en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48:09Z</dcterms:created>
  <dc:creator>Оля</dc:creator>
  <dc:description/>
  <dc:language>en-US</dc:language>
  <cp:lastModifiedBy>user</cp:lastModifiedBy>
  <dcterms:modified xsi:type="dcterms:W3CDTF">2017-05-30T12:58:42Z</dcterms:modified>
  <cp:revision>15</cp:revision>
  <dc:subject/>
  <dc:title>Строковые величины</dc:title>
</cp:coreProperties>
</file>