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7BE-9772-4AE2-8997-C5AB4E3E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201-B108-4AFE-8FCD-178C883E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A9E-FDC7-42AE-9604-885E3F65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5D00-45DC-4F03-8EB3-1DE886C2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5A4B-3651-47F1-AAD1-167B9A5A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074B-778A-4412-B640-C7E07503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FDD6-0E2D-469D-986F-5FD2C17E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2405-9FF9-4C89-847C-4479B2A2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10EF-1E77-4003-A1EC-0A2B6316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B3D8-4B19-4D29-9824-1D32EFB1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AF6C-FE89-48D2-8B21-FD7CB236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48F-E6C5-4D7D-A466-B119EB6F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9CED-48A6-48A9-89C4-FE8F6357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0268-E41C-491E-93FB-5E32EB78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D359-BB87-4B4D-8FF8-F38EF6AB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CA64-B292-441C-A2FD-664F39A5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805B-177D-4FFA-AE91-E8B5F67A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C2C-CEFF-41C7-A6B5-9793AD04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3B2-78A7-430A-BAF1-D9E6BEDE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C01-32A8-4840-B85E-DFBC50B6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70B-F27B-42AF-9724-B66EF5CB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B30-7EB4-4053-9E24-A1F7A4F9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7D4-87D0-4A9C-BCFD-A2AE7B4C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7D4-B6E5-44CF-B7A0-48B250C7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00A3-A786-44D2-AEE9-2F49FA09EED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851F-ED94-4277-8795-4BFEBFA61F6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f5897"/>
                </a:solidFill>
                <a:latin typeface="Palatino Linotype"/>
              </a:rPr>
              <a:t>Строковые величины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entury Gothic"/>
              </a:rPr>
              <a:t>Презентация подготовлена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entury Gothic"/>
              </a:rPr>
              <a:t>учителем информатики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entury Gothic"/>
              </a:rPr>
              <a:t>ГБОУ Лицей № 1561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entury Gothic"/>
              </a:rPr>
              <a:t>Кондруховой Ольгой Васильевной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Определить, сколько раз в данном слове встречается буква «а»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16040" y="1166760"/>
            <a:ext cx="7711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program slovo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var s:string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l,i,k:integer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begin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write(‘</a:t>
            </a: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Введите слово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’)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read(s)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l:=length(s)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for i:=1 to l do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if copy(s,i,1)=‘a’ then k:=k+1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write(k)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end</a:t>
            </a:r>
            <a:r>
              <a:rPr b="1" lang="en-US" sz="2200" spc="-1" strike="noStrike">
                <a:solidFill>
                  <a:srgbClr val="7f7f7f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897"/>
                </a:solidFill>
                <a:latin typeface="Palatino Linotype"/>
              </a:rPr>
              <a:t>Написать программу, которая выводит на экране сообщение в «телеграфном» стиле, т.е. буквы сообщения должны появляться по одной, причем с некоторой задержкой.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7280" y="1052280"/>
            <a:ext cx="637704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program telegramma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uses crt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var c:string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n:integer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egi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rscr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:='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елеграмма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'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r n:=1 to length(c) do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egi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rite(c[n]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delay(1000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   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end;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readkey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end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Определить, является ли слово перевертышем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19280" y="1163520"/>
            <a:ext cx="7705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program perevertish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var a,b,c:string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   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i:integer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begin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   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writeln('</a:t>
            </a: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Введите слово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')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      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read(a)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      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for i:=length(a) downto 1 do begin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          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c:=copy(a,i,1)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          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b:=b+c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          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end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      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if a=b then write('</a:t>
            </a: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да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') else write('</a:t>
            </a: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нет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')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end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оковые величины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В языке Паскаль существует стандартный  тип данных, который называется символьным. К символьным переменным относятся: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Латинские буквы;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Русские буквы;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Знаки препинания;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Скобки;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Цифры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В программах их значения всегда заключаются в апострофы: </a:t>
            </a:r>
            <a:r>
              <a:rPr b="0" lang="en-US" sz="2500" spc="-1" strike="noStrike">
                <a:solidFill>
                  <a:srgbClr val="7f7f7f"/>
                </a:solidFill>
                <a:latin typeface="Century Gothic"/>
              </a:rPr>
              <a:t>‘F’, ‘12345’, ‘</a:t>
            </a: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Привет</a:t>
            </a:r>
            <a:r>
              <a:rPr b="0" lang="en-US" sz="2500" spc="-1" strike="noStrike">
                <a:solidFill>
                  <a:srgbClr val="7f7f7f"/>
                </a:solidFill>
                <a:latin typeface="Century Gothic"/>
              </a:rPr>
              <a:t>’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оковые величины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ледовательность символов, заключенная в апострофы,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строкой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и описывается типом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string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троки, состоящие из 1 символа, называются символьными константам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 строки может быть указан размер (от 1 до 255)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1:string;(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длина до 255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1:string [80];(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не более 80 символов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оковые величины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ова длина строки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‘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ет, Вася!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’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f5897"/>
                </a:solidFill>
                <a:latin typeface="Palatino Linotype"/>
              </a:rPr>
              <a:t>Строковые процедуры и функции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57200" y="317520"/>
          <a:ext cx="8229600" cy="5813280"/>
        </p:xfrm>
        <a:graphic>
          <a:graphicData uri="http://schemas.openxmlformats.org/drawingml/2006/table">
            <a:tbl>
              <a:tblPr/>
              <a:tblGrid>
                <a:gridCol w="2386080"/>
                <a:gridCol w="5843520"/>
              </a:tblGrid>
              <a:tr h="4269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унк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 (s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типа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пределяет длину строки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at (st1,st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типа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ring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бъединяет строки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2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(st,x,y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типа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ring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номер символа, с которого начинается копирование, </a:t>
                      </a:r>
                      <a:r>
                        <a:rPr b="0" lang="ru-RU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количество копируемых символ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 (st1,s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типа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пределяет позицию, с которой начинается строка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роке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цеду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(st,x,y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ление </a:t>
                      </a:r>
                      <a:r>
                        <a:rPr b="0" lang="ru-RU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имволов из строки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начиная с позиции </a:t>
                      </a:r>
                      <a:r>
                        <a:rPr b="0" lang="ru-RU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ert (st,st1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авка строки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року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1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начиная с позиции </a:t>
                      </a:r>
                      <a:r>
                        <a:rPr b="0" lang="ru-RU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 (n,s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бразовывает число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роковую переменную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 (st,n,m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бразовывает строку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исло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позиция символ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Определение длины строки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74600" y="1163520"/>
            <a:ext cx="6994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program dlina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var st:string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l:integer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egi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riteln('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ведите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троку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'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read(st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l:=length(st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rite('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Длина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=  ',l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end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Операция конкатенации (+)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38240" y="1163520"/>
            <a:ext cx="7067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program sceplenie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var a,b,c:string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egi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a:=‘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ан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'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:=‘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 '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:=a+b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rite(c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end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Операция вырезки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38240" y="1268280"/>
            <a:ext cx="7067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program slovo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var a,b:string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egi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a:=‘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нформатика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’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:=copy(a,3,5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rite(b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end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9:48:09Z</dcterms:created>
  <dc:creator>Оля</dc:creator>
  <dc:description/>
  <dc:language>en-US</dc:language>
  <cp:lastModifiedBy>user</cp:lastModifiedBy>
  <dcterms:modified xsi:type="dcterms:W3CDTF">2017-05-30T12:58:42Z</dcterms:modified>
  <cp:revision>15</cp:revision>
  <dc:subject/>
  <dc:title>Строковые величины</dc:title>
</cp:coreProperties>
</file>